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5CC2-1CB3-4BC6-9424-D9E49A6CE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0666-E157-473C-AFAF-D18A7CDB2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9997-9465-4637-B50B-644F42FDA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1B8-22EC-4A1C-87ED-4942E8442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6FB-93C1-4192-9B17-DCCDBB296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3D54-5FEF-4DE7-B57B-6FA6F1153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703-DC6A-4641-B7C1-B244B398A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A62-F960-4AFF-AED3-4672DCEE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9B-4A75-4060-A1C3-17ABAF2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C1D-8F6E-4620-AEF8-19AA9D2A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F90-AC9F-4CA5-8CFD-42FDA97A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82CA-6A17-4D17-A6B0-04779B5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97E-E953-4A56-A726-84758D6C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9DF-2A20-4B0C-A356-2199E4FC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FAC7-7733-423A-A3AD-89F7DA9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0334-2252-4F5D-9E2C-634AEDB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420-7CE4-436E-A5F5-D76093E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B92C-1C72-41A1-9050-D36A38E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E2E-F516-491E-BF71-36F203FC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82B7-48C9-4D74-9F20-5937F4B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78E-2586-4B32-99FF-C9F82ED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4DC6-D8FF-4502-9C8F-B98CC2D4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5005-270F-4F08-A6FE-8CD2F463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18D8-FD67-4C8C-8BB4-01D90EA8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B3A-FA4C-45E9-81C5-98CE0A5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8C6-5182-4557-B413-17C30F5B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631-939C-4144-BDE2-8580043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237-9D0A-4E28-97C6-A497CAB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57-9A4C-4A68-BCDC-64E1FBA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751-C08E-472D-96E5-3DC4EDDB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0FF-F11C-48E9-9A1E-D3334DB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15B-57E9-44BB-A824-5F9FE19373AD}" type="slidenum"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F2C-EF68-42BF-B1D2-61321648D856}" type="slidenum"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9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066680" y="457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Найди 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бе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539640" y="544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1042920" y="263700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838080" y="380880"/>
            <a:ext cx="754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ий знак после шипящих на конце имен существительных показывает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согласный 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жен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средне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муж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2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990720" y="3049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Как определить склонение имени существи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и падеж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468360" y="29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оду и оконч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4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Отметь существительные 1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лка, 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он, ог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ень, 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жьё, 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6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Отмет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, па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ёкла, кара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я,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, ко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114300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) Отметь существительные 3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990720" y="2438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, 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53964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яль,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,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отитель,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1) – 3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2) –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3) – 4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4) –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5) – 3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6) -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357120" y="1785960"/>
            <a:ext cx="77151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отлично, со всеми заданиями справляюсь. Могу помочь товар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хорошо, всё поним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хорошо, ин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даюсь в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было интересно, но были проблемы, прошу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8001000" y="1714680"/>
            <a:ext cx="914400" cy="9144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8001000" y="4714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8001000" y="27147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8001000" y="37861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39:21Z</dcterms:created>
  <dc:creator/>
  <dc:description/>
  <dc:language>en-US</dc:language>
  <cp:lastModifiedBy/>
  <dcterms:modified xsi:type="dcterms:W3CDTF">2013-03-04T16:18:49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21049</vt:lpwstr>
  </property>
</Properties>
</file>