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1716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AB7A-9016-4643-877E-5C80B84AB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635C-2AFD-4351-9527-B6E0940D50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A4C0-C403-43BA-B734-26C05CD1A6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12FD-A913-4963-93B6-F9B2B8864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9A61-695B-4296-82A5-B66815BDBF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E044-1300-44B5-871D-E93355A082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257F-6108-4687-89D3-B89939CFC5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A07-5F09-4FD9-9C9D-F3716F6B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AC5-4B76-4C5F-8309-4DD07EBB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C14-1DC4-4A6D-8A68-04279FF9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758-C17E-4C00-B99A-42440ECE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E19F-6BA9-46C4-AFA3-BE6BF623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9A5C-8B25-458B-9C45-A835D59E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EAE3-7D0D-4FF3-93ED-C45266D5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FBEF-0336-43DF-B503-84C1C027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02ED-AAED-4459-AF0F-692E2CF1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DACD-8FF7-4F77-9C3E-1C71A1B9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A8E9-79A2-4960-A29C-9FA5A90A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F24-1D92-4DE0-AA52-1B244B0B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F9E8-1F22-4EA6-8FFB-E1AF89A8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3D3E-142C-4998-B91D-E4E0ACD8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3EC9-01BA-499A-A387-6FAC284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02A5-4926-48ED-A454-3447C6A3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5C6F-4BED-43C7-B0EC-8D5BA5D0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8DA-F45D-4D5A-98A3-BB028285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0BA-EC50-4CA0-BCEE-6A4AA0FB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B79-08A4-4385-8E4B-4FD19864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2FD-8B5B-4338-9E87-3B2D3714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C89-468E-4B1A-B0C5-65495896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8E3-EC7B-43BC-B683-06BE9CAD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D61-7854-4B17-813E-FCBAA3E8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1716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32c12"/>
                </a:solidFill>
                <a:latin typeface="Calibri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2c12"/>
                </a:solidFill>
                <a:latin typeface="Calibri"/>
                <a:ea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32c12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725C-1468-47E9-BC21-3E400A4F8C27}" type="slidenum">
              <a:rPr b="0" lang="ru-RU" sz="1200" spc="-1" strike="noStrike">
                <a:solidFill>
                  <a:srgbClr val="232c12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1716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3e171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911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32c12"/>
                </a:solidFill>
                <a:latin typeface="Calibri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2c12"/>
                </a:solidFill>
                <a:latin typeface="Calibri"/>
                <a:ea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32c12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7E1-CBE1-48CB-A03F-25BAC3F7ABD5}" type="slidenum">
              <a:rPr b="0" lang="ru-RU" sz="1200" spc="-1" strike="noStrike">
                <a:solidFill>
                  <a:srgbClr val="232c12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9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1066680" y="457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Найди 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беж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539640" y="544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1042920" y="263700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е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0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7"/>
          <p:cNvSpPr/>
          <p:nvPr/>
        </p:nvSpPr>
        <p:spPr>
          <a:xfrm>
            <a:off x="838080" y="380880"/>
            <a:ext cx="7543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ий знак после шипящих на конце имен существительных показывает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согласный 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уществительное жен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уществительное средне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уществительное муж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2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990720" y="30492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3. Как определить склонение имени существитель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и падеж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468360" y="2924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оду и оконч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4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 Отметь существительные 1 с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елка, дя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он, ог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ень, 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жьё, пл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6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 Отметь существительные 2 с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ик, па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ёкла, кара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ня,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, ко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8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7"/>
          <p:cNvSpPr/>
          <p:nvPr/>
        </p:nvSpPr>
        <p:spPr>
          <a:xfrm>
            <a:off x="1143000" y="380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) Отметь существительные 3 с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990720" y="2438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, 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53964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яль,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,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отитель, к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1) – 3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2) – 2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3) – 4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4) – 2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5) – 3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Calibri"/>
              </a:rPr>
              <a:t>6) - 2</a:t>
            </a:r>
            <a:endParaRPr b="1" lang="en-US" sz="3200" spc="-1" strike="noStrike">
              <a:solidFill>
                <a:srgbClr val="1c191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357120" y="1785960"/>
            <a:ext cx="77151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ю отлично, со всеми заданиями справляюсь. Могу помочь товари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ю хорошо, всё поним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ю хорошо, ин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даюсь в пом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было интересно, но были проблемы, прошу пом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8001000" y="1714680"/>
            <a:ext cx="914400" cy="9144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8001000" y="4714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8001000" y="271476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8001000" y="37861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39:21Z</dcterms:created>
  <dc:creator/>
  <dc:description/>
  <dc:language>en-US</dc:language>
  <cp:lastModifiedBy/>
  <dcterms:modified xsi:type="dcterms:W3CDTF">2013-03-04T16:18:49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21049</vt:lpwstr>
  </property>
</Properties>
</file>