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8D1-1BB3-4A1E-805F-E5E3DA0F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B35-7E7B-4140-8A79-4A205F5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1A5-21CB-419A-9786-1C5B8CB5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EE7-4BD7-4AE5-B006-6B39F099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C14-9CE7-41B1-9B8C-3301782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E5F-1996-4DA4-B2C3-F632C8D0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2CC-12B0-4DF4-88EB-17848B6B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25B-1E8E-447B-B9D8-1269E754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4B3-7771-4C7C-AADC-22C1D7A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592-7FD2-462A-BCBB-5AD1048E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59A-F12C-4A58-B46F-09C6B40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A6E-2085-4A36-8FC7-506CEC2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7FEB-71D8-4BDA-8A94-3414259106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3212640"/>
            <a:ext cx="73580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: Семейный клуб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зыкальная гостиная»</a:t>
            </a:r>
            <a:br>
              <a:rPr sz="4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музыкальный руководитель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ликова Инна Михайловн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285480"/>
            <a:ext cx="74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мья – это общество в миниатюр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целостности которого завис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опасность всего больш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ловеческого об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еликс Адл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1916280"/>
            <a:ext cx="8496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онный, практико-ориентированный, открыт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и ДОУ, родители и воспитан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госр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реализаци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реализ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ский сад – «открытая система» воспитания, обеспечивающая музыкальное, психическое, эмоциональное благополучие детства в условиях семьи и детского с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 реализ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ющая предметно-пространственная среда, развивающие виды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е годы – самые важные в жизни человека, как они пройдут, зависит от взрослых – родителей и воспита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педагогов с родителями воспитанников всегда было и остается актуальным вопросом, поиском рациональных путей взаимодейств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мы решили ответить на вопрос : «Что такое взаимодействие?» Обратились к словарю русского языка С.Ожегова, где значения слова объясняется как «взаимная связь двух явлений, взаимная поддерж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мья и ДОУ по-своему передаёт ребенку социальный опыт. Но только в сочетании друг с другом они создают оптимальные условия для вхождения маленького человека в большой ми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ость общества, социальная напряженность, экономическое давление передвинули воспитательные функции семьи на 2 и 3 место, а в ДОУ воспитание всегда стоит на первом месте. Это и предопределило включение семьи в образовательное пространство ДОУ, где и возникла идея создания  семейного клуба. А мы, как музыкальные руководители, выбрали для себя форму работы в «Музыкальной гостино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75610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института семьи, возрождение семейных традиций в воспитании полноценной личности ребенка как носителя общественного сознания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3640" y="2205000"/>
            <a:ext cx="7848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положительную эмоциональную среду общения между детьми, родителями и педаго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и обогащать педагогические знания и умения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реативные способности детей и родителей в совмест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ть опыт семейного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работы проекта с детьми в Д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тельные музыкальные игры и пля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драмат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превращения, образные упраж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ем на детских и шумовых инструмент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п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малыш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для игрового массажа на спине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я праздников «Давайте познакомимс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 «Дружная семья», «Моя мама самая лучшая», «Мой папа лучше все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 «Музыкальная сем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вести весело День рожден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4:03:53Z</dcterms:created>
  <dc:creator>айсберг</dc:creator>
  <dc:description/>
  <dc:language>en-US</dc:language>
  <cp:lastModifiedBy>User</cp:lastModifiedBy>
  <dcterms:modified xsi:type="dcterms:W3CDTF">2015-10-09T09:58:00Z</dcterms:modified>
  <cp:revision>20</cp:revision>
  <dc:subject/>
  <dc:title>Шаблон</dc:title>
</cp:coreProperties>
</file>