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16A-048A-4252-8A4A-2D51E70B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845-E4A4-41D1-BED3-8580688A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BDC-7FA0-426E-B1A1-029AEE0C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73C-9CA5-48C1-AD2B-15B7CE61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988-8048-40BA-ADF6-245CA620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5B8-D536-47E1-AA88-44177728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505-B3FF-47A7-A530-9F970FD6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757-A12F-41C0-B8C7-E5AAB1D0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38C-043E-441B-ACC5-941BB257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AC1-2F13-4CC2-9011-EE340ED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5EB-EFA8-4E4F-BBEA-42CFEC74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B5D-AFE9-48B7-91B5-CC7442D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8AA5-B07F-49EC-AB92-77FDFBA36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3212640"/>
            <a:ext cx="73580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: Семейный клуб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зыкальная гостиная»</a:t>
            </a:r>
            <a:br>
              <a:rPr sz="4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музыкальный руководитель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ликова Инна Михайловн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285480"/>
            <a:ext cx="74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мья – это общество в миниатюр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целостности которого завис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опасность всего больш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ловеческого об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еликс Адл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1916280"/>
            <a:ext cx="8496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онный, практико-ориентированный, открыт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и ДОУ, родители и воспитан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госроч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реализаци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реализ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ский сад – «открытая система» воспитания, обеспечивающая музыкальное, психическое, эмоциональное благополучие детства в условиях семьи и детского с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 реализ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ющая предметно-пространственная среда, развивающие виды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е годы – самые важные в жизни человека, как они пройдут, зависит от взрослых – родителей и воспита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педагогов с родителями воспитанников всегда было и остается актуальным вопросом, поиском рациональных путей взаимодейств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мы решили ответить на вопрос : «Что такое взаимодействие?» Обратились к словарю русского языка С.Ожегова, где значения слова объясняется как «взаимная связь двух явлений, взаимная поддерж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мья и ДОУ по-своему передаёт ребенку социальный опыт. Но только в сочетании друг с другом они создают оптимальные условия для вхождения маленького человека в большой ми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ость общества, социальная напряженность, экономическое давление передвинули воспитательные функции семьи на 2 и 3 место, а в ДОУ воспитание всегда стоит на первом месте. Это и предопределило включение семьи в образовательное пространство ДОУ, где и возникла идея создания  семейного клуба. А мы, как музыкальные руководители, выбрали для себя форму работы в «Музыкальной гостино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75610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института семьи, возрождение семейных традиций в воспитании полноценной личности ребенка как носителя общественного сознания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3640" y="2205000"/>
            <a:ext cx="7848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положительную эмоциональную среду общения между детьми, родителями и педаго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и обогащать педагогические знания и умения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реативные способности детей и родителей в совмест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ть опыт семейного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работы проекта с детьми в Д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тельные музыкальные игры и пля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драмат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превращения, образные упраж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ем на детских и шумовых инструмент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п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малыш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для игрового массажа на спине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я праздников «Давайте познакомимс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 «Дружная семья», «Моя мама самая лучшая», «Мой папа лучше все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 «Музыкальная сем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вести весело День рожден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4:03:53Z</dcterms:created>
  <dc:creator>айсберг</dc:creator>
  <dc:description/>
  <dc:language>en-US</dc:language>
  <cp:lastModifiedBy>User</cp:lastModifiedBy>
  <dcterms:modified xsi:type="dcterms:W3CDTF">2015-10-09T09:58:00Z</dcterms:modified>
  <cp:revision>20</cp:revision>
  <dc:subject/>
  <dc:title>Шаблон</dc:title>
</cp:coreProperties>
</file>