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573-5419-4411-939F-EF5386C0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82F-82A8-42DD-889D-2112CF0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C52-05BA-49C3-A309-3D5949A1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2D9-220E-4007-8AC4-1AE4149C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6664-D611-4B1E-B0A8-65BCAE30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1BC0-65C3-458E-BEC5-DFFC57C5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3AC7-6E80-4CFF-9391-97C0E7A0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FFE7-10E9-4A3E-AB25-5846ED2F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2AF6-6103-4806-8C7C-306073F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2D9-FE3F-49A2-8800-AB0C4DB5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D19B-D03C-4977-9CD8-15C78BDB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546-5101-463E-9186-0E17591C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A0D8-E15E-4639-9E06-1C6F10F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9120-8700-4ABE-A677-3F49EB2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5C62-F385-4800-80CE-8327C9A5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B744-6C56-4318-A2E3-79770E24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EE75-09B3-4AFD-A28C-602405F9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822-8ED5-48C8-AA7E-BA0D960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197-72D9-4F35-89F8-4FCEEAE4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ED5-4516-4BB1-A45F-DBB0B828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D55-5A54-451D-B4F8-912227BB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FD8-EC27-43CE-B42A-86B1216F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EC9-54A1-42DB-AFD6-36D507B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F1B-423B-43AE-90F7-986D382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24EE-F227-4453-B401-2C3CF157E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786-0C7E-4F67-A7C2-C4D4A13B4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Решение задач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личество информации в сообщ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I=K×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,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-число символов в сообщ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-количество информации в одном симв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=N, где N-мощность алфав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бщение, записанное буквами из 64-символьного алфавита, содержит 20 симво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объём информации оно нес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ое сообщение объёмом 1,5 Кбайт содерж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72 симв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символов содержит алфавит, при помощи которого было записано это сообщ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килобайт содержит сообщение, содержащее 12288 б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байт составит сообщение из 380 символов 16-символьного алфави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4T06:45:03Z</dcterms:created>
  <dc:creator>User</dc:creator>
  <dc:description/>
  <dc:language>en-US</dc:language>
  <cp:lastModifiedBy>User</cp:lastModifiedBy>
  <dcterms:modified xsi:type="dcterms:W3CDTF">2015-10-04T06:57:22Z</dcterms:modified>
  <cp:revision>3</cp:revision>
  <dc:subject/>
  <dc:title>Решение задач</dc:title>
</cp:coreProperties>
</file>