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460-72C2-4F4F-A472-97B830C2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2E4-7615-414A-B31A-F72C3797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83C-FEA4-4A95-9085-1845F36D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F81-142E-45E9-8E69-398A9EFF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9E34-19EF-4C3A-8272-3C89C346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3122-205B-4061-BAAB-64F9F1CB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7AB1-68B0-46A8-B94C-A76887AB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B79A-3B1A-4566-AD35-1ED2F700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3619-292A-498D-95F2-A63645F3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DF57-7E22-46A6-9D78-F057568A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DCBE-649E-4EA2-9BB8-D900C38D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F01-EDCB-413E-AA02-88C6FC53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8AD1-B522-4FD0-975B-88CE7860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05E1-E8AE-4C94-A1FB-6B8AF353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6F56-625E-41E3-83EE-814073AA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0212-6E40-4916-90D4-E01BE29E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8E65-6B39-4C07-A8EC-753078CB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029-8526-4A11-819D-B2E55DA9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6AB-DF60-4EE3-9E17-0B653E21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E7A-E273-44B1-8E11-09F72DA3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456-E829-4070-B1DE-F54436FE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315-6FAF-40DA-962E-12D3E62F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677-BCF9-4EF0-8CE0-E4A442E4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71B-61C5-40F3-A1C9-60B498EB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01F3-AFF1-4196-ADCB-CEF9EA9D81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F12C-1275-43CB-9FA6-986B716C7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Решение задач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оличество информации в сообще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I=K×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, 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-число символов в сообщ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-количество информации в одном симв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0066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=N, где N-мощность алфав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общение, записанное буквами из 64-символьного алфавита, содержит 20 симво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объём информации оно нес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ое сообщение объёмом 1,5 Кбайт содерж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72 симв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символов содержит алфавит, при помощи которого было записано это сообщ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килобайт содержит сообщение, содержащее 12288 б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байт составит сообщение из 380 символов 16-символьного алфави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4T06:45:03Z</dcterms:created>
  <dc:creator>User</dc:creator>
  <dc:description/>
  <dc:language>en-US</dc:language>
  <cp:lastModifiedBy>User</cp:lastModifiedBy>
  <dcterms:modified xsi:type="dcterms:W3CDTF">2015-10-04T06:57:22Z</dcterms:modified>
  <cp:revision>3</cp:revision>
  <dc:subject/>
  <dc:title>Решение задач</dc:title>
</cp:coreProperties>
</file>