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4.gif" ContentType="image/gif"/>
  <Override PartName="/ppt/media/image10.gif" ContentType="image/gif"/>
  <Override PartName="/ppt/media/image13.png" ContentType="image/png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4B3-7C57-49EE-A37F-4F475500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B4F-0089-45D0-B665-BC97C726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F03-0B11-4148-853A-3751BA0E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8FC-D5CF-4F66-B5FF-8609046B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39C-F45C-438F-B6F9-C498FA5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A71-E090-4096-8174-D777344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29A-822D-4178-A685-BF60AAEA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BA5-7856-47F6-A3E7-543AED8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7DC-7E63-4C08-A995-A35DB65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BC1-AAF1-4E4A-B9B1-7AA7036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022-9CC3-4835-85EB-274D439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C2D-B2BB-4BF3-ABE2-4BFDDAB6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A91-25D2-4693-8545-5914B91CD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Роль игры в воспитании детей»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родительское собран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дготовила: Туманова М.В.,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detki-d.narod.ru/0medved.gif"/>
          <p:cNvPicPr/>
          <p:nvPr/>
        </p:nvPicPr>
        <p:blipFill>
          <a:blip r:embed="rId1"/>
          <a:stretch/>
        </p:blipFill>
        <p:spPr>
          <a:xfrm>
            <a:off x="2666880" y="1981080"/>
            <a:ext cx="39625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396720" y="743040"/>
            <a:ext cx="8345520" cy="543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mg1.liveinternet.ru/images/attach/c/2/73/280/73280759_sorpresa.gif"/>
          <p:cNvPicPr/>
          <p:nvPr/>
        </p:nvPicPr>
        <p:blipFill>
          <a:blip r:embed="rId2"/>
          <a:stretch/>
        </p:blipFill>
        <p:spPr>
          <a:xfrm>
            <a:off x="3276720" y="4390920"/>
            <a:ext cx="2666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24000" y="371880"/>
            <a:ext cx="5200200" cy="1237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1295280" y="182880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родной игре отображается жизнь людей, их быт, национальные традиции, они способствуют воспитанию чести, смелости, муже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514600" y="3048120"/>
            <a:ext cx="4495680" cy="350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дивиду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ллектив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южет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ыт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езонно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обряд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атрализованные игр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ловиш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забав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аттракционы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ray.az/uploads/posts/2012-03/1332802338_1304939553_deti-52.gif"/>
          <p:cNvPicPr/>
          <p:nvPr/>
        </p:nvPicPr>
        <p:blipFill>
          <a:blip r:embed="rId1"/>
          <a:stretch/>
        </p:blipFill>
        <p:spPr>
          <a:xfrm>
            <a:off x="0" y="3581280"/>
            <a:ext cx="25909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«Игра имеет в жизни ребенка такое же значение, как у взрослого – деятельность, работа, служба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Каков ребенок в игре, таков во многом он будет в работе, когда вырастет. Поэтому воспитание будущего деятеля происходит прежде всего в игр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А.С. Макар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smayli.ru/data/smiles/detia-624.gif"/>
          <p:cNvPicPr/>
          <p:nvPr/>
        </p:nvPicPr>
        <p:blipFill>
          <a:blip r:embed="rId1"/>
          <a:stretch/>
        </p:blipFill>
        <p:spPr>
          <a:xfrm>
            <a:off x="762120" y="4876920"/>
            <a:ext cx="190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stat18.privet.ru/lr/0a2d137f2e98c770197db50002d9ef9e"/>
          <p:cNvPicPr/>
          <p:nvPr/>
        </p:nvPicPr>
        <p:blipFill>
          <a:blip r:embed="rId1"/>
          <a:stretch/>
        </p:blipFill>
        <p:spPr>
          <a:xfrm>
            <a:off x="2362320" y="2133720"/>
            <a:ext cx="4190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«</a:t>
            </a:r>
            <a:r>
              <a:rPr b="1" i="1" lang="ru-RU" sz="30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е. Игра – это искра, зажигающая огонек пытливости и любознательност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Bookman Old Style"/>
              </a:rPr>
              <a:t>В.А. Сухомлинс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bestgif.narod.ru/ludi/animashka-131.gif"/>
          <p:cNvPicPr/>
          <p:nvPr/>
        </p:nvPicPr>
        <p:blipFill>
          <a:blip r:embed="rId1"/>
          <a:stretch/>
        </p:blipFill>
        <p:spPr>
          <a:xfrm>
            <a:off x="457200" y="0"/>
            <a:ext cx="16765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школьный возраст является уникальным и решающим периодом развития ребёнка, когда возникают основы личности, складывается воля и произвольное поведение, активно развивается воображение, творчество, общая инициативность. Однако все эти важнейшие качества формируются не в учебных занятиях, а в ведущей и главной деятельности дошкольника - в игре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имущество игры перед любой другой детской деятельностью заключается в том, что в ней ребёнок сам, добровольно подчиняется определённым правилам, при чём именно выполнение правил доставляет максимальное удовольствие. Это делает поведение ребёнка осмысленным и осознанным, превращает его из полевого в волевое. Поэтому игра - это практически единственная область, где дошкольник может проявить свою инициативу и творческую активность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25360" y="901800"/>
            <a:ext cx="8925120" cy="5236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s4.rimg.info/e3de9e5c06133935ff9a7761bd31a614.gif"/>
          <p:cNvPicPr/>
          <p:nvPr/>
        </p:nvPicPr>
        <p:blipFill>
          <a:blip r:embed="rId2"/>
          <a:stretch/>
        </p:blipFill>
        <p:spPr>
          <a:xfrm>
            <a:off x="380880" y="3733920"/>
            <a:ext cx="2971800" cy="272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img5.dreamies.de/img/911/b/vmba7w1rx9.gif"/>
          <p:cNvPicPr/>
          <p:nvPr/>
        </p:nvPicPr>
        <p:blipFill>
          <a:blip r:embed="rId3"/>
          <a:stretch/>
        </p:blipFill>
        <p:spPr>
          <a:xfrm>
            <a:off x="7010280" y="0"/>
            <a:ext cx="198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Calibri"/>
              </a:rPr>
              <a:t>Классы иг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29800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englishexercises.org/makeagame/my_documents/my_pictures/2011/apr/E69_detia-428.gif"/>
          <p:cNvPicPr/>
          <p:nvPr/>
        </p:nvPicPr>
        <p:blipFill>
          <a:blip r:embed="rId2"/>
          <a:stretch/>
        </p:blipFill>
        <p:spPr>
          <a:xfrm>
            <a:off x="7162920" y="304920"/>
            <a:ext cx="1809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96720" y="603360"/>
            <a:ext cx="839952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dou309.caduk.ru/images/myit--.gif"/>
          <p:cNvPicPr/>
          <p:nvPr/>
        </p:nvPicPr>
        <p:blipFill>
          <a:blip r:embed="rId2"/>
          <a:stretch/>
        </p:blipFill>
        <p:spPr>
          <a:xfrm>
            <a:off x="0" y="0"/>
            <a:ext cx="30384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90920" y="723600"/>
            <a:ext cx="4114800" cy="952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ави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Блок-схема: перфолента 6"/>
          <p:cNvSpPr/>
          <p:nvPr/>
        </p:nvSpPr>
        <p:spPr>
          <a:xfrm>
            <a:off x="762120" y="2590920"/>
            <a:ext cx="3200400" cy="2252520"/>
          </a:xfrm>
          <a:prstGeom prst="flowChartPunchedTap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Блок-схема: перфолента 7"/>
          <p:cNvSpPr/>
          <p:nvPr/>
        </p:nvSpPr>
        <p:spPr>
          <a:xfrm>
            <a:off x="4952880" y="2514600"/>
            <a:ext cx="3733920" cy="2133720"/>
          </a:xfrm>
          <a:prstGeom prst="flowChartPunchedTap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stat18.privet.ru/lr/0a2d137f2e98c770197db50002d9ef9e"/>
          <p:cNvPicPr/>
          <p:nvPr/>
        </p:nvPicPr>
        <p:blipFill>
          <a:blip r:embed="rId1"/>
          <a:stretch/>
        </p:blipFill>
        <p:spPr>
          <a:xfrm>
            <a:off x="3124080" y="3581280"/>
            <a:ext cx="25909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396720" y="755640"/>
            <a:ext cx="8345520" cy="538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dou309.caduk.ru/images/ia.gif"/>
          <p:cNvPicPr/>
          <p:nvPr/>
        </p:nvPicPr>
        <p:blipFill>
          <a:blip r:embed="rId2"/>
          <a:stretch/>
        </p:blipFill>
        <p:spPr>
          <a:xfrm>
            <a:off x="0" y="4800600"/>
            <a:ext cx="32767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4" descr=""/>
          <p:cNvPicPr/>
          <p:nvPr/>
        </p:nvPicPr>
        <p:blipFill>
          <a:blip r:embed="rId1"/>
          <a:stretch/>
        </p:blipFill>
        <p:spPr>
          <a:xfrm>
            <a:off x="396720" y="652320"/>
            <a:ext cx="8345520" cy="554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smayli.ru/data/smiles/detia-841.gif"/>
          <p:cNvPicPr/>
          <p:nvPr/>
        </p:nvPicPr>
        <p:blipFill>
          <a:blip r:embed="rId2"/>
          <a:stretch/>
        </p:blipFill>
        <p:spPr>
          <a:xfrm>
            <a:off x="6400800" y="685800"/>
            <a:ext cx="231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4:55:37Z</dcterms:created>
  <dc:creator>Мария Туманова</dc:creator>
  <dc:description/>
  <dc:language>en-US</dc:language>
  <cp:lastModifiedBy>Мария</cp:lastModifiedBy>
  <dcterms:modified xsi:type="dcterms:W3CDTF">2015-10-09T05:43:04Z</dcterms:modified>
  <cp:revision>5</cp:revision>
  <dc:subject/>
  <dc:title>«Роль игры в воспитании детей»</dc:title>
</cp:coreProperties>
</file>