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6.png" ContentType="image/png"/>
  <Override PartName="/ppt/media/image11.png" ContentType="image/png"/>
  <Override PartName="/ppt/media/image4.gif" ContentType="image/gif"/>
  <Override PartName="/ppt/media/image10.gif" ContentType="image/gif"/>
  <Override PartName="/ppt/media/image13.png" ContentType="image/png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B01-CC96-4477-9320-2C63E6B9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44E-D001-413C-A64D-2E747427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69D-8222-466A-BA04-85C61F54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8E5-4D6A-4ABC-9366-E09ECE4F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161-3482-4CBD-8AB1-24EB113B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4E9-2257-497C-AFBD-5A70F7B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7CF-D595-47A0-BB16-8898EA21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ABF-8E68-4DC4-8DB1-E7ED9465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FE8-CADD-4123-AE7E-B7160979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600-439E-465A-94A5-D8F0EC26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C15-401E-45E6-94CC-8D618871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C8A-3DDE-403C-8A55-5EB0F329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3BB1-3DF2-4951-8FB8-169671626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«Роль игры в воспитании детей»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(родительское собрани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дготовила: Туманова М.В., воспит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detki-d.narod.ru/0medved.gif"/>
          <p:cNvPicPr/>
          <p:nvPr/>
        </p:nvPicPr>
        <p:blipFill>
          <a:blip r:embed="rId1"/>
          <a:stretch/>
        </p:blipFill>
        <p:spPr>
          <a:xfrm>
            <a:off x="2666880" y="1981080"/>
            <a:ext cx="39625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396720" y="743040"/>
            <a:ext cx="8345520" cy="5438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img1.liveinternet.ru/images/attach/c/2/73/280/73280759_sorpresa.gif"/>
          <p:cNvPicPr/>
          <p:nvPr/>
        </p:nvPicPr>
        <p:blipFill>
          <a:blip r:embed="rId2"/>
          <a:stretch/>
        </p:blipFill>
        <p:spPr>
          <a:xfrm>
            <a:off x="3276720" y="4390920"/>
            <a:ext cx="2666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24000" y="371880"/>
            <a:ext cx="5200200" cy="1237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1295280" y="1828800"/>
            <a:ext cx="6629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родной игре отображается жизнь людей, их быт, национальные традиции, они способствуют воспитанию чести, смелости, мужеств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2514600" y="3048120"/>
            <a:ext cx="4495680" cy="3504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дивидуальн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оллективн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южетн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ытов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езонно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обрядов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еатрализованные игр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гры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ловиш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гры забав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гры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аттракционы</a:t>
            </a: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ray.az/uploads/posts/2012-03/1332802338_1304939553_deti-52.gif"/>
          <p:cNvPicPr/>
          <p:nvPr/>
        </p:nvPicPr>
        <p:blipFill>
          <a:blip r:embed="rId1"/>
          <a:stretch/>
        </p:blipFill>
        <p:spPr>
          <a:xfrm>
            <a:off x="0" y="3581280"/>
            <a:ext cx="259092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«Игра имеет в жизни ребенка такое же значение, как у взрослого – деятельность, работа, служба.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Каков ребенок в игре, таков во многом он будет в работе, когда вырастет. Поэтому воспитание будущего деятеля происходит прежде всего в игр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А.С. Макар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smayli.ru/data/smiles/detia-624.gif"/>
          <p:cNvPicPr/>
          <p:nvPr/>
        </p:nvPicPr>
        <p:blipFill>
          <a:blip r:embed="rId1"/>
          <a:stretch/>
        </p:blipFill>
        <p:spPr>
          <a:xfrm>
            <a:off x="762120" y="4876920"/>
            <a:ext cx="1904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stat18.privet.ru/lr/0a2d137f2e98c770197db50002d9ef9e"/>
          <p:cNvPicPr/>
          <p:nvPr/>
        </p:nvPicPr>
        <p:blipFill>
          <a:blip r:embed="rId1"/>
          <a:stretch/>
        </p:blipFill>
        <p:spPr>
          <a:xfrm>
            <a:off x="2362320" y="2133720"/>
            <a:ext cx="41907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«</a:t>
            </a:r>
            <a:r>
              <a:rPr b="1" i="1" lang="ru-RU" sz="3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Игра – это огромное светлое окно, через которое в духовный мир ребенка вливается живительный поток представлений, понятий об окружающем мире. Игра – это искра, зажигающая огонек пытливости и любознательност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Bookman Old Style"/>
              </a:rPr>
              <a:t>В.А. Сухомлинск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bestgif.narod.ru/ludi/animashka-131.gif"/>
          <p:cNvPicPr/>
          <p:nvPr/>
        </p:nvPicPr>
        <p:blipFill>
          <a:blip r:embed="rId1"/>
          <a:stretch/>
        </p:blipFill>
        <p:spPr>
          <a:xfrm>
            <a:off x="457200" y="0"/>
            <a:ext cx="16765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школьный возраст является уникальным и решающим периодом развития ребёнка, когда возникают основы личности, складывается воля и произвольное поведение, активно развивается воображение, творчество, общая инициативность. Однако все эти важнейшие качества формируются не в учебных занятиях, а в ведущей и главной деятельности дошкольника - в игре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имущество игры перед любой другой детской деятельностью заключается в том, что в ней ребёнок сам, добровольно подчиняется определённым правилам, при чём именно выполнение правил доставляет максимальное удовольствие. Это делает поведение ребёнка осмысленным и осознанным, превращает его из полевого в волевое. Поэтому игра - это практически единственная область, где дошкольник может проявить свою инициативу и творческую активность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225360" y="901800"/>
            <a:ext cx="8925120" cy="5236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s4.rimg.info/e3de9e5c06133935ff9a7761bd31a614.gif"/>
          <p:cNvPicPr/>
          <p:nvPr/>
        </p:nvPicPr>
        <p:blipFill>
          <a:blip r:embed="rId2"/>
          <a:stretch/>
        </p:blipFill>
        <p:spPr>
          <a:xfrm>
            <a:off x="380880" y="3733920"/>
            <a:ext cx="2971800" cy="272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img5.dreamies.de/img/911/b/vmba7w1rx9.gif"/>
          <p:cNvPicPr/>
          <p:nvPr/>
        </p:nvPicPr>
        <p:blipFill>
          <a:blip r:embed="rId3"/>
          <a:stretch/>
        </p:blipFill>
        <p:spPr>
          <a:xfrm>
            <a:off x="7010280" y="0"/>
            <a:ext cx="198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Calibri"/>
              </a:rPr>
              <a:t>Классы иг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"/>
          <p:cNvPicPr/>
          <p:nvPr/>
        </p:nvPicPr>
        <p:blipFill>
          <a:blip r:embed="rId1"/>
          <a:stretch/>
        </p:blipFill>
        <p:spPr>
          <a:xfrm>
            <a:off x="407880" y="1596960"/>
            <a:ext cx="829800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englishexercises.org/makeagame/my_documents/my_pictures/2011/apr/E69_detia-428.gif"/>
          <p:cNvPicPr/>
          <p:nvPr/>
        </p:nvPicPr>
        <p:blipFill>
          <a:blip r:embed="rId2"/>
          <a:stretch/>
        </p:blipFill>
        <p:spPr>
          <a:xfrm>
            <a:off x="7162920" y="304920"/>
            <a:ext cx="1809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396720" y="603360"/>
            <a:ext cx="8399520" cy="559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dou309.caduk.ru/images/myit--.gif"/>
          <p:cNvPicPr/>
          <p:nvPr/>
        </p:nvPicPr>
        <p:blipFill>
          <a:blip r:embed="rId2"/>
          <a:stretch/>
        </p:blipFill>
        <p:spPr>
          <a:xfrm>
            <a:off x="0" y="0"/>
            <a:ext cx="30384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90920" y="723600"/>
            <a:ext cx="4114800" cy="952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правил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Блок-схема: перфолента 6"/>
          <p:cNvSpPr/>
          <p:nvPr/>
        </p:nvSpPr>
        <p:spPr>
          <a:xfrm>
            <a:off x="762120" y="2590920"/>
            <a:ext cx="3200400" cy="2252520"/>
          </a:xfrm>
          <a:prstGeom prst="flowChartPunchedTap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Блок-схема: перфолента 7"/>
          <p:cNvSpPr/>
          <p:nvPr/>
        </p:nvSpPr>
        <p:spPr>
          <a:xfrm>
            <a:off x="4952880" y="2514600"/>
            <a:ext cx="3733920" cy="2133720"/>
          </a:xfrm>
          <a:prstGeom prst="flowChartPunchedTap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stat18.privet.ru/lr/0a2d137f2e98c770197db50002d9ef9e"/>
          <p:cNvPicPr/>
          <p:nvPr/>
        </p:nvPicPr>
        <p:blipFill>
          <a:blip r:embed="rId1"/>
          <a:stretch/>
        </p:blipFill>
        <p:spPr>
          <a:xfrm>
            <a:off x="3124080" y="3581280"/>
            <a:ext cx="25909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396720" y="755640"/>
            <a:ext cx="8345520" cy="538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dou309.caduk.ru/images/ia.gif"/>
          <p:cNvPicPr/>
          <p:nvPr/>
        </p:nvPicPr>
        <p:blipFill>
          <a:blip r:embed="rId2"/>
          <a:stretch/>
        </p:blipFill>
        <p:spPr>
          <a:xfrm>
            <a:off x="0" y="4800600"/>
            <a:ext cx="32767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4" descr=""/>
          <p:cNvPicPr/>
          <p:nvPr/>
        </p:nvPicPr>
        <p:blipFill>
          <a:blip r:embed="rId1"/>
          <a:stretch/>
        </p:blipFill>
        <p:spPr>
          <a:xfrm>
            <a:off x="396720" y="652320"/>
            <a:ext cx="8345520" cy="554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smayli.ru/data/smiles/detia-841.gif"/>
          <p:cNvPicPr/>
          <p:nvPr/>
        </p:nvPicPr>
        <p:blipFill>
          <a:blip r:embed="rId2"/>
          <a:stretch/>
        </p:blipFill>
        <p:spPr>
          <a:xfrm>
            <a:off x="6400800" y="685800"/>
            <a:ext cx="2314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04:55:37Z</dcterms:created>
  <dc:creator>Мария Туманова</dc:creator>
  <dc:description/>
  <dc:language>en-US</dc:language>
  <cp:lastModifiedBy>Мария</cp:lastModifiedBy>
  <dcterms:modified xsi:type="dcterms:W3CDTF">2015-10-09T05:43:04Z</dcterms:modified>
  <cp:revision>5</cp:revision>
  <dc:subject/>
  <dc:title>«Роль игры в воспитании детей»</dc:title>
</cp:coreProperties>
</file>