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974-2DCB-4266-89CF-F2C8A7BF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C27-56F3-4155-B32C-43D490FD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6B7-A855-4B69-80B5-7E21CEBF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AD5-A25F-4682-8A57-83A9B139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B976-EE50-4369-935E-54FF496D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3E35-4A89-45D6-891B-728034BC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AC44-3B6A-4B14-8CA0-C269F846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085F-8136-4CAE-A5A8-E8E263E2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F02C-A11E-4099-BAE5-FAF3F371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1156-652C-4645-85DD-C2C10B91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D733-1118-4CEE-AE93-AA8D5295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AF5-FD09-4413-A58D-41D6EA1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1A79-D568-4F99-8D70-82B24B9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2C52-7DD8-4B32-B260-3062193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58DC-70B4-492B-B78A-DC3B50A2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B038-878A-4FE9-84F1-951C1419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83C0-34A5-46F2-B793-A6E3B00B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CDA-0DB9-49A0-BFC1-51E76F80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50A-2A8F-45D3-82BA-52B87036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391-252B-471A-9AFA-1A9EBF93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FF0-8686-4DA1-A698-F7AE9593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A7D-E09E-4D16-9E8F-BDD0175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F29-9D33-47F2-AEFA-A75C9E0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1E3-C88C-4B41-B63B-934CC5F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0BF-D523-47A8-BDDC-2B4B98B2853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5743-F2F5-4076-A06F-0C38EEEA196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1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я к уроку обществознания учителя ГБОУ СОШ № 69 Фёдоровой С.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 rot="16200000">
            <a:off x="1440000" y="-927000"/>
            <a:ext cx="6192720" cy="84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1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Семь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как малая групп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pic>
        <p:nvPicPr>
          <p:cNvPr id="84" name="Picture 8" descr="family"/>
          <p:cNvPicPr/>
          <p:nvPr/>
        </p:nvPicPr>
        <p:blipFill>
          <a:blip r:embed="rId2"/>
          <a:stretch/>
        </p:blipFill>
        <p:spPr>
          <a:xfrm>
            <a:off x="3492360" y="1989000"/>
            <a:ext cx="2089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492000" y="1168560"/>
            <a:ext cx="525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10082"/>
                </a:solidFill>
                <a:uFillTx/>
                <a:latin typeface="Times New Roman"/>
              </a:rPr>
              <a:t>Полны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ое род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0" y="4797000"/>
            <a:ext cx="4464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10082"/>
                </a:solidFill>
                <a:uFillTx/>
                <a:latin typeface="Times New Roman"/>
              </a:rPr>
              <a:t>Неполные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тсутствует один родитель или родительское поко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324000" y="26028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50920" y="90792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3021023"/>
          <p:cNvPicPr/>
          <p:nvPr/>
        </p:nvPicPr>
        <p:blipFill>
          <a:blip r:embed="rId2"/>
          <a:stretch/>
        </p:blipFill>
        <p:spPr>
          <a:xfrm>
            <a:off x="611280" y="4129200"/>
            <a:ext cx="3670200" cy="24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CAEDI29N"/>
          <p:cNvPicPr/>
          <p:nvPr/>
        </p:nvPicPr>
        <p:blipFill>
          <a:blip r:embed="rId3"/>
          <a:stretch/>
        </p:blipFill>
        <p:spPr>
          <a:xfrm>
            <a:off x="285840" y="1168560"/>
            <a:ext cx="3316320" cy="247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75276"/>
          <p:cNvPicPr/>
          <p:nvPr/>
        </p:nvPicPr>
        <p:blipFill>
          <a:blip r:embed="rId4"/>
          <a:stretch/>
        </p:blipFill>
        <p:spPr>
          <a:xfrm>
            <a:off x="6121440" y="2406600"/>
            <a:ext cx="22305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842920" y="3789000"/>
            <a:ext cx="331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41008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Безде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41008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Малоде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41008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Многоде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24000" y="26028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250920" y="90792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iCAEDI29N"/>
          <p:cNvPicPr/>
          <p:nvPr/>
        </p:nvPicPr>
        <p:blipFill>
          <a:blip r:embed="rId2"/>
          <a:stretch/>
        </p:blipFill>
        <p:spPr>
          <a:xfrm>
            <a:off x="468360" y="1268280"/>
            <a:ext cx="1822320" cy="1360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i?id=9330087&amp;tov=4"/>
          <p:cNvPicPr/>
          <p:nvPr/>
        </p:nvPicPr>
        <p:blipFill>
          <a:blip r:embed="rId3"/>
          <a:stretch/>
        </p:blipFill>
        <p:spPr>
          <a:xfrm>
            <a:off x="7667640" y="0"/>
            <a:ext cx="1184400" cy="208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2b"/>
          <p:cNvPicPr/>
          <p:nvPr/>
        </p:nvPicPr>
        <p:blipFill>
          <a:blip r:embed="rId4"/>
          <a:stretch/>
        </p:blipFill>
        <p:spPr>
          <a:xfrm>
            <a:off x="179280" y="3357720"/>
            <a:ext cx="2857680" cy="317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Картинка 33 из 11063"/>
          <p:cNvPicPr/>
          <p:nvPr/>
        </p:nvPicPr>
        <p:blipFill>
          <a:blip r:embed="rId5"/>
          <a:stretch/>
        </p:blipFill>
        <p:spPr>
          <a:xfrm>
            <a:off x="5940360" y="2565360"/>
            <a:ext cx="3057480" cy="407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50501_23"/>
          <p:cNvPicPr/>
          <p:nvPr/>
        </p:nvPicPr>
        <p:blipFill>
          <a:blip r:embed="rId6"/>
          <a:stretch/>
        </p:blipFill>
        <p:spPr>
          <a:xfrm>
            <a:off x="2771640" y="1052640"/>
            <a:ext cx="3930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mnogo_new"/>
          <p:cNvPicPr/>
          <p:nvPr/>
        </p:nvPicPr>
        <p:blipFill>
          <a:blip r:embed="rId2"/>
          <a:stretch/>
        </p:blipFill>
        <p:spPr>
          <a:xfrm>
            <a:off x="1116000" y="189000"/>
            <a:ext cx="6900840" cy="343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happiness_pr"/>
          <p:cNvPicPr/>
          <p:nvPr/>
        </p:nvPicPr>
        <p:blipFill>
          <a:blip r:embed="rId3"/>
          <a:stretch/>
        </p:blipFill>
        <p:spPr>
          <a:xfrm>
            <a:off x="250920" y="4005360"/>
            <a:ext cx="3632040" cy="18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trail_sand4_pr"/>
          <p:cNvPicPr/>
          <p:nvPr/>
        </p:nvPicPr>
        <p:blipFill>
          <a:blip r:embed="rId4"/>
          <a:stretch/>
        </p:blipFill>
        <p:spPr>
          <a:xfrm>
            <a:off x="4067280" y="4038480"/>
            <a:ext cx="4762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4895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10082"/>
                </a:solidFill>
                <a:uFillTx/>
                <a:latin typeface="Times New Roman"/>
              </a:rPr>
              <a:t>Патриарха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410082"/>
                </a:solidFill>
                <a:latin typeface="Times New Roman"/>
              </a:rPr>
              <a:t>(традиционные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енство мужчины; женщина экономически зависит от мужч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8000" y="472428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10082"/>
                </a:solidFill>
                <a:uFillTx/>
                <a:latin typeface="Times New Roman"/>
              </a:rPr>
              <a:t>Эгалитар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410082"/>
                </a:solidFill>
                <a:latin typeface="Times New Roman"/>
              </a:rPr>
              <a:t>(партнёрские)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порциональное распределение обязаннос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0920" y="11592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50920" y="69228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24328205_432"/>
          <p:cNvPicPr/>
          <p:nvPr/>
        </p:nvPicPr>
        <p:blipFill>
          <a:blip r:embed="rId2"/>
          <a:stretch/>
        </p:blipFill>
        <p:spPr>
          <a:xfrm>
            <a:off x="468360" y="907920"/>
            <a:ext cx="4518000" cy="3549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873"/>
          <p:cNvPicPr/>
          <p:nvPr/>
        </p:nvPicPr>
        <p:blipFill>
          <a:blip r:embed="rId3"/>
          <a:stretch/>
        </p:blipFill>
        <p:spPr>
          <a:xfrm>
            <a:off x="5435640" y="1413000"/>
            <a:ext cx="344628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4895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10082"/>
                </a:solidFill>
                <a:uFillTx/>
                <a:latin typeface="Times New Roman"/>
              </a:rPr>
              <a:t>Полигамные</a:t>
            </a:r>
            <a:r>
              <a:rPr b="1" lang="en-US" sz="4400" spc="-1" strike="noStrike">
                <a:solidFill>
                  <a:srgbClr val="410082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410082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к одного партнёра с нескольки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19280" y="5589360"/>
            <a:ext cx="3708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10082"/>
                </a:solidFill>
                <a:uFillTx/>
                <a:latin typeface="Times New Roman"/>
              </a:rPr>
              <a:t>Моногамны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 партнё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50920" y="11592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250920" y="69228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Картинка 42 из 53"/>
          <p:cNvPicPr/>
          <p:nvPr/>
        </p:nvPicPr>
        <p:blipFill>
          <a:blip r:embed="rId2"/>
          <a:stretch/>
        </p:blipFill>
        <p:spPr>
          <a:xfrm>
            <a:off x="179280" y="836640"/>
            <a:ext cx="3432240" cy="2266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i?id=53743636&amp;tov=3"/>
          <p:cNvPicPr/>
          <p:nvPr/>
        </p:nvPicPr>
        <p:blipFill>
          <a:blip r:embed="rId3"/>
          <a:stretch/>
        </p:blipFill>
        <p:spPr>
          <a:xfrm>
            <a:off x="2556000" y="2276640"/>
            <a:ext cx="2705040" cy="1809720"/>
          </a:xfrm>
          <a:prstGeom prst="rect">
            <a:avLst/>
          </a:prstGeom>
          <a:ln w="38160">
            <a:solidFill>
              <a:srgbClr val="410082"/>
            </a:solidFill>
            <a:miter/>
          </a:ln>
        </p:spPr>
      </p:pic>
      <p:pic>
        <p:nvPicPr>
          <p:cNvPr id="153" name="Picture 11" descr="Картинка 4 из 85"/>
          <p:cNvPicPr/>
          <p:nvPr/>
        </p:nvPicPr>
        <p:blipFill>
          <a:blip r:embed="rId4"/>
          <a:stretch/>
        </p:blipFill>
        <p:spPr>
          <a:xfrm>
            <a:off x="5796000" y="907920"/>
            <a:ext cx="2943360" cy="3810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6228360" y="479700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В.Пукир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рав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755640" y="18900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3. Функции семьи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59280" y="1052280"/>
            <a:ext cx="608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ологическое воспроизвод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оциализация нового поко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ение домашнего хозяйства, семейный бюджет, распределение домашнего труда, потребление; оп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оздание чувства безопасности и комфорта, эмоциональная поддерж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досуга, духовно-эстетические асп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Предоставление социального стату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гулирование сексуального повед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611280" y="907920"/>
            <a:ext cx="453708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0" y="1341360"/>
            <a:ext cx="3745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продук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41008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Воспита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41008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Психолог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кре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41008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татус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ксу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i6mI33Z5Yb4"/>
          <p:cNvPicPr/>
          <p:nvPr/>
        </p:nvPicPr>
        <p:blipFill>
          <a:blip r:embed="rId3"/>
          <a:stretch/>
        </p:blipFill>
        <p:spPr>
          <a:xfrm>
            <a:off x="611280" y="1484280"/>
            <a:ext cx="7561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755640" y="189000"/>
            <a:ext cx="66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Семейные взаимоотношения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684360" y="981000"/>
            <a:ext cx="676728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340000" y="5516640"/>
            <a:ext cx="3313080" cy="100800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Ж - Ж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755640" y="3645000"/>
            <a:ext cx="3313080" cy="100800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и – бабушки, дед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851280" y="3645000"/>
            <a:ext cx="3313080" cy="100800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и - д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4211640" y="4581360"/>
            <a:ext cx="3313080" cy="100836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и - д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324000" y="4581360"/>
            <a:ext cx="3816360" cy="1008360"/>
          </a:xfrm>
          <a:prstGeom prst="cube">
            <a:avLst>
              <a:gd name="adj" fmla="val 25000"/>
            </a:avLst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ья – родительские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2268360" y="1341360"/>
            <a:ext cx="3240360" cy="1944720"/>
          </a:xfrm>
          <a:custGeom>
            <a:avLst/>
            <a:gdLst>
              <a:gd name="textAreaLeft" fmla="*/ 755640 w 3240360"/>
              <a:gd name="textAreaRight" fmla="*/ 2484000 w 3240360"/>
              <a:gd name="textAreaTop" fmla="*/ 204840 h 1944720"/>
              <a:gd name="textAreaBottom" fmla="*/ 1231560 h 1944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a4a4a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5219640" y="2276640"/>
            <a:ext cx="2376720" cy="122364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89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10082"/>
                </a:solidFill>
                <a:latin typeface="Arial"/>
              </a:rPr>
              <a:t>Групп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10082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7020000" y="1628640"/>
            <a:ext cx="792000" cy="648000"/>
          </a:xfrm>
          <a:prstGeom prst="line">
            <a:avLst/>
          </a:prstGeom>
          <a:ln w="9360">
            <a:solidFill>
              <a:srgbClr val="4100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7596360" y="2852640"/>
            <a:ext cx="792000" cy="0"/>
          </a:xfrm>
          <a:prstGeom prst="line">
            <a:avLst/>
          </a:prstGeom>
          <a:ln w="9360">
            <a:solidFill>
              <a:srgbClr val="4100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7093080" y="3500280"/>
            <a:ext cx="1152360" cy="433440"/>
          </a:xfrm>
          <a:prstGeom prst="line">
            <a:avLst/>
          </a:prstGeom>
          <a:ln w="9360">
            <a:solidFill>
              <a:srgbClr val="4100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7"/>
          <p:cNvSpPr/>
          <p:nvPr/>
        </p:nvSpPr>
        <p:spPr>
          <a:xfrm>
            <a:off x="611280" y="1989000"/>
            <a:ext cx="1800000" cy="1513080"/>
          </a:xfrm>
          <a:prstGeom prst="smileyFace">
            <a:avLst>
              <a:gd name="adj" fmla="val 9282"/>
            </a:avLst>
          </a:prstGeom>
          <a:solidFill>
            <a:srgbClr val="ffffff">
              <a:alpha val="80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179280" y="112536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Эмоцион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атмосф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WordArt 19"/>
          <p:cNvSpPr txBox="1"/>
          <p:nvPr/>
        </p:nvSpPr>
        <p:spPr>
          <a:xfrm>
            <a:off x="8028000" y="981000"/>
            <a:ext cx="574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20"/>
          <p:cNvSpPr txBox="1"/>
          <p:nvPr/>
        </p:nvSpPr>
        <p:spPr>
          <a:xfrm>
            <a:off x="8388360" y="2205000"/>
            <a:ext cx="574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21"/>
          <p:cNvSpPr txBox="1"/>
          <p:nvPr/>
        </p:nvSpPr>
        <p:spPr>
          <a:xfrm>
            <a:off x="8317080" y="3573360"/>
            <a:ext cx="574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semya_1"/>
          <p:cNvPicPr/>
          <p:nvPr/>
        </p:nvPicPr>
        <p:blipFill>
          <a:blip r:embed="rId2"/>
          <a:stretch/>
        </p:blipFill>
        <p:spPr>
          <a:xfrm>
            <a:off x="4619520" y="3357720"/>
            <a:ext cx="4524480" cy="2286000"/>
          </a:xfrm>
          <a:prstGeom prst="rect">
            <a:avLst/>
          </a:prstGeom>
          <a:ln w="0">
            <a:noFill/>
          </a:ln>
        </p:spPr>
      </p:pic>
      <p:sp>
        <p:nvSpPr>
          <p:cNvPr id="180" name="WordArt 10"/>
          <p:cNvSpPr txBox="1"/>
          <p:nvPr/>
        </p:nvSpPr>
        <p:spPr>
          <a:xfrm>
            <a:off x="75564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Воспитание в семье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684360" y="836640"/>
            <a:ext cx="453528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2" descr="parents-01"/>
          <p:cNvPicPr/>
          <p:nvPr/>
        </p:nvPicPr>
        <p:blipFill>
          <a:blip r:embed="rId3"/>
          <a:stretch/>
        </p:blipFill>
        <p:spPr>
          <a:xfrm>
            <a:off x="5435640" y="189000"/>
            <a:ext cx="3564000" cy="24606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3"/>
          <p:cNvSpPr/>
          <p:nvPr/>
        </p:nvSpPr>
        <p:spPr>
          <a:xfrm>
            <a:off x="1187280" y="1989000"/>
            <a:ext cx="2592720" cy="863640"/>
          </a:xfrm>
          <a:custGeom>
            <a:avLst/>
            <a:gdLst>
              <a:gd name="textAreaLeft" fmla="*/ 0 w 2592720"/>
              <a:gd name="textAreaRight" fmla="*/ 2593080 w 2592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Arial"/>
              </a:rPr>
              <a:t>ДИК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1187280" y="2997360"/>
            <a:ext cx="2664000" cy="86328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Arial"/>
              </a:rPr>
              <a:t>ОП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1187280" y="1052640"/>
            <a:ext cx="4104000" cy="863640"/>
          </a:xfrm>
          <a:custGeom>
            <a:avLst/>
            <a:gdLst>
              <a:gd name="textAreaLeft" fmla="*/ 0 w 4104000"/>
              <a:gd name="textAreaRight" fmla="*/ 4104360 w 4104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Arial"/>
              </a:rPr>
              <a:t>НЕВМЕША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1116000" y="4076640"/>
            <a:ext cx="3527280" cy="86364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082"/>
                </a:solidFill>
                <a:latin typeface="Arial"/>
              </a:rPr>
              <a:t>СОТРУДНИ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WordArt 17"/>
          <p:cNvSpPr txBox="1"/>
          <p:nvPr/>
        </p:nvSpPr>
        <p:spPr>
          <a:xfrm rot="5400000">
            <a:off x="-1430640" y="2735280"/>
            <a:ext cx="4032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ИЛИ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108000" y="5805360"/>
            <a:ext cx="8820000" cy="863640"/>
          </a:xfrm>
          <a:prstGeom prst="rect">
            <a:avLst/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Семейное воспита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это осознанное влияние на фор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и детей, предпринимаемое старшими членами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7138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Факторы</a:t>
            </a: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, влияющие на </a:t>
            </a:r>
            <a:r>
              <a:rPr b="1" lang="en-US" sz="2800" spc="-1" strike="noStrike">
                <a:solidFill>
                  <a:srgbClr val="410082"/>
                </a:solidFill>
                <a:latin typeface="Arial"/>
              </a:rPr>
              <a:t>содержание,  характер, результаты воспит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 ребё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раст ребё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ления старших о том, каким должен стать ребёнок (подросток, юноша, девуш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чностные ресурсы семьи: состав, здоровье, образование, увлечения, ценностные ориентации, социальные установ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270036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Воспитание в семье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2627280" y="981000"/>
            <a:ext cx="460872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374920"/>
          </a:xfrm>
          <a:prstGeom prst="rect">
            <a:avLst/>
          </a:prstGeom>
          <a:noFill/>
          <a:ln w="38160">
            <a:solidFill>
              <a:srgbClr val="410082"/>
            </a:solidFill>
            <a:miter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33"/>
                </a:solidFill>
                <a:uFillTx/>
                <a:latin typeface="Times New Roman"/>
              </a:rPr>
              <a:t>Семья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 – это некая социальная общность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малая группа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, члены которой связаны брачными или родственными отношениями, общим бытом и взаимной моральной ответственно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5ee299bde290"/>
          <p:cNvPicPr/>
          <p:nvPr/>
        </p:nvPicPr>
        <p:blipFill>
          <a:blip r:embed="rId2"/>
          <a:stretch/>
        </p:blipFill>
        <p:spPr>
          <a:xfrm>
            <a:off x="2268360" y="189000"/>
            <a:ext cx="4275360" cy="3554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6732720" y="2708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емья императора Никола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33120" y="1628640"/>
            <a:ext cx="6877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0082"/>
                </a:solidFill>
                <a:latin typeface="Times New Roman"/>
              </a:rPr>
              <a:t>Цели семейного воспита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витие гигиенических навы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ирование бытовых ум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льтура об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ое разви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теллектуальное разви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витие индивидуальных способнос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готовка к профе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97964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Воспитание в семье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1835280" y="981000"/>
            <a:ext cx="460836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71f7e2eb4208404b2a1fec351c1876df"/>
          <p:cNvPicPr/>
          <p:nvPr/>
        </p:nvPicPr>
        <p:blipFill>
          <a:blip r:embed="rId2"/>
          <a:stretch/>
        </p:blipFill>
        <p:spPr>
          <a:xfrm>
            <a:off x="7236000" y="2602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2"/>
          <a:stretch/>
        </p:blipFill>
        <p:spPr>
          <a:xfrm>
            <a:off x="469800" y="79200"/>
            <a:ext cx="8143920" cy="3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0" y="341280"/>
          <a:ext cx="9144000" cy="6432480"/>
        </p:xfrm>
        <a:graphic>
          <a:graphicData uri="http://schemas.openxmlformats.org/drawingml/2006/table">
            <a:tbl>
              <a:tblPr/>
              <a:tblGrid>
                <a:gridCol w="3780000"/>
                <a:gridCol w="5364000"/>
              </a:tblGrid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и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, факто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93640" indent="-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нижение воспитательного потенц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неполных сем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чный уровень знаний род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93640" indent="-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ост числа детей - сиро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 –экономические причины   (аварии, катастрофы на производстве и транспорте, терроризм, стихийные бедствия, преждевременная смерть родител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аз матерей от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шение родительских пра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зрушение нравственных устоев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духовность; утрата важных человеческих це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ьянство, аморальное пове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Рост числа матерей-одиночек, несовершеннолетних матер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. выш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Семья не играет самодовлеющей роли, как в былое 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ание роли общественных институтов (детсад, школ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структуры семьи (ослабление роли отца, занятость женщин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2228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ий авторитет не является абсолютны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9960" indent="-5335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уж идёт с женой в магазин и берёт рюкзак. Жена: «Возьми сумку, с рюкзаком некрасиво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ужу не нравится, когда жена пользуется космети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пругам надо выходить из дома, с ними ребёнок, они торопятся. Но тут жена спохватывается: «Давай переоденем маленькому рубашечку! Она некрасивая!» Он: «Нет, это не самое главное, пойдём так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вой долг родителям дети отдают своим детям» (И.Шевелё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емья более священна, чем государство» (Пий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аихудшее, чему может научиться молодёжь, - легкомыслие. Ибо последнее порождает те удовольствия, из которых развивается порок» (Демокр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3213000"/>
            <a:ext cx="3754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нограф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оциолог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ономика семь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емейное пра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мограф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оциальная психолог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3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дагог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92000" y="836280"/>
            <a:ext cx="5651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т; ритуалы, обряды, обыча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Семья как социальная система (институт, малая групп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бенности совместной деятельности в домашнем хозяйстве и производст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Права и обязанности, вытекающие из отношений брака, родства, усыновления; семейная собств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возрастная структура, размер и соста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10082"/>
                </a:solidFill>
                <a:latin typeface="Arial"/>
              </a:rPr>
              <a:t>Межличностные отнош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17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питание дет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08000" y="189000"/>
            <a:ext cx="88772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ья - предмет исследования разных наук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1692360" y="692280"/>
            <a:ext cx="730872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0" descr="iCACUZT09"/>
          <p:cNvPicPr/>
          <p:nvPr/>
        </p:nvPicPr>
        <p:blipFill>
          <a:blip r:embed="rId2"/>
          <a:stretch/>
        </p:blipFill>
        <p:spPr>
          <a:xfrm>
            <a:off x="755640" y="1668600"/>
            <a:ext cx="1174680" cy="1458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250920" y="10270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ая работа  с текстом 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 основы крепкой семьи на данном историческом приме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онце 90–х годов прошлого века в электрической компании в Детройте работал молодой механик за 11 долларов в неделю. Трудился он по 10 часов в день, а приходя домой, зачастую по полночи работал у себя в сарае, пытаясь изобрести новый тип двигателя. Его отец считал, что парень тратит время впустую, соседи называли сумасшедшим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икто не верил, что из этих занятий выйдет что–либо путное. Никто, кроме его жены..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а помогала ему работать по ночам, по нескольку часов держа над его головой керосиновую лампу. Синели руки, зубы стучали от холода, она то и дело простужалась, но… Она так верила в мужа!!! Спустя годы из сарая раздался шум. Соседи увидели, как по дороге без лошади, в одной телеге ехали сумасшедший и его жена. Чудака звали Генри Форд..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гда, беря интервью у Форда, некий журналист поинтересовался, кем бы Форд хотел быть в другой жизни, гений ответил просто: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«Кем угодно… Лишь бы рядом со мной была моя жена»..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1908000" y="115920"/>
            <a:ext cx="6864480" cy="79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enry%20and%20wife"/>
          <p:cNvPicPr/>
          <p:nvPr/>
        </p:nvPicPr>
        <p:blipFill>
          <a:blip r:embed="rId3"/>
          <a:stretch/>
        </p:blipFill>
        <p:spPr>
          <a:xfrm>
            <a:off x="324000" y="765000"/>
            <a:ext cx="424800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ghwUxLNzFo"/>
          <p:cNvPicPr/>
          <p:nvPr/>
        </p:nvPicPr>
        <p:blipFill>
          <a:blip r:embed="rId4"/>
          <a:stretch/>
        </p:blipFill>
        <p:spPr>
          <a:xfrm>
            <a:off x="5418000" y="907920"/>
            <a:ext cx="3468960" cy="439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332349870_henry-ford"/>
          <p:cNvPicPr/>
          <p:nvPr/>
        </p:nvPicPr>
        <p:blipFill>
          <a:blip r:embed="rId5"/>
          <a:stretch/>
        </p:blipFill>
        <p:spPr>
          <a:xfrm>
            <a:off x="250920" y="3068640"/>
            <a:ext cx="4752720" cy="3646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5291280" y="5589720"/>
            <a:ext cx="31176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«Кем угод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Лишь бы рядом со 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была моя жена»..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iCAEDI29N"/>
          <p:cNvPicPr/>
          <p:nvPr/>
        </p:nvPicPr>
        <p:blipFill>
          <a:blip r:embed="rId2"/>
          <a:stretch/>
        </p:blipFill>
        <p:spPr>
          <a:xfrm>
            <a:off x="6732720" y="189000"/>
            <a:ext cx="1822320" cy="13604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755640" y="333360"/>
            <a:ext cx="50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Основы семьи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39640" y="1052640"/>
            <a:ext cx="518472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012000" y="4149720"/>
            <a:ext cx="2881080" cy="720720"/>
          </a:xfrm>
          <a:prstGeom prst="cube">
            <a:avLst>
              <a:gd name="adj" fmla="val 25000"/>
            </a:avLst>
          </a:prstGeom>
          <a:solidFill>
            <a:srgbClr val="ceb966"/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6012000" y="3284640"/>
            <a:ext cx="2881080" cy="720720"/>
          </a:xfrm>
          <a:prstGeom prst="cube">
            <a:avLst>
              <a:gd name="adj" fmla="val 25000"/>
            </a:avLst>
          </a:prstGeom>
          <a:solidFill>
            <a:srgbClr val="ceb966"/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Ы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5940360" y="1628640"/>
            <a:ext cx="3022560" cy="720720"/>
          </a:xfrm>
          <a:prstGeom prst="cube">
            <a:avLst>
              <a:gd name="adj" fmla="val 25000"/>
            </a:avLst>
          </a:prstGeom>
          <a:solidFill>
            <a:srgbClr val="ceb966"/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жданский б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5940360" y="2421000"/>
            <a:ext cx="2952720" cy="720720"/>
          </a:xfrm>
          <a:prstGeom prst="cube">
            <a:avLst>
              <a:gd name="adj" fmla="val 25000"/>
            </a:avLst>
          </a:prstGeom>
          <a:solidFill>
            <a:srgbClr val="ceb966"/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187280" y="2133720"/>
            <a:ext cx="3600720" cy="3240000"/>
          </a:xfrm>
          <a:prstGeom prst="ellipse">
            <a:avLst/>
          </a:prstGeom>
          <a:solidFill>
            <a:srgbClr val="ceb966">
              <a:alpha val="58000"/>
            </a:srgbClr>
          </a:solidFill>
          <a:ln w="93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мья – это союз люд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ённых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34"/>
          <p:cNvSpPr txBox="1"/>
          <p:nvPr/>
        </p:nvSpPr>
        <p:spPr>
          <a:xfrm rot="3258000">
            <a:off x="747000" y="1495440"/>
            <a:ext cx="4438440" cy="449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1378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10082"/>
                </a:solidFill>
                <a:latin typeface="Arial"/>
              </a:rPr>
              <a:t>любовью, интересами, взаимовыручкой,  взаимопониманием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10082"/>
              </a:solidFill>
              <a:latin typeface="Arial"/>
              <a:ea typeface="Arial"/>
            </a:endParaRPr>
          </a:p>
        </p:txBody>
      </p:sp>
      <p:sp>
        <p:nvSpPr>
          <p:cNvPr id="109" name="WordArt 36"/>
          <p:cNvSpPr txBox="1"/>
          <p:nvPr/>
        </p:nvSpPr>
        <p:spPr>
          <a:xfrm>
            <a:off x="2771640" y="4292640"/>
            <a:ext cx="3603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2"/>
          <a:stretch/>
        </p:blipFill>
        <p:spPr>
          <a:xfrm>
            <a:off x="469800" y="0"/>
            <a:ext cx="4400640" cy="11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1338968743_queen-elizabeth-ii-style-4"/>
          <p:cNvPicPr/>
          <p:nvPr/>
        </p:nvPicPr>
        <p:blipFill>
          <a:blip r:embed="rId3"/>
          <a:stretch/>
        </p:blipFill>
        <p:spPr>
          <a:xfrm>
            <a:off x="0" y="1095480"/>
            <a:ext cx="3673440" cy="576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c9a3af8e0dd"/>
          <p:cNvPicPr/>
          <p:nvPr/>
        </p:nvPicPr>
        <p:blipFill>
          <a:blip r:embed="rId4"/>
          <a:stretch/>
        </p:blipFill>
        <p:spPr>
          <a:xfrm>
            <a:off x="4967280" y="0"/>
            <a:ext cx="41767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6" descr="nWj0c6Q8y9A"/>
          <p:cNvPicPr/>
          <p:nvPr/>
        </p:nvPicPr>
        <p:blipFill>
          <a:blip r:embed="rId2"/>
          <a:stretch/>
        </p:blipFill>
        <p:spPr>
          <a:xfrm>
            <a:off x="0" y="0"/>
            <a:ext cx="4870440" cy="666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queenPA1_468x452"/>
          <p:cNvPicPr/>
          <p:nvPr/>
        </p:nvPicPr>
        <p:blipFill>
          <a:blip r:embed="rId3"/>
          <a:stretch/>
        </p:blipFill>
        <p:spPr>
          <a:xfrm>
            <a:off x="5292720" y="189000"/>
            <a:ext cx="3267000" cy="315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lizaveta_ii_s_korolevskoy_semey"/>
          <p:cNvPicPr/>
          <p:nvPr/>
        </p:nvPicPr>
        <p:blipFill>
          <a:blip r:embed="rId4"/>
          <a:stretch/>
        </p:blipFill>
        <p:spPr>
          <a:xfrm>
            <a:off x="5003640" y="3500280"/>
            <a:ext cx="397224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4653000"/>
            <a:ext cx="446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10082"/>
                </a:solidFill>
                <a:uFillTx/>
                <a:latin typeface="Times New Roman"/>
              </a:rPr>
              <a:t>Многопоколенны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расширенные): под одной крышей 2-3 поко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Ф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8000" y="472428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10082"/>
                </a:solidFill>
                <a:uFillTx/>
                <a:latin typeface="Times New Roman"/>
              </a:rPr>
              <a:t>Нуклеарные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пружеская пара  деть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РФ – 1-2 ребё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250920" y="115920"/>
            <a:ext cx="59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акие бывают семьи?</a:t>
            </a:r>
            <a:endParaRPr b="1" i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9" descr="i_1254690936_4ac910781a7de"/>
          <p:cNvPicPr/>
          <p:nvPr/>
        </p:nvPicPr>
        <p:blipFill>
          <a:blip r:embed="rId2"/>
          <a:stretch/>
        </p:blipFill>
        <p:spPr>
          <a:xfrm>
            <a:off x="250920" y="1052640"/>
            <a:ext cx="5473440" cy="35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family"/>
          <p:cNvPicPr/>
          <p:nvPr/>
        </p:nvPicPr>
        <p:blipFill>
          <a:blip r:embed="rId3"/>
          <a:stretch/>
        </p:blipFill>
        <p:spPr>
          <a:xfrm>
            <a:off x="6084720" y="907920"/>
            <a:ext cx="2854440" cy="3641760"/>
          </a:xfrm>
          <a:prstGeom prst="rect">
            <a:avLst/>
          </a:prstGeom>
          <a:ln w="0">
            <a:noFill/>
          </a:ln>
        </p:spPr>
      </p:pic>
      <p:sp>
        <p:nvSpPr>
          <p:cNvPr id="122" name="Line 13"/>
          <p:cNvSpPr/>
          <p:nvPr/>
        </p:nvSpPr>
        <p:spPr>
          <a:xfrm>
            <a:off x="250920" y="692280"/>
            <a:ext cx="56894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02:21Z</dcterms:created>
  <dc:creator>Фёдорова</dc:creator>
  <dc:description/>
  <dc:language>en-US</dc:language>
  <cp:lastModifiedBy>User</cp:lastModifiedBy>
  <dcterms:modified xsi:type="dcterms:W3CDTF">2015-10-08T21:04:39Z</dcterms:modified>
  <cp:revision>24</cp:revision>
  <dc:subject/>
  <dc:title>Слайд 1</dc:title>
</cp:coreProperties>
</file>