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5BB-70EA-492E-B8B7-F5317B5D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223-0E1F-4765-A383-9284180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C90-C136-496E-8B60-383548CC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294-0A87-42FE-90A6-E08BEBE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187-48B9-4B00-98F3-6D74F754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E7C-8333-47D4-BB04-F192CAC2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50FD-83D5-44FB-8DDD-E40617B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1E9-FE94-47FE-B946-86BBE7D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49E-2DB1-4C4C-9E75-B17D53E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45A4-F80B-4672-9B67-72A8C2FA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9F69-C50A-4FB8-83EA-D7D21ABB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5D1-65D4-4D95-8239-F568F2F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FFB9-032F-4919-A89D-D1E243C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C942-AF48-4423-A7F0-A532556D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C141-C31A-4766-85F1-6900899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429-1B51-4DB3-82A8-6E12D52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624-1BF9-4594-8D3E-668A5A85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9FC-6955-44BE-82CF-D478116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326-8D2B-4B70-A07F-E968498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D0B-DB50-4164-9E78-17A1606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6BC-FA7C-4A95-A011-D606D54F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457-C621-4987-97F4-5E097B5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22F-2601-460D-BEB4-69FD63C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F1B-864D-4E4B-B831-2BDE102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D348-9BFA-419C-A9BB-62A4371C39F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469-1B56-4BE3-B297-123DC6DE85A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я к уроку обществознания учителя ГБОУ СОШ № 69 Фёдоровой С.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 rot="16200000">
            <a:off x="1440000" y="-927000"/>
            <a:ext cx="6192720" cy="84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1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Семь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как малая групп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pic>
        <p:nvPicPr>
          <p:cNvPr id="84" name="Picture 8" descr="family"/>
          <p:cNvPicPr/>
          <p:nvPr/>
        </p:nvPicPr>
        <p:blipFill>
          <a:blip r:embed="rId2"/>
          <a:stretch/>
        </p:blipFill>
        <p:spPr>
          <a:xfrm>
            <a:off x="3492360" y="1989000"/>
            <a:ext cx="208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492000" y="116856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10082"/>
                </a:solidFill>
                <a:uFillTx/>
                <a:latin typeface="Times New Roman"/>
              </a:rPr>
              <a:t>Полны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е род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4797000"/>
            <a:ext cx="4464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10082"/>
                </a:solidFill>
                <a:uFillTx/>
                <a:latin typeface="Times New Roman"/>
              </a:rPr>
              <a:t>Неполные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тсутствует один родитель или родительское поко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24000" y="26028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50920" y="90792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3021023"/>
          <p:cNvPicPr/>
          <p:nvPr/>
        </p:nvPicPr>
        <p:blipFill>
          <a:blip r:embed="rId2"/>
          <a:stretch/>
        </p:blipFill>
        <p:spPr>
          <a:xfrm>
            <a:off x="611280" y="4129200"/>
            <a:ext cx="367020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CAEDI29N"/>
          <p:cNvPicPr/>
          <p:nvPr/>
        </p:nvPicPr>
        <p:blipFill>
          <a:blip r:embed="rId3"/>
          <a:stretch/>
        </p:blipFill>
        <p:spPr>
          <a:xfrm>
            <a:off x="285840" y="1168560"/>
            <a:ext cx="331632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75276"/>
          <p:cNvPicPr/>
          <p:nvPr/>
        </p:nvPicPr>
        <p:blipFill>
          <a:blip r:embed="rId4"/>
          <a:stretch/>
        </p:blipFill>
        <p:spPr>
          <a:xfrm>
            <a:off x="6121440" y="2406600"/>
            <a:ext cx="2230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842920" y="3789000"/>
            <a:ext cx="331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Без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Мало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Много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24000" y="26028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50920" y="90792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iCAEDI29N"/>
          <p:cNvPicPr/>
          <p:nvPr/>
        </p:nvPicPr>
        <p:blipFill>
          <a:blip r:embed="rId2"/>
          <a:stretch/>
        </p:blipFill>
        <p:spPr>
          <a:xfrm>
            <a:off x="468360" y="1268280"/>
            <a:ext cx="1822320" cy="1360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i?id=9330087&amp;tov=4"/>
          <p:cNvPicPr/>
          <p:nvPr/>
        </p:nvPicPr>
        <p:blipFill>
          <a:blip r:embed="rId3"/>
          <a:stretch/>
        </p:blipFill>
        <p:spPr>
          <a:xfrm>
            <a:off x="7667640" y="0"/>
            <a:ext cx="118440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2b"/>
          <p:cNvPicPr/>
          <p:nvPr/>
        </p:nvPicPr>
        <p:blipFill>
          <a:blip r:embed="rId4"/>
          <a:stretch/>
        </p:blipFill>
        <p:spPr>
          <a:xfrm>
            <a:off x="179280" y="3357720"/>
            <a:ext cx="2857680" cy="31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Картинка 33 из 11063"/>
          <p:cNvPicPr/>
          <p:nvPr/>
        </p:nvPicPr>
        <p:blipFill>
          <a:blip r:embed="rId5"/>
          <a:stretch/>
        </p:blipFill>
        <p:spPr>
          <a:xfrm>
            <a:off x="5940360" y="2565360"/>
            <a:ext cx="3057480" cy="407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50501_23"/>
          <p:cNvPicPr/>
          <p:nvPr/>
        </p:nvPicPr>
        <p:blipFill>
          <a:blip r:embed="rId6"/>
          <a:stretch/>
        </p:blipFill>
        <p:spPr>
          <a:xfrm>
            <a:off x="2771640" y="1052640"/>
            <a:ext cx="3930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mnogo_new"/>
          <p:cNvPicPr/>
          <p:nvPr/>
        </p:nvPicPr>
        <p:blipFill>
          <a:blip r:embed="rId2"/>
          <a:stretch/>
        </p:blipFill>
        <p:spPr>
          <a:xfrm>
            <a:off x="1116000" y="189000"/>
            <a:ext cx="6900840" cy="343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appiness_pr"/>
          <p:cNvPicPr/>
          <p:nvPr/>
        </p:nvPicPr>
        <p:blipFill>
          <a:blip r:embed="rId3"/>
          <a:stretch/>
        </p:blipFill>
        <p:spPr>
          <a:xfrm>
            <a:off x="250920" y="4005360"/>
            <a:ext cx="3632040" cy="18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trail_sand4_pr"/>
          <p:cNvPicPr/>
          <p:nvPr/>
        </p:nvPicPr>
        <p:blipFill>
          <a:blip r:embed="rId4"/>
          <a:stretch/>
        </p:blipFill>
        <p:spPr>
          <a:xfrm>
            <a:off x="4067280" y="4038480"/>
            <a:ext cx="476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489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Патриарха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(традиционные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енство мужчины; женщина экономически зависит от мужч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472428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Эгалитар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410082"/>
                </a:solidFill>
                <a:latin typeface="Times New Roman"/>
              </a:rPr>
              <a:t>(партнёрские)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порциональное распределение обязаннос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24328205_432"/>
          <p:cNvPicPr/>
          <p:nvPr/>
        </p:nvPicPr>
        <p:blipFill>
          <a:blip r:embed="rId2"/>
          <a:stretch/>
        </p:blipFill>
        <p:spPr>
          <a:xfrm>
            <a:off x="468360" y="907920"/>
            <a:ext cx="4518000" cy="354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873"/>
          <p:cNvPicPr/>
          <p:nvPr/>
        </p:nvPicPr>
        <p:blipFill>
          <a:blip r:embed="rId3"/>
          <a:stretch/>
        </p:blipFill>
        <p:spPr>
          <a:xfrm>
            <a:off x="5435640" y="1413000"/>
            <a:ext cx="344628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489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10082"/>
                </a:solidFill>
                <a:uFillTx/>
                <a:latin typeface="Times New Roman"/>
              </a:rPr>
              <a:t>Полигамные</a:t>
            </a:r>
            <a:r>
              <a:rPr b="1" lang="en-US" sz="4400" spc="-1" strike="noStrike">
                <a:solidFill>
                  <a:srgbClr val="410082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к одного партнёра с нескольки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19280" y="5589360"/>
            <a:ext cx="370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10082"/>
                </a:solidFill>
                <a:uFillTx/>
                <a:latin typeface="Times New Roman"/>
              </a:rPr>
              <a:t>Моногамны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 партнё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Картинка 42 из 53"/>
          <p:cNvPicPr/>
          <p:nvPr/>
        </p:nvPicPr>
        <p:blipFill>
          <a:blip r:embed="rId2"/>
          <a:stretch/>
        </p:blipFill>
        <p:spPr>
          <a:xfrm>
            <a:off x="179280" y="836640"/>
            <a:ext cx="3432240" cy="2266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i?id=53743636&amp;tov=3"/>
          <p:cNvPicPr/>
          <p:nvPr/>
        </p:nvPicPr>
        <p:blipFill>
          <a:blip r:embed="rId3"/>
          <a:stretch/>
        </p:blipFill>
        <p:spPr>
          <a:xfrm>
            <a:off x="2556000" y="2276640"/>
            <a:ext cx="2705040" cy="1809720"/>
          </a:xfrm>
          <a:prstGeom prst="rect">
            <a:avLst/>
          </a:prstGeom>
          <a:ln w="38160">
            <a:solidFill>
              <a:srgbClr val="410082"/>
            </a:solidFill>
            <a:miter/>
          </a:ln>
        </p:spPr>
      </p:pic>
      <p:pic>
        <p:nvPicPr>
          <p:cNvPr id="153" name="Picture 11" descr="Картинка 4 из 85"/>
          <p:cNvPicPr/>
          <p:nvPr/>
        </p:nvPicPr>
        <p:blipFill>
          <a:blip r:embed="rId4"/>
          <a:stretch/>
        </p:blipFill>
        <p:spPr>
          <a:xfrm>
            <a:off x="5796000" y="907920"/>
            <a:ext cx="2943360" cy="3810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6228360" y="479700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В.Пукир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рав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755640" y="18900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3. Функции семьи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59280" y="1052280"/>
            <a:ext cx="608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ческое воспроизвод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ализация нового поко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ение домашнего хозяйства, семейный бюджет, распределение домашнего труда, потребление; оп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здание чувства безопасности и комфорта, эмоциональная поддерж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досуга, духовно-эстетические асп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редоставление социального стат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гулирование сексуального пове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11280" y="907920"/>
            <a:ext cx="45370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0" y="1341360"/>
            <a:ext cx="3745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родук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Воспита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сихолог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ре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тату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ксу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i6mI33Z5Yb4"/>
          <p:cNvPicPr/>
          <p:nvPr/>
        </p:nvPicPr>
        <p:blipFill>
          <a:blip r:embed="rId3"/>
          <a:stretch/>
        </p:blipFill>
        <p:spPr>
          <a:xfrm>
            <a:off x="611280" y="1484280"/>
            <a:ext cx="7561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755640" y="18900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Семейные взаимоотношения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684360" y="981000"/>
            <a:ext cx="67672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340000" y="551664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 - Ж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55640" y="364500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 – бабушки, дед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851280" y="364500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 - 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4211640" y="4581360"/>
            <a:ext cx="3313080" cy="100836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 - 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24000" y="4581360"/>
            <a:ext cx="3816360" cy="100836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ья – родительские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2268360" y="1341360"/>
            <a:ext cx="3240360" cy="1944720"/>
          </a:xfrm>
          <a:custGeom>
            <a:avLst/>
            <a:gdLst>
              <a:gd name="textAreaLeft" fmla="*/ 755640 w 3240360"/>
              <a:gd name="textAreaRight" fmla="*/ 2484000 w 3240360"/>
              <a:gd name="textAreaTop" fmla="*/ 204840 h 1944720"/>
              <a:gd name="textAreaBottom" fmla="*/ 1231560 h 1944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a4a4a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5219640" y="2276640"/>
            <a:ext cx="2376720" cy="122364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89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10082"/>
                </a:solidFill>
                <a:latin typeface="Arial"/>
              </a:rPr>
              <a:t>Групп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10082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7020000" y="1628640"/>
            <a:ext cx="792000" cy="64800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7596360" y="2852640"/>
            <a:ext cx="792000" cy="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093080" y="3500280"/>
            <a:ext cx="1152360" cy="43344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611280" y="1989000"/>
            <a:ext cx="1800000" cy="1513080"/>
          </a:xfrm>
          <a:prstGeom prst="smileyFace">
            <a:avLst>
              <a:gd name="adj" fmla="val 9282"/>
            </a:avLst>
          </a:prstGeom>
          <a:solidFill>
            <a:srgbClr val="ffffff">
              <a:alpha val="80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79280" y="112536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Эмоцион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атмо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WordArt 19"/>
          <p:cNvSpPr txBox="1"/>
          <p:nvPr/>
        </p:nvSpPr>
        <p:spPr>
          <a:xfrm>
            <a:off x="8028000" y="98100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8388360" y="220500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1"/>
          <p:cNvSpPr txBox="1"/>
          <p:nvPr/>
        </p:nvSpPr>
        <p:spPr>
          <a:xfrm>
            <a:off x="8317080" y="357336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semya_1"/>
          <p:cNvPicPr/>
          <p:nvPr/>
        </p:nvPicPr>
        <p:blipFill>
          <a:blip r:embed="rId2"/>
          <a:stretch/>
        </p:blipFill>
        <p:spPr>
          <a:xfrm>
            <a:off x="4619520" y="3357720"/>
            <a:ext cx="452448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0"/>
          <p:cNvSpPr txBox="1"/>
          <p:nvPr/>
        </p:nvSpPr>
        <p:spPr>
          <a:xfrm>
            <a:off x="75564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684360" y="836640"/>
            <a:ext cx="45352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parents-01"/>
          <p:cNvPicPr/>
          <p:nvPr/>
        </p:nvPicPr>
        <p:blipFill>
          <a:blip r:embed="rId3"/>
          <a:stretch/>
        </p:blipFill>
        <p:spPr>
          <a:xfrm>
            <a:off x="5435640" y="18900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3"/>
          <p:cNvSpPr/>
          <p:nvPr/>
        </p:nvSpPr>
        <p:spPr>
          <a:xfrm>
            <a:off x="1187280" y="1989000"/>
            <a:ext cx="2592720" cy="863640"/>
          </a:xfrm>
          <a:custGeom>
            <a:avLst/>
            <a:gdLst>
              <a:gd name="textAreaLeft" fmla="*/ 0 w 2592720"/>
              <a:gd name="textAreaRight" fmla="*/ 2593080 w 259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ДИК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1187280" y="2997360"/>
            <a:ext cx="2664000" cy="86328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1187280" y="1052640"/>
            <a:ext cx="4104000" cy="863640"/>
          </a:xfrm>
          <a:custGeom>
            <a:avLst/>
            <a:gdLst>
              <a:gd name="textAreaLeft" fmla="*/ 0 w 4104000"/>
              <a:gd name="textAreaRight" fmla="*/ 4104360 w 410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НЕВМЕША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1116000" y="4076640"/>
            <a:ext cx="3527280" cy="8636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СОТРУДНИ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WordArt 17"/>
          <p:cNvSpPr txBox="1"/>
          <p:nvPr/>
        </p:nvSpPr>
        <p:spPr>
          <a:xfrm rot="5400000">
            <a:off x="-1430640" y="2735280"/>
            <a:ext cx="4032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ИЛИ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000" y="5805360"/>
            <a:ext cx="8820000" cy="863640"/>
          </a:xfrm>
          <a:prstGeom prst="rect">
            <a:avLst/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Семейное воспита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это осознанное влияние на фор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и детей, предпринимаемое старшими членами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7138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Факторы</a:t>
            </a: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, влияющие на </a:t>
            </a: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содержание,  характер, результаты воспит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раст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я старших о том, каким должен стать ребёнок (подросток, юноша, девуш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чностные ресурсы семьи: состав, здоровье, образование, увлечения, ценностные ориентации, социальные устан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270036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627280" y="981000"/>
            <a:ext cx="4608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374920"/>
          </a:xfrm>
          <a:prstGeom prst="rect">
            <a:avLst/>
          </a:prstGeom>
          <a:noFill/>
          <a:ln w="38160">
            <a:solidFill>
              <a:srgbClr val="410082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33"/>
                </a:solidFill>
                <a:uFillTx/>
                <a:latin typeface="Times New Roman"/>
              </a:rPr>
              <a:t>Семья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 – это некая социальная общность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алая группа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, члены которой связаны брачными или родственными отношениями, общим бытом и взаимной моральной ответственн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5ee299bde290"/>
          <p:cNvPicPr/>
          <p:nvPr/>
        </p:nvPicPr>
        <p:blipFill>
          <a:blip r:embed="rId2"/>
          <a:stretch/>
        </p:blipFill>
        <p:spPr>
          <a:xfrm>
            <a:off x="2268360" y="189000"/>
            <a:ext cx="4275360" cy="3554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732720" y="2708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емья императора Никола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33120" y="1628640"/>
            <a:ext cx="687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0082"/>
                </a:solidFill>
                <a:latin typeface="Times New Roman"/>
              </a:rPr>
              <a:t>Цели семейного воспита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витие гигиенических навы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ние бытовых ум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льтура об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е разви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итие индивидуальных способнос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а к профе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97964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1835280" y="981000"/>
            <a:ext cx="460836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71f7e2eb4208404b2a1fec351c1876df"/>
          <p:cNvPicPr/>
          <p:nvPr/>
        </p:nvPicPr>
        <p:blipFill>
          <a:blip r:embed="rId2"/>
          <a:stretch/>
        </p:blipFill>
        <p:spPr>
          <a:xfrm>
            <a:off x="7236000" y="260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2"/>
          <a:stretch/>
        </p:blipFill>
        <p:spPr>
          <a:xfrm>
            <a:off x="469800" y="79200"/>
            <a:ext cx="8143920" cy="3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341280"/>
          <a:ext cx="9144000" cy="6432480"/>
        </p:xfrm>
        <a:graphic>
          <a:graphicData uri="http://schemas.openxmlformats.org/drawingml/2006/table">
            <a:tbl>
              <a:tblPr/>
              <a:tblGrid>
                <a:gridCol w="3780000"/>
                <a:gridCol w="536400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и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, факт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нижение воспитательного потенц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неполных се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чный уровень знаний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ост числа детей - сиро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 –экономические причины   (аварии, катастрофы на производстве и транспорте, терроризм, стихийные бедствия, преждевременная смерть родите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аз матерей от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шение родительских пр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зрушение нравственных устоев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духовность; утрата важных человеческих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ьянство, амораль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ост числа матерей-одиночек, несовершеннолетних матер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. выш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емья не играет самодовлеющей роли, как в был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ание роли общественных институтов (детсад, школ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структуры семьи (ослабление роли отца, занятость женщин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й авторитет не является абсолютн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уж идёт с женой в магазин и берёт рюкзак. Жена: «Возьми сумку, с рюкзаком некрасив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ужу не нравится, когда жена пользуется косме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пругам надо выходить из дома, с ними ребёнок, они торопятся. Но тут жена спохватывается: «Давай переоденем маленькому рубашечку! Она некрасивая!» Он: «Нет, это не самое главное, пойдём так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вой долг родителям дети отдают своим детям» (И.Шевелё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емья более священна, чем государство» (Пий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аихудшее, чему может научиться молодёжь, - легкомыслие. Ибо последнее порождает те удовольствия, из которых развивается порок» (Демокр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213000"/>
            <a:ext cx="3754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нограф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оло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ка семь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емейное 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граф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альная психоло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92000" y="836280"/>
            <a:ext cx="5651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т; ритуалы, обряды, обыча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емья как социальная система (институт, малая групп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сти совместной деятельности в домашнем хозяйстве и производст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рава и обязанности, вытекающие из отношений брака, родства, усыновления; семейная собств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озрастная структура, размер и соста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Межличност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итание дет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08000" y="189000"/>
            <a:ext cx="88772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я - предмет исследования разных наук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1692360" y="692280"/>
            <a:ext cx="7308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0" descr="iCACUZT09"/>
          <p:cNvPicPr/>
          <p:nvPr/>
        </p:nvPicPr>
        <p:blipFill>
          <a:blip r:embed="rId2"/>
          <a:stretch/>
        </p:blipFill>
        <p:spPr>
          <a:xfrm>
            <a:off x="755640" y="1668600"/>
            <a:ext cx="1174680" cy="1458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250920" y="10270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ая работа  с текстом 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 основы крепкой семьи на данном историческом приме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це 90–х годов прошлого века в электрической компании в Детройте работал молодой механик за 11 долларов в неделю. Трудился он по 10 часов в день, а приходя домой, зачастую по полночи работал у себя в сарае, пытаясь изобрести новый тип двигателя. Его отец считал, что парень тратит время впустую, соседи называли сумасшедшим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икто не верил, что из этих занятий выйдет что–либо путное. Никто, кроме его жены..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а помогала ему работать по ночам, по нескольку часов держа над его головой керосиновую лампу. Синели руки, зубы стучали от холода, она то и дело простужалась, но… Она так верила в мужа!!! Спустя годы из сарая раздался шум. Соседи увидели, как по дороге без лошади, в одной телеге ехали сумасшедший и его жена. Чудака звали Генри Форд..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, беря интервью у Форда, некий журналист поинтересовался, кем бы Форд хотел быть в другой жизни, гений ответил просто: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«Кем угодно… Лишь бы рядом со мной была моя жена»..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686448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enry%20and%20wife"/>
          <p:cNvPicPr/>
          <p:nvPr/>
        </p:nvPicPr>
        <p:blipFill>
          <a:blip r:embed="rId3"/>
          <a:stretch/>
        </p:blipFill>
        <p:spPr>
          <a:xfrm>
            <a:off x="324000" y="765000"/>
            <a:ext cx="42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ghwUxLNzFo"/>
          <p:cNvPicPr/>
          <p:nvPr/>
        </p:nvPicPr>
        <p:blipFill>
          <a:blip r:embed="rId4"/>
          <a:stretch/>
        </p:blipFill>
        <p:spPr>
          <a:xfrm>
            <a:off x="5418000" y="907920"/>
            <a:ext cx="3468960" cy="439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332349870_henry-ford"/>
          <p:cNvPicPr/>
          <p:nvPr/>
        </p:nvPicPr>
        <p:blipFill>
          <a:blip r:embed="rId5"/>
          <a:stretch/>
        </p:blipFill>
        <p:spPr>
          <a:xfrm>
            <a:off x="250920" y="3068640"/>
            <a:ext cx="4752720" cy="3646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291280" y="5589720"/>
            <a:ext cx="3117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«Кем угод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Лишь бы рядом со 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была моя жена»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CAEDI29N"/>
          <p:cNvPicPr/>
          <p:nvPr/>
        </p:nvPicPr>
        <p:blipFill>
          <a:blip r:embed="rId2"/>
          <a:stretch/>
        </p:blipFill>
        <p:spPr>
          <a:xfrm>
            <a:off x="6732720" y="189000"/>
            <a:ext cx="1822320" cy="1360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755640" y="33336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Основы семьи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39640" y="1052640"/>
            <a:ext cx="5184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012000" y="4149720"/>
            <a:ext cx="288108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6012000" y="3284640"/>
            <a:ext cx="288108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Ы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940360" y="1628640"/>
            <a:ext cx="302256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жданский б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5940360" y="2421000"/>
            <a:ext cx="295272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187280" y="2133720"/>
            <a:ext cx="3600720" cy="3240000"/>
          </a:xfrm>
          <a:prstGeom prst="ellipse">
            <a:avLst/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ья – это союз люд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ённы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34"/>
          <p:cNvSpPr txBox="1"/>
          <p:nvPr/>
        </p:nvSpPr>
        <p:spPr>
          <a:xfrm rot="3258000">
            <a:off x="747000" y="1495440"/>
            <a:ext cx="4438440" cy="449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1378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10082"/>
                </a:solidFill>
                <a:latin typeface="Arial"/>
              </a:rPr>
              <a:t>любовью, интересами, взаимовыручкой,  взаимопониманием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10082"/>
              </a:solidFill>
              <a:latin typeface="Arial"/>
              <a:ea typeface="Arial"/>
            </a:endParaRPr>
          </a:p>
        </p:txBody>
      </p:sp>
      <p:sp>
        <p:nvSpPr>
          <p:cNvPr id="109" name="WordArt 36"/>
          <p:cNvSpPr txBox="1"/>
          <p:nvPr/>
        </p:nvSpPr>
        <p:spPr>
          <a:xfrm>
            <a:off x="2771640" y="4292640"/>
            <a:ext cx="3603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69800" y="0"/>
            <a:ext cx="4400640" cy="11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338968743_queen-elizabeth-ii-style-4"/>
          <p:cNvPicPr/>
          <p:nvPr/>
        </p:nvPicPr>
        <p:blipFill>
          <a:blip r:embed="rId3"/>
          <a:stretch/>
        </p:blipFill>
        <p:spPr>
          <a:xfrm>
            <a:off x="0" y="1095480"/>
            <a:ext cx="3673440" cy="576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c9a3af8e0dd"/>
          <p:cNvPicPr/>
          <p:nvPr/>
        </p:nvPicPr>
        <p:blipFill>
          <a:blip r:embed="rId4"/>
          <a:stretch/>
        </p:blipFill>
        <p:spPr>
          <a:xfrm>
            <a:off x="4967280" y="0"/>
            <a:ext cx="4176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nWj0c6Q8y9A"/>
          <p:cNvPicPr/>
          <p:nvPr/>
        </p:nvPicPr>
        <p:blipFill>
          <a:blip r:embed="rId2"/>
          <a:stretch/>
        </p:blipFill>
        <p:spPr>
          <a:xfrm>
            <a:off x="0" y="0"/>
            <a:ext cx="4870440" cy="666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queenPA1_468x452"/>
          <p:cNvPicPr/>
          <p:nvPr/>
        </p:nvPicPr>
        <p:blipFill>
          <a:blip r:embed="rId3"/>
          <a:stretch/>
        </p:blipFill>
        <p:spPr>
          <a:xfrm>
            <a:off x="5292720" y="189000"/>
            <a:ext cx="3267000" cy="315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lizaveta_ii_s_korolevskoy_semey"/>
          <p:cNvPicPr/>
          <p:nvPr/>
        </p:nvPicPr>
        <p:blipFill>
          <a:blip r:embed="rId4"/>
          <a:stretch/>
        </p:blipFill>
        <p:spPr>
          <a:xfrm>
            <a:off x="5003640" y="3500280"/>
            <a:ext cx="39722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4653000"/>
            <a:ext cx="446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Многопоколенны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расширенные): под одной крышей 2-3 поко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Ф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8000" y="472428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Нуклеарные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пружеская пара  деть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РФ – 1-2 ребё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9" descr="i_1254690936_4ac910781a7de"/>
          <p:cNvPicPr/>
          <p:nvPr/>
        </p:nvPicPr>
        <p:blipFill>
          <a:blip r:embed="rId2"/>
          <a:stretch/>
        </p:blipFill>
        <p:spPr>
          <a:xfrm>
            <a:off x="250920" y="1052640"/>
            <a:ext cx="5473440" cy="35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family"/>
          <p:cNvPicPr/>
          <p:nvPr/>
        </p:nvPicPr>
        <p:blipFill>
          <a:blip r:embed="rId3"/>
          <a:stretch/>
        </p:blipFill>
        <p:spPr>
          <a:xfrm>
            <a:off x="6084720" y="907920"/>
            <a:ext cx="2854440" cy="3641760"/>
          </a:xfrm>
          <a:prstGeom prst="rect">
            <a:avLst/>
          </a:prstGeom>
          <a:ln w="0">
            <a:noFill/>
          </a:ln>
        </p:spPr>
      </p:pic>
      <p:sp>
        <p:nvSpPr>
          <p:cNvPr id="122" name="Line 13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02:21Z</dcterms:created>
  <dc:creator>Фёдорова</dc:creator>
  <dc:description/>
  <dc:language>en-US</dc:language>
  <cp:lastModifiedBy>User</cp:lastModifiedBy>
  <dcterms:modified xsi:type="dcterms:W3CDTF">2015-10-08T21:04:39Z</dcterms:modified>
  <cp:revision>24</cp:revision>
  <dc:subject/>
  <dc:title>Слайд 1</dc:title>
</cp:coreProperties>
</file>