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B0C-AE44-4273-A93D-1161EDEC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A34-E97A-4CBC-BCC3-590D555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3CC-9B45-4AA2-86DC-72664C8B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F46-39F2-4626-AAA2-320D4BC1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010-CFA4-40B5-9A42-6CDE8527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FC8-EB2D-4650-8DD0-362FACE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F088-44A7-4E26-838B-D4004DA6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61FE-C59D-49D6-9D5B-E725A2D7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1166-11B3-4637-AB4D-37501544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350-1BDD-46BA-AE7E-635F590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8DB9-B702-4843-A14D-801C6BA1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998-16B3-49CC-AEF2-4814356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DBB-B76F-404A-BCCF-B1F5F94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279B-4361-42E7-A11B-A8CC8B9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71D1-990B-411D-BA6E-BB71172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7DF9-6D38-4701-BB95-FC62E486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5A2C-E460-4FA8-981C-4510B895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AAA-F3C5-4CBC-9337-21E56C77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80A-F475-4250-8627-3B7AC4D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059-3BD0-422A-B43E-543CD6B7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824-BD25-41EA-991F-D813D68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38B-E21A-4C4C-A4A2-9545D7A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571-8B2C-4E07-9D5C-9455308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C2F-DD3C-4FE9-BD62-80154DD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C21-5060-4B5B-BA3C-9EC2F36DB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8C2-7D89-407E-ABC9-ED2A8A9B8C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emljaki.mybb.ru/uploads/0000/59/f0/6368-1-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050920" y="2016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55640" y="742680"/>
            <a:ext cx="8388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остовские подносы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алеко от Москвы в очень живописном месте находится село Жостов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село прославилось не только в нашей стране, но и за рубежом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наменито оно тем, что никто лучше местных умельцев не может рисовать цветы на железных подно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ческий жостовский поднос – это крупные и сочные садовые и полевые цветы в окружении свежей листвы, как будто бы брошенные на подготовленный фон. Всем известные колокольчики, ромашки и васильки, но созданные густым широким мазком, играют по-новом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чный букет жостовского подноса очень прост по своей композиции. Объёмная форма букета сочетается с продуманностью цветового решения. Бортики подносов часто украшены лёгким золотым рису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же возникло это удивительное ремесло? В XIX веке на Руси широкое распространение получает заморский напиток – чай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вытеснил традиционно русский сбитень, медовуху и различные травяные настои. Возникла целая церемония чаепит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льские мастера принялись за изготовление самоваров. Вместе с самоваром на стол ставился и поднос, который также стал непременным участником русского чаеп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55640" y="476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енежка Прокла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этого следует "бликовка", то есть нанесение белильных мазков (иногда слегка подцвеченных), уточняющих все объемы - операция завершает лепку форм, их условную материальнос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дущая операция "чертежка" размещает детали, быстро и легко очерчивает лепестки и листья, прожилки и семенца в чашечках цветов, выразительно подчеркивая по контрасту их сочную живоп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6371-4"/>
          <p:cNvPicPr/>
          <p:nvPr/>
        </p:nvPicPr>
        <p:blipFill>
          <a:blip r:embed="rId1"/>
          <a:stretch/>
        </p:blipFill>
        <p:spPr>
          <a:xfrm>
            <a:off x="5076720" y="3716280"/>
            <a:ext cx="220032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098-2"/>
          <p:cNvPicPr/>
          <p:nvPr/>
        </p:nvPicPr>
        <p:blipFill>
          <a:blip r:embed="rId1"/>
          <a:stretch/>
        </p:blipFill>
        <p:spPr>
          <a:xfrm>
            <a:off x="1042920" y="549360"/>
            <a:ext cx="283068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6365-3-f"/>
          <p:cNvPicPr/>
          <p:nvPr/>
        </p:nvPicPr>
        <p:blipFill>
          <a:blip r:embed="rId2"/>
          <a:stretch/>
        </p:blipFill>
        <p:spPr>
          <a:xfrm>
            <a:off x="6804000" y="4216320"/>
            <a:ext cx="2104920" cy="164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6371-1"/>
          <p:cNvPicPr/>
          <p:nvPr/>
        </p:nvPicPr>
        <p:blipFill>
          <a:blip r:embed="rId3"/>
          <a:stretch/>
        </p:blipFill>
        <p:spPr>
          <a:xfrm>
            <a:off x="3533760" y="1695600"/>
            <a:ext cx="3386160" cy="25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3924360" y="638640"/>
            <a:ext cx="52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ликовка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ршает письмо "привязка" - тонкие травка и усики, объединяющие все изображение в букете и мягким переходом связывающие его с фон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намент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сложившиеся в промысле традиционные приемы каждый мастер использует по-своему, творчески обыгрывая декоративные возможности кистевого письма (например, "бликовка" может мягко "сплавляться" с "прокладкой", а может четко выделяться на ней; мазки разной силы и очертаний в одних случаях спокойно лепят форму, в других - ложатся на ней своеобразным узором и т.д.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появляются бесконечные варианты сходных мотивов и образов, но никогда не увидеть среди них буквальных копий или повтор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6372-1"/>
          <p:cNvPicPr/>
          <p:nvPr/>
        </p:nvPicPr>
        <p:blipFill>
          <a:blip r:embed="rId1"/>
          <a:stretch/>
        </p:blipFill>
        <p:spPr>
          <a:xfrm>
            <a:off x="1042920" y="549360"/>
            <a:ext cx="2257560" cy="150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6372-2"/>
          <p:cNvPicPr/>
          <p:nvPr/>
        </p:nvPicPr>
        <p:blipFill>
          <a:blip r:embed="rId2"/>
          <a:stretch/>
        </p:blipFill>
        <p:spPr>
          <a:xfrm>
            <a:off x="900000" y="2421000"/>
            <a:ext cx="2219400" cy="14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6372-3"/>
          <p:cNvPicPr/>
          <p:nvPr/>
        </p:nvPicPr>
        <p:blipFill>
          <a:blip r:embed="rId3"/>
          <a:stretch/>
        </p:blipFill>
        <p:spPr>
          <a:xfrm>
            <a:off x="1042920" y="4581360"/>
            <a:ext cx="221940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5921-1"/>
          <p:cNvPicPr/>
          <p:nvPr/>
        </p:nvPicPr>
        <p:blipFill>
          <a:blip r:embed="rId1"/>
          <a:stretch/>
        </p:blipFill>
        <p:spPr>
          <a:xfrm>
            <a:off x="0" y="1484280"/>
            <a:ext cx="309708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203640" y="413640"/>
            <a:ext cx="619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е время в центральной России использовались подносы из папье-маше. Их изготавливали наряду со шкатулками и табакеркам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гатых домах встречались и металлические подносы, изготовленные на Урале и в Санкт-Петербур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от в первой четверти XIX века в селе Жостово кто-то решил, что технологию лаковой обработки коробочек из папье-маше можно перенести на железо: тот же грунт, тот же лак, те же масляные краски. Надо отметить, что Жостово славилось кузнецами, поэтому идея жостовского подноса попала наблагодатную почву. В старых книгах нашлись записи о том, что в 1825 году местный крестьянин Филипп Вишняков с сыном открыл мастерскую по изготовлению металлических расписных подносов. Вслед за ним открывались и другие мастерские. Жостовские подносы изготавливались различных размеров и форм. Трактирные подносы достигали размеров стола, маленькие «закусочные» - не больше тарелки; шести и восьмиугольные, овальные, прямоугольные, круглые и даже треугольные для угловых стол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6365-1-f"/>
          <p:cNvPicPr/>
          <p:nvPr/>
        </p:nvPicPr>
        <p:blipFill>
          <a:blip r:embed="rId1"/>
          <a:stretch/>
        </p:blipFill>
        <p:spPr>
          <a:xfrm>
            <a:off x="2340000" y="549360"/>
            <a:ext cx="504036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755640" y="407376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й поднос жив и по сей день. Процесс изготовления несколько изменился – металл теперь не куют, а прессуют, используют другие краски. Но ощущение праздника и радости жостовский поднос сохран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XIX – начале XX столетий промысел села Жостово пришел в упадо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 1928 году несколько артелей объединились в одну – «Металлоподнос». Жостовская фабрика декоративной росписи и по сей день выпускает настоящее жостовское чу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68240" y="92160"/>
            <a:ext cx="48117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исключительно вручну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арактерные виды росписи жостовских подносов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ы (классический вид росписи) - букет цветов на чер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он (фоновая роспись) - букет цветов на цвет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рукты - роспись с использованием изображений различных фру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05360"/>
            <a:ext cx="3048120" cy="208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увеличить"/>
          <p:cNvPicPr/>
          <p:nvPr/>
        </p:nvPicPr>
        <p:blipFill>
          <a:blip r:embed="rId3"/>
          <a:stretch/>
        </p:blipFill>
        <p:spPr>
          <a:xfrm>
            <a:off x="3635280" y="4400640"/>
            <a:ext cx="3048120" cy="24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увеличить"/>
          <p:cNvPicPr/>
          <p:nvPr/>
        </p:nvPicPr>
        <p:blipFill>
          <a:blip r:embed="rId4"/>
          <a:stretch/>
        </p:blipFill>
        <p:spPr>
          <a:xfrm>
            <a:off x="6095880" y="2708280"/>
            <a:ext cx="3048120" cy="24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увеличить"/>
          <p:cNvPicPr/>
          <p:nvPr/>
        </p:nvPicPr>
        <p:blipFill>
          <a:blip r:embed="rId5"/>
          <a:stretch/>
        </p:blipFill>
        <p:spPr>
          <a:xfrm>
            <a:off x="5651640" y="0"/>
            <a:ext cx="3047760" cy="24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5921-3"/>
          <p:cNvPicPr/>
          <p:nvPr/>
        </p:nvPicPr>
        <p:blipFill>
          <a:blip r:embed="rId1"/>
          <a:stretch/>
        </p:blipFill>
        <p:spPr>
          <a:xfrm>
            <a:off x="1258920" y="54936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5921-2"/>
          <p:cNvPicPr/>
          <p:nvPr/>
        </p:nvPicPr>
        <p:blipFill>
          <a:blip r:embed="rId2"/>
          <a:stretch/>
        </p:blipFill>
        <p:spPr>
          <a:xfrm>
            <a:off x="4572000" y="3354480"/>
            <a:ext cx="3960720" cy="288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611280" y="33786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мпозициях много места отводится гладкому фону, который обладает красивой поверхностью подноса, эффектно играющей на свет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е цветов на лицевой поверхности подноса отличается особой мягкостью и округлостью рисунк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148360" y="108252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 распространенным видом жостовской росписи подносов является букет, расположенный в центре подноса и обрамленный по борту мелким золотистым узор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269080" y="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иды росписи жостовских под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755640" y="118872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кет превращается в нарядную группу цветов, свободно положенную на блестящий лаковый фон. Три-четыре крупных цветка (роза, тюльпан, георгин, а порой и более скромные анютины глазки, вьюнки и т.п.) окружались россыпью более мелких цветочков и бутонов, связанных между собой гибкими стебельками и легкой "травкой", то есть небольшими веточками и листочками. Изображение словно рождается из мерцающей глубины, растворяясь в ней прозрачными тенями и вспыхивая яркими бликами на поверхности подноса. Чуть "утоленные" в фоне цветы кажутся легкими, полуобъемными, тактично данные ракурсы и повороты венчиков не прорывали зрительно плоскости предмета. Мастера умеют находить красивые и выразительные очертания букета в целом на подносе. Верх часто завершается двумя-тремя плавно и широко расходящимися в стороны веточками, изгибы которых следовали за формой самой вещи. Легкое узорное кружево из разнообразной "травки" окружает букет по краям, вписывая его в гладкий фон подно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539640" y="4292640"/>
            <a:ext cx="38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е металлические подносы разнообразны по форме; подносы многоугольные, подносы круглые, подносы овальные, подносы комбинирова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-38149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6367-1-f"/>
          <p:cNvPicPr/>
          <p:nvPr/>
        </p:nvPicPr>
        <p:blipFill>
          <a:blip r:embed="rId1"/>
          <a:stretch/>
        </p:blipFill>
        <p:spPr>
          <a:xfrm>
            <a:off x="1042920" y="333360"/>
            <a:ext cx="3241800" cy="34545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-38134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увеличить"/>
          <p:cNvPicPr/>
          <p:nvPr/>
        </p:nvPicPr>
        <p:blipFill>
          <a:blip r:embed="rId2"/>
          <a:stretch/>
        </p:blipFill>
        <p:spPr>
          <a:xfrm>
            <a:off x="5796000" y="0"/>
            <a:ext cx="3048120" cy="28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увеличить"/>
          <p:cNvPicPr/>
          <p:nvPr/>
        </p:nvPicPr>
        <p:blipFill>
          <a:blip r:embed="rId3"/>
          <a:stretch/>
        </p:blipFill>
        <p:spPr>
          <a:xfrm>
            <a:off x="4643280" y="3284640"/>
            <a:ext cx="3048120" cy="300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971640" y="105264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зготовления жостовских металлических поднос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готовляются жостовские подносы из листового желе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вка подносов осуществляется на механических прес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кованные изделия грунтуют, шпаклюют, шлифуют и лакируют, что делает их поверхность безукоризненно ровной, затем расписывают масляными красками и покрывают сверху несколькими слоями прозрачного бесцветного л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важной операцией, требующей подлинного творчества, является роспись, изображающая чаще всего красочные букеты цвет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в несколько приемов. Кратко опишем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инается она с "замалевки": разбеленными красками намечается общий силуэт изображения (цветов и листьев), расположение основных пятен. "Замалеванные" подносы сушатся в печах в течение несколь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6371-1"/>
          <p:cNvPicPr/>
          <p:nvPr/>
        </p:nvPicPr>
        <p:blipFill>
          <a:blip r:embed="rId1"/>
          <a:stretch/>
        </p:blipFill>
        <p:spPr>
          <a:xfrm>
            <a:off x="2700360" y="476280"/>
            <a:ext cx="154764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ледующим приемом на просохшем замалевке лессировочными (прозрачными) красками накладываются тен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от прием "тенежка" погружает букет в глубину фона, выявляет теневые места растений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Затем следует "прокладка" - плотное корпусное письмо яркими красками, наиболее ответственный этап живопис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ормы букетов обретают плоть, уточняются, высветляются, возникает контрастный или гармоничный колорит композици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6371-2"/>
          <p:cNvPicPr/>
          <p:nvPr/>
        </p:nvPicPr>
        <p:blipFill>
          <a:blip r:embed="rId2"/>
          <a:stretch/>
        </p:blipFill>
        <p:spPr>
          <a:xfrm>
            <a:off x="5940360" y="1197000"/>
            <a:ext cx="2181240" cy="1571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6371-3"/>
          <p:cNvPicPr/>
          <p:nvPr/>
        </p:nvPicPr>
        <p:blipFill>
          <a:blip r:embed="rId3"/>
          <a:stretch/>
        </p:blipFill>
        <p:spPr>
          <a:xfrm>
            <a:off x="5519880" y="4295880"/>
            <a:ext cx="218124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6:28:47Z</dcterms:created>
  <dc:creator>Администратор</dc:creator>
  <dc:description/>
  <dc:language>en-US</dc:language>
  <cp:lastModifiedBy>а</cp:lastModifiedBy>
  <dcterms:modified xsi:type="dcterms:W3CDTF">2015-10-08T22:04:44Z</dcterms:modified>
  <cp:revision>6</cp:revision>
  <dc:subject/>
  <dc:title>Слайд 1</dc:title>
</cp:coreProperties>
</file>