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349A-4453-4F5F-9A96-0C85D99FB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74D2-2F8B-4B05-BDA1-2FF4B749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0A96-34D1-45A9-A727-9729EA24D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4D6D-15E6-48B2-B82C-F0A4FFB56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31EB-5938-405A-9E6C-390AEDEC5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DBC6-C5F6-49C2-AD5D-8B4616CA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8FD6-9420-47BC-98CE-6DDA438E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3601-BDB4-46F4-B36A-1B673F0D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AFFD-DF9C-49D2-938C-7102E398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F827-A70E-4977-9865-E3744F5E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327C-0CC4-4BD4-950F-113A04BA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2474-B20F-4F31-88A3-5295C62F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6046-E857-40A7-9332-FE84578D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C435-0666-4CEE-8B3D-F747ADE2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4CEE-5937-4D72-B4EA-33509637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6A50-1D95-47DC-A826-69E595226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6308-4645-407B-8FD2-D3BD328D4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8E7D-BF3D-4AAB-A064-F484C8F3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7728-F7B9-487F-84D3-4A8DED2C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062C-0469-440B-8075-4BBD97ED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5548-C8B9-44A1-958E-BA091F28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8932-44DC-49E1-AE21-7468086A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560E-5222-4173-87F3-736CAC97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99E1-6610-46D2-9380-7764C4AB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92BF-92D0-41C4-9198-09A4E7C4BA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E7D2-F5DB-483D-B0F8-0FFEF255776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zemljaki.mybb.ru/uploads/0000/59/f0/6368-1-f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2050920" y="201600"/>
            <a:ext cx="54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b0f0"/>
                </a:solidFill>
                <a:latin typeface="Arial"/>
              </a:rPr>
              <a:t>Жостовские поднос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755640" y="742680"/>
            <a:ext cx="83883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остовские подносы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Недалеко от Москвы в очень живописном месте находится село Жостово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о село прославилось не только в нашей стране, но и за рубежом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знаменито оно тем, что никто лучше местных умельцев не может рисовать цветы на железных подносах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ассический жостовский поднос – это крупные и сочные садовые и полевые цветы в окружении свежей листвы, как будто бы брошенные на подготовленный фон. Всем известные колокольчики, ромашки и васильки, но созданные густым широким мазком, играют по-новому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веточный букет жостовского подноса очень прост по своей композиции. Объёмная форма букета сочетается с продуманностью цветового решения. Бортики подносов часто украшены лёгким золотым рисунк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же возникло это удивительное ремесло? В XIX веке на Руси широкое распространение получает заморский напиток – чай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 вытеснил традиционно русский сбитень, медовуху и различные травяные настои. Возникла целая церемония чаепития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ульские мастера принялись за изготовление самоваров. Вместе с самоваром на стол ставился и поднос, который также стал непременным участником русского чаепит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755640" y="47628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Тенежка Проклад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ле этого следует "бликовка", то есть нанесение белильных мазков (иногда слегка подцвеченных), уточняющих все объемы - операция завершает лепку форм, их условную материальность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ледущая операция "чертежка" размещает детали, быстро и легко очерчивает лепестки и листья, прожилки и семенца в чашечках цветов, выразительно подчеркивая по контрасту их сочную живопис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                               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6" descr="6371-4"/>
          <p:cNvPicPr/>
          <p:nvPr/>
        </p:nvPicPr>
        <p:blipFill>
          <a:blip r:embed="rId1"/>
          <a:stretch/>
        </p:blipFill>
        <p:spPr>
          <a:xfrm>
            <a:off x="5076720" y="3716280"/>
            <a:ext cx="2200320" cy="1486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3098-2"/>
          <p:cNvPicPr/>
          <p:nvPr/>
        </p:nvPicPr>
        <p:blipFill>
          <a:blip r:embed="rId1"/>
          <a:stretch/>
        </p:blipFill>
        <p:spPr>
          <a:xfrm>
            <a:off x="1042920" y="549360"/>
            <a:ext cx="2830680" cy="3047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6365-3-f"/>
          <p:cNvPicPr/>
          <p:nvPr/>
        </p:nvPicPr>
        <p:blipFill>
          <a:blip r:embed="rId2"/>
          <a:stretch/>
        </p:blipFill>
        <p:spPr>
          <a:xfrm>
            <a:off x="6804000" y="4216320"/>
            <a:ext cx="2104920" cy="1648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6371-1"/>
          <p:cNvPicPr/>
          <p:nvPr/>
        </p:nvPicPr>
        <p:blipFill>
          <a:blip r:embed="rId3"/>
          <a:stretch/>
        </p:blipFill>
        <p:spPr>
          <a:xfrm>
            <a:off x="3533760" y="1695600"/>
            <a:ext cx="3386160" cy="2500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3924360" y="638640"/>
            <a:ext cx="5219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Бликовка Чертеж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вершает письмо "привязка" - тонкие травка и усики, объединяющие все изображение в букете и мягким переходом связывающие его с фоном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рнамент Чертеж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и сложившиеся в промысле традиционные приемы каждый мастер использует по-своему, творчески обыгрывая декоративные возможности кистевого письма (например, "бликовка" может мягко "сплавляться" с "прокладкой", а может четко выделяться на ней; мазки разной силы и очертаний в одних случаях спокойно лепят форму, в других - ложатся на ней своеобразным узором и т.д.)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результате появляются бесконечные варианты сходных мотивов и образов, но никогда не увидеть среди них буквальных копий или повтор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6372-1"/>
          <p:cNvPicPr/>
          <p:nvPr/>
        </p:nvPicPr>
        <p:blipFill>
          <a:blip r:embed="rId1"/>
          <a:stretch/>
        </p:blipFill>
        <p:spPr>
          <a:xfrm>
            <a:off x="1042920" y="549360"/>
            <a:ext cx="2257560" cy="1504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6372-2"/>
          <p:cNvPicPr/>
          <p:nvPr/>
        </p:nvPicPr>
        <p:blipFill>
          <a:blip r:embed="rId2"/>
          <a:stretch/>
        </p:blipFill>
        <p:spPr>
          <a:xfrm>
            <a:off x="900000" y="2421000"/>
            <a:ext cx="2219400" cy="1457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6372-3"/>
          <p:cNvPicPr/>
          <p:nvPr/>
        </p:nvPicPr>
        <p:blipFill>
          <a:blip r:embed="rId3"/>
          <a:stretch/>
        </p:blipFill>
        <p:spPr>
          <a:xfrm>
            <a:off x="1042920" y="4581360"/>
            <a:ext cx="2219400" cy="1486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5921-1"/>
          <p:cNvPicPr/>
          <p:nvPr/>
        </p:nvPicPr>
        <p:blipFill>
          <a:blip r:embed="rId1"/>
          <a:stretch/>
        </p:blipFill>
        <p:spPr>
          <a:xfrm>
            <a:off x="0" y="1484280"/>
            <a:ext cx="3097080" cy="38163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3203640" y="413640"/>
            <a:ext cx="6192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лгое время в центральной России использовались подносы из папье-маше. Их изготавливали наряду со шкатулками и табакерками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богатых домах встречались и металлические подносы, изготовленные на Урале и в Санкт-Петербург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вот в первой четверти XIX века в селе Жостово кто-то решил, что технологию лаковой обработки коробочек из папье-маше можно перенести на железо: тот же грунт, тот же лак, те же масляные краски. Надо отметить, что Жостово славилось кузнецами, поэтому идея жостовского подноса попала наблагодатную почву. В старых книгах нашлись записи о том, что в 1825 году местный крестьянин Филипп Вишняков с сыном открыл мастерскую по изготовлению металлических расписных подносов. Вслед за ним открывались и другие мастерские. Жостовские подносы изготавливались различных размеров и форм. Трактирные подносы достигали размеров стола, маленькие «закусочные» - не больше тарелки; шести и восьмиугольные, овальные, прямоугольные, круглые и даже треугольные для угловых столи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6" descr="6365-1-f"/>
          <p:cNvPicPr/>
          <p:nvPr/>
        </p:nvPicPr>
        <p:blipFill>
          <a:blip r:embed="rId1"/>
          <a:stretch/>
        </p:blipFill>
        <p:spPr>
          <a:xfrm>
            <a:off x="2340000" y="549360"/>
            <a:ext cx="5040360" cy="33843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/>
          <p:cNvSpPr/>
          <p:nvPr/>
        </p:nvSpPr>
        <p:spPr>
          <a:xfrm>
            <a:off x="755640" y="407376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остовский поднос жив и по сей день. Процесс изготовления несколько изменился – металл теперь не куют, а прессуют, используют другие краски. Но ощущение праздника и радости жостовский поднос сохрани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онце XIX – начале XX столетий промысел села Жостово пришел в упадок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 в 1928 году несколько артелей объединились в одну – «Металлоподнос». Жостовская фабрика декоративной росписи и по сей день выпускает настоящее жостовское чудо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768240" y="92160"/>
            <a:ext cx="481176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спись выполняется исключительно вручную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Характерные виды росписи жостовских подносов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веты (классический вид росписи) - букет цветов на черном фоне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 фон (фоновая роспись) - букет цветов на цветном фоне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 фрукты - роспись с использованием изображений различных фрук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6" descr="увеличить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005360"/>
            <a:ext cx="3048120" cy="2085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увеличить"/>
          <p:cNvPicPr/>
          <p:nvPr/>
        </p:nvPicPr>
        <p:blipFill>
          <a:blip r:embed="rId3"/>
          <a:stretch/>
        </p:blipFill>
        <p:spPr>
          <a:xfrm>
            <a:off x="3635280" y="4400640"/>
            <a:ext cx="3048120" cy="2457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увеличить"/>
          <p:cNvPicPr/>
          <p:nvPr/>
        </p:nvPicPr>
        <p:blipFill>
          <a:blip r:embed="rId4"/>
          <a:stretch/>
        </p:blipFill>
        <p:spPr>
          <a:xfrm>
            <a:off x="6095880" y="2708280"/>
            <a:ext cx="3048120" cy="2400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увеличить"/>
          <p:cNvPicPr/>
          <p:nvPr/>
        </p:nvPicPr>
        <p:blipFill>
          <a:blip r:embed="rId5"/>
          <a:stretch/>
        </p:blipFill>
        <p:spPr>
          <a:xfrm>
            <a:off x="5651640" y="0"/>
            <a:ext cx="3047760" cy="2457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5921-3"/>
          <p:cNvPicPr/>
          <p:nvPr/>
        </p:nvPicPr>
        <p:blipFill>
          <a:blip r:embed="rId1"/>
          <a:stretch/>
        </p:blipFill>
        <p:spPr>
          <a:xfrm>
            <a:off x="1258920" y="549360"/>
            <a:ext cx="3673440" cy="2592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5921-2"/>
          <p:cNvPicPr/>
          <p:nvPr/>
        </p:nvPicPr>
        <p:blipFill>
          <a:blip r:embed="rId2"/>
          <a:stretch/>
        </p:blipFill>
        <p:spPr>
          <a:xfrm>
            <a:off x="4572000" y="3354480"/>
            <a:ext cx="3960720" cy="28828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8"/>
          <p:cNvSpPr/>
          <p:nvPr/>
        </p:nvSpPr>
        <p:spPr>
          <a:xfrm>
            <a:off x="611280" y="3378600"/>
            <a:ext cx="410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омпозициях много места отводится гладкому фону, который обладает красивой поверхностью подноса, эффектно играющей на свету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ображение цветов на лицевой поверхности подноса отличается особой мягкостью и округлостью рисунка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5148360" y="1082520"/>
            <a:ext cx="39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мым распространенным видом жостовской росписи подносов является букет, расположенный в центре подноса и обрамленный по борту мелким золотистым узором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2269080" y="0"/>
            <a:ext cx="581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Виды росписи жостовских подно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755640" y="118872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кет превращается в нарядную группу цветов, свободно положенную на блестящий лаковый фон. Три-четыре крупных цветка (роза, тюльпан, георгин, а порой и более скромные анютины глазки, вьюнки и т.п.) окружались россыпью более мелких цветочков и бутонов, связанных между собой гибкими стебельками и легкой "травкой", то есть небольшими веточками и листочками. Изображение словно рождается из мерцающей глубины, растворяясь в ней прозрачными тенями и вспыхивая яркими бликами на поверхности подноса. Чуть "утоленные" в фоне цветы кажутся легкими, полуобъемными, тактично данные ракурсы и повороты венчиков не прорывали зрительно плоскости предмета. Мастера умеют находить красивые и выразительные очертания букета в целом на подносе. Верх часто завершается двумя-тремя плавно и широко расходящимися в стороны веточками, изгибы которых следовали за формой самой вещи. Легкое узорное кружево из разнообразной "травки" окружает букет по краям, вписывая его в гладкий фон поднос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539640" y="4292640"/>
            <a:ext cx="38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остовские металлические подносы разнообразны по форме; подносы многоугольные, подносы круглые, подносы овальные, подносы комбинированн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-381492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6367-1-f"/>
          <p:cNvPicPr/>
          <p:nvPr/>
        </p:nvPicPr>
        <p:blipFill>
          <a:blip r:embed="rId1"/>
          <a:stretch/>
        </p:blipFill>
        <p:spPr>
          <a:xfrm>
            <a:off x="1042920" y="333360"/>
            <a:ext cx="3241800" cy="34545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9"/>
          <p:cNvSpPr/>
          <p:nvPr/>
        </p:nvSpPr>
        <p:spPr>
          <a:xfrm>
            <a:off x="-381348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1" descr="увеличить"/>
          <p:cNvPicPr/>
          <p:nvPr/>
        </p:nvPicPr>
        <p:blipFill>
          <a:blip r:embed="rId2"/>
          <a:stretch/>
        </p:blipFill>
        <p:spPr>
          <a:xfrm>
            <a:off x="5796000" y="0"/>
            <a:ext cx="3048120" cy="2828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увеличить"/>
          <p:cNvPicPr/>
          <p:nvPr/>
        </p:nvPicPr>
        <p:blipFill>
          <a:blip r:embed="rId3"/>
          <a:stretch/>
        </p:blipFill>
        <p:spPr>
          <a:xfrm>
            <a:off x="4643280" y="3284640"/>
            <a:ext cx="3048120" cy="3009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971640" y="1052640"/>
            <a:ext cx="770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хнология изготовления жостовских металлических подносов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зготовляются жостовские подносы из листового желез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вка подносов осуществляется на механических прессах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кованные изделия грунтуют, шпаклюют, шлифуют и лакируют, что делает их поверхность безукоризненно ровной, затем расписывают масляными красками и покрывают сверху несколькими слоями прозрачного бесцветного ла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иболее важной операцией, требующей подлинного творчества, является роспись, изображающая чаще всего красочные букеты цветов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спись выполняется в несколько приемов. Кратко опишем и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чинается она с "замалевки": разбеленными красками намечается общий силуэт изображения (цветов и листьев), расположение основных пятен. "Замалеванные" подносы сушатся в печах в течение нескольк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6371-1"/>
          <p:cNvPicPr/>
          <p:nvPr/>
        </p:nvPicPr>
        <p:blipFill>
          <a:blip r:embed="rId1"/>
          <a:stretch/>
        </p:blipFill>
        <p:spPr>
          <a:xfrm>
            <a:off x="2700360" y="476280"/>
            <a:ext cx="1547640" cy="1143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400" y="2286000"/>
            <a:ext cx="3695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Следующим приемом на просохшем замалевке лессировочными (прозрачными) красками накладываются тени. </a:t>
            </a:r>
            <a:br>
              <a:rPr sz="1500"/>
            </a:b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Этот прием "тенежка" погружает букет в глубину фона, выявляет теневые места растений.</a:t>
            </a:r>
            <a:br>
              <a:rPr sz="1500"/>
            </a:b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Затем следует "прокладка" - плотное корпусное письмо яркими красками, наиболее ответственный этап живописи. </a:t>
            </a:r>
            <a:br>
              <a:rPr sz="1500"/>
            </a:b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Формы букетов обретают плоть, уточняются, высветляются, возникает контрастный или гармоничный колорит композиции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6" descr="6371-2"/>
          <p:cNvPicPr/>
          <p:nvPr/>
        </p:nvPicPr>
        <p:blipFill>
          <a:blip r:embed="rId2"/>
          <a:stretch/>
        </p:blipFill>
        <p:spPr>
          <a:xfrm>
            <a:off x="5940360" y="1197000"/>
            <a:ext cx="2181240" cy="1571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6371-3"/>
          <p:cNvPicPr/>
          <p:nvPr/>
        </p:nvPicPr>
        <p:blipFill>
          <a:blip r:embed="rId3"/>
          <a:stretch/>
        </p:blipFill>
        <p:spPr>
          <a:xfrm>
            <a:off x="5519880" y="4295880"/>
            <a:ext cx="2181240" cy="1542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16:28:47Z</dcterms:created>
  <dc:creator>Администратор</dc:creator>
  <dc:description/>
  <dc:language>en-US</dc:language>
  <cp:lastModifiedBy>а</cp:lastModifiedBy>
  <dcterms:modified xsi:type="dcterms:W3CDTF">2015-10-08T22:04:44Z</dcterms:modified>
  <cp:revision>6</cp:revision>
  <dc:subject/>
  <dc:title>Слайд 1</dc:title>
</cp:coreProperties>
</file>