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71AA-BB9F-4402-A178-DC34F11A1EC2}" type="slidenum">
              <a:rPr b="0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F29E-70DE-4113-9061-B28749AB5C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18BB-4110-4215-AFE0-CB508C79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1E64-C5EB-4C91-A19A-B8B75A46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2DCC-EFEE-4F11-99F6-FEA2085EB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26F3-4556-4B3F-8934-B4352D1A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ED49-C0AF-4560-AB8F-B394AC657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1A7A-46A8-42D1-92D3-E0CF9D39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C23B-3420-4471-A3D7-1863899D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CB58-FDF2-4FE4-9BC4-0F093196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ED71-A490-474E-A898-7A493970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C814-C889-4E60-9F22-C6DB57EA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318C-85A5-432A-BAC9-33CF4FA5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C85D-B371-46FD-8B39-C431E13F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7A3A-49F1-44D2-BCF3-2C5F3941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BBBA-CF0F-4494-88C4-C48D36A1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F598-4BCB-48BC-AE20-CEE9930A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C274-5F28-43F8-A887-68F48FD4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4C7B-D6C5-4464-9C5A-0AA787F50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B0E87-C1A5-4530-94CF-47F0DD0C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DA332-380A-4258-9241-B19A50BD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E3B72-2ACC-4AD6-A29E-34164797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D607A-1FC2-4950-9125-CEC195D7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4CC76-67AD-4B8D-AF0C-1F7A0549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1208-D015-4F86-ADBE-945F75AC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B353A-8421-4BCC-A65E-DECB6417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B9AFF-7D28-4A4B-8A5D-F896C0A0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B9860-C787-4E25-A4D7-B27B60BF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BCE4E-A579-4340-AB6E-BCB694F8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84B2C-85D1-4372-85B6-5980A3E6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23AB4-1E5F-45CE-AF88-709286563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FA172-06AC-4138-86A3-EFFF9BF30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7B1EC-412E-4ADE-ABD7-57B131A2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D49D9-D481-448B-A061-5614C1E9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8D049-FF16-49B0-9BED-A295279E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1AF5-B089-4676-B011-0FE5E416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6ACEE-7B4C-424D-ACCE-4DE8DDAC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066ED-E6DB-4677-A612-60E0CB25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DCEC9-B4D5-4F28-B178-96F92FE4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D7BC4-D81A-4509-911C-3ABEE3DE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53B6D-C512-44BE-9379-7B4C2C9C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FA7E2-B84B-4F10-8B00-A0DCB76B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CCA7D-A004-41FC-AA1A-76623F28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B47AB-FF15-4DF2-9571-2F68A42D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28965-95A3-4E73-82BD-A9CBAD184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8A28C-4019-48E4-86B2-CA121982F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6ABC-7C09-45FE-A587-C5E5D6EB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D7D30-DD02-4C0D-A67F-7F84D9C1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A0422-665C-4AF7-BDBE-820C9A2C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B7074-2E5E-4CEA-94DF-30C15C9F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8B68C-1F45-4B3B-BADE-3298A1F8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13096-5B35-49CF-80AB-EFEC3712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6A613-41F8-4111-A452-3B5B1858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58EBE-AD00-4688-B27E-B0F791E1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881E4-A757-4759-A08A-8133CD1A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5B41D-C3B9-40F0-BD2C-B2763D09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FD1C8-DB92-4E22-98C7-0CFC75BF1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73BB-F785-430C-A403-1999CDB3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D9149-31B2-43F0-9D1C-9CE57891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8032F-B420-4A61-BBDD-9FF9F144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00CF6-6640-4D83-8928-490DE580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3EC0F-8336-480E-BBEE-92EB7CB0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E1566-D34E-4544-9F57-EF0C8DAE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E555B-8BDF-4FC3-9283-63E9816E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A1CB0-8C35-4AED-9F26-B87F63A6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0FC5E-EEA4-40B9-9C6F-2BF91A10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C4B65-23CA-41FB-9DEA-7A4C9F9F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53811-FBF0-4A72-B8E7-6F210A9B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E7E0-B47C-4C0D-9075-31874752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AC8DE-2B78-4DD4-9B8B-30D950E0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A283B-9A13-4E76-87C1-B6BB4226E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331A4-EA06-45FF-AF49-B7B43E97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0E6C0-9D3A-4356-8998-0307A10FA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D2853-43AB-4193-A933-02884FF4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E3610-64C7-49C1-8BC6-45A8663A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BF23F-7A3F-4F05-B657-3120F8A2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786D5-0F8A-4DE4-B23B-693857E0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BD852-95AC-4F84-A4A1-DAF4847A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744BD-6ECC-4F8F-8925-6500808D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094C-B543-4415-9F06-8E86DA0C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7EBAA-3BC7-44FD-BC5A-436C1430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CCE23-9C91-424C-9E3A-8CBD17F9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CA6EB-E021-42F8-89E0-808A2108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353FD-B78B-4C8F-A420-B907E16C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8444D-FB56-4D48-AB81-CB084355C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20AD2-2434-41BE-BDD4-E01843B7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A0DE3-87E7-4A95-8609-4F788C7B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6EA57-6946-4C72-8DBD-26463913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A8CCF-64AC-4F8C-8444-CD10FA39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73D31-07AF-47DC-97DE-CADF5819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80CF-D7DC-4157-BB02-DB8F8978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6DA72-4588-4A98-8AE6-0A0BA7CF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12BEE-E62E-4AF9-8AA6-52DBE21D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5D222-6EA0-4449-A3CE-A4691DDB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A7A0C-0B60-4114-B783-052C35D0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136CD-EB14-45D3-AA5E-7CE6B9A6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200E0-3403-4BA4-BD18-7D5119FD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F5C19-2A23-4F2F-B5D4-AF3AF5AF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7CD8-888F-44FA-80DA-77C56AA7F6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B254-6623-4DCF-912E-2F3E10B114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1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92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8815-34E7-490F-8A65-D39A50C7EB9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DD44-2EE7-44C1-B180-7520D5E347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78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87F8-23A7-4FD3-A4D2-9B0227870364}" type="slidenum">
              <a:rPr b="0" lang="ru-RU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23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224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6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227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29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F4DE-FFAD-4141-869D-D544F1383F4B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74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75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76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9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80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3406-008A-42F4-9D3E-8130FBF9019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324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E9F1-D3A0-443B-84B6-4FCD2B0D258A}" type="slidenum">
              <a:rPr b="0" lang="ru-RU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0033"/>
                </a:solidFill>
                <a:latin typeface="Times New Roman"/>
              </a:rPr>
              <a:t>Почему мы так говорим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ё великий М.Ломоносов называл устойчивые сочетания «фразесами», «российскими пословиями», предлагая включать их в слова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ёные поняли, что фразеологизмы создают как бы особый ярус в языке. Родился новый раздел науки о языке - фразеоло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азеологизмы по-своему отражают жизнь нашего народа с очень далёких времён, в них выражен дух народа, его история, обыча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Тема урока.wav" descr=""/>
          <p:cNvPicPr/>
          <p:nvPr/>
        </p:nvPicPr>
        <p:blipFill>
          <a:blip r:embed="rId1"/>
          <a:stretch/>
        </p:blipFill>
        <p:spPr>
          <a:xfrm>
            <a:off x="2771640" y="580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8" name="1.wav" descr=""/>
          <p:cNvPicPr/>
          <p:nvPr/>
        </p:nvPicPr>
        <p:blipFill>
          <a:blip r:embed="rId2"/>
          <a:stretch/>
        </p:blipFill>
        <p:spPr>
          <a:xfrm>
            <a:off x="2124000" y="580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9" name="2.wav" descr=""/>
          <p:cNvPicPr/>
          <p:nvPr/>
        </p:nvPicPr>
        <p:blipFill>
          <a:blip r:embed="rId3"/>
          <a:stretch/>
        </p:blipFill>
        <p:spPr>
          <a:xfrm>
            <a:off x="147636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80" name="3.wav" descr=""/>
          <p:cNvPicPr/>
          <p:nvPr/>
        </p:nvPicPr>
        <p:blipFill>
          <a:blip r:embed="rId4"/>
          <a:stretch/>
        </p:blipFill>
        <p:spPr>
          <a:xfrm>
            <a:off x="90000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90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8200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780" fill="hold"/>
                                        <p:tgtEl>
                                          <p:spTgt spid="3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0120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Вставьте недостающие слов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Говорил товарищ мой вчер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что в кино сходить уже по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Только я хотел уж собиратьс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как ему взбрело ...               купатьс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По дороге передумал он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потащил меня на стадио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— </a:t>
            </a: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Что ты,— закричал я, — в самом деле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У тебя семь …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Глеб у доски повесил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краснеет до корней…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Он в этот час, как говоритс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готов сквозь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О чём же думал он вчер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когда баклуши ...       с утр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WordArt 4"/>
          <p:cNvSpPr txBox="1"/>
          <p:nvPr/>
        </p:nvSpPr>
        <p:spPr>
          <a:xfrm>
            <a:off x="2627280" y="2637000"/>
            <a:ext cx="1081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голову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6" name="WordArt 5"/>
          <p:cNvSpPr txBox="1"/>
          <p:nvPr/>
        </p:nvSpPr>
        <p:spPr>
          <a:xfrm>
            <a:off x="2195640" y="3860640"/>
            <a:ext cx="338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ятниц на неделе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7" name="WordArt 6"/>
          <p:cNvSpPr txBox="1"/>
          <p:nvPr/>
        </p:nvSpPr>
        <p:spPr>
          <a:xfrm>
            <a:off x="2702160" y="3933720"/>
            <a:ext cx="5745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8" name="WordArt 8"/>
          <p:cNvSpPr txBox="1"/>
          <p:nvPr/>
        </p:nvSpPr>
        <p:spPr>
          <a:xfrm>
            <a:off x="2050920" y="5084640"/>
            <a:ext cx="3961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емлю провалиться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9" name="WordArt 9"/>
          <p:cNvSpPr txBox="1"/>
          <p:nvPr/>
        </p:nvSpPr>
        <p:spPr>
          <a:xfrm>
            <a:off x="3059280" y="4508640"/>
            <a:ext cx="10317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лос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0" name="WordArt 10"/>
          <p:cNvSpPr txBox="1"/>
          <p:nvPr/>
        </p:nvSpPr>
        <p:spPr>
          <a:xfrm>
            <a:off x="2268360" y="5670720"/>
            <a:ext cx="7192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ил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мени одним словом, менее выразительным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краю света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мылить ше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шком ходит под сто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уб на зуб не попада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рубить на нос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 в воду гляде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стер на все ру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 покладая ру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ать руку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076720" y="1988640"/>
            <a:ext cx="406728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алек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учить, наказа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лень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мёр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помни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двиде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меле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устанн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моч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Вспомните фразеологизмы со слов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ОГ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Х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носить ноги, встать с левой ноги, падать с ног, одна нога здесь, другая- та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пустить мимо ушей, держать ухо востро, развесить уши, медведь на ухо наступ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ddebc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403848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ЛА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УБ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788000" y="333000"/>
            <a:ext cx="403848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золить глаза, пускать пыль в глаза, глазом не моргнуть, как бельмо на гла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и в зуб ногой, скалить зубы, заговаривать зубы, говорить сквозь зу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дирать нос, водить за нос, клевать носом, нос по ветр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словам выдающегося учёного современности, академика Д.С. Лихачёв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«…Наш язык-это важнейшая часть нашего общего поведения в жизни. И по тому, как человек говорит, мы сразу и легко можем судить о том, с кем мы имеем дело…Учиться хорошей интеллигентной речи надо долго и внимательно- прислушиваясь, запоминая, замечая, читая и изучая. Но хоть и трудно- это надо, над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ЗАДАНИЯ ПО ТЕМЕ «ФРАЗЕОЛОГИЯ»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00000" y="1844640"/>
            <a:ext cx="82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1. Вместо точек вставьте названия животных(птиц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лоден, как…., труслив, как…, болтлив, как…, надут, как…, упрямый, как …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2.Сгруппируйте фразеологизмы по значению : а)бездельничать  б)обманывать в)быстр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жать. Запишите в три колонк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ломя голову, втирать очки, бить баклуши, водить за нос, во весь дух, лодыря гоня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о всех ног , сидеть сложа руки, обвести вокруг пальц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3.Вспомните и запишите фразеологизмы со словом КАК следующего значения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- хорошо, непринуждённо себя чувствова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- проливной дождь, ливен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- быть в постоянных хлопотах, суетитьс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- очень много людей в тесном помеще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- тщательно, заботливо охранять что – либ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4.   Подберите к фразеологизмам из первого столбца слово-объяснение из второго столбца,          запишите через тир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левать носом                               приуны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ак снег на голову                        медленн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летело из головы                       дрема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овесил нос                                  неожиданн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час по чайной ложке                   забы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5. Подберите к фразеологизмам фразеологизмы-антонимы, запишите через тир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сучив рукава, душа в душу, набрать в рот воды, рукой подать, на ночь гляд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6. Вспомните и запишите грамотно по 2-3 фразеологизма со словами : ГОЛОВА, ГЛАЗ, ЗУБ,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ХО, ЯЗЫК, РУКА, НОГИ, НО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наете ли вы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4" descr="Изображение5"/>
          <p:cNvPicPr/>
          <p:nvPr/>
        </p:nvPicPr>
        <p:blipFill>
          <a:blip r:embed="rId1"/>
          <a:stretch/>
        </p:blipFill>
        <p:spPr>
          <a:xfrm>
            <a:off x="1530360" y="1844640"/>
            <a:ext cx="7218360" cy="32990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383" name="Рог изобилия.wav" descr=""/>
          <p:cNvPicPr/>
          <p:nvPr/>
        </p:nvPicPr>
        <p:blipFill>
          <a:blip r:embed="rId2"/>
          <a:stretch/>
        </p:blipFill>
        <p:spPr>
          <a:xfrm>
            <a:off x="104292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7420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окодиловы слёзы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4" descr="Изображение 3"/>
          <p:cNvPicPr/>
          <p:nvPr/>
        </p:nvPicPr>
        <p:blipFill>
          <a:blip r:embed="rId1"/>
          <a:stretch/>
        </p:blipFill>
        <p:spPr>
          <a:xfrm>
            <a:off x="1619280" y="1557360"/>
            <a:ext cx="6265800" cy="48052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386" name="Крокодиловы слезы.wav" descr=""/>
          <p:cNvPicPr/>
          <p:nvPr/>
        </p:nvPicPr>
        <p:blipFill>
          <a:blip r:embed="rId2"/>
          <a:stretch/>
        </p:blipFill>
        <p:spPr>
          <a:xfrm>
            <a:off x="32400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4530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Жить на большую (широкую) ногу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4" descr="Изображение 4"/>
          <p:cNvPicPr/>
          <p:nvPr/>
        </p:nvPicPr>
        <p:blipFill>
          <a:blip r:embed="rId1"/>
          <a:stretch/>
        </p:blipFill>
        <p:spPr>
          <a:xfrm>
            <a:off x="755640" y="2276640"/>
            <a:ext cx="7667640" cy="3570120"/>
          </a:xfrm>
          <a:prstGeom prst="rect">
            <a:avLst/>
          </a:prstGeom>
          <a:ln w="15840">
            <a:solidFill>
              <a:srgbClr val="0000ff"/>
            </a:solidFill>
            <a:miter/>
          </a:ln>
        </p:spPr>
      </p:pic>
      <p:pic>
        <p:nvPicPr>
          <p:cNvPr id="389" name="Жить на широкую ногу.wav" descr=""/>
          <p:cNvPicPr/>
          <p:nvPr/>
        </p:nvPicPr>
        <p:blipFill>
          <a:blip r:embed="rId2"/>
          <a:stretch/>
        </p:blipFill>
        <p:spPr>
          <a:xfrm>
            <a:off x="39528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7880" fill="hold"/>
                                        <p:tgtEl>
                                          <p:spTgt spid="3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7" descr=""/>
          <p:cNvPicPr/>
          <p:nvPr/>
        </p:nvPicPr>
        <p:blipFill>
          <a:blip r:embed="rId1"/>
          <a:stretch/>
        </p:blipFill>
        <p:spPr>
          <a:xfrm>
            <a:off x="3780000" y="1773360"/>
            <a:ext cx="4674960" cy="442908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sp>
        <p:nvSpPr>
          <p:cNvPr id="391" name="WordArt 9"/>
          <p:cNvSpPr txBox="1"/>
          <p:nvPr/>
        </p:nvSpPr>
        <p:spPr>
          <a:xfrm>
            <a:off x="2195640" y="5661000"/>
            <a:ext cx="36068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0" lang="en-US" sz="1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хватать звёзды с неба</a:t>
            </a:r>
            <a:endParaRPr b="0" lang="en-US" sz="1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Рассмотри рисунки. Какие фразеологизмы они вам напоминаю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4" descr=""/>
          <p:cNvPicPr/>
          <p:nvPr/>
        </p:nvPicPr>
        <p:blipFill>
          <a:blip r:embed="rId2"/>
          <a:stretch/>
        </p:blipFill>
        <p:spPr>
          <a:xfrm>
            <a:off x="1332000" y="476280"/>
            <a:ext cx="5011560" cy="532908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sp>
        <p:nvSpPr>
          <p:cNvPr id="394" name="WordArt 6"/>
          <p:cNvSpPr txBox="1"/>
          <p:nvPr/>
        </p:nvSpPr>
        <p:spPr>
          <a:xfrm>
            <a:off x="971640" y="5950080"/>
            <a:ext cx="4857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рубить сук,на котором сидишь</a:t>
            </a:r>
            <a:endParaRPr b="0" lang="en-US" sz="1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3d4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9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33447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396" name="WordArt 14"/>
          <p:cNvSpPr txBox="1"/>
          <p:nvPr/>
        </p:nvSpPr>
        <p:spPr>
          <a:xfrm>
            <a:off x="1908000" y="5300640"/>
            <a:ext cx="4104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рокодиловы слёзы</a:t>
            </a:r>
            <a:endParaRPr b="0" lang="en-US" sz="1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Изображение 1"/>
          <p:cNvPicPr/>
          <p:nvPr/>
        </p:nvPicPr>
        <p:blipFill>
          <a:blip r:embed="rId2"/>
          <a:stretch/>
        </p:blipFill>
        <p:spPr>
          <a:xfrm>
            <a:off x="2124000" y="333360"/>
            <a:ext cx="5229360" cy="540072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sp>
        <p:nvSpPr>
          <p:cNvPr id="398" name="WordArt 6"/>
          <p:cNvSpPr txBox="1"/>
          <p:nvPr/>
        </p:nvSpPr>
        <p:spPr>
          <a:xfrm>
            <a:off x="1619280" y="5783400"/>
            <a:ext cx="4641840" cy="10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курица лапой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ddebc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7"/>
          <p:cNvSpPr/>
          <p:nvPr/>
        </p:nvSpPr>
        <p:spPr>
          <a:xfrm>
            <a:off x="826920" y="2276640"/>
            <a:ext cx="4038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Замени фразеологические обороты словами-синоним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ас по чайной лож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й под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вить ду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сить 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бе на у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нять лоды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се лоп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ры не клю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жа да к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284720" y="1628640"/>
            <a:ext cx="48592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у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итр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ст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дельнич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г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из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ст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07407E-006 L -0.19931 -0.0507 E">
                                      <p:cBhvr>
                                        <p:cTn id="96" dur="2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697 0.01482 L -0.19357 -0.30718 E">
                                      <p:cBhvr>
                                        <p:cTn id="100" dur="2000" fill="hold"/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7037E-007 L -0.19184 -0.19097 E">
                                      <p:cBhvr>
                                        <p:cTn id="104" dur="20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72 0.01088 L -0.1974 0.03194 E">
                                      <p:cBhvr>
                                        <p:cTn id="108" dur="2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74 0.00115 L -0.19722 0.14814 E">
                                      <p:cBhvr>
                                        <p:cTn id="112" dur="2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28 -0.00347 L -0.2073 0.10463 E">
                                      <p:cBhvr>
                                        <p:cTn id="116" dur="20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11111E-006 L -0.19635 -0.04537 E">
                                      <p:cBhvr>
                                        <p:cTn id="120" dur="2000" fill="hold"/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1111E-006 L -0.19618 0.17731 E">
                                      <p:cBhvr>
                                        <p:cTn id="124" dur="20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059 0.01041 L -0.19462 0.51376 E">
                                      <p:cBhvr>
                                        <p:cTn id="128" dur="2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05:03:00Z</dcterms:created>
  <dc:creator>школа 1</dc:creator>
  <dc:description/>
  <dc:language>en-US</dc:language>
  <cp:lastModifiedBy>kab_28</cp:lastModifiedBy>
  <dcterms:modified xsi:type="dcterms:W3CDTF">2015-10-09T11:22:35Z</dcterms:modified>
  <cp:revision>32</cp:revision>
  <dc:subject/>
  <dc:title>Слайд 1</dc:title>
</cp:coreProperties>
</file>