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AEF37-7AAE-46C3-8D04-7ABE4D22E789}" type="slidenum">
              <a:rPr b="0" lang="ru-RU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2776E-6FA0-4F5F-BB87-DC1E4E59FBA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36A7A-ABFC-4DBC-9573-40DA15947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2D362-EF32-4F32-9B46-223D9177D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27AA5-70F6-4D33-9A39-E44D363AB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82449-B2D7-45F6-B298-846FDF9C3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F8247-CC8E-4FA1-8791-BA8AF49B6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346D2-45FB-4B09-84DD-715674CD5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1669A-C5E2-442E-9844-C0F3B3905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419AD-588B-49E7-AA39-F0B86AD53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C74D7-2C6D-4577-A0EF-0FE886E29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B25BA-9B88-4E64-8566-FD5228519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F583B-7C8B-4021-AC7F-CF20663E2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90A66-7F83-4D44-840A-F592677A2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035B0-99CB-4514-9781-B9454B737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13BCC-1AAA-431A-9A67-30FB897AB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8C31C-CB31-4E37-9205-AC7227189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8E5F7-5F5A-454E-A0BD-A8A62E164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4D5B1-E5A5-407A-B2B2-5E8C1AF9C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75934B-6A43-4B07-BEAB-9F7010B0F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DE4E17-5FDE-450C-A9FD-D31B5C0D5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5F0EEC-4E58-4283-976A-32E451D75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8D3326-1B06-468D-A8F7-9B9795C8A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3ADAC5-C8AD-426D-97B8-2296C7F0A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D8913-965D-40F0-934F-07EB5EAD8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181907-E8D7-4440-A40B-6EB05DBB2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A837CA-8D20-4567-9C38-C033B2BE2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D69204-0E23-44F4-9DF8-73DE0C5BF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3743FE-A67A-40CD-89E6-52834DA70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BCD2F2-FCA7-4EC8-A992-31FCC5F6E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F76C40-9AD4-484E-8AD0-AB76BD81C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61D8E3-936E-4A51-A408-AD54DC883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2D3D71-20BD-4DB2-8338-4826F3EA6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E780BD-454E-4660-B3FA-5A68B0B78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4250EF-87A6-4964-95C7-2449029F6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3A45A-4F90-4991-A29B-5BD50A232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30CA5D-1817-49A4-B8FE-816CA82DA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17ED20-96B1-44DD-9CDD-4A65F74EF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F62D35-8400-43E2-8867-5AC04E205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78C2A3-82A0-4809-A59E-5FC2BA709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27668D-ABF2-4D13-8E06-174268234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E01659-00CB-4344-97D3-C04C0511E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F0A19D-8A31-4A1A-B31C-D080951AB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9F2CB2-55D3-4467-A179-504860474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714E39-9B66-43CC-A4FF-A5C9A9287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B76075-711B-4250-8428-1B1251E5C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E88C2-B521-49B8-B62E-601BE2522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E7352D-EA02-4BFF-BA45-FD9CF963A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4644CF-A78B-4BFC-9244-0FADD5288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4F4AEE-2D7C-4943-BFF7-9E03AB138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BE7A4A-4EB7-4FBC-9DB7-11CA3E4DD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298621-1B74-42FE-88CE-FB059EA5B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699B10-B1DC-4941-AAA0-9E7EB2BA5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99E232-787A-470C-97BF-E79A8C821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0AF902-D118-4111-8CAC-1A14CA2E6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52B7EA-9257-47A6-95C0-F0489502A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F72FEE-C732-4D75-992A-F130D7D37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B6D03-5008-467D-9AF4-CD854B5FA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F444F6-426D-472E-8874-3787FB1D7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B9A56C-0295-40E2-82C3-A9C2E258D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B0B943-8DD0-47FF-9336-B9CB9D630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566E85-2A26-4AEA-BF76-FB432B3F9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5D61AE-2836-477C-AE82-DE4FC1745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0F1556-39A0-4CA0-B377-3DB8F4AFC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304344-3F1D-4DE1-865C-B668CFEAF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F19CFF-D132-4835-BF31-48535C4EE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76D885-199E-4935-BC3D-984FAD4F0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45A967-64E7-4115-84CC-BDA55BED2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734AE-3105-4F6B-B666-0C7F65712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846C10-938B-4A4C-BFE0-2EE395259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6A1615-E363-4C2D-B107-6B93DE4E4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2E8140-F66E-4786-8D93-9BCB63261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726FE6-700B-4112-AA96-C904EBC0F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0A9663-EC45-4B37-BD0A-F84C0B2FA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CF1BB9-73D6-4CE6-8E54-02EBAAD82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CA5C65-C1CB-47F6-82C6-6FE3FEEF0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461D61-1A16-4986-A3C5-F9A5AFC06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35AA49-190D-45C7-941D-5E3D0F4D5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2D1A6E-B20C-447C-9C92-DE4380801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33DCB-09B6-44CF-80C6-61254D107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4CE484-342F-48D5-97D0-33C7968EA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39DC4B-C032-47A9-9E90-6DADD0C5C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9659D2-3CCD-4A14-95DC-1EA4E5839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EBC906-45DD-46B2-AFA7-8F5BFFAC6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3DDB9B-6867-49E5-973F-CE1887B73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452119-D981-4B7C-82C7-D01DBAA10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E65EA2-096E-4EA7-9943-05430B02D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072804-AB56-4E4C-921F-35602FC06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CB5BD9-6621-4AF4-92BE-FB188A039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6CFE72-F938-499B-A379-282427407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3D43F-F7CC-441D-99B5-A4D8F3052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C98235-60EC-4BB6-A39F-CFFD8226E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AC6467-4D85-4E22-826B-77D411B04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DD3E6A-CF01-4147-AC38-97031C87D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C2C6E3-508E-442F-8D9B-54817226E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97E657-FEFA-4A9D-BBB4-44F4D13FF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8994F2-ECF7-4C00-B33F-22A3F29B8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7CFBA2-DE07-4DD2-B3E6-254E95582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631CA-AA64-4F8F-8B1C-039F5C89984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FF590-658B-4D13-BDFA-D5DA4085788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90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1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92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7EDC1-7BC9-4D57-9AAF-15B1863D2C4D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A78F3-F0EF-484D-83D7-91D2A5822A8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7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78" name="AutoShape 3"/>
            <p:cNvSpPr/>
            <p:nvPr/>
          </p:nvSpPr>
          <p:spPr>
            <a:xfrm>
              <a:off x="-3238560" y="685800"/>
              <a:ext cx="4114800" cy="312408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" name="AutoShape 4"/>
            <p:cNvSpPr/>
            <p:nvPr/>
          </p:nvSpPr>
          <p:spPr>
            <a:xfrm>
              <a:off x="-2425680" y="0"/>
              <a:ext cx="3093840" cy="315432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FD207-9AC3-401B-8748-DE6045CE2BEF}" type="slidenum">
              <a:rPr b="0" lang="ru-RU" sz="2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2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223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224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5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26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227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8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29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0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1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DE189-9342-415C-9EAF-03AD3AE0FC5F}" type="slidenum">
              <a:rPr b="0" lang="ru-RU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274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75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276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7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79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280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1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 type="dt" idx="19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 type="ftr" idx="20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 type="sldNum" idx="21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AE868-7B42-4493-A631-73B600D2DF27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3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324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AutoShape 4"/>
            <p:cNvSpPr/>
            <p:nvPr/>
          </p:nvSpPr>
          <p:spPr>
            <a:xfrm>
              <a:off x="-2514600" y="1371600"/>
              <a:ext cx="3657600" cy="365760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AutoShape 5"/>
            <p:cNvSpPr/>
            <p:nvPr/>
          </p:nvSpPr>
          <p:spPr>
            <a:xfrm>
              <a:off x="-3222720" y="304920"/>
              <a:ext cx="4038840" cy="403848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E1C10-4145-42CE-9F81-BBC2E8905D4B}" type="slidenum">
              <a:rPr b="0" lang="ru-RU" sz="2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660033"/>
                </a:solidFill>
                <a:latin typeface="Times New Roman"/>
              </a:rPr>
              <a:t>Почему мы так говорим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щё великий М.Ломоносов называл устойчивые сочетания «фразесами», «российскими пословиями», предлагая включать их в словар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ёные поняли, что фразеологизмы создают как бы особый ярус в языке. Родился новый раздел науки о языке - фразеолог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разеологизмы по-своему отражают жизнь нашего народа с очень далёких времён, в них выражен дух народа, его история, обыча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Тема урока.wav" descr=""/>
          <p:cNvPicPr/>
          <p:nvPr/>
        </p:nvPicPr>
        <p:blipFill>
          <a:blip r:embed="rId1"/>
          <a:stretch/>
        </p:blipFill>
        <p:spPr>
          <a:xfrm>
            <a:off x="2771640" y="58053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378" name="1.wav" descr=""/>
          <p:cNvPicPr/>
          <p:nvPr/>
        </p:nvPicPr>
        <p:blipFill>
          <a:blip r:embed="rId2"/>
          <a:stretch/>
        </p:blipFill>
        <p:spPr>
          <a:xfrm>
            <a:off x="2124000" y="58053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379" name="2.wav" descr=""/>
          <p:cNvPicPr/>
          <p:nvPr/>
        </p:nvPicPr>
        <p:blipFill>
          <a:blip r:embed="rId3"/>
          <a:stretch/>
        </p:blipFill>
        <p:spPr>
          <a:xfrm>
            <a:off x="1476360" y="587700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380" name="3.wav" descr=""/>
          <p:cNvPicPr/>
          <p:nvPr/>
        </p:nvPicPr>
        <p:blipFill>
          <a:blip r:embed="rId4"/>
          <a:stretch/>
        </p:blipFill>
        <p:spPr>
          <a:xfrm>
            <a:off x="900000" y="587700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290" fill="hold"/>
                                        <p:tgtEl>
                                          <p:spTgt spid="3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" dur="8200" fill="hold"/>
                                        <p:tgtEl>
                                          <p:spTgt spid="3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30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30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9780" fill="hold"/>
                                        <p:tgtEl>
                                          <p:spTgt spid="3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3000" fill="hold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3000" fill="hold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" dur="10120" fill="hold"/>
                                        <p:tgtEl>
                                          <p:spTgt spid="3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3000" fill="hold"/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3000" fill="hold"/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3300"/>
                </a:solidFill>
                <a:latin typeface="Arial"/>
              </a:rPr>
              <a:t>Вставьте недостающие слова.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99"/>
                </a:solidFill>
                <a:latin typeface="Arial"/>
              </a:rPr>
              <a:t>Говорил товарищ мой вчера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99"/>
                </a:solidFill>
                <a:latin typeface="Arial"/>
              </a:rPr>
              <a:t>что в кино сходить уже пора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99"/>
                </a:solidFill>
                <a:latin typeface="Arial"/>
              </a:rPr>
              <a:t>Только я хотел уж собираться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99"/>
                </a:solidFill>
                <a:latin typeface="Arial"/>
              </a:rPr>
              <a:t>как ему взбрело ...               купаться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99"/>
                </a:solidFill>
                <a:latin typeface="Arial"/>
              </a:rPr>
              <a:t>По дороге передумал он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99"/>
                </a:solidFill>
                <a:latin typeface="Arial"/>
              </a:rPr>
              <a:t>потащил меня на стадион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99"/>
                </a:solidFill>
                <a:latin typeface="Arial"/>
              </a:rPr>
              <a:t>— </a:t>
            </a:r>
            <a:r>
              <a:rPr b="1" lang="ru-RU" sz="2000" spc="-1" strike="noStrike">
                <a:solidFill>
                  <a:srgbClr val="ff3399"/>
                </a:solidFill>
                <a:latin typeface="Arial"/>
              </a:rPr>
              <a:t>Что ты,— закричал я, — в самом деле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99"/>
                </a:solidFill>
                <a:latin typeface="Arial"/>
              </a:rPr>
              <a:t>У тебя семь …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99"/>
                </a:solidFill>
                <a:latin typeface="Arial"/>
              </a:rPr>
              <a:t>Глеб у доски повесил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3399"/>
                </a:solidFill>
                <a:latin typeface="Arial"/>
              </a:rPr>
              <a:t>краснеет до корней…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3399"/>
                </a:solidFill>
                <a:latin typeface="Arial"/>
              </a:rPr>
              <a:t>Он в этот час, как говорится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99"/>
                </a:solidFill>
                <a:latin typeface="Arial"/>
              </a:rPr>
              <a:t>готов сквозь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99"/>
                </a:solidFill>
                <a:latin typeface="Arial"/>
              </a:rPr>
              <a:t>О чём же думал он вчера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99"/>
                </a:solidFill>
                <a:latin typeface="Arial"/>
              </a:rPr>
              <a:t>когда баклуши ...       с утра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WordArt 4"/>
          <p:cNvSpPr txBox="1"/>
          <p:nvPr/>
        </p:nvSpPr>
        <p:spPr>
          <a:xfrm>
            <a:off x="2627280" y="2637000"/>
            <a:ext cx="108108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86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 голову</a:t>
            </a:r>
            <a:endParaRPr b="0" lang="en-US" sz="1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06" name="WordArt 5"/>
          <p:cNvSpPr txBox="1"/>
          <p:nvPr/>
        </p:nvSpPr>
        <p:spPr>
          <a:xfrm>
            <a:off x="2195640" y="3860640"/>
            <a:ext cx="338436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ятниц на неделе</a:t>
            </a:r>
            <a:endParaRPr b="0" lang="en-US" sz="1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07" name="WordArt 6"/>
          <p:cNvSpPr txBox="1"/>
          <p:nvPr/>
        </p:nvSpPr>
        <p:spPr>
          <a:xfrm>
            <a:off x="2702160" y="3933720"/>
            <a:ext cx="57456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ос</a:t>
            </a:r>
            <a:endParaRPr b="0" lang="en-US" sz="1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08" name="WordArt 8"/>
          <p:cNvSpPr txBox="1"/>
          <p:nvPr/>
        </p:nvSpPr>
        <p:spPr>
          <a:xfrm>
            <a:off x="2050920" y="5084640"/>
            <a:ext cx="396108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емлю провалиться</a:t>
            </a:r>
            <a:endParaRPr b="0" lang="en-US" sz="1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09" name="WordArt 9"/>
          <p:cNvSpPr txBox="1"/>
          <p:nvPr/>
        </p:nvSpPr>
        <p:spPr>
          <a:xfrm>
            <a:off x="3059280" y="4508640"/>
            <a:ext cx="1031760" cy="14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олос</a:t>
            </a:r>
            <a:endParaRPr b="0" lang="en-US" sz="1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10" name="WordArt 10"/>
          <p:cNvSpPr txBox="1"/>
          <p:nvPr/>
        </p:nvSpPr>
        <p:spPr>
          <a:xfrm>
            <a:off x="2268360" y="5670720"/>
            <a:ext cx="719280" cy="21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бил</a:t>
            </a:r>
            <a:endParaRPr b="0" lang="en-US" sz="1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Замени одним словом, менее выразительным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На краю света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Намылить шею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ешком ходит под стол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Зуб на зуб не попадае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Зарубить на носу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Как в воду глядет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Мастер на все рук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Не покладая рук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одать руку   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5076720" y="1988640"/>
            <a:ext cx="406728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Далеко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роучить, наказат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Маленький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Замёрз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Запомнит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редвидет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Умелец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Неустанно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омоч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2000"/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4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4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4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4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2000"/>
                                        <p:tgtEl>
                                          <p:spTgt spid="4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4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4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2000" fill="hold"/>
                                        <p:tgtEl>
                                          <p:spTgt spid="4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4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2000" fill="hold"/>
                                        <p:tgtEl>
                                          <p:spTgt spid="4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2000" fill="hold"/>
                                        <p:tgtEl>
                                          <p:spTgt spid="4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2000" fill="hold"/>
                                        <p:tgtEl>
                                          <p:spTgt spid="4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2000"/>
                                        <p:tgtEl>
                                          <p:spTgt spid="4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4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2000" fill="hold"/>
                                        <p:tgtEl>
                                          <p:spTgt spid="4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2000" fill="hold"/>
                                        <p:tgtEl>
                                          <p:spTgt spid="4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2000"/>
                                        <p:tgtEl>
                                          <p:spTgt spid="4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2000" fill="hold"/>
                                        <p:tgtEl>
                                          <p:spTgt spid="4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2000" fill="hold"/>
                                        <p:tgtEl>
                                          <p:spTgt spid="4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2000" fill="hold"/>
                                        <p:tgtEl>
                                          <p:spTgt spid="4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00"/>
                </a:solidFill>
                <a:latin typeface="Arial"/>
              </a:rPr>
              <a:t>Вспомните фразеологизмы со словам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ОГ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УХ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42920" y="162864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уносить ноги, встать с левой ноги, падать с ног, одна нога здесь, другая- там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опустить мимо ушей, держать ухо востро, развесить уши, медведь на ухо наступи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7" dur="2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2000" fill="hold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2000" fill="hold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2000" fill="hold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2000" fill="hold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2000" fill="hold"/>
                                        <p:tgtEl>
                                          <p:spTgt spid="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2000" fill="hold"/>
                                        <p:tgtEl>
                                          <p:spTgt spid="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2000" fill="hold"/>
                                        <p:tgtEl>
                                          <p:spTgt spid="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2000" fill="hold"/>
                                        <p:tgtEl>
                                          <p:spTgt spid="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2000"/>
                                        <p:tgtEl>
                                          <p:spTgt spid="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ddebc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4038480" cy="561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ГЛАЗ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ЗУБЫ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ОС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788000" y="333000"/>
            <a:ext cx="4038480" cy="575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озолить глаза, пускать пыль в глаза, глазом не моргнуть, как бельмо на глаз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и в зуб ногой, скалить зубы, заговаривать зубы, говорить сквозь зуб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задирать нос, водить за нос, клевать носом, нос по ветру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2000" fill="hold"/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2000" fill="hold"/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4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2000" fill="hold"/>
                                        <p:tgtEl>
                                          <p:spTgt spid="4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2000" fill="hold"/>
                                        <p:tgtEl>
                                          <p:spTgt spid="4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2000" fill="hold"/>
                                        <p:tgtEl>
                                          <p:spTgt spid="4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68680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 словам выдающегося учёного современности, академика Д.С. Лихачёва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     </a:t>
            </a: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«…Наш язык-это важнейшая часть нашего общего поведения в жизни. И по тому, как человек говорит, мы сразу и легко можем судить о том, с кем мы имеем дело…Учиться хорошей интеллигентной речи надо долго и внимательно- прислушиваясь, запоминая, замечая, читая и изучая. Но хоть и трудно- это надо, надо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2000" fill="hold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2000" fill="hold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2000" fill="hold"/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2000" fill="hold"/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3400" cy="606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00"/>
                </a:solidFill>
                <a:latin typeface="Arial"/>
              </a:rPr>
              <a:t>ЗАДАНИЯ ПО ТЕМЕ «ФРАЗЕОЛОГИЯ».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900000" y="1844640"/>
            <a:ext cx="8244000" cy="50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1. Вместо точек вставьте названия животных(птиц)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Голоден, как…., труслив, как…, болтлив, как…, надут, как…, упрямый, как …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2.Сгруппируйте фразеологизмы по значению : а)бездельничать  б)обманывать в)быстро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бежать. Запишите в три колонки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Сломя голову, втирать очки, бить баклуши, водить за нос, во весь дух, лодыря гонять,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со всех ног , сидеть сложа руки, обвести вокруг пальца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3.Вспомните и запишите фразеологизмы со словом КАК следующего значения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- хорошо, непринуждённо себя чувствовать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- проливной дождь, ливень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- быть в постоянных хлопотах, суетитьс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- очень много людей в тесном помещени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- тщательно, заботливо охранять что – либо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4.   Подберите к фразеологизмам из первого столбца слово-объяснение из второго столбца,          запишите через тире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            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Клевать носом                               приуныл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            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Как снег на голову                        медленно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             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Вылетело из головы                       дремать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             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Повесил нос                                  неожиданно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             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В час по чайной ложке                   забыл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5. Подберите к фразеологизмам фразеологизмы-антонимы, запишите через тире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          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Засучив рукава, душа в душу, набрать в рот воды, рукой подать, на ночь глядя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6. Вспомните и запишите грамотно по 2-3 фразеологизма со словами : ГОЛОВА, ГЛАЗ, ЗУБ, 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           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УХО, ЯЗЫК, РУКА, НОГИ, НОС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наете ли вы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Picture 4" descr="Изображение5"/>
          <p:cNvPicPr/>
          <p:nvPr/>
        </p:nvPicPr>
        <p:blipFill>
          <a:blip r:embed="rId1"/>
          <a:stretch/>
        </p:blipFill>
        <p:spPr>
          <a:xfrm>
            <a:off x="1530360" y="1844640"/>
            <a:ext cx="7218360" cy="3299040"/>
          </a:xfrm>
          <a:prstGeom prst="rect">
            <a:avLst/>
          </a:prstGeom>
          <a:ln w="28440">
            <a:solidFill>
              <a:srgbClr val="0000ff"/>
            </a:solidFill>
            <a:miter/>
          </a:ln>
        </p:spPr>
      </p:pic>
      <p:pic>
        <p:nvPicPr>
          <p:cNvPr id="383" name="Рог изобилия.wav" descr=""/>
          <p:cNvPicPr/>
          <p:nvPr/>
        </p:nvPicPr>
        <p:blipFill>
          <a:blip r:embed="rId2"/>
          <a:stretch/>
        </p:blipFill>
        <p:spPr>
          <a:xfrm>
            <a:off x="1042920" y="609300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37420" fill="hold"/>
                                        <p:tgtEl>
                                          <p:spTgt spid="3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ffebfa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рокодиловы слёзы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Picture 4" descr="Изображение 3"/>
          <p:cNvPicPr/>
          <p:nvPr/>
        </p:nvPicPr>
        <p:blipFill>
          <a:blip r:embed="rId1"/>
          <a:stretch/>
        </p:blipFill>
        <p:spPr>
          <a:xfrm>
            <a:off x="1619280" y="1557360"/>
            <a:ext cx="6265800" cy="4805280"/>
          </a:xfrm>
          <a:prstGeom prst="rect">
            <a:avLst/>
          </a:prstGeom>
          <a:ln w="28440">
            <a:solidFill>
              <a:srgbClr val="0000ff"/>
            </a:solidFill>
            <a:miter/>
          </a:ln>
        </p:spPr>
      </p:pic>
      <p:pic>
        <p:nvPicPr>
          <p:cNvPr id="386" name="Крокодиловы слезы.wav" descr=""/>
          <p:cNvPicPr/>
          <p:nvPr/>
        </p:nvPicPr>
        <p:blipFill>
          <a:blip r:embed="rId2"/>
          <a:stretch/>
        </p:blipFill>
        <p:spPr>
          <a:xfrm>
            <a:off x="324000" y="58770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24530" fill="hold"/>
                                        <p:tgtEl>
                                          <p:spTgt spid="3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5e9e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Жить на большую (широкую) ногу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Picture 4" descr="Изображение 4"/>
          <p:cNvPicPr/>
          <p:nvPr/>
        </p:nvPicPr>
        <p:blipFill>
          <a:blip r:embed="rId1"/>
          <a:stretch/>
        </p:blipFill>
        <p:spPr>
          <a:xfrm>
            <a:off x="755640" y="2276640"/>
            <a:ext cx="7667640" cy="3570120"/>
          </a:xfrm>
          <a:prstGeom prst="rect">
            <a:avLst/>
          </a:prstGeom>
          <a:ln w="15840">
            <a:solidFill>
              <a:srgbClr val="0000ff"/>
            </a:solidFill>
            <a:miter/>
          </a:ln>
        </p:spPr>
      </p:pic>
      <p:pic>
        <p:nvPicPr>
          <p:cNvPr id="389" name="Жить на широкую ногу.wav" descr=""/>
          <p:cNvPicPr/>
          <p:nvPr/>
        </p:nvPicPr>
        <p:blipFill>
          <a:blip r:embed="rId2"/>
          <a:stretch/>
        </p:blipFill>
        <p:spPr>
          <a:xfrm>
            <a:off x="395280" y="6308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27880" fill="hold"/>
                                        <p:tgtEl>
                                          <p:spTgt spid="3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Picture 7" descr=""/>
          <p:cNvPicPr/>
          <p:nvPr/>
        </p:nvPicPr>
        <p:blipFill>
          <a:blip r:embed="rId1"/>
          <a:stretch/>
        </p:blipFill>
        <p:spPr>
          <a:xfrm>
            <a:off x="3780000" y="1773360"/>
            <a:ext cx="4674960" cy="4429080"/>
          </a:xfrm>
          <a:prstGeom prst="rect">
            <a:avLst/>
          </a:prstGeom>
          <a:ln w="19080">
            <a:solidFill>
              <a:srgbClr val="0000ff"/>
            </a:solidFill>
            <a:miter/>
          </a:ln>
        </p:spPr>
      </p:pic>
      <p:sp>
        <p:nvSpPr>
          <p:cNvPr id="391" name="WordArt 9"/>
          <p:cNvSpPr txBox="1"/>
          <p:nvPr/>
        </p:nvSpPr>
        <p:spPr>
          <a:xfrm>
            <a:off x="2195640" y="5661000"/>
            <a:ext cx="360684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 </a:t>
            </a:r>
            <a:endParaRPr b="0" lang="en-US" sz="12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хватать звёзды с неба</a:t>
            </a:r>
            <a:endParaRPr b="0" lang="en-US" sz="12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Рассмотри рисунки. Какие фразеологизмы они вам напоминают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horz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Picture 4" descr=""/>
          <p:cNvPicPr/>
          <p:nvPr/>
        </p:nvPicPr>
        <p:blipFill>
          <a:blip r:embed="rId2"/>
          <a:stretch/>
        </p:blipFill>
        <p:spPr>
          <a:xfrm>
            <a:off x="1332000" y="476280"/>
            <a:ext cx="5011560" cy="5329080"/>
          </a:xfrm>
          <a:prstGeom prst="rect">
            <a:avLst/>
          </a:prstGeom>
          <a:ln w="19080">
            <a:solidFill>
              <a:srgbClr val="0000ff"/>
            </a:solidFill>
            <a:miter/>
          </a:ln>
        </p:spPr>
      </p:pic>
      <p:sp>
        <p:nvSpPr>
          <p:cNvPr id="394" name="WordArt 6"/>
          <p:cNvSpPr txBox="1"/>
          <p:nvPr/>
        </p:nvSpPr>
        <p:spPr>
          <a:xfrm>
            <a:off x="971640" y="5950080"/>
            <a:ext cx="48578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рубить сук,на котором сидишь</a:t>
            </a:r>
            <a:endParaRPr b="0" lang="en-US" sz="12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3d4a8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Picture 9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8280360" cy="3344760"/>
          </a:xfrm>
          <a:prstGeom prst="rect">
            <a:avLst/>
          </a:prstGeom>
          <a:ln w="19080">
            <a:solidFill>
              <a:srgbClr val="ffffff"/>
            </a:solidFill>
            <a:miter/>
          </a:ln>
        </p:spPr>
      </p:pic>
      <p:sp>
        <p:nvSpPr>
          <p:cNvPr id="396" name="WordArt 14"/>
          <p:cNvSpPr txBox="1"/>
          <p:nvPr/>
        </p:nvSpPr>
        <p:spPr>
          <a:xfrm>
            <a:off x="1908000" y="5300640"/>
            <a:ext cx="410400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крокодиловы слёзы</a:t>
            </a:r>
            <a:endParaRPr b="0" lang="en-US" sz="12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Picture 4" descr="Изображение 1"/>
          <p:cNvPicPr/>
          <p:nvPr/>
        </p:nvPicPr>
        <p:blipFill>
          <a:blip r:embed="rId2"/>
          <a:stretch/>
        </p:blipFill>
        <p:spPr>
          <a:xfrm>
            <a:off x="2124000" y="333360"/>
            <a:ext cx="5229360" cy="5400720"/>
          </a:xfrm>
          <a:prstGeom prst="rect">
            <a:avLst/>
          </a:prstGeom>
          <a:ln w="25560">
            <a:solidFill>
              <a:srgbClr val="0000ff"/>
            </a:solidFill>
            <a:miter/>
          </a:ln>
        </p:spPr>
      </p:pic>
      <p:sp>
        <p:nvSpPr>
          <p:cNvPr id="398" name="WordArt 6"/>
          <p:cNvSpPr txBox="1"/>
          <p:nvPr/>
        </p:nvSpPr>
        <p:spPr>
          <a:xfrm>
            <a:off x="1619280" y="5783400"/>
            <a:ext cx="4641840" cy="107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ак курица лапой</a:t>
            </a:r>
            <a:endParaRPr b="0" lang="en-US" sz="1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5" dur="2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ddebc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17"/>
          <p:cNvSpPr/>
          <p:nvPr/>
        </p:nvSpPr>
        <p:spPr>
          <a:xfrm>
            <a:off x="826920" y="2276640"/>
            <a:ext cx="40388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Arial"/>
              </a:rPr>
              <a:t>Замени фразеологические обороты словами-синоним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час по чайной лож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укой под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ривить душ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весить но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ебе на ум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онять лодыр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 все лопат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уры не клюю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жа да кос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284720" y="1628640"/>
            <a:ext cx="485928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Худ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ал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Хитр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русти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ездельнича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ног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га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лизк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ыстр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2" dur="2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4.07407E-006 L -0.19931 -0.0507 E">
                                      <p:cBhvr>
                                        <p:cTn id="96" dur="2000" fill="hold"/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697 0.01482 L -0.19357 -0.30718 E">
                                      <p:cBhvr>
                                        <p:cTn id="100" dur="2000" fill="hold"/>
                                        <p:tgtEl>
                                          <p:spTgt spid="4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3.7037E-007 L -0.19184 -0.19097 E">
                                      <p:cBhvr>
                                        <p:cTn id="104" dur="2000" fill="hold"/>
                                        <p:tgtEl>
                                          <p:spTgt spid="4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6372 0.01088 L -0.1974 0.03194 E">
                                      <p:cBhvr>
                                        <p:cTn id="108" dur="2000" fill="hold"/>
                                        <p:tgtEl>
                                          <p:spTgt spid="4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774 0.00115 L -0.19722 0.14814 E">
                                      <p:cBhvr>
                                        <p:cTn id="112" dur="2000" fill="hold"/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9028 -0.00347 L -0.2073 0.10463 E">
                                      <p:cBhvr>
                                        <p:cTn id="116" dur="2000" fill="hold"/>
                                        <p:tgtEl>
                                          <p:spTgt spid="4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1.11111E-006 L -0.19635 -0.04537 E">
                                      <p:cBhvr>
                                        <p:cTn id="120" dur="2000" fill="hold"/>
                                        <p:tgtEl>
                                          <p:spTgt spid="4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1.11111E-006 L -0.19618 0.17731 E">
                                      <p:cBhvr>
                                        <p:cTn id="124" dur="2000" fill="hold"/>
                                        <p:tgtEl>
                                          <p:spTgt spid="4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6059 0.01041 L -0.19462 0.51376 E">
                                      <p:cBhvr>
                                        <p:cTn id="128" dur="2000" fill="hold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9T05:03:00Z</dcterms:created>
  <dc:creator>школа 1</dc:creator>
  <dc:description/>
  <dc:language>en-US</dc:language>
  <cp:lastModifiedBy>kab_28</cp:lastModifiedBy>
  <dcterms:modified xsi:type="dcterms:W3CDTF">2015-10-09T11:22:35Z</dcterms:modified>
  <cp:revision>32</cp:revision>
  <dc:subject/>
  <dc:title>Слайд 1</dc:title>
</cp:coreProperties>
</file>