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type.wav" ContentType="audio/x-wav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D12-DBF2-487B-9D92-A11A97F8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75F-E759-4B41-8A77-A8998490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63F-DA19-43FF-A92C-434629EB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1A9A-F70E-474D-9575-3B3DAB8D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2CF-7A62-4671-B552-95C2F29A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8A9-9186-46A6-817C-6E1DA8DA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E74-C91B-4AB3-AFB3-C0866687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DB1-F6A3-4C19-A8D0-23674D6C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D2E-3204-4941-BE6B-DF2ED439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D93-ACD5-437D-B462-D94C8201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D7E-8AD9-443A-86F6-A9C5124D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D89-B2AD-466B-ABF6-96730CD3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CF23-EAB6-4729-BA25-A619ECEBA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484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71640" y="1197000"/>
            <a:ext cx="7561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вездочё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4400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595008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1125360"/>
            <a:ext cx="3311280" cy="2016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643280" y="1197000"/>
            <a:ext cx="352908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112536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4076640"/>
            <a:ext cx="64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2421000"/>
            <a:ext cx="2016000" cy="143964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103640" y="2498400"/>
            <a:ext cx="1369800" cy="1356120"/>
            <a:chOff x="4103640" y="2498400"/>
            <a:chExt cx="1369800" cy="1356120"/>
          </a:xfrm>
        </p:grpSpPr>
        <p:sp>
          <p:nvSpPr>
            <p:cNvPr id="55" name=""/>
            <p:cNvSpPr/>
            <p:nvPr/>
          </p:nvSpPr>
          <p:spPr>
            <a:xfrm>
              <a:off x="4284720" y="270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241600">
              <a:off x="4284360" y="2707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260280"/>
            <a:ext cx="8281800" cy="619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333360"/>
            <a:ext cx="770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484280"/>
            <a:ext cx="6912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47280" y="1484280"/>
            <a:ext cx="6696360" cy="1800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3284640"/>
            <a:ext cx="6696360" cy="792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187280" y="4076640"/>
            <a:ext cx="7058160" cy="12956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1268280"/>
            <a:ext cx="43344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885080" y="1557360"/>
            <a:ext cx="433440" cy="144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76360" y="3500280"/>
            <a:ext cx="431640" cy="716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811640" y="4365720"/>
            <a:ext cx="505080" cy="1429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xit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5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50867E-006 L 0.7559 0.00024 E">
                                      <p:cBhvr>
                                        <p:cTn id="7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56647E-006 L -0.64584 0.24115 E">
                                      <p:cBhvr>
                                        <p:cTn id="7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01596 L 0.65347 0.11029 E">
                                      <p:cBhvr>
                                        <p:cTn id="8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77457E-006 L -0.75208 0.17827 E">
                                      <p:cBhvr>
                                        <p:cTn id="9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50920" y="692280"/>
            <a:ext cx="4824720" cy="475272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20000" y="220500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79 C -0.1625 -0.25179 -0.04722 -0.09896 -0.04722 0.08902 C -0.04722 0.277 -0.1625 0.43006 -0.30347 0.43006 C -0.44462 0.43006 -0.55903 0.277 -0.55903 0.08902 C -0.55903 -0.09896 -0.44462 -0.25179 -0.30347 -0.25179 Z">
                                      <p:cBhvr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8 -0.25179 C -0.16268 -0.25179 -0.04757 -0.09896 -0.04757 0.08902 C -0.04757 0.277 -0.16268 0.43006 -0.30348 0.43006 C -0.44479 0.43006 -0.55938 0.277 -0.55938 0.08902 C -0.55938 -0.09896 -0.44479 -0.25179 -0.30348 -0.25179 Z">
                                      <p:cBhvr>
                                        <p:cTn id="10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6200000">
            <a:off x="468360" y="342864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98844E-006 C 0.00052 -0.09989 0.09357 -0.18197 0.20677 -0.18197 C 0.3401 -0.18197 0.38854 -0.09087 0.4085 -0.0363 L 0.42916 0.0363 C 0.45034 0.09086 0.50156 0.1815 0.65277 0.1815 C 0.74895 0.1815 0.85816 0.09988 0.85833 3.98844E-006 C 0.85833 -0.09989 0.74895 -0.18197 0.65277 -0.18197 C 0.50156 -0.18197 0.45034 -0.09087 0.42916 -0.0363 L 0.4085 0.0363 C 0.38854 0.08994 0.34027 0.1815 0.20764 0.1815 C 0.09357 0.1815 3.61111E-006 0.09988 3.61111E-006 3.98844E-006 Z">
                                      <p:cBhvr>
                                        <p:cTn id="108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71" name="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74" name="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77" name="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869840" y="2282400"/>
            <a:ext cx="1369800" cy="1356120"/>
            <a:chOff x="1869840" y="2282400"/>
            <a:chExt cx="1369800" cy="1356120"/>
          </a:xfrm>
        </p:grpSpPr>
        <p:sp>
          <p:nvSpPr>
            <p:cNvPr id="80" name=""/>
            <p:cNvSpPr/>
            <p:nvPr/>
          </p:nvSpPr>
          <p:spPr>
            <a:xfrm>
              <a:off x="2050920" y="249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2241600">
              <a:off x="2050560" y="2491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18920" y="5235120"/>
            <a:ext cx="1369800" cy="1356120"/>
            <a:chOff x="718920" y="5235120"/>
            <a:chExt cx="1369800" cy="1356120"/>
          </a:xfrm>
        </p:grpSpPr>
        <p:sp>
          <p:nvSpPr>
            <p:cNvPr id="83" name=""/>
            <p:cNvSpPr/>
            <p:nvPr/>
          </p:nvSpPr>
          <p:spPr>
            <a:xfrm>
              <a:off x="900000" y="544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241600">
              <a:off x="89964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86" name="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89" name="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92" name="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95" name="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98" name="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7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500"/>
                            </p:stCondLst>
                            <p:childTnLst>
                              <p:par>
                                <p:cTn id="28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282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4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434 -0.28856 0.27413 -0.14752 0.27413 0.0259 C 0.27413 0.19954 0.15434 0.34058 0.00764 0.34058 C -0.13889 0.34058 -0.25764 0.19954 -0.25764 0.0259 C -0.25764 -0.14752 -0.13889 -0.28856 0.00764 -0.28856 Z">
                                      <p:cBhvr>
                                        <p:cTn id="28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28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42920" y="2571480"/>
            <a:ext cx="1369800" cy="1356120"/>
            <a:chOff x="142920" y="2571480"/>
            <a:chExt cx="1369800" cy="1356120"/>
          </a:xfrm>
        </p:grpSpPr>
        <p:sp>
          <p:nvSpPr>
            <p:cNvPr id="101" name=""/>
            <p:cNvSpPr/>
            <p:nvPr/>
          </p:nvSpPr>
          <p:spPr>
            <a:xfrm>
              <a:off x="324000" y="278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241600">
              <a:off x="323640" y="278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4.79769E-006 C -0.03142 -0.14104 0.06493 -0.25711 0.18212 -0.25711 C 0.32066 -0.25711 0.37049 -0.12855 0.39149 -0.05109 L 0.41354 0.05133 C 0.4349 0.12856 0.48768 0.25665 0.64445 0.25665 C 0.74427 0.25665 0.85781 0.14128 0.85781 -4.79769E-006 C 0.85781 -0.14104 0.74427 -0.25711 0.64445 -0.25711 C 0.48768 -0.25711 0.4349 -0.12855 0.41354 -0.05109 L 0.39149 0.05133 C 0.37049 0.12856 0.32066 0.25665 0.18212 0.25665 C 0.06493 0.25665 -0.03142 0.14128 -0.03142 -4.79769E-006 Z">
                                      <p:cBhvr>
                                        <p:cTn id="294" dur="5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48000" y="4508640"/>
            <a:ext cx="2232000" cy="1438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95640" y="3068640"/>
            <a:ext cx="870120" cy="749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03280" y="3141720"/>
            <a:ext cx="865080" cy="777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4360" y="62064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Берегите свое здоровь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64720" y="836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"/>
              </a:rPr>
              <a:t>Берегите свое здоров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877080" y="2852640"/>
            <a:ext cx="85716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7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8:33:42Z</dcterms:created>
  <dc:creator>Масько</dc:creator>
  <dc:description/>
  <dc:language>en-US</dc:language>
  <cp:lastModifiedBy>Customer</cp:lastModifiedBy>
  <dcterms:modified xsi:type="dcterms:W3CDTF">2012-02-18T05:42:55Z</dcterms:modified>
  <cp:revision>23</cp:revision>
  <dc:subject/>
  <dc:title>Слайд 1</dc:title>
</cp:coreProperties>
</file>