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6FA-CB02-47C7-A4E5-65EC1BE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289-42C0-4C63-8834-6F0246F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C67-B514-478A-BE2A-07C137A9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F91-62EC-42B0-9B98-37AFAFCB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F14-39EB-468E-A15A-582AFD0C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87A-6CBC-405E-A293-CC1E116C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8B5-6EBD-4920-AB60-898A4C4B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468-4386-43E8-B129-952ECE12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301-4FD7-4A3B-9868-F3D40546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734-231C-4B5D-A22A-C838599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6D0-B994-43F7-A891-047E7E7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559-4729-4D25-BF55-E398A5B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8E6-8C09-4168-8614-02EC2E1B4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5" name="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33360"/>
            <a:ext cx="770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1" name="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4" name="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7" name="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80" name="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3" name="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6" name="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9" name="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2" name="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5" name="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8" name="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1" name="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Customer</cp:lastModifiedBy>
  <dcterms:modified xsi:type="dcterms:W3CDTF">2012-02-18T05:42:55Z</dcterms:modified>
  <cp:revision>23</cp:revision>
  <dc:subject/>
  <dc:title>Слайд 1</dc:title>
</cp:coreProperties>
</file>