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1AC-ED3D-420B-84B1-F371DEF1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00C-8394-460F-B294-89D0E35B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6E1-B91D-4040-942F-DFDCA572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3D3-5E7D-4C6D-8432-B63C574A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AB76-644E-4CBB-8A46-5EF60B1B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5B08-A34F-4B2D-B390-5D3297B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A85B-B968-4E16-92CE-2BFB234D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062C-954A-441B-80B7-B09AD5FF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4E29-8C5D-4F25-A6B2-AD098B33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FAE8-348E-477A-A2C7-D3A0C263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1995-95AA-4134-B0EB-DA90B797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12A-AE6D-437F-8BBA-9BAD8785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4D81-7BBF-495E-B978-C41CCBC4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4005-6B78-4AB7-BC0A-EACFAB5F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DF1C-896D-4788-8459-77F3672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CA56-380A-4EB0-B940-F92FB428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D5E2-5824-4677-8DBC-D429CCF9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3CC0-655D-4D5D-B869-F9552A61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12B2-17D4-4EEA-8874-C35E4142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1AF50-BDFD-4859-830B-7B7D2491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E1D51-08D3-486C-B265-4842EFBF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A37E-1E20-4CCA-8097-E114E08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6F7-3E4C-4220-BF8A-1200B9DF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50E5-C19F-40BF-BBB6-D809D09D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D848-B99B-410F-8082-5BA54F8C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6102-7C62-49CF-902D-30CE871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5F74-FB57-4E15-A52F-25447F4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3D9C-703B-45E9-8333-AF4078F1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C65E-6BEA-49EE-A127-85EA34F0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6615D-753E-489E-B346-43299A1D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CB7F-06C7-48E5-B732-7C6D0CF8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C2306-B496-4A4E-A762-8124081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EA9A7-515B-48DA-9CC6-8D416705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8E6-77FD-4D67-89C6-82C799DA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EC15C-D6EF-499A-89C5-28F460B4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0E2E-85D8-4609-9D55-30A3F9CF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80A3-1438-426F-9FB4-5C651822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1B41-5984-4DD1-BC80-9DD62F4A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462C-D31F-4197-BC5B-9BFD8F0A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EC39-5BA0-4DB2-B46A-00844EC9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D7EF-6FC9-40DD-88EA-3ABAE506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B005-0C27-423B-BFA0-941F679E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66FB-CABC-411A-B72D-2CA16859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8E0-2435-4E72-A8C2-DD8FEB68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FE5-2801-4A27-86AE-73AB270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CB7-3ED0-47F8-8FDE-691128D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6D3-A152-40C2-9E90-23AF646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6DD-A6A9-4921-B3F1-4E1B1863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741-7575-4256-A9EF-224F8F020BD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5F6-83EC-46A1-B163-A501BD6E10B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5542-A44B-4DCD-861F-E4CF28A2824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6236-4BFC-4B91-AEB9-1996E095975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6920" y="549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c7aa"/>
                </a:solidFill>
                <a:latin typeface="Trebuchet MS"/>
              </a:rPr>
              <a:t>Ликвидация ордынского владычества на Руси. Стояние не реке Угр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992240" y="1268280"/>
            <a:ext cx="51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1"/>
          <p:cNvSpPr/>
          <p:nvPr/>
        </p:nvSpPr>
        <p:spPr>
          <a:xfrm>
            <a:off x="285840" y="214200"/>
            <a:ext cx="8183520" cy="6143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1a08"/>
                </a:solidFill>
                <a:latin typeface="Trebuchet MS"/>
              </a:rPr>
              <a:t>Марфа Посад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285920" y="571680"/>
            <a:ext cx="609588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89080" y="333360"/>
            <a:ext cx="4000320" cy="57862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4572000" y="1143000"/>
            <a:ext cx="4357800" cy="4908960"/>
          </a:xfrm>
          <a:prstGeom prst="rect">
            <a:avLst/>
          </a:prstGeom>
          <a:solidFill>
            <a:srgbClr val="81d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тояние на реке    Угре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14124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14124"/>
                </a:solidFill>
                <a:latin typeface="Arial"/>
              </a:rPr>
              <a:t>8 октября – </a:t>
            </a:r>
            <a:br>
              <a:rPr sz="3600"/>
            </a:br>
            <a:r>
              <a:rPr b="0" lang="ru-RU" sz="3600" spc="-1" strike="noStrike">
                <a:solidFill>
                  <a:srgbClr val="f14124"/>
                </a:solidFill>
                <a:latin typeface="Arial"/>
              </a:rPr>
              <a:t>11 ноября 1480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1680" y="213840"/>
            <a:ext cx="81151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214200" y="0"/>
            <a:ext cx="8715600" cy="6858000"/>
          </a:xfrm>
          <a:prstGeom prst="rect">
            <a:avLst/>
          </a:prstGeom>
          <a:solidFill>
            <a:srgbClr val="f7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rebuchet MS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4200" spc="-1" strike="noStrike">
                <a:solidFill>
                  <a:srgbClr val="002060"/>
                </a:solidFill>
                <a:latin typeface="Trebuchet MS"/>
              </a:rPr>
              <a:t>Карта стояния на реке Угр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71720" y="428760"/>
            <a:ext cx="6858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61920" y="-152280"/>
            <a:ext cx="8481960" cy="6724440"/>
          </a:xfrm>
          <a:prstGeom prst="rect">
            <a:avLst/>
          </a:prstGeom>
          <a:solidFill>
            <a:srgbClr val="c32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c779d"/>
                </a:solidFill>
                <a:latin typeface="Trebuchet MS"/>
              </a:rPr>
              <a:t>Пищали 15 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2297160" y="-11160"/>
            <a:ext cx="4203720" cy="565488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0" y="0"/>
            <a:ext cx="8696160" cy="6724800"/>
          </a:xfrm>
          <a:prstGeom prst="rect">
            <a:avLst/>
          </a:prstGeom>
          <a:solidFill>
            <a:srgbClr val="f78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rebuchet MS"/>
              </a:rPr>
              <a:t>Пищали 15 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2449440" y="141120"/>
            <a:ext cx="4203720" cy="55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45400" cy="664524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2" descr=""/>
          <p:cNvPicPr/>
          <p:nvPr/>
        </p:nvPicPr>
        <p:blipFill>
          <a:blip r:embed="rId2"/>
          <a:stretch/>
        </p:blipFill>
        <p:spPr>
          <a:xfrm>
            <a:off x="-6480" y="-590400"/>
            <a:ext cx="8656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9:59:50Z</dcterms:created>
  <dc:creator>User</dc:creator>
  <dc:description/>
  <dc:language>en-US</dc:language>
  <cp:lastModifiedBy>Ирина</cp:lastModifiedBy>
  <dcterms:modified xsi:type="dcterms:W3CDTF">2015-10-10T14:17:02Z</dcterms:modified>
  <cp:revision>21</cp:revision>
  <dc:subject/>
  <dc:title>Слайд 1</dc:title>
</cp:coreProperties>
</file>