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A1A-D066-4B55-961F-A66B922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2A5-7CA9-4AEC-9011-03573330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8FF-42AD-4A6D-BB8F-4C396CE5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41D-B009-4BF7-9C89-84AF9C89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E440-8729-419C-84A2-7678A15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D0CE-CCCE-45A1-8AA6-0EFD2C3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C03-0452-4233-884E-0B49CEC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0BF6-2CC1-44B2-A886-EFB898B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E02-BA0D-4B5A-BA79-9A05AE96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8F1F-D563-4ACC-BEE6-87F7038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7B74-6B69-4043-AF3B-4CB7230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59B-8030-4DF5-A219-C9598ACD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66A-9E73-43B8-8E5D-8219917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8AD7-E493-4034-90DE-2B92E5E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5B73-F59D-42A5-B48F-00E8B59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080-D411-4E71-B37B-C6BB8BA4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DCA-7A8E-4FA6-A1D2-9B764A3D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60D4-4383-4299-903A-AAAAA365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CC1D-32BE-4EDA-A811-80C8138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9C5A-6D66-4CD9-A0C1-00980A8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AE4E-DC60-42F4-9F4E-57AEA46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77BC-9E49-49BE-9900-316AA0A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579-C840-4434-A02D-B36A0605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83E5-515C-4920-A06F-109708C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2CF1-3D78-45F5-9060-13CF134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CED6-D8CF-4249-BC6F-7269529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2D77-B0DE-46F8-83EE-5C6888F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F870-1456-4E98-933C-F13546F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57F5-190A-4E07-8A6B-CFFD51E1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9CC8-7F89-45C6-B9F3-8136B468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1EA4-5C77-42F0-A83F-6655E71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6B43-CC1F-49AB-AC79-B1928387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1CBC-E616-431E-8372-0003A84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32C-68DA-4AFB-9CB7-88546D6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3BEE-161A-4AE5-9BFC-FE51762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7E4D-82F8-4009-B748-E302ACC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10A8-8810-4BCD-89D5-763D46D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F43F-BD54-42BB-9E96-0F4EE49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1BF5-AFD0-4587-BD0B-17327F8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6EF4-03D8-477E-82F3-FA9C611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F0A7-7551-40EB-9502-BB2FD14A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E280-EF6D-4BBB-B752-126A9AC6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1A98-6235-45EE-B395-60EBE041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C7F-B58E-4815-9544-7F54B7E0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91D-46CD-44DC-975A-226952E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7B1-6619-4C34-80D6-26F98F7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9DD-0739-48E0-AD0A-BFFAB88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70A-D187-4C24-A9DA-960CD35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273-F9C9-4FA9-9E1F-511CD142327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1F6-4E47-4D8C-A7FA-1E86E49B30C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BCC-2A45-4D59-9236-03E5EE89236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A30C-565F-4CF2-97EA-D99E02E4A37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6920" y="549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c7aa"/>
                </a:solidFill>
                <a:latin typeface="Trebuchet MS"/>
              </a:rPr>
              <a:t>Ликвидация ордынского владычества на Руси. Стояние не реке Угр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92240" y="1268280"/>
            <a:ext cx="51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1"/>
          <p:cNvSpPr/>
          <p:nvPr/>
        </p:nvSpPr>
        <p:spPr>
          <a:xfrm>
            <a:off x="285840" y="214200"/>
            <a:ext cx="8183520" cy="6143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1a08"/>
                </a:solidFill>
                <a:latin typeface="Trebuchet MS"/>
              </a:rPr>
              <a:t>Марфа Посад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609588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89080" y="333360"/>
            <a:ext cx="4000320" cy="57862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4572000" y="1143000"/>
            <a:ext cx="4357800" cy="4908960"/>
          </a:xfrm>
          <a:prstGeom prst="rect">
            <a:avLst/>
          </a:prstGeom>
          <a:solidFill>
            <a:srgbClr val="81d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тояние на реке    Угре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14124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14124"/>
                </a:solidFill>
                <a:latin typeface="Arial"/>
              </a:rPr>
              <a:t>8 октября – </a:t>
            </a:r>
            <a:br>
              <a:rPr sz="3600"/>
            </a:br>
            <a:r>
              <a:rPr b="0" lang="ru-RU" sz="3600" spc="-1" strike="noStrike">
                <a:solidFill>
                  <a:srgbClr val="f14124"/>
                </a:solidFill>
                <a:latin typeface="Arial"/>
              </a:rPr>
              <a:t>11 ноября 1480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1680" y="213840"/>
            <a:ext cx="81151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14200" y="0"/>
            <a:ext cx="8715600" cy="6858000"/>
          </a:xfrm>
          <a:prstGeom prst="rect">
            <a:avLst/>
          </a:prstGeom>
          <a:solidFill>
            <a:srgbClr val="f7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rebuchet MS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4200" spc="-1" strike="noStrike">
                <a:solidFill>
                  <a:srgbClr val="002060"/>
                </a:solidFill>
                <a:latin typeface="Trebuchet MS"/>
              </a:rPr>
              <a:t>Карта стояния на реке Угр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6858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61920" y="-152280"/>
            <a:ext cx="8481960" cy="6724440"/>
          </a:xfrm>
          <a:prstGeom prst="rect">
            <a:avLst/>
          </a:prstGeom>
          <a:solidFill>
            <a:srgbClr val="c32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c779d"/>
                </a:solidFill>
                <a:latin typeface="Trebuchet MS"/>
              </a:rPr>
              <a:t>Пищали 15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2297160" y="-11160"/>
            <a:ext cx="4203720" cy="565488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0" y="0"/>
            <a:ext cx="8696160" cy="6724800"/>
          </a:xfrm>
          <a:prstGeom prst="rect">
            <a:avLst/>
          </a:prstGeom>
          <a:solidFill>
            <a:srgbClr val="f78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rebuchet MS"/>
              </a:rPr>
              <a:t>Пищали 15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2449440" y="141120"/>
            <a:ext cx="420372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45400" cy="664524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2" descr=""/>
          <p:cNvPicPr/>
          <p:nvPr/>
        </p:nvPicPr>
        <p:blipFill>
          <a:blip r:embed="rId2"/>
          <a:stretch/>
        </p:blipFill>
        <p:spPr>
          <a:xfrm>
            <a:off x="-6480" y="-590400"/>
            <a:ext cx="8656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9:59:50Z</dcterms:created>
  <dc:creator>User</dc:creator>
  <dc:description/>
  <dc:language>en-US</dc:language>
  <cp:lastModifiedBy>Ирина</cp:lastModifiedBy>
  <dcterms:modified xsi:type="dcterms:W3CDTF">2015-10-10T14:17:02Z</dcterms:modified>
  <cp:revision>21</cp:revision>
  <dc:subject/>
  <dc:title>Слайд 1</dc:title>
</cp:coreProperties>
</file>