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7D0-A0C1-4157-92AD-90B34443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965-ED8C-4AFE-80B3-2116E9BC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536-80AD-411E-AB52-C605B54B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183-A1F7-4309-BC5B-1A75654E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1FE-8913-412D-9D28-3DB76931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40B-BDBC-4EB5-9697-DA0D14FC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0D5-D29B-4E5D-AFEA-6E3CD901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8FC9-6B1D-4DA5-B807-9F3540F3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1B2-D82D-428A-AB19-1CCC7611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BA0-FC92-4061-8DE0-2DBE2C53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6B3-5364-467C-BA27-7EF91934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03C-B3FA-45B4-BACE-B94CD11B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96C2-B79C-4FD6-8A3E-965077BD0D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нтон Павлович Чех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250px-Chehov.jpg"/>
          <p:cNvPicPr/>
          <p:nvPr/>
        </p:nvPicPr>
        <p:blipFill>
          <a:blip r:embed="rId1"/>
          <a:stretch/>
        </p:blipFill>
        <p:spPr>
          <a:xfrm>
            <a:off x="2928960" y="2286000"/>
            <a:ext cx="3057480" cy="434196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3643200" y="17146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60 - 19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598760" y="500040"/>
            <a:ext cx="59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тство. Отрочество. Юнос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3727440" y="114300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 детстве у меня не было детств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Я родился, вырос, учился и начал писать в сред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торой деньги играют безобраз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ую роль» © Чех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746640" y="2500200"/>
            <a:ext cx="828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становка в доме Чеховых была традиционно - патриархальной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воспитывались в строгости, часто применялись и телесные наказан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дельничать никому не дозволяло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имо учебы в гимназии, сыновьям Павла Егоровича приходилось иног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ещать отца в лавке, конечно в ущерб заняти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ко семья Антона не была чужда искусству.  Отец прекрасно играл на скрипк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ь любила театр,  и в будущем все братья и сёстры Антона ста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кообразованными людь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876 году отец Антона перешёл из 3-ей гильдии во 2-ую, разорился, 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рываясь от кредиторов, переехал из Таганрога в Москву. Несмотря на беднос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оставление на второй год,  Чехов получает образование и ещё д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ончания гимназии создаёт первое произведение «Безотцовщин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стати, учителем математики писателя был Эдмунд Дзержинский — отец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ущего первого председателя ВЧ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3143160" y="42876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тоархи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220px-Chekhov_with_family_02.jpg"/>
          <p:cNvPicPr/>
          <p:nvPr/>
        </p:nvPicPr>
        <p:blipFill>
          <a:blip r:embed="rId1"/>
          <a:stretch/>
        </p:blipFill>
        <p:spPr>
          <a:xfrm>
            <a:off x="0" y="1500120"/>
            <a:ext cx="5072040" cy="3619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220px-Chekhov_family.jpg"/>
          <p:cNvPicPr/>
          <p:nvPr/>
        </p:nvPicPr>
        <p:blipFill>
          <a:blip r:embed="rId2"/>
          <a:stretch/>
        </p:blipFill>
        <p:spPr>
          <a:xfrm>
            <a:off x="5715000" y="642960"/>
            <a:ext cx="3429000" cy="48466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24320" y="542916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мья Чеховых в 1874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он – стоит, второй сле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508720" y="578628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890г. Антон – сидит, в цент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209400" y="357120"/>
            <a:ext cx="26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378600" y="1285920"/>
            <a:ext cx="53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зализывай, не шлифуй, а будь неуклюж и дерз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ость — сестра таланта 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357720" y="200016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м короче и реже ты пишешь, тем больше и чаще тебя печатают 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323640" y="3143160"/>
            <a:ext cx="8703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тво Чехова начиналось разрозненно, «осколками», в форме инвекти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сиживая ночи за письменным столом, он старался уложиться в сро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ленные журналами, дабы получить жизненно важные двух- или трёхрублёв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норары, именуемые Антоном подачками. По мере обретения известности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нансовой устойчивости писателя стали мучить маниакальные приступ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утолщения» творчества (см. Степь), скатывания в депрессии (см. личную переписк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заимоисключающие идеи-фикс о недостаточной краткости и одновремен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и создать нечто огромное. Последние произведения «Невеста»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ишнёвый сад» буквально омыты кровью, на краю могилы он пис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мешную пьесу, где бы чёрт ходил коромыслом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97080" y="285840"/>
            <a:ext cx="81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знь-то прошла, словно и не жил…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(Фирс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ишнёвый с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357200" y="785880"/>
            <a:ext cx="735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я жизнь Чехова пронизана его самоирони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ездка на Сахалин – это хадж к «месту невыносимых страданий»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то же время хиджра, бегство от слепой, чванливой и заурядной бытности, где интеллигенция обсуждала отмену крепостного прав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замечая разносчиков вина за спиной, не помня о мёрзнущих извозчиках – таких же крепостны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он Павлович отличался тягой создавать школы, больницы, посыл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ллажи книг в деревенские библиотеки, вишнёвый сад он посадил са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еня здесь одолевают больные,- писал он из Крыма брату,- котор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ылают сюда со всех сторон, - с бациллами, с кавернами, с зелёны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ами, но без гроша в кармане. Приходится бороться с этим кошмаро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скаться на разные фокусы». Фокусы – это газетные воззвания,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жертвований в пользу нуждающихся больных. Но самым прост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отому самым ходовым был такой фоку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вким, едва уловим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ижением руки Антон Павлович доставал из своего кармана банкн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отдавал их больном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950640" y="6000840"/>
            <a:ext cx="49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одился сорокалетним – и умер сорокалетни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ак бы в собственном зените © Гиппиу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Скругленный прямоугольник 2"/>
          <p:cNvSpPr/>
          <p:nvPr/>
        </p:nvSpPr>
        <p:spPr>
          <a:xfrm>
            <a:off x="428760" y="357120"/>
            <a:ext cx="1428480" cy="642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500040" y="4287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Ци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246240" y="1285920"/>
            <a:ext cx="88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ело не в пессимизме и не в оптимизме, а в том, что у девяноста девяти из ста нет у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82600" y="1785960"/>
            <a:ext cx="68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дна боль всегда уменьшает другую. Наступите вы на хвост кошк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которой болят зубы, и ей станет легч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305280" y="2571840"/>
            <a:ext cx="45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Если боитесь одиночества, то не жените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04560" y="300024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мный любит учиться, дурак – уч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84400" y="3429000"/>
            <a:ext cx="56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ве льгота, данная Ивану, не служит в ущерб Петр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85560" y="3929040"/>
            <a:ext cx="835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Я не верю в нашу интеллигенцию, лицемерную, фальшивую, истеричную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воспитанную, ленивую, не верю даже, когда она страдает и жалуетс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бо ее притеснители выходят из ее же недр. Вся интеллигенция виновата, вс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дарь мой. Пока это еще студенты и курсистки — это честный, хороший народ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надежда наша, это будущее России, но стоит только студентам и курсистк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йти самостоятельно на дорогу, стать взрослыми, как и надежда наша и будущ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и обращается в дым, и остаются на фильтре одни доктора-дачевладельц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ытые чиновники, ворующие инжене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467px-Chekhov_1898_by_Osip_Braz.jpg"/>
          <p:cNvPicPr/>
          <p:nvPr/>
        </p:nvPicPr>
        <p:blipFill>
          <a:blip r:embed="rId1"/>
          <a:stretch/>
        </p:blipFill>
        <p:spPr>
          <a:xfrm>
            <a:off x="1898640" y="0"/>
            <a:ext cx="53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2:13:49Z</dcterms:created>
  <dc:creator>Тамара</dc:creator>
  <dc:description/>
  <dc:language>en-US</dc:language>
  <cp:lastModifiedBy>Тамара</cp:lastModifiedBy>
  <dcterms:modified xsi:type="dcterms:W3CDTF">2013-09-11T03:08:45Z</dcterms:modified>
  <cp:revision>15</cp:revision>
  <dc:subject/>
  <dc:title>Антон Павлович Чехов</dc:title>
</cp:coreProperties>
</file>