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094A-6855-4003-8E93-47A2A9C9E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DFB6-CB95-48AE-9358-CC03C4D8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082D-113C-47E5-87DC-8362B922C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3E56-BF55-412C-8C19-3581BDDEA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DB52-38D0-4DA2-A066-B89B7A9C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7554-16AB-4041-8D24-1202F8C7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8B57-36DF-41F1-BD2C-E4ABF147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3E4E-D928-4223-9FB0-15149EC2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3955-A477-46BB-8322-2F502992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92AF-B414-489B-A22F-8F4EC52C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506D-5061-4F8B-9F29-D19B9704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28B2-9F80-497B-BF07-E26B520F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B7EA-FA8B-4C3A-843D-21D7671E4D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Антон Павлович Чехов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3" descr="250px-Chehov.jpg"/>
          <p:cNvPicPr/>
          <p:nvPr/>
        </p:nvPicPr>
        <p:blipFill>
          <a:blip r:embed="rId1"/>
          <a:stretch/>
        </p:blipFill>
        <p:spPr>
          <a:xfrm>
            <a:off x="2928960" y="2286000"/>
            <a:ext cx="3057480" cy="434196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3643200" y="171468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860 - 19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1598760" y="500040"/>
            <a:ext cx="597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етство. Отрочество. Юност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3727440" y="1143000"/>
            <a:ext cx="50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В детстве у меня не было детств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Я родился, вырос, учился и начал писать в сред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которой деньги играют безобразн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ьшую роль» © Чех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746640" y="2500200"/>
            <a:ext cx="8286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становка в доме Чеховых была традиционно - патриархальной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ти воспитывались в строгости, часто применялись и телесные наказания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ездельничать никому не дозволялос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мимо учебы в гимназии, сыновьям Павла Егоровича приходилось иног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мещать отца в лавке, конечно в ущерб занятия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днако семья Антона не была чужда искусству.  Отец прекрасно играл на скрипк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ть любила театр,  и в будущем все братья и сёстры Антона стал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сокообразованными людь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1876 году отец Антона перешёл из 3-ей гильдии во 2-ую, разорился, 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крываясь от кредиторов, переехал из Таганрога в Москву. Несмотря на бедност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оставление на второй год,  Чехов получает образование и ещё д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кончания гимназии создаёт первое произведение «Безотцовщина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стати, учителем математики писателя был Эдмунд Дзержинский — отец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удущего первого председателя ВЧ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3143160" y="42876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Фотоархи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2" descr="220px-Chekhov_with_family_02.jpg"/>
          <p:cNvPicPr/>
          <p:nvPr/>
        </p:nvPicPr>
        <p:blipFill>
          <a:blip r:embed="rId1"/>
          <a:stretch/>
        </p:blipFill>
        <p:spPr>
          <a:xfrm>
            <a:off x="0" y="1500120"/>
            <a:ext cx="5072040" cy="36194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3" descr="220px-Chekhov_family.jpg"/>
          <p:cNvPicPr/>
          <p:nvPr/>
        </p:nvPicPr>
        <p:blipFill>
          <a:blip r:embed="rId2"/>
          <a:stretch/>
        </p:blipFill>
        <p:spPr>
          <a:xfrm>
            <a:off x="5715000" y="642960"/>
            <a:ext cx="3429000" cy="484668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24320" y="5429160"/>
            <a:ext cx="29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емья Чеховых в 1874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нтон – стоит, второй сле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508720" y="5786280"/>
            <a:ext cx="33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1890г. Антон – сидит, в центр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3209400" y="357120"/>
            <a:ext cx="262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ворчеств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3378600" y="1285920"/>
            <a:ext cx="53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зализывай, не шлифуй, а будь неуклюж и дерзо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аткость — сестра таланта 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3357720" y="200016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м короче и реже ты пишешь, тем больше и чаще тебя печатают 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323640" y="3143160"/>
            <a:ext cx="8703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ворчество Чехова начиналось разрозненно, «осколками», в форме инвекти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сиживая ночи за письменным столом, он старался уложиться в срок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ановленные журналами, дабы получить жизненно важные двух- или трёхрублёв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норары, именуемые Антоном подачками. По мере обретения известности 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инансовой устойчивости писателя стали мучить маниакальные приступ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утолщения» творчества (см. Степь), скатывания в депрессии (см. личную переписку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взаимоисключающие идеи-фикс о недостаточной краткости и одновременн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обходимости создать нечто огромное. Последние произведения «Невеста» 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Вишнёвый сад» буквально омыты кровью, на краю могилы он писа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смешную пьесу, где бы чёрт ходил коромыслом»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397080" y="285840"/>
            <a:ext cx="815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изнь-то прошла, словно и не жил…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(Фирс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ишнёвый са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1357200" y="785880"/>
            <a:ext cx="7358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я жизнь Чехова пронизана его самоироние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ездка на Сахалин – это хадж к «месту невыносимых страданий» 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то же время хиджра, бегство от слепой, чванливой и заурядной бытности, где интеллигенция обсуждала отмену крепостного прав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замечая разносчиков вина за спиной, не помня о мёрзнущих извозчиках – таких же крепостных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нтон Павлович отличался тягой создавать школы, больницы, посыла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еллажи книг в деревенские библиотеки, вишнёвый сад он посадил са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Меня здесь одолевают больные,- писал он из Крыма брату,- которы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сылают сюда со всех сторон, - с бациллами, с кавернами, с зелёны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цами, но без гроша в кармане. Приходится бороться с этим кошмаром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ускаться на разные фокусы». Фокусы – это газетные воззвания, сб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жертвований в пользу нуждающихся больных. Но самым просты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потому самым ходовым был такой фоку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овким, едва уловимы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вижением руки Антон Павлович доставал из своего кармана банкно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отдавал их больном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3950640" y="6000840"/>
            <a:ext cx="494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одился сорокалетним – и умер сорокалетним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ак бы в собственном зените © Гиппиу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Скругленный прямоугольник 2"/>
          <p:cNvSpPr/>
          <p:nvPr/>
        </p:nvSpPr>
        <p:spPr>
          <a:xfrm>
            <a:off x="428760" y="357120"/>
            <a:ext cx="1428480" cy="6429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"/>
          <p:cNvSpPr/>
          <p:nvPr/>
        </p:nvSpPr>
        <p:spPr>
          <a:xfrm>
            <a:off x="500040" y="4287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Цита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246240" y="1285920"/>
            <a:ext cx="88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Дело не в пессимизме и не в оптимизме, а в том, что у девяноста девяти из ста нет ум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282600" y="1785960"/>
            <a:ext cx="68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Одна боль всегда уменьшает другую. Наступите вы на хвост кошк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которой болят зубы, и ей станет легч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305280" y="2571840"/>
            <a:ext cx="45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Если боитесь одиночества, то не женитес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304560" y="3000240"/>
            <a:ext cx="39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Умный любит учиться, дурак – учи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284400" y="3429000"/>
            <a:ext cx="56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Разве льгота, данная Ивану, не служит в ущерб Петру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385560" y="3929040"/>
            <a:ext cx="8359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Я не верю в нашу интеллигенцию, лицемерную, фальшивую, истеричную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воспитанную, ленивую, не верю даже, когда она страдает и жалуется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бо ее притеснители выходят из ее же недр. Вся интеллигенция виновата, вся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дарь мой. Пока это еще студенты и курсистки — это честный, хороший народ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надежда наша, это будущее России, но стоит только студентам и курсистк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йти самостоятельно на дорогу, стать взрослыми, как и надежда наша и будуще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ссии обращается в дым, и остаются на фильтре одни доктора-дачевладельцы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сытые чиновники, ворующие инженер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2" descr="467px-Chekhov_1898_by_Osip_Braz.jpg"/>
          <p:cNvPicPr/>
          <p:nvPr/>
        </p:nvPicPr>
        <p:blipFill>
          <a:blip r:embed="rId1"/>
          <a:stretch/>
        </p:blipFill>
        <p:spPr>
          <a:xfrm>
            <a:off x="1898640" y="0"/>
            <a:ext cx="534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0T12:13:49Z</dcterms:created>
  <dc:creator>Тамара</dc:creator>
  <dc:description/>
  <dc:language>en-US</dc:language>
  <cp:lastModifiedBy>Тамара</cp:lastModifiedBy>
  <dcterms:modified xsi:type="dcterms:W3CDTF">2013-09-11T03:08:45Z</dcterms:modified>
  <cp:revision>15</cp:revision>
  <dc:subject/>
  <dc:title>Антон Павлович Чехов</dc:title>
</cp:coreProperties>
</file>