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hammer.wav" ContentType="audio/x-wav"/>
  <Override PartName="/ppt/media/image13.png" ContentType="image/png"/>
  <Override PartName="/ppt/media/chimes.wav" ContentType="audio/x-wav"/>
  <Override PartName="/ppt/media/wind.wav" ContentType="audio/x-wav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voltage.wav" ContentType="audio/x-wav"/>
  <Override PartName="/ppt/media/image3.wmf" ContentType="image/x-wmf"/>
  <Override PartName="/ppt/media/image9.wmf" ContentType="image/x-wmf"/>
  <Override PartName="/ppt/media/image8.png" ContentType="image/png"/>
  <Override PartName="/ppt/media/image1.wmf" ContentType="image/x-wmf"/>
  <Override PartName="/ppt/media/image2.wmf" ContentType="image/x-wmf"/>
  <Override PartName="/ppt/media/drumroll.wav" ContentType="audio/x-wav"/>
  <Override PartName="/ppt/media/image4.png" ContentType="image/png"/>
  <Override PartName="/ppt/media/laser.wav" ContentType="audio/x-wav"/>
  <Override PartName="/ppt/media/breeze.wav" ContentType="audio/x-wav"/>
  <Override PartName="/ppt/media/applause.wav" ContentType="audio/x-wav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298-EC83-4579-86DA-D74DB212CB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1C6C-2F80-4E05-8E61-A796C70C55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B47-9BD1-4F34-B589-78A394D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388-C6CC-4044-81BD-3A41BFA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BA7-2FC5-46E4-AE74-6B605A2B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B6A-7986-4924-8352-4C9F0D3A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562F-578E-42B6-B207-88E187BA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18CC-B0BD-4F5C-9E33-ACE9FD37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5CDB-B811-478A-BFD1-3E50DCBE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A610-5673-40C5-86EA-A83B792F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6617-D5E1-4EBB-B994-1744B42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8F34-5EBA-4186-B49B-DACC8B38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0526-EF9C-4B43-B1BA-D1B4E08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891-F30B-40DD-ADEC-FF1E7C1B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C428-CF79-4BAD-8536-43643CE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D7A8-3379-4F3D-AD26-B9C5CEC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8257-B8CD-44D5-9BF0-E1B872C9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8B14-7B2E-4B5D-9DE9-7A61C17C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6323-0E57-4939-BD25-8F104133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572-F728-4736-A4E0-D9ED6B1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EE8-928F-451B-9599-6735A73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B31-3998-4A1C-8DB5-D3C5159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980-E6B9-4253-969E-5380883B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F70-855D-48A4-8FD7-CF79969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4DC-7509-4A3F-A171-9B5C8C7B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04A-284F-485F-BBF3-582D9C0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D69-35FC-4A36-947F-3578E0A076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A3F8-3123-4E35-8EF4-641E3DA656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9.xml"/><Relationship Id="rId11" Type="http://schemas.openxmlformats.org/officeDocument/2006/relationships/slide" Target="slide23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1.xml"/><Relationship Id="rId15" Type="http://schemas.openxmlformats.org/officeDocument/2006/relationships/audio" Target="../media/chimes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29.xml"/><Relationship Id="rId6" Type="http://schemas.openxmlformats.org/officeDocument/2006/relationships/slide" Target="slide34.xml"/><Relationship Id="rId7" Type="http://schemas.openxmlformats.org/officeDocument/2006/relationships/slide" Target="slide30.xml"/><Relationship Id="rId8" Type="http://schemas.openxmlformats.org/officeDocument/2006/relationships/slide" Target="slide33.xml"/><Relationship Id="rId9" Type="http://schemas.openxmlformats.org/officeDocument/2006/relationships/slide" Target="slide32.xml"/><Relationship Id="rId10" Type="http://schemas.openxmlformats.org/officeDocument/2006/relationships/slide" Target="slide46.xml"/><Relationship Id="rId11" Type="http://schemas.openxmlformats.org/officeDocument/2006/relationships/slide" Target="slide50.xml"/><Relationship Id="rId12" Type="http://schemas.openxmlformats.org/officeDocument/2006/relationships/slide" Target="slide47.xml"/><Relationship Id="rId13" Type="http://schemas.openxmlformats.org/officeDocument/2006/relationships/slide" Target="slide49.xml"/><Relationship Id="rId14" Type="http://schemas.openxmlformats.org/officeDocument/2006/relationships/slide" Target="slide48.xml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187280" y="692280"/>
            <a:ext cx="4419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236173" dir="3224488" blurRad="0" rotWithShape="0">
                    <a:srgbClr val="000000"/>
                  </a:outerShdw>
                </a:effectLst>
                <a:latin typeface="Impact"/>
              </a:rPr>
              <a:t>БРЕЙН - РИНГ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236173" dir="3224488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8" descr="bd08149_"/>
          <p:cNvPicPr/>
          <p:nvPr/>
        </p:nvPicPr>
        <p:blipFill>
          <a:blip r:embed="rId1"/>
          <a:stretch/>
        </p:blipFill>
        <p:spPr>
          <a:xfrm>
            <a:off x="5334120" y="380880"/>
            <a:ext cx="3352680" cy="302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bs00979_"/>
          <p:cNvPicPr/>
          <p:nvPr/>
        </p:nvPicPr>
        <p:blipFill>
          <a:blip r:embed="rId2"/>
          <a:stretch/>
        </p:blipFill>
        <p:spPr>
          <a:xfrm>
            <a:off x="457200" y="2819520"/>
            <a:ext cx="2855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лы упругости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042920" y="0"/>
            <a:ext cx="5904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- аукци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Picture 5" descr="j0304691"/>
          <p:cNvPicPr/>
          <p:nvPr/>
        </p:nvPicPr>
        <p:blipFill>
          <a:blip r:embed="rId3"/>
          <a:stretch/>
        </p:blipFill>
        <p:spPr>
          <a:xfrm>
            <a:off x="5076720" y="2637000"/>
            <a:ext cx="38163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hammer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л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611280" y="907920"/>
            <a:ext cx="7632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с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ормула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илы трения скольжения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торого закона Ньютон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кон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ука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ормул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мпульс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11280" y="907920"/>
            <a:ext cx="7632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ул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5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лин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762120" y="1219320"/>
            <a:ext cx="7086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Первый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99" name="Picture 3" descr="bs02040_"/>
          <p:cNvPicPr/>
          <p:nvPr/>
        </p:nvPicPr>
        <p:blipFill>
          <a:blip r:embed="rId1"/>
          <a:stretch/>
        </p:blipFill>
        <p:spPr>
          <a:xfrm>
            <a:off x="6807240" y="3809880"/>
            <a:ext cx="172728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b01514_"/>
          <p:cNvPicPr/>
          <p:nvPr/>
        </p:nvPicPr>
        <p:blipFill>
          <a:blip r:embed="rId2"/>
          <a:stretch/>
        </p:blipFill>
        <p:spPr>
          <a:xfrm>
            <a:off x="685800" y="533520"/>
            <a:ext cx="205740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breez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у равен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ин Джоул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611280" y="981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диница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мерения ускорения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му равен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дин Ньютон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533520"/>
            <a:ext cx="80773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ко буде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жоулей в 352кДж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6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зовите фамилию автор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ебника по  физике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 которому  все в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ились в 7 класс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</a:rPr>
              <a:t>Каким ученым был сформулирован в 1687 году принцип инерции Галилео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11280" y="692280"/>
            <a:ext cx="763272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зовите фамилии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второв вашего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бника по физике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143000" y="2428920"/>
            <a:ext cx="6357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Что изображено на вашем учебнике по физике крупным планом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Учебник по которому вы решаете за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horz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684360" y="620640"/>
            <a:ext cx="7920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4" name="Прямоугольник 2" descr=""/>
          <p:cNvPicPr/>
          <p:nvPr/>
        </p:nvPicPr>
        <p:blipFill>
          <a:blip r:embed="rId1"/>
          <a:stretch/>
        </p:blipFill>
        <p:spPr>
          <a:xfrm>
            <a:off x="920880" y="1573200"/>
            <a:ext cx="594360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295280" y="1066680"/>
            <a:ext cx="70866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торой раун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102" name="Picture 8" descr="bd06089_"/>
          <p:cNvPicPr/>
          <p:nvPr/>
        </p:nvPicPr>
        <p:blipFill>
          <a:blip r:embed="rId1"/>
          <a:stretch/>
        </p:blipFill>
        <p:spPr>
          <a:xfrm>
            <a:off x="6705720" y="4648320"/>
            <a:ext cx="1663560" cy="176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j0299125"/>
          <p:cNvPicPr/>
          <p:nvPr/>
        </p:nvPicPr>
        <p:blipFill>
          <a:blip r:embed="rId2"/>
          <a:stretch/>
        </p:blipFill>
        <p:spPr>
          <a:xfrm>
            <a:off x="395280" y="3213000"/>
            <a:ext cx="20178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wind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 rot="20116800">
            <a:off x="684000" y="980640"/>
            <a:ext cx="77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ор для измер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ы то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3" descr="j030469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148360" y="2708280"/>
            <a:ext cx="38163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hamme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571320"/>
            <a:ext cx="8610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бор для измерения силы то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476360" y="981000"/>
            <a:ext cx="66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Прибор для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измерения силы?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000080" y="928800"/>
            <a:ext cx="7253280" cy="42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Прибор для измерения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влажности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2" descr="Частый вертикальный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3360" y="901800"/>
            <a:ext cx="7791480" cy="5127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3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762120" y="1066680"/>
            <a:ext cx="7481880" cy="430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инамометр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u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476360" y="981000"/>
            <a:ext cx="66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u"/>
    <p:sndAc>
      <p:stSnd>
        <p:snd r:embed="rId3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 rot="1266600">
            <a:off x="755280" y="1916280"/>
            <a:ext cx="76341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прос - аукцион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3" descr="j0304691"/>
          <p:cNvPicPr/>
          <p:nvPr/>
        </p:nvPicPr>
        <p:blipFill>
          <a:blip r:embed="rId1"/>
          <a:stretch/>
        </p:blipFill>
        <p:spPr>
          <a:xfrm>
            <a:off x="5508720" y="0"/>
            <a:ext cx="31687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hammer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3"/>
          <p:cNvSpPr txBox="1"/>
          <p:nvPr/>
        </p:nvSpPr>
        <p:spPr>
          <a:xfrm>
            <a:off x="1523880" y="1600200"/>
            <a:ext cx="63374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бодное паде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116000" y="1484280"/>
            <a:ext cx="7128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и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j0428261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47640" y="765000"/>
            <a:ext cx="57596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drumroll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332000" y="1197000"/>
            <a:ext cx="662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l"/>
    <p:sndAc>
      <p:stSnd>
        <p:snd r:embed="rId3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Ученый, именем которого назван закон механики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50012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Кто изобрел телескоп?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42960" y="242856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Имя первой собаки космонавта?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Назовите точную дату, когда Гагарин сказал “Поехали, и взмахнул рукой”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160" y="620280"/>
            <a:ext cx="77785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imes New Roman"/>
              </a:rPr>
              <a:t>Закон сохранения энергии был обоснован?.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WordArt 2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864200" cy="549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WordArt 2" descr="Частый вертикальный"/>
          <p:cNvPicPr/>
          <p:nvPr/>
        </p:nvPicPr>
        <p:blipFill>
          <a:blip r:embed="rId1"/>
          <a:stretch/>
        </p:blipFill>
        <p:spPr>
          <a:xfrm>
            <a:off x="749160" y="762120"/>
            <a:ext cx="818676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09480" y="609480"/>
            <a:ext cx="749160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Десятая част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килограмма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Естественный спутник Земли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1" action="ppaction://hlinksldjump"/>
              </a:rPr>
              <a:t>Темы </a:t>
            </a:r>
            <a:r>
              <a:rPr b="0" lang="en-US" sz="6000" spc="-1" strike="noStrike" u="sng">
                <a:solidFill>
                  <a:srgbClr val="ff0033"/>
                </a:solidFill>
                <a:uFillTx/>
                <a:latin typeface="Monotype Corsiva"/>
                <a:hlinkClick r:id="rId2" action="ppaction://hlinksldjump"/>
              </a:rPr>
              <a:t>I</a:t>
            </a: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3" action="ppaction://hlinksldjump"/>
              </a:rPr>
              <a:t> 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0920" y="4365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Единицы измер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498920" y="155736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Физические форму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4643280" y="292572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738036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5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464328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6012000" y="357336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21">
            <a:hlinkClick r:id="rId8" action="ppaction://hlinksldjump"/>
          </p:cNvPr>
          <p:cNvSpPr/>
          <p:nvPr/>
        </p:nvSpPr>
        <p:spPr>
          <a:xfrm>
            <a:off x="6012000" y="2925720"/>
            <a:ext cx="108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9" action="ppaction://hlinksldjump"/>
              </a:rPr>
              <a:t>3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322200" y="551808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0" action="ppaction://hlinksldjump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305928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1" action="ppaction://hlinksldjump"/>
              </a:rPr>
              <a:t>5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2220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2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1690560" y="616572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3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1690560" y="5518080"/>
            <a:ext cx="1081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4" action="ppaction://hlinksldjump"/>
              </a:rPr>
              <a:t>3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5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116000" y="765000"/>
            <a:ext cx="691344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785880" y="2500200"/>
            <a:ext cx="70009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0000"/>
                </a:solidFill>
                <a:latin typeface="Times New Roman"/>
              </a:rPr>
              <a:t>Процесс обратный плавлению?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3" name="voltag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4200" y="314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ff00"/>
                </a:solidFill>
                <a:latin typeface="Arial"/>
              </a:rPr>
              <a:t>Спасибо за участие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1" action="ppaction://hlinksldjump"/>
              </a:rPr>
              <a:t>Темы </a:t>
            </a:r>
            <a:r>
              <a:rPr b="0" lang="en-US" sz="6000" spc="-1" strike="noStrike" u="sng">
                <a:solidFill>
                  <a:srgbClr val="ff0033"/>
                </a:solidFill>
                <a:uFillTx/>
                <a:latin typeface="Monotype Corsiva"/>
                <a:hlinkClick r:id="rId2" action="ppaction://hlinksldjump"/>
              </a:rPr>
              <a:t>II</a:t>
            </a:r>
            <a:r>
              <a:rPr b="0" lang="ru-RU" sz="6000" spc="-1" strike="noStrike" u="sng">
                <a:solidFill>
                  <a:srgbClr val="ff0033"/>
                </a:solidFill>
                <a:uFillTx/>
                <a:latin typeface="Monotype Corsiva"/>
                <a:hlinkClick r:id="rId3" action="ppaction://hlinksldjump"/>
              </a:rPr>
              <a:t> раунда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Rectangle 3">
            <a:hlinkClick r:id="rId4" action="ppaction://hlinksldjump"/>
          </p:cNvPr>
          <p:cNvSpPr/>
          <p:nvPr/>
        </p:nvSpPr>
        <p:spPr>
          <a:xfrm>
            <a:off x="250920" y="1557360"/>
            <a:ext cx="381636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Приб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8920" y="4365720"/>
            <a:ext cx="4033800" cy="93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Заморо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299736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987640" y="3645000"/>
            <a:ext cx="122400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10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50920" y="364500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619280" y="364500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8" action="ppaction://hlinksldjump"/>
              </a:rPr>
              <a:t>8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619280" y="2997360"/>
            <a:ext cx="1081080" cy="358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9" action="ppaction://hlinksldjump"/>
              </a:rPr>
              <a:t>6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4788000" y="551808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0" action="ppaction://hlinksldjump"/>
              </a:rPr>
              <a:t>2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752472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1" action="ppaction://hlinksldjump"/>
              </a:rPr>
              <a:t>10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478800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2" action="ppaction://hlinksldjump"/>
              </a:rPr>
              <a:t>4 бал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6156360" y="616572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3" action="ppaction://hlinksldjump"/>
              </a:rPr>
              <a:t>8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6156360" y="5518080"/>
            <a:ext cx="108108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33"/>
                </a:solidFill>
                <a:uFillTx/>
                <a:latin typeface="Times New Roman"/>
                <a:hlinkClick r:id="rId14" action="ppaction://hlinksldjump"/>
              </a:rPr>
              <a:t>6 бал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5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5"/>
          <p:cNvSpPr txBox="1"/>
          <p:nvPr/>
        </p:nvSpPr>
        <p:spPr>
          <a:xfrm>
            <a:off x="684360" y="620640"/>
            <a:ext cx="79200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айте определение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с те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539640" y="1268280"/>
            <a:ext cx="8209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ерци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@SPER</cp:lastModifiedBy>
  <dcterms:modified xsi:type="dcterms:W3CDTF">2008-12-27T23:39:06Z</dcterms:modified>
  <cp:revision>163</cp:revision>
  <dc:subject/>
  <dc:title>PowerPoint Presentation</dc:title>
</cp:coreProperties>
</file>