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hammer.wav" ContentType="audio/x-wav"/>
  <Override PartName="/ppt/media/image13.png" ContentType="image/png"/>
  <Override PartName="/ppt/media/chimes.wav" ContentType="audio/x-wav"/>
  <Override PartName="/ppt/media/wind.wav" ContentType="audio/x-wav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voltage.wav" ContentType="audio/x-wav"/>
  <Override PartName="/ppt/media/image3.wmf" ContentType="image/x-wmf"/>
  <Override PartName="/ppt/media/image9.wmf" ContentType="image/x-wmf"/>
  <Override PartName="/ppt/media/image8.png" ContentType="image/png"/>
  <Override PartName="/ppt/media/image1.wmf" ContentType="image/x-wmf"/>
  <Override PartName="/ppt/media/image2.wmf" ContentType="image/x-wmf"/>
  <Override PartName="/ppt/media/drumroll.wav" ContentType="audio/x-wav"/>
  <Override PartName="/ppt/media/image4.png" ContentType="image/png"/>
  <Override PartName="/ppt/media/laser.wav" ContentType="audio/x-wav"/>
  <Override PartName="/ppt/media/breeze.wav" ContentType="audio/x-wav"/>
  <Override PartName="/ppt/media/applause.wav" ContentType="audio/x-wav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1F45-31EF-42EE-977A-F443B74B40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51DD-17BF-40D2-A44F-8DB522F9B8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C7D-65B3-4429-8EED-A82B9323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543-77DC-4758-BD7C-7F800E0F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DDF-851C-49D9-9C2C-8CC0FFA5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DA8-7A52-40C4-BC22-9D4D02AB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06AC-B1DB-4AAB-B25A-197BC31E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29E8-59D4-405F-805B-ED513444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E561-627D-489A-B8E4-D607FAD7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4DED-0E00-494E-81B1-C83A67DB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5C14-1971-42ED-8317-3C59F14B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7B4C-3C33-4F2C-8A38-6E70760C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1416-912F-4B0E-A3E5-A88C8E00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55A-3FEB-421F-9605-E1982902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F2C0-49E9-4CB9-8673-1CD0124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9D61-391E-4701-B1E5-FB78B2C4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5067-334E-42CF-966F-098DA61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8FC5-2EAA-4702-AA73-BE75CE50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5DA6-C9BC-4036-92CA-29C6967B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00C-36B6-48E4-B6D7-33D0EF29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511-E755-4328-81A2-A2814397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1D3-9CEC-44C6-9D8E-6BE4759F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A27-AF6A-4B8B-9A60-2E5BB8D6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B7D-2578-491A-9451-A20624C8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B69-E99E-433B-9F60-6A7481D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BD5-835D-4517-AF13-E5426124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9C3F-A02B-4613-A698-2BFD2B6606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B718-3824-42BE-8954-7DAE87400A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slide18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9.xml"/><Relationship Id="rId11" Type="http://schemas.openxmlformats.org/officeDocument/2006/relationships/slide" Target="slide23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1.xml"/><Relationship Id="rId15" Type="http://schemas.openxmlformats.org/officeDocument/2006/relationships/audio" Target="../media/chimes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29.xml"/><Relationship Id="rId6" Type="http://schemas.openxmlformats.org/officeDocument/2006/relationships/slide" Target="slide34.xml"/><Relationship Id="rId7" Type="http://schemas.openxmlformats.org/officeDocument/2006/relationships/slide" Target="slide30.xml"/><Relationship Id="rId8" Type="http://schemas.openxmlformats.org/officeDocument/2006/relationships/slide" Target="slide33.xml"/><Relationship Id="rId9" Type="http://schemas.openxmlformats.org/officeDocument/2006/relationships/slide" Target="slide32.xml"/><Relationship Id="rId10" Type="http://schemas.openxmlformats.org/officeDocument/2006/relationships/slide" Target="slide46.xml"/><Relationship Id="rId11" Type="http://schemas.openxmlformats.org/officeDocument/2006/relationships/slide" Target="slide50.xml"/><Relationship Id="rId12" Type="http://schemas.openxmlformats.org/officeDocument/2006/relationships/slide" Target="slide47.xml"/><Relationship Id="rId13" Type="http://schemas.openxmlformats.org/officeDocument/2006/relationships/slide" Target="slide49.xml"/><Relationship Id="rId14" Type="http://schemas.openxmlformats.org/officeDocument/2006/relationships/slide" Target="slide48.xml"/><Relationship Id="rId15" Type="http://schemas.openxmlformats.org/officeDocument/2006/relationships/audio" Target="../media/chimes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6"/>
          <p:cNvSpPr txBox="1"/>
          <p:nvPr/>
        </p:nvSpPr>
        <p:spPr>
          <a:xfrm>
            <a:off x="1187280" y="692280"/>
            <a:ext cx="4419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236173" dir="3224488" blurRad="0" rotWithShape="0">
                    <a:srgbClr val="000000"/>
                  </a:outerShdw>
                </a:effectLst>
                <a:latin typeface="Impact"/>
              </a:rPr>
              <a:t>БРЕЙН - РИНГ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236173" dir="3224488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8" descr="bd08149_"/>
          <p:cNvPicPr/>
          <p:nvPr/>
        </p:nvPicPr>
        <p:blipFill>
          <a:blip r:embed="rId1"/>
          <a:stretch/>
        </p:blipFill>
        <p:spPr>
          <a:xfrm>
            <a:off x="5334120" y="380880"/>
            <a:ext cx="3352680" cy="302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bs00979_"/>
          <p:cNvPicPr/>
          <p:nvPr/>
        </p:nvPicPr>
        <p:blipFill>
          <a:blip r:embed="rId2"/>
          <a:stretch/>
        </p:blipFill>
        <p:spPr>
          <a:xfrm>
            <a:off x="457200" y="2819520"/>
            <a:ext cx="28558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611280" y="981000"/>
            <a:ext cx="7632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ение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илы упругости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042920" y="0"/>
            <a:ext cx="5904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- аукци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5" name="Picture 5" descr="j0304691"/>
          <p:cNvPicPr/>
          <p:nvPr/>
        </p:nvPicPr>
        <p:blipFill>
          <a:blip r:embed="rId3"/>
          <a:stretch/>
        </p:blipFill>
        <p:spPr>
          <a:xfrm>
            <a:off x="5076720" y="2637000"/>
            <a:ext cx="381636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hammer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ени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ил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611280" y="907920"/>
            <a:ext cx="7632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ссы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5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ормула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илы трения скольжения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539640" y="1268280"/>
            <a:ext cx="8209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ул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торого закона Ньютон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611280" y="981000"/>
            <a:ext cx="7632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кон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ука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ормул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мпульс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611280" y="907920"/>
            <a:ext cx="7632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ул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ы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5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лин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762120" y="1219320"/>
            <a:ext cx="70866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Первый раун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99" name="Picture 3" descr="bs02040_"/>
          <p:cNvPicPr/>
          <p:nvPr/>
        </p:nvPicPr>
        <p:blipFill>
          <a:blip r:embed="rId1"/>
          <a:stretch/>
        </p:blipFill>
        <p:spPr>
          <a:xfrm>
            <a:off x="6807240" y="3809880"/>
            <a:ext cx="1727280" cy="259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wb01514_"/>
          <p:cNvPicPr/>
          <p:nvPr/>
        </p:nvPicPr>
        <p:blipFill>
          <a:blip r:embed="rId2"/>
          <a:stretch/>
        </p:blipFill>
        <p:spPr>
          <a:xfrm>
            <a:off x="685800" y="533520"/>
            <a:ext cx="2057400" cy="1606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breeze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539640" y="1268280"/>
            <a:ext cx="8209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му равен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дин Джоул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611280" y="981000"/>
            <a:ext cx="7632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диница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мерения ускорения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му равен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дин Ньютон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457200" y="533520"/>
            <a:ext cx="807732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ко буде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жоулей в 352кДж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6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азовите фамилию автор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ебника по  физике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 которому  все в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ились в 7 класс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</a:rPr>
              <a:t>Каким ученым был сформулирован в 1687 году принцип инерции Галилео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611280" y="692280"/>
            <a:ext cx="763272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зовите фамилии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второв вашего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бника по физике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1143000" y="2428920"/>
            <a:ext cx="6357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Что изображено на вашем учебнике по физике крупным планом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lase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Учебник по которому вы решаете за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684360" y="620640"/>
            <a:ext cx="79200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54" name="Прямоугольник 2" descr=""/>
          <p:cNvPicPr/>
          <p:nvPr/>
        </p:nvPicPr>
        <p:blipFill>
          <a:blip r:embed="rId1"/>
          <a:stretch/>
        </p:blipFill>
        <p:spPr>
          <a:xfrm>
            <a:off x="920880" y="1573200"/>
            <a:ext cx="5943600" cy="3359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295280" y="1066680"/>
            <a:ext cx="70866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Второй раун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102" name="Picture 8" descr="bd06089_"/>
          <p:cNvPicPr/>
          <p:nvPr/>
        </p:nvPicPr>
        <p:blipFill>
          <a:blip r:embed="rId1"/>
          <a:stretch/>
        </p:blipFill>
        <p:spPr>
          <a:xfrm>
            <a:off x="6705720" y="4648320"/>
            <a:ext cx="1663560" cy="176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j0299125"/>
          <p:cNvPicPr/>
          <p:nvPr/>
        </p:nvPicPr>
        <p:blipFill>
          <a:blip r:embed="rId2"/>
          <a:stretch/>
        </p:blipFill>
        <p:spPr>
          <a:xfrm>
            <a:off x="395280" y="3213000"/>
            <a:ext cx="201780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wind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 rot="20116800">
            <a:off x="684000" y="980640"/>
            <a:ext cx="7777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бор для измерени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ы ток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6" name="Picture 3" descr="j030469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148360" y="2708280"/>
            <a:ext cx="381636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hammer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571320"/>
            <a:ext cx="8610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бор для измерения силы то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476360" y="981000"/>
            <a:ext cx="6624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Прибор для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измерения силы?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000080" y="928800"/>
            <a:ext cx="7253280" cy="42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Прибор для измерения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влажности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WordArt 2" descr="Частый вертикальный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3360" y="901800"/>
            <a:ext cx="7791480" cy="5127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  <p:sndAc>
      <p:stSnd>
        <p:snd r:embed="rId3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762120" y="1066680"/>
            <a:ext cx="7481880" cy="430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инамометр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476360" y="981000"/>
            <a:ext cx="6624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к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u"/>
    <p:sndAc>
      <p:stSnd>
        <p:snd r:embed="rId3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 rot="1266600">
            <a:off x="755280" y="1916280"/>
            <a:ext cx="76341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 - аукцион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Picture 3" descr="j0304691"/>
          <p:cNvPicPr/>
          <p:nvPr/>
        </p:nvPicPr>
        <p:blipFill>
          <a:blip r:embed="rId1"/>
          <a:stretch/>
        </p:blipFill>
        <p:spPr>
          <a:xfrm>
            <a:off x="5508720" y="0"/>
            <a:ext cx="316872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  <p:sndAc>
      <p:stSnd>
        <p:snd r:embed="rId2" name="hammer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3"/>
          <p:cNvSpPr txBox="1"/>
          <p:nvPr/>
        </p:nvSpPr>
        <p:spPr>
          <a:xfrm>
            <a:off x="1523880" y="1600200"/>
            <a:ext cx="63374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ободное паден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ори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j0428261">
            <a:hlinkClick r:id="rId1" action="ppaction://hlinksldjump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547640" y="765000"/>
            <a:ext cx="57596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drumroll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332000" y="1197000"/>
            <a:ext cx="6624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р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l"/>
    <p:sndAc>
      <p:stSnd>
        <p:snd r:embed="rId3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Ученый, именем которого назван закон механики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50012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Times New Roman"/>
              </a:rPr>
              <a:t>Кто изобрел телескоп?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42960" y="242856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Times New Roman"/>
              </a:rPr>
              <a:t>Имя первой собаки космонавта?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Назовите точную дату, когда Гагарин сказал “Поехали, и взмахнул рукой”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160" y="620280"/>
            <a:ext cx="77785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Times New Roman"/>
              </a:rPr>
              <a:t>Закон сохранения энергии был обоснован?.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WordArt 2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7864200" cy="549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2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WordArt 2" descr="Частый вертикальный"/>
          <p:cNvPicPr/>
          <p:nvPr/>
        </p:nvPicPr>
        <p:blipFill>
          <a:blip r:embed="rId1"/>
          <a:stretch/>
        </p:blipFill>
        <p:spPr>
          <a:xfrm>
            <a:off x="749160" y="762120"/>
            <a:ext cx="8186760" cy="533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2" name="chim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09480" y="609480"/>
            <a:ext cx="749160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Десятая часть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килограмма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14240" y="207180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Естественный спутник Земли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1" action="ppaction://hlinksldjump"/>
              </a:rPr>
              <a:t>Темы </a:t>
            </a:r>
            <a:r>
              <a:rPr b="0" lang="en-US" sz="6000" spc="-1" strike="noStrike" u="sng">
                <a:solidFill>
                  <a:srgbClr val="ff0033"/>
                </a:solidFill>
                <a:uFillTx/>
                <a:latin typeface="Monotype Corsiva"/>
                <a:hlinkClick r:id="rId2" action="ppaction://hlinksldjump"/>
              </a:rPr>
              <a:t>I</a:t>
            </a: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3" action="ppaction://hlinksldjump"/>
              </a:rPr>
              <a:t> раунда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50920" y="4365720"/>
            <a:ext cx="403380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Единицы измер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498920" y="1557360"/>
            <a:ext cx="403380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Физические форму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4643280" y="292572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7380360" y="357336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5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4643280" y="357336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6012000" y="357336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21">
            <a:hlinkClick r:id="rId8" action="ppaction://hlinksldjump"/>
          </p:cNvPr>
          <p:cNvSpPr/>
          <p:nvPr/>
        </p:nvSpPr>
        <p:spPr>
          <a:xfrm>
            <a:off x="6012000" y="292572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9" action="ppaction://hlinksldjump"/>
              </a:rPr>
              <a:t>3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322200" y="551808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0" action="ppaction://hlinksldjump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3059280" y="616572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1" action="ppaction://hlinksldjump"/>
              </a:rPr>
              <a:t>5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322200" y="616572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2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1690560" y="616572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3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1690560" y="551808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4" action="ppaction://hlinksldjump"/>
              </a:rPr>
              <a:t>3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15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116000" y="765000"/>
            <a:ext cx="691344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785880" y="2500200"/>
            <a:ext cx="7000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Процесс обратный плавлению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3" name="voltage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4200" y="314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ff00"/>
                </a:solidFill>
                <a:latin typeface="Arial"/>
              </a:rPr>
              <a:t>Спасибо за участие</a:t>
            </a:r>
            <a:endParaRPr b="0" lang="en-US" sz="55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1" action="ppaction://hlinksldjump"/>
              </a:rPr>
              <a:t>Темы </a:t>
            </a:r>
            <a:r>
              <a:rPr b="0" lang="en-US" sz="6000" spc="-1" strike="noStrike" u="sng">
                <a:solidFill>
                  <a:srgbClr val="ff0033"/>
                </a:solidFill>
                <a:uFillTx/>
                <a:latin typeface="Monotype Corsiva"/>
                <a:hlinkClick r:id="rId2" action="ppaction://hlinksldjump"/>
              </a:rPr>
              <a:t>II</a:t>
            </a: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3" action="ppaction://hlinksldjump"/>
              </a:rPr>
              <a:t> раунда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Rectangle 3">
            <a:hlinkClick r:id="rId4" action="ppaction://hlinksldjump"/>
          </p:cNvPr>
          <p:cNvSpPr/>
          <p:nvPr/>
        </p:nvSpPr>
        <p:spPr>
          <a:xfrm>
            <a:off x="250920" y="1557360"/>
            <a:ext cx="381636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Приб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498920" y="4365720"/>
            <a:ext cx="403380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Заморо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50920" y="299736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987640" y="3645000"/>
            <a:ext cx="122400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10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50920" y="364500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619280" y="364500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8" action="ppaction://hlinksldjump"/>
              </a:rPr>
              <a:t>8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619280" y="299736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9" action="ppaction://hlinksldjump"/>
              </a:rPr>
              <a:t>6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4788000" y="551808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0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7524720" y="616572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1" action="ppaction://hlinksldjump"/>
              </a:rPr>
              <a:t>10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4788000" y="616572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2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6156360" y="616572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3" action="ppaction://hlinksldjump"/>
              </a:rPr>
              <a:t>8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6156360" y="551808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4" action="ppaction://hlinksldjump"/>
              </a:rPr>
              <a:t>6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5" name="chimes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5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айте определение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ес тел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539640" y="1268280"/>
            <a:ext cx="8209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ерци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@SPER</cp:lastModifiedBy>
  <dcterms:modified xsi:type="dcterms:W3CDTF">2008-12-27T23:39:06Z</dcterms:modified>
  <cp:revision>163</cp:revision>
  <dc:subject/>
  <dc:title>PowerPoint Presentation</dc:title>
</cp:coreProperties>
</file>