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hammer.wav" ContentType="audio/x-wav"/>
  <Override PartName="/ppt/media/image13.png" ContentType="image/png"/>
  <Override PartName="/ppt/media/chimes.wav" ContentType="audio/x-wav"/>
  <Override PartName="/ppt/media/wind.wav" ContentType="audio/x-wav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voltage.wav" ContentType="audio/x-wav"/>
  <Override PartName="/ppt/media/image3.wmf" ContentType="image/x-wmf"/>
  <Override PartName="/ppt/media/image9.wmf" ContentType="image/x-wmf"/>
  <Override PartName="/ppt/media/image8.png" ContentType="image/png"/>
  <Override PartName="/ppt/media/image1.wmf" ContentType="image/x-wmf"/>
  <Override PartName="/ppt/media/image2.wmf" ContentType="image/x-wmf"/>
  <Override PartName="/ppt/media/drumroll.wav" ContentType="audio/x-wav"/>
  <Override PartName="/ppt/media/image4.png" ContentType="image/png"/>
  <Override PartName="/ppt/media/laser.wav" ContentType="audio/x-wav"/>
  <Override PartName="/ppt/media/breeze.wav" ContentType="audio/x-wav"/>
  <Override PartName="/ppt/media/applause.wav" ContentType="audio/x-wav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269-7EEA-48EC-A1B6-E6448B1B5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F2B5-D061-4FD1-9A7C-95F91293AB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311-3DEB-4F4F-8515-81980564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DAF-DEB5-4969-9017-8C6A18E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06D-BCF5-4EE8-AB16-D6576F77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A99-F0E4-4E94-BF12-330ED374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7143-68DC-4B71-AC05-14E3C36B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47BF-C4BE-417F-80AF-7414DFE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0E59-9725-4E45-BFB8-FE5F474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583-8BA2-443B-A636-AC6187CB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3E7-EED6-4CFE-BBBC-11130D3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7367-BB3B-4C19-8DF6-167C6541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4B4E-046C-4FC7-ABE8-89410D1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7D7-34F3-495C-B6C8-679B3154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3B5-4F45-461A-9C52-FCCBC0D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CBC-30C2-469A-AF85-5D7D9E5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DB4-4A54-415D-AB13-DE10532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4BED-4A13-4457-B34B-DC1BC122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D600-0FD3-4C11-BFEC-24A8125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40D-9BE8-4FE4-B68F-FBBFBDE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A26-D5DC-4A9D-ACD2-C531DDE3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E10-F398-4F73-B799-811D862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4FF-BFD3-4266-A07A-4DC6C29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7B8-0DF4-47D2-A254-754171E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186-6C2A-4F54-912D-B60CC5DD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CD6-F750-4398-BBDE-ED7CDB5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CA7-4C9C-4DE0-9CB4-81D46624C8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1AC8-88AB-4209-B78A-CB49604566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9.xml"/><Relationship Id="rId11" Type="http://schemas.openxmlformats.org/officeDocument/2006/relationships/slide" Target="slide23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1.xml"/><Relationship Id="rId15" Type="http://schemas.openxmlformats.org/officeDocument/2006/relationships/audio" Target="../media/chimes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29.xml"/><Relationship Id="rId6" Type="http://schemas.openxmlformats.org/officeDocument/2006/relationships/slide" Target="slide34.xml"/><Relationship Id="rId7" Type="http://schemas.openxmlformats.org/officeDocument/2006/relationships/slide" Target="slide30.xml"/><Relationship Id="rId8" Type="http://schemas.openxmlformats.org/officeDocument/2006/relationships/slide" Target="slide33.xml"/><Relationship Id="rId9" Type="http://schemas.openxmlformats.org/officeDocument/2006/relationships/slide" Target="slide32.xml"/><Relationship Id="rId10" Type="http://schemas.openxmlformats.org/officeDocument/2006/relationships/slide" Target="slide46.xml"/><Relationship Id="rId11" Type="http://schemas.openxmlformats.org/officeDocument/2006/relationships/slide" Target="slide50.xml"/><Relationship Id="rId12" Type="http://schemas.openxmlformats.org/officeDocument/2006/relationships/slide" Target="slide47.xml"/><Relationship Id="rId13" Type="http://schemas.openxmlformats.org/officeDocument/2006/relationships/slide" Target="slide49.xml"/><Relationship Id="rId14" Type="http://schemas.openxmlformats.org/officeDocument/2006/relationships/slide" Target="slide48.xml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187280" y="692280"/>
            <a:ext cx="4419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236173" dir="3224488" blurRad="0" rotWithShape="0">
                    <a:srgbClr val="000000"/>
                  </a:outerShdw>
                </a:effectLst>
                <a:latin typeface="Impact"/>
              </a:rPr>
              <a:t>БРЕЙН - РИНГ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236173" dir="3224488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8" descr="bd08149_"/>
          <p:cNvPicPr/>
          <p:nvPr/>
        </p:nvPicPr>
        <p:blipFill>
          <a:blip r:embed="rId1"/>
          <a:stretch/>
        </p:blipFill>
        <p:spPr>
          <a:xfrm>
            <a:off x="5334120" y="380880"/>
            <a:ext cx="3352680" cy="302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bs00979_"/>
          <p:cNvPicPr/>
          <p:nvPr/>
        </p:nvPicPr>
        <p:blipFill>
          <a:blip r:embed="rId2"/>
          <a:stretch/>
        </p:blipFill>
        <p:spPr>
          <a:xfrm>
            <a:off x="457200" y="2819520"/>
            <a:ext cx="2855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 упругост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042920" y="0"/>
            <a:ext cx="5904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5" descr="j0304691"/>
          <p:cNvPicPr/>
          <p:nvPr/>
        </p:nvPicPr>
        <p:blipFill>
          <a:blip r:embed="rId3"/>
          <a:stretch/>
        </p:blipFill>
        <p:spPr>
          <a:xfrm>
            <a:off x="5076720" y="263700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hammer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с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ормула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илы трения скольжения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торого закона Ньютон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кон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ука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рмул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мпульс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ул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лин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762120" y="1219320"/>
            <a:ext cx="7086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Первы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99" name="Picture 3" descr="bs02040_"/>
          <p:cNvPicPr/>
          <p:nvPr/>
        </p:nvPicPr>
        <p:blipFill>
          <a:blip r:embed="rId1"/>
          <a:stretch/>
        </p:blipFill>
        <p:spPr>
          <a:xfrm>
            <a:off x="6807240" y="380988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b01514_"/>
          <p:cNvPicPr/>
          <p:nvPr/>
        </p:nvPicPr>
        <p:blipFill>
          <a:blip r:embed="rId2"/>
          <a:stretch/>
        </p:blipFill>
        <p:spPr>
          <a:xfrm>
            <a:off x="685800" y="533520"/>
            <a:ext cx="205740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breez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у равен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ин Джоул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диница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мерения ускорения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му равен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дин Ньютон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533520"/>
            <a:ext cx="80773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буде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жоулей в 352кДж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6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зовите фамилию автор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ебника по  физике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 которому  все в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ились в 7 класс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</a:rPr>
              <a:t>Каким ученым был сформулирован в 1687 году принцип инерции Галилео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11280" y="692280"/>
            <a:ext cx="7632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зовите фамили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второв вашего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бника по физике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143000" y="2428920"/>
            <a:ext cx="6357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Что изображено на вашем учебнике по физике крупным планом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Учебник по которому вы решаете за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684360" y="620640"/>
            <a:ext cx="7920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Прямоугольник 2" descr=""/>
          <p:cNvPicPr/>
          <p:nvPr/>
        </p:nvPicPr>
        <p:blipFill>
          <a:blip r:embed="rId1"/>
          <a:stretch/>
        </p:blipFill>
        <p:spPr>
          <a:xfrm>
            <a:off x="920880" y="1573200"/>
            <a:ext cx="594360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95280" y="1066680"/>
            <a:ext cx="70866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торо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102" name="Picture 8" descr="bd06089_"/>
          <p:cNvPicPr/>
          <p:nvPr/>
        </p:nvPicPr>
        <p:blipFill>
          <a:blip r:embed="rId1"/>
          <a:stretch/>
        </p:blipFill>
        <p:spPr>
          <a:xfrm>
            <a:off x="6705720" y="4648320"/>
            <a:ext cx="1663560" cy="176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j0299125"/>
          <p:cNvPicPr/>
          <p:nvPr/>
        </p:nvPicPr>
        <p:blipFill>
          <a:blip r:embed="rId2"/>
          <a:stretch/>
        </p:blipFill>
        <p:spPr>
          <a:xfrm>
            <a:off x="395280" y="3213000"/>
            <a:ext cx="20178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 rot="20116800">
            <a:off x="684000" y="980640"/>
            <a:ext cx="77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ор для измер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ы т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3" descr="j030469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48360" y="270828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hamme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571320"/>
            <a:ext cx="8610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бор для измерения силы то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измерения силы?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000080" y="928800"/>
            <a:ext cx="7253280" cy="42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измерени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влажности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2" descr="Частый вертикальный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3360" y="901800"/>
            <a:ext cx="7791480" cy="5127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762120" y="1066680"/>
            <a:ext cx="7481880" cy="430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инамомет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u"/>
    <p:sndAc>
      <p:stSnd>
        <p:snd r:embed="rId3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 rot="1266600">
            <a:off x="755280" y="1916280"/>
            <a:ext cx="763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3" descr="j0304691"/>
          <p:cNvPicPr/>
          <p:nvPr/>
        </p:nvPicPr>
        <p:blipFill>
          <a:blip r:embed="rId1"/>
          <a:stretch/>
        </p:blipFill>
        <p:spPr>
          <a:xfrm>
            <a:off x="5508720" y="0"/>
            <a:ext cx="31687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hamme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3"/>
          <p:cNvSpPr txBox="1"/>
          <p:nvPr/>
        </p:nvSpPr>
        <p:spPr>
          <a:xfrm>
            <a:off x="1523880" y="1600200"/>
            <a:ext cx="633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бодное пад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и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j0428261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47640" y="765000"/>
            <a:ext cx="57596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drumroll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332000" y="1197000"/>
            <a:ext cx="662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3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Ученый, именем которого назван закон механик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Кто изобрел телескоп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42960" y="242856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Имя первой собаки космонавта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Назовите точную дату, когда Гагарин сказал “Поехали, и взмахнул рукой”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160" y="620280"/>
            <a:ext cx="77785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Закон сохранения энергии был обоснован?.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WordArt 2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864200" cy="549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ordArt 2" descr="Частый вертикальный"/>
          <p:cNvPicPr/>
          <p:nvPr/>
        </p:nvPicPr>
        <p:blipFill>
          <a:blip r:embed="rId1"/>
          <a:stretch/>
        </p:blipFill>
        <p:spPr>
          <a:xfrm>
            <a:off x="749160" y="762120"/>
            <a:ext cx="818676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609480"/>
            <a:ext cx="749160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Десятая част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килограмма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Естественный спутник Земл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0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Единицы изме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498920" y="155736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Физические форму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464328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738036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464328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601200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1">
            <a:hlinkClick r:id="rId8" action="ppaction://hlinksldjump"/>
          </p:cNvPr>
          <p:cNvSpPr/>
          <p:nvPr/>
        </p:nvSpPr>
        <p:spPr>
          <a:xfrm>
            <a:off x="601200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2220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05928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2220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169056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169056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5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16000" y="765000"/>
            <a:ext cx="691344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785880" y="2500200"/>
            <a:ext cx="7000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Процесс обратный плавлению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3" name="voltag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4200" y="314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ff00"/>
                </a:solidFill>
                <a:latin typeface="Arial"/>
              </a:rPr>
              <a:t>Спасибо за участие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Rectangle 3">
            <a:hlinkClick r:id="rId4" action="ppaction://hlinksldjump"/>
          </p:cNvPr>
          <p:cNvSpPr/>
          <p:nvPr/>
        </p:nvSpPr>
        <p:spPr>
          <a:xfrm>
            <a:off x="250920" y="1557360"/>
            <a:ext cx="381636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Приб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8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Заморо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987640" y="3645000"/>
            <a:ext cx="122400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5092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61928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8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61928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78800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752472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78800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615636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615636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5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айте определение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с те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ерци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@SPER</cp:lastModifiedBy>
  <dcterms:modified xsi:type="dcterms:W3CDTF">2008-12-27T23:39:06Z</dcterms:modified>
  <cp:revision>163</cp:revision>
  <dc:subject/>
  <dc:title>PowerPoint Presentation</dc:title>
</cp:coreProperties>
</file>