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593-9E87-460C-BE2B-1958E3B6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4F9-C03C-4DF4-B3DA-6185BCB1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551-7120-4F0E-B375-DAF252FC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F5F-A9B0-484F-864F-AB6BBEB3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F4FE-FD99-49EA-B69F-A80D771C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7AD0-A3F9-4A92-AFE2-EAD78174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5B48-047B-4EDF-83AB-3BCA3F03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44B4-F2D4-4B95-8B6F-556B2A30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29C8-B2D4-4F22-8CD1-71E33C00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E998-EC64-4045-A28B-993458AA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64B3-DF05-4651-9948-114958A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4CB-D000-4D51-A08A-DC23C736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AD6-08B4-4E4D-9935-4115320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A627-341D-4E32-806B-21977993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7309-520E-4485-BA58-B34115BD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8FE0-600F-4CA5-9F47-63A745EF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765F-6A70-430F-9362-613F684D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510-18F7-41E2-980E-9CCD6F76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58D-556B-4C85-B474-8CD11B1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01B-EB72-4B1A-A7F1-0F2FB92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8B0-21D0-4882-B505-7125CA0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D84-E33E-46D4-8CD6-F4704E5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74F-9847-4F62-8326-BD276BDE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DD8-06F1-4662-9D7B-CFA68751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567C-AD87-488F-BB13-F90459B101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D02D-6AF1-4C1A-84DA-97C6C290F6F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EVER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h, 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ЕГОДНЯ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торим внешность (части тела) и умения живот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ем о видах живот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учимся описывать животное по рисун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учимся писать и отгадывать загад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is is a lizard.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Рисунок 13" descr="http://i016.radikal.ru/0805/4e/97afc9989b9b.jpg"/>
          <p:cNvPicPr/>
          <p:nvPr/>
        </p:nvPicPr>
        <p:blipFill>
          <a:blip r:embed="rId1"/>
          <a:stretch/>
        </p:blipFill>
        <p:spPr>
          <a:xfrm>
            <a:off x="2143080" y="1981080"/>
            <a:ext cx="5357880" cy="4089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inds of animals.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translat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ammal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(млекопитающие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from their mother’s bodies, they drink their mother’s milk as a bab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ptiles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(рептилии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ot bodies with scales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шуя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ir babies are from the eg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sect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(насекомые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small animals with six le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rd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(птицы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ot two wigs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ылья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ome of the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f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is is a liza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got a long 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walk, run and jump but it can’t tal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s it a lizar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it got a long t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t walk? Can it run? Can it tal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e lizard is a reptile, it has got a body with scales, its babies are from the eg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say as in the model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ridd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bird. It is from Australia. Its body and legs are brown and its head and neck is blue. It can run very fast, but it can’t fly. (an emu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lass is 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 you for your wor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kina Z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5:20:40Z</dcterms:created>
  <dc:creator>home</dc:creator>
  <dc:description/>
  <dc:language>en-US</dc:language>
  <cp:lastModifiedBy>zav01</cp:lastModifiedBy>
  <dcterms:modified xsi:type="dcterms:W3CDTF">2011-03-28T13:59:42Z</dcterms:modified>
  <cp:revision>18</cp:revision>
  <dc:subject/>
  <dc:title>CLEVER ANIMALS</dc:title>
</cp:coreProperties>
</file>