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7B9-AE11-4123-9A46-946469B3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8F5-ADDC-458C-B030-F58BE13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4B3-4AE2-4D19-9D16-148EFDB9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D40-640B-4248-B735-3D91CC63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DD7E-E1D1-4BB5-9682-187E26E0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5451-06B0-4EC7-A8A8-38391DD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41D2-74EE-49DE-99E5-CFA9ED5A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908-F4B2-4B98-8511-913AB556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A1D2-891E-4EC7-B62C-BEF67D5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74C2-7CAB-4C32-B8DF-EA3996F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7C65-F99E-4316-ACB9-D104FC7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A86-2443-495F-96BE-C71F924B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FFF9-49B1-4800-9917-7645BBB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227-AE71-4EB5-9A7B-4D2F6CE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71A9-2E63-44A7-85F4-97C4C0A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1045-32D3-4690-8257-4400BD8A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1E77-7186-4049-962A-124B4903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198-58FD-4305-90D3-C49F065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D97-C7A8-4B7D-AC1E-493339D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31F-4D44-43D0-AD3D-F887980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5EB-C489-4314-A563-CA66769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832-8F95-4374-8852-F1A5C74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B48-BBAC-4C17-A7FF-B2D7A10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E00-D535-4AF9-A24D-18E9A3D3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8A3-7D2B-45BB-AC88-2E9E30660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C37-227A-49A0-847E-4045FB1E350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EVER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, 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ЕГОДНЯ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торим внешность (части тела) и умения живо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ем о видах живо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чимся описывать животное по рисун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чимся писать и отгадывать загад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is is a lizard.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Рисунок 13" descr="http://i016.radikal.ru/0805/4e/97afc9989b9b.jpg"/>
          <p:cNvPicPr/>
          <p:nvPr/>
        </p:nvPicPr>
        <p:blipFill>
          <a:blip r:embed="rId1"/>
          <a:stretch/>
        </p:blipFill>
        <p:spPr>
          <a:xfrm>
            <a:off x="2143080" y="1981080"/>
            <a:ext cx="5357880" cy="408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nds of animals.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translat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ammal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млекопитающи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from their mother’s bodies, they drink their mother’s milk as a bab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ptiles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(рептилии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ot bodies with scales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шуя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ir babies are from the eg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sect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насекомые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small animals with six l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rd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(птицы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ot two wigs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ылья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ome of th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f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is is a liza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got a long 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walk, run and jump but it can’t tal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s it a lizar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it got a long t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t walk? Can it run? Can it tal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e lizard is a reptile, it has got a body with scales, its babies are from the eg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say as in the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rid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rd. It is from Australia. Its body and legs are brown and its head and neck is blue. It can run very fast, but it can’t fly. (an emu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lass is 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you for your wor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ina Z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5:20:40Z</dcterms:created>
  <dc:creator>home</dc:creator>
  <dc:description/>
  <dc:language>en-US</dc:language>
  <cp:lastModifiedBy>zav01</cp:lastModifiedBy>
  <dcterms:modified xsi:type="dcterms:W3CDTF">2011-03-28T13:59:42Z</dcterms:modified>
  <cp:revision>18</cp:revision>
  <dc:subject/>
  <dc:title>CLEVER ANIMALS</dc:title>
</cp:coreProperties>
</file>