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5714-916F-4A44-8F6A-0F488CDF24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80E3-6F87-4116-8BF0-088892DAE3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9B6-CDE1-4E08-A49B-151F6689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E6D-CB74-4A6C-95A0-FDB4DF18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AE5-A485-494A-9137-9798C94E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A85-EFAF-4299-A6CC-099D0C18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4C0-EAE6-4A82-9E53-5AA81398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55D-639F-41BD-B325-B9D325D8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F5E-FF49-433C-8AAB-686E1FAA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169-AD15-4409-B74E-007B8875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6C2-26F2-45C7-A50C-2B1D204A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6AA-27AF-4078-899F-A8099697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D31-9F62-45C8-9A4D-AC8223A0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A7C-4917-4716-B5E7-801D2D66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5254-0534-47CC-9740-448642AA80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igry-deti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52280" y="5029200"/>
            <a:ext cx="38862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редства и методы физкультурно-оздоровительных занятий с детьми младшего школьного возраста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о: Кляузовой В.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76320"/>
            <a:ext cx="31240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личное здоровье, крепкое и закаленное тело, сильная воля, формируемые в процессе занятий физической культурой и спортом, являются хорошей основой для интеллектуального и умственного развития человек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slide0526_image037"/>
          <p:cNvPicPr/>
          <p:nvPr/>
        </p:nvPicPr>
        <p:blipFill>
          <a:blip r:embed="rId1"/>
          <a:stretch/>
        </p:blipFill>
        <p:spPr>
          <a:xfrm>
            <a:off x="3657600" y="3695760"/>
            <a:ext cx="3529080" cy="26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slushbi3"/>
          <p:cNvPicPr/>
          <p:nvPr/>
        </p:nvPicPr>
        <p:blipFill>
          <a:blip r:embed="rId2"/>
          <a:stretch/>
        </p:blipFill>
        <p:spPr>
          <a:xfrm>
            <a:off x="4495680" y="152280"/>
            <a:ext cx="4465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" y="304560"/>
            <a:ext cx="41702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Физкультурно-оздоровительная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ФОД) - многофакторная система реализации природных способностей и адаптационных возможностей организма ребенка на основе активизации целенаправленной мышечной деятельности. Задачами ФОД в режиме образовательной деятельности любых учреждений образования являются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Задачи :</a:t>
            </a:r>
            <a:r>
              <a:rPr b="1" i="1" lang="ru-RU" sz="17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укрепление здоровья, правильное физическое развитие, повышение работоспособности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оспитание основных двигательных, волевых качеств и формирование необходимых навыков и умений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формирование положительной мотивации к занятиям физической культурой и спортом, в том числе самостоятельно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zdsbtehnol"/>
          <p:cNvPicPr/>
          <p:nvPr/>
        </p:nvPicPr>
        <p:blipFill>
          <a:blip r:embed="rId1"/>
          <a:stretch/>
        </p:blipFill>
        <p:spPr>
          <a:xfrm>
            <a:off x="4427640" y="3657600"/>
            <a:ext cx="4346640" cy="289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257"/>
          <p:cNvPicPr/>
          <p:nvPr/>
        </p:nvPicPr>
        <p:blipFill>
          <a:blip r:embed="rId2"/>
          <a:stretch/>
        </p:blipFill>
        <p:spPr>
          <a:xfrm>
            <a:off x="3962520" y="152280"/>
            <a:ext cx="5181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9c2d1"/>
                </a:solidFill>
                <a:latin typeface="Arial"/>
              </a:rPr>
              <a:t>Средствами и методами физического воспитания и физкультурно-оздоровительных занятий с детьми младшего школьного возраста являются:</a:t>
            </a:r>
            <a:endParaRPr b="0" lang="en-US" sz="2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371600"/>
            <a:ext cx="3962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ронтальный метод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 индивидуальных зан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 дополнительных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 станционных зан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уговой метод занят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5"/>
          <p:cNvPicPr/>
          <p:nvPr/>
        </p:nvPicPr>
        <p:blipFill>
          <a:blip r:embed="rId1"/>
          <a:stretch/>
        </p:blipFill>
        <p:spPr>
          <a:xfrm>
            <a:off x="5638680" y="155736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SC_0690_800x800"/>
          <p:cNvPicPr/>
          <p:nvPr/>
        </p:nvPicPr>
        <p:blipFill>
          <a:blip r:embed="rId2"/>
          <a:stretch/>
        </p:blipFill>
        <p:spPr>
          <a:xfrm>
            <a:off x="4572000" y="4127400"/>
            <a:ext cx="4114800" cy="273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ttachment32"/>
          <p:cNvPicPr/>
          <p:nvPr/>
        </p:nvPicPr>
        <p:blipFill>
          <a:blip r:embed="rId3"/>
          <a:stretch/>
        </p:blipFill>
        <p:spPr>
          <a:xfrm>
            <a:off x="990720" y="44956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2d1"/>
                </a:solidFill>
                <a:latin typeface="Arial"/>
              </a:rPr>
              <a:t>Средства и методы физического воспитания</a:t>
            </a:r>
            <a:endParaRPr b="0" lang="en-US" sz="28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1523880"/>
            <a:ext cx="5029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жедневные занятия гигиенической гимнастик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ренняя гигиеническая гимнастика (зарядка) или зарядка до уро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культминутки или физкультпау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мнастика перед сн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ушные ван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0590451349"/>
          <p:cNvPicPr/>
          <p:nvPr/>
        </p:nvPicPr>
        <p:blipFill>
          <a:blip r:embed="rId1"/>
          <a:stretch/>
        </p:blipFill>
        <p:spPr>
          <a:xfrm>
            <a:off x="228600" y="4114800"/>
            <a:ext cx="323064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346139007"/>
          <p:cNvPicPr/>
          <p:nvPr/>
        </p:nvPicPr>
        <p:blipFill>
          <a:blip r:embed="rId2"/>
          <a:stretch/>
        </p:blipFill>
        <p:spPr>
          <a:xfrm>
            <a:off x="228600" y="1523880"/>
            <a:ext cx="3274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но-оздоровительная рабо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 учащимися в начальных школах, особенно в школах полного дня, приобретает важное значение в связи с вовлечением школьников в организованную двигательно-оздоровительную деятельность. Она может включать подвижные и спортивные игры, несложные спортивные упражнения, занятия со спортивным инвентарем,  на специально оборудованных площадках, прогулки на свежем воздухе и т. 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mer-f002"/>
          <p:cNvPicPr/>
          <p:nvPr/>
        </p:nvPicPr>
        <p:blipFill>
          <a:blip r:embed="rId1"/>
          <a:stretch/>
        </p:blipFill>
        <p:spPr>
          <a:xfrm>
            <a:off x="4838760" y="1901880"/>
            <a:ext cx="4305240" cy="24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ac5609480b258d262b775c87f4966812"/>
          <p:cNvPicPr/>
          <p:nvPr/>
        </p:nvPicPr>
        <p:blipFill>
          <a:blip r:embed="rId2"/>
          <a:stretch/>
        </p:blipFill>
        <p:spPr>
          <a:xfrm>
            <a:off x="125280" y="2251080"/>
            <a:ext cx="3248280" cy="205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slushbi3"/>
          <p:cNvPicPr/>
          <p:nvPr/>
        </p:nvPicPr>
        <p:blipFill>
          <a:blip r:embed="rId3"/>
          <a:stretch/>
        </p:blipFill>
        <p:spPr>
          <a:xfrm>
            <a:off x="2133720" y="3851280"/>
            <a:ext cx="4119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9c2d1"/>
                </a:solidFill>
                <a:latin typeface="Arial"/>
              </a:rPr>
              <a:t>Движение – жизнь!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b_5133e98f448d92a"/>
          <p:cNvPicPr/>
          <p:nvPr/>
        </p:nvPicPr>
        <p:blipFill>
          <a:blip r:embed="rId1"/>
          <a:stretch/>
        </p:blipFill>
        <p:spPr>
          <a:xfrm>
            <a:off x="1066680" y="1295280"/>
            <a:ext cx="7091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43:42Z</dcterms:created>
  <dc:creator>Home</dc:creator>
  <dc:description/>
  <dc:language>en-US</dc:language>
  <cp:lastModifiedBy>Veronika</cp:lastModifiedBy>
  <dcterms:modified xsi:type="dcterms:W3CDTF">2013-05-11T08:34:0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