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D5AE-BC78-489E-8C31-303889DD92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2A80-F7E0-4347-8121-C855118567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BA4-4636-46B9-95A1-7D95808B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3F5-B13F-4BED-ACCE-0189BEA1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A69-DD23-4039-876E-DB07A95B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C78-7630-489A-8189-ECC61E07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7414-952E-4796-AFA8-DA6C61A8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AC7-DC46-44F2-9405-6898146A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EC5-D358-429D-9FEA-8183C82F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3F9-9C02-4DF6-83F9-359A3918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3C79-37F0-42D6-8D89-24492CF4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B688-173D-4D2D-A842-B2F6C31A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064-6CFB-411F-9005-8BAEDFD3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D4F-08C9-410C-8A0C-BA8EB690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7937-DC71-4D26-A1D9-F9580233FD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igry-deti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52280" y="5029200"/>
            <a:ext cx="38862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редства и методы физкультурно-оздоровительных занятий с детьми младшего школьного возраста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лено: Кляузовой В.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76320"/>
            <a:ext cx="312408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личное здоровье, крепкое и закаленное тело, сильная воля, формируемые в процессе занятий физической культурой и спортом, являются хорошей основой для интеллектуального и умственного развития человек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slide0526_image037"/>
          <p:cNvPicPr/>
          <p:nvPr/>
        </p:nvPicPr>
        <p:blipFill>
          <a:blip r:embed="rId1"/>
          <a:stretch/>
        </p:blipFill>
        <p:spPr>
          <a:xfrm>
            <a:off x="3657600" y="3695760"/>
            <a:ext cx="3529080" cy="268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slushbi3"/>
          <p:cNvPicPr/>
          <p:nvPr/>
        </p:nvPicPr>
        <p:blipFill>
          <a:blip r:embed="rId2"/>
          <a:stretch/>
        </p:blipFill>
        <p:spPr>
          <a:xfrm>
            <a:off x="4495680" y="152280"/>
            <a:ext cx="44658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920" y="304560"/>
            <a:ext cx="41702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Физкультурно-оздоровительная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(ФОД) - многофакторная система реализации природных способностей и адаптационных возможностей организма ребенка на основе активизации целенаправленной мышечной деятельности. Задачами ФОД в режиме образовательной деятельности любых учреждений образования являются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Задачи :</a:t>
            </a:r>
            <a:r>
              <a:rPr b="1" i="1" lang="ru-RU" sz="17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укрепление здоровья, правильное физическое развитие, повышение работоспособности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оспитание основных двигательных, волевых качеств и формирование необходимых навыков и умений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формирование положительной мотивации к занятиям физической культурой и спортом, в том числе самостоятельно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zdsbtehnol"/>
          <p:cNvPicPr/>
          <p:nvPr/>
        </p:nvPicPr>
        <p:blipFill>
          <a:blip r:embed="rId1"/>
          <a:stretch/>
        </p:blipFill>
        <p:spPr>
          <a:xfrm>
            <a:off x="4427640" y="3657600"/>
            <a:ext cx="4346640" cy="2894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257"/>
          <p:cNvPicPr/>
          <p:nvPr/>
        </p:nvPicPr>
        <p:blipFill>
          <a:blip r:embed="rId2"/>
          <a:stretch/>
        </p:blipFill>
        <p:spPr>
          <a:xfrm>
            <a:off x="3962520" y="152280"/>
            <a:ext cx="51814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9c2d1"/>
                </a:solidFill>
                <a:latin typeface="Arial"/>
              </a:rPr>
              <a:t>Средствами и методами физического воспитания и физкультурно-оздоровительных занятий с детьми младшего школьного возраста являются:</a:t>
            </a:r>
            <a:endParaRPr b="0" lang="en-US" sz="2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1371600"/>
            <a:ext cx="3962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ронтальный метод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од индивидуальных занят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од дополнительных упражн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од станционных занят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уговой метод занят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5"/>
          <p:cNvPicPr/>
          <p:nvPr/>
        </p:nvPicPr>
        <p:blipFill>
          <a:blip r:embed="rId1"/>
          <a:stretch/>
        </p:blipFill>
        <p:spPr>
          <a:xfrm>
            <a:off x="5638680" y="155736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DSC_0690_800x800"/>
          <p:cNvPicPr/>
          <p:nvPr/>
        </p:nvPicPr>
        <p:blipFill>
          <a:blip r:embed="rId2"/>
          <a:stretch/>
        </p:blipFill>
        <p:spPr>
          <a:xfrm>
            <a:off x="4572000" y="4127400"/>
            <a:ext cx="4114800" cy="273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attachment32"/>
          <p:cNvPicPr/>
          <p:nvPr/>
        </p:nvPicPr>
        <p:blipFill>
          <a:blip r:embed="rId3"/>
          <a:stretch/>
        </p:blipFill>
        <p:spPr>
          <a:xfrm>
            <a:off x="990720" y="449568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c2d1"/>
                </a:solidFill>
                <a:latin typeface="Arial"/>
              </a:rPr>
              <a:t>Средства и методы физического воспитания</a:t>
            </a:r>
            <a:endParaRPr b="0" lang="en-US" sz="28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1523880"/>
            <a:ext cx="5029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жедневные занятия гигиенической гимнастико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тренняя гигиеническая гимнастика (зарядка) или зарядка до уро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зкультминутки или физкультпауз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мнастика перед сн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алив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здушные ванн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0590451349"/>
          <p:cNvPicPr/>
          <p:nvPr/>
        </p:nvPicPr>
        <p:blipFill>
          <a:blip r:embed="rId1"/>
          <a:stretch/>
        </p:blipFill>
        <p:spPr>
          <a:xfrm>
            <a:off x="228600" y="4114800"/>
            <a:ext cx="3230640" cy="257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1346139007"/>
          <p:cNvPicPr/>
          <p:nvPr/>
        </p:nvPicPr>
        <p:blipFill>
          <a:blip r:embed="rId2"/>
          <a:stretch/>
        </p:blipFill>
        <p:spPr>
          <a:xfrm>
            <a:off x="228600" y="1523880"/>
            <a:ext cx="32749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культурно-оздоровительная работ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 учащимися в начальных школах, особенно в школах полного дня, приобретает важное значение в связи с вовлечением школьников в организованную двигательно-оздоровительную деятельность. Она может включать подвижные и спортивные игры, несложные спортивные упражнения, занятия со спортивным инвентарем,  на специально оборудованных площадках, прогулки на свежем воздухе и т. 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4" descr="mer-f002"/>
          <p:cNvPicPr/>
          <p:nvPr/>
        </p:nvPicPr>
        <p:blipFill>
          <a:blip r:embed="rId1"/>
          <a:stretch/>
        </p:blipFill>
        <p:spPr>
          <a:xfrm>
            <a:off x="4838760" y="1901880"/>
            <a:ext cx="4305240" cy="242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ac5609480b258d262b775c87f4966812"/>
          <p:cNvPicPr/>
          <p:nvPr/>
        </p:nvPicPr>
        <p:blipFill>
          <a:blip r:embed="rId2"/>
          <a:stretch/>
        </p:blipFill>
        <p:spPr>
          <a:xfrm>
            <a:off x="125280" y="2251080"/>
            <a:ext cx="3248280" cy="2050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slushbi3"/>
          <p:cNvPicPr/>
          <p:nvPr/>
        </p:nvPicPr>
        <p:blipFill>
          <a:blip r:embed="rId3"/>
          <a:stretch/>
        </p:blipFill>
        <p:spPr>
          <a:xfrm>
            <a:off x="2133720" y="3851280"/>
            <a:ext cx="4119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9c2d1"/>
                </a:solidFill>
                <a:latin typeface="Arial"/>
              </a:rPr>
              <a:t>Движение – жизнь!</a:t>
            </a: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b_5133e98f448d92a"/>
          <p:cNvPicPr/>
          <p:nvPr/>
        </p:nvPicPr>
        <p:blipFill>
          <a:blip r:embed="rId1"/>
          <a:stretch/>
        </p:blipFill>
        <p:spPr>
          <a:xfrm>
            <a:off x="1066680" y="1295280"/>
            <a:ext cx="7091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06:43:42Z</dcterms:created>
  <dc:creator>Home</dc:creator>
  <dc:description/>
  <dc:language>en-US</dc:language>
  <cp:lastModifiedBy>Veronika</cp:lastModifiedBy>
  <dcterms:modified xsi:type="dcterms:W3CDTF">2013-05-11T08:34:0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