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A7C-AFBF-4346-BEB1-72FA1A79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689-ED1D-4F71-82A5-DD478BAD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71C-6638-4250-9E41-22CEE962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D8A-2BE5-4B6C-B08D-5C93A9D0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72E-8360-4C9B-A11E-C43423F8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2CA-D929-4DB9-B107-5E625F32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86E-2FD7-42DB-BE8D-25BF0A59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756-BEDE-4142-B36F-8D6A69D5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3D2-40ED-409D-8603-6BE012F3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0F2-F205-4AD3-AFB7-509D03D4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BBE-D521-49C6-A575-782BF7A9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FA8-3E60-4DDE-BC1C-0127D261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9875-6F3A-46B5-A0DF-75B4B0200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202360" y="115920"/>
            <a:ext cx="390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Деревен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227640" y="5516640"/>
            <a:ext cx="28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алевина Валерия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3 В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201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50920" y="189000"/>
            <a:ext cx="316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Каждый гость, который посетил музей, оставляет памятную запись в большой книге гостей, пишет свои пожелания, делится впечатлениями. В этой книге осталась и моя запись. Когда-нибудь она тоже станет экспонат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5237280" y="1714680"/>
            <a:ext cx="3906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Спасиб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108000" y="209520"/>
            <a:ext cx="68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Все лето я гостила у бабушки и дедушки в деревне Шотов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Она стоит на берегу самой красивой речки Пинег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Я очень люблю нашу деревню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5" descr=""/>
          <p:cNvPicPr/>
          <p:nvPr/>
        </p:nvPicPr>
        <p:blipFill>
          <a:blip r:embed="rId2"/>
          <a:stretch/>
        </p:blipFill>
        <p:spPr>
          <a:xfrm>
            <a:off x="154080" y="1606680"/>
            <a:ext cx="3697200" cy="23270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"/>
          <p:cNvPicPr/>
          <p:nvPr/>
        </p:nvPicPr>
        <p:blipFill>
          <a:blip r:embed="rId3"/>
          <a:stretch/>
        </p:blipFill>
        <p:spPr>
          <a:xfrm>
            <a:off x="4211640" y="1197000"/>
            <a:ext cx="274788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7" descr=""/>
          <p:cNvPicPr/>
          <p:nvPr/>
        </p:nvPicPr>
        <p:blipFill>
          <a:blip r:embed="rId4"/>
          <a:stretch/>
        </p:blipFill>
        <p:spPr>
          <a:xfrm>
            <a:off x="4788000" y="3274920"/>
            <a:ext cx="3012840" cy="19512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"/>
          <p:cNvPicPr/>
          <p:nvPr/>
        </p:nvPicPr>
        <p:blipFill>
          <a:blip r:embed="rId5"/>
          <a:stretch/>
        </p:blipFill>
        <p:spPr>
          <a:xfrm>
            <a:off x="920880" y="4233960"/>
            <a:ext cx="365112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08000" y="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В Шотовой есть краеведческий музей.  Он был создан силами жителей деревни, все экспонаты они собрали сами. Музей помогает нам увидеть и понять, как  жили наши прабабушки и прадед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6" descr=""/>
          <p:cNvPicPr/>
          <p:nvPr/>
        </p:nvPicPr>
        <p:blipFill>
          <a:blip r:embed="rId2"/>
          <a:stretch/>
        </p:blipFill>
        <p:spPr>
          <a:xfrm>
            <a:off x="112680" y="1327320"/>
            <a:ext cx="4243320" cy="31813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0" descr=""/>
          <p:cNvPicPr/>
          <p:nvPr/>
        </p:nvPicPr>
        <p:blipFill>
          <a:blip r:embed="rId3"/>
          <a:srcRect l="0" t="0" r="0" b="11833"/>
          <a:stretch/>
        </p:blipFill>
        <p:spPr>
          <a:xfrm>
            <a:off x="692280" y="4032360"/>
            <a:ext cx="4095720" cy="2709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9" descr=""/>
          <p:cNvPicPr/>
          <p:nvPr/>
        </p:nvPicPr>
        <p:blipFill>
          <a:blip r:embed="rId4"/>
          <a:srcRect l="6434" t="0" r="21494" b="0"/>
          <a:stretch/>
        </p:blipFill>
        <p:spPr>
          <a:xfrm>
            <a:off x="3727440" y="1052640"/>
            <a:ext cx="4013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"/>
          <p:cNvPicPr/>
          <p:nvPr/>
        </p:nvPicPr>
        <p:blipFill>
          <a:blip r:embed="rId2"/>
          <a:stretch/>
        </p:blipFill>
        <p:spPr>
          <a:xfrm>
            <a:off x="2684520" y="3068640"/>
            <a:ext cx="4551480" cy="34146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"/>
          <p:cNvPicPr/>
          <p:nvPr/>
        </p:nvPicPr>
        <p:blipFill>
          <a:blip r:embed="rId3"/>
          <a:stretch/>
        </p:blipFill>
        <p:spPr>
          <a:xfrm>
            <a:off x="3780000" y="1890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0"/>
          <p:cNvSpPr/>
          <p:nvPr/>
        </p:nvSpPr>
        <p:spPr>
          <a:xfrm>
            <a:off x="179280" y="3645000"/>
            <a:ext cx="23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В музее мы можем увидеть и даже потрогать деревянную  и глиняную посуду, сундуки,  предметы меб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1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"/>
          <p:cNvPicPr/>
          <p:nvPr/>
        </p:nvPicPr>
        <p:blipFill>
          <a:blip r:embed="rId2"/>
          <a:stretch/>
        </p:blipFill>
        <p:spPr>
          <a:xfrm>
            <a:off x="204840" y="171360"/>
            <a:ext cx="6743520" cy="50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14200" y="5643720"/>
            <a:ext cx="67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Есть  деревянная кровать и даже зыбка – это маленькая деревянная колыбель для младен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6984720" cy="5238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179280" y="44280"/>
            <a:ext cx="83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Вот за такой партой учился мой дедушка. Писали тогда чернилами. А чтобы не наделать клякс, пользовались промокашками – бумагой, которая хорошо впитывала чернила. И учебники отличаются от современных, даже назв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"/>
          <p:cNvPicPr/>
          <p:nvPr/>
        </p:nvPicPr>
        <p:blipFill>
          <a:blip r:embed="rId2"/>
          <a:stretch/>
        </p:blipFill>
        <p:spPr>
          <a:xfrm>
            <a:off x="227160" y="1015920"/>
            <a:ext cx="7153200" cy="5365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179280" y="9360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Больше всего мне нравятся цветные дорожки. В музее есть  ткацкий станок, на котором  и получается такая красо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5865840" y="162000"/>
            <a:ext cx="17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А еще мое внимание привлек старинный пинежский костюм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158760" y="189000"/>
            <a:ext cx="5627520" cy="3168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"/>
          <p:cNvPicPr/>
          <p:nvPr/>
        </p:nvPicPr>
        <p:blipFill>
          <a:blip r:embed="rId3"/>
          <a:stretch/>
        </p:blipFill>
        <p:spPr>
          <a:xfrm>
            <a:off x="179280" y="3457440"/>
            <a:ext cx="5688000" cy="3203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5940360" y="2494080"/>
            <a:ext cx="165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В таких сарафанах, рубахах и платках ходили наши пра- и пра-прабабушки. А моя мама, когда в школьные годы ходила в хор,  в таком костюме выступала на сце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9" descr=""/>
          <p:cNvPicPr/>
          <p:nvPr/>
        </p:nvPicPr>
        <p:blipFill>
          <a:blip r:embed="rId2"/>
          <a:stretch/>
        </p:blipFill>
        <p:spPr>
          <a:xfrm>
            <a:off x="174600" y="1330200"/>
            <a:ext cx="7566120" cy="42595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0"/>
          <p:cNvSpPr/>
          <p:nvPr/>
        </p:nvSpPr>
        <p:spPr>
          <a:xfrm>
            <a:off x="649440" y="26028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Когда я увидела среди экспонатов  такие саночки, мне очень захотелось  прокатиться  на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9T09:53:53Z</dcterms:created>
  <dc:creator>user</dc:creator>
  <dc:description/>
  <dc:language>en-US</dc:language>
  <cp:lastModifiedBy>Admin</cp:lastModifiedBy>
  <dcterms:modified xsi:type="dcterms:W3CDTF">2015-09-30T17:23:08Z</dcterms:modified>
  <cp:revision>30</cp:revision>
  <dc:subject/>
  <dc:title>Презентация PowerPoint</dc:title>
</cp:coreProperties>
</file>