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47.png" ContentType="image/png"/>
  <Override PartName="/ppt/media/image46.jpeg" ContentType="image/jpeg"/>
  <Override PartName="/ppt/media/image45.png" ContentType="image/png"/>
  <Override PartName="/ppt/media/image4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image18.jpeg" ContentType="image/jpeg"/>
  <Override PartName="/ppt/media/image22.jpeg" ContentType="image/jpeg"/>
  <Override PartName="/ppt/media/image21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50.jpeg" ContentType="image/jpeg"/>
  <Override PartName="/ppt/media/image52.png" ContentType="image/pn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55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E9B-74AA-472A-A20B-940AE623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566-843A-46B5-A227-244A1121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F4C-AC9B-46CD-872E-87CCBF10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CBE-ABF8-4192-8647-9BF04FD1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1A3-0D8A-4AD8-8163-3B8541EB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06A-3737-4706-8FC9-317031E2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B3A-FA7A-4484-A94A-DCBEB56E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1BD-7596-49DA-83F2-3D192783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699-7E87-4E42-96A9-8AF36770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F0F-F0B1-4E85-B938-70872E60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E80-77D9-4864-ACCB-A0E62B6F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BBC-C7FB-49F0-9E96-9445D911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8656-CD0A-4F19-A2B1-D3350D516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3280" y="1197000"/>
            <a:ext cx="648180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ышам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 диких 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их животных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aac1f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1054080"/>
            <a:ext cx="302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ЗЛЯ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ержать их не могу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я трава помят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ыгрались на лугу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вые КОЗЛЯ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озлята"/>
          <p:cNvPicPr/>
          <p:nvPr/>
        </p:nvPicPr>
        <p:blipFill>
          <a:blip r:embed="rId1"/>
          <a:stretch/>
        </p:blipFill>
        <p:spPr>
          <a:xfrm>
            <a:off x="324000" y="0"/>
            <a:ext cx="4944960" cy="6597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1233524093_utenok" descr="Утенок"/>
          <p:cNvPicPr/>
          <p:nvPr/>
        </p:nvPicPr>
        <p:blipFill>
          <a:blip r:embed="rId2"/>
          <a:stretch/>
        </p:blipFill>
        <p:spPr>
          <a:xfrm>
            <a:off x="324000" y="981000"/>
            <a:ext cx="5256000" cy="554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51640" y="1459800"/>
            <a:ext cx="2808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ут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пруд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Храбрый наш утёнок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лыша зовёт вода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— пловец с пелён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1750680"/>
            <a:ext cx="2952720" cy="33858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у мамы на виду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выркается в пруду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те-ка, ребят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лавают УТ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Утята"/>
          <p:cNvPicPr/>
          <p:nvPr/>
        </p:nvPicPr>
        <p:blipFill>
          <a:blip r:embed="rId1"/>
          <a:stretch/>
        </p:blipFill>
        <p:spPr>
          <a:xfrm>
            <a:off x="324000" y="692280"/>
            <a:ext cx="554328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ЫПЛ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1233527218_cyplenok" descr="Цыпленок"/>
          <p:cNvPicPr/>
          <p:nvPr/>
        </p:nvPicPr>
        <p:blipFill>
          <a:blip r:embed="rId1"/>
          <a:stretch/>
        </p:blipFill>
        <p:spPr>
          <a:xfrm>
            <a:off x="611280" y="620640"/>
            <a:ext cx="5616360" cy="583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372360" y="1467360"/>
            <a:ext cx="223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ыплёнок мал ещё пок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быстро подрастает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сам находит червяк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ам его съ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ОСЁНОК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1233527328_porosenok" descr="Поросенок"/>
          <p:cNvPicPr/>
          <p:nvPr/>
        </p:nvPicPr>
        <p:blipFill>
          <a:blip r:embed="rId1"/>
          <a:stretch/>
        </p:blipFill>
        <p:spPr>
          <a:xfrm>
            <a:off x="324000" y="692280"/>
            <a:ext cx="4752720" cy="5473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65680" y="392904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4194720"/>
            <a:ext cx="26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1628640"/>
            <a:ext cx="3311640" cy="448092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дко жмурится спросонок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умытый поросёнок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айте завтрак мой скорей!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обольше овощ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С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874800"/>
            <a:ext cx="237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ром, маму чтоб позват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юкает спросонок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ит жёлуди жевать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рый ПОРОСЁ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Поросенок (2)"/>
          <p:cNvPicPr/>
          <p:nvPr/>
        </p:nvPicPr>
        <p:blipFill>
          <a:blip r:embed="rId1"/>
          <a:stretch/>
        </p:blipFill>
        <p:spPr>
          <a:xfrm>
            <a:off x="611280" y="836640"/>
            <a:ext cx="5113080" cy="561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435280" y="1125000"/>
            <a:ext cx="3097080" cy="45133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РБЛЮЖ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 выносливее нет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ем колючки на обед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ды подолгу не прошу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яжёлый груз в песках ношу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Верблюжонок"/>
          <p:cNvPicPr/>
          <p:nvPr/>
        </p:nvPicPr>
        <p:blipFill>
          <a:blip r:embed="rId1"/>
          <a:stretch/>
        </p:blipFill>
        <p:spPr>
          <a:xfrm>
            <a:off x="324000" y="333360"/>
            <a:ext cx="504000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ЫШ Л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35640" y="1787400"/>
            <a:ext cx="33843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и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ышка-лам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не верь, что я упрям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грай со мною вместе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арю на шарфик шерсти.</a:t>
            </a: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Малыш Лама"/>
          <p:cNvPicPr/>
          <p:nvPr/>
        </p:nvPicPr>
        <p:blipFill>
          <a:blip r:embed="rId1"/>
          <a:stretch/>
        </p:blipFill>
        <p:spPr>
          <a:xfrm>
            <a:off x="611280" y="907920"/>
            <a:ext cx="5040360" cy="504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66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УШКАН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240753478_tushkanchik" descr="Тушканчик"/>
          <p:cNvPicPr/>
          <p:nvPr/>
        </p:nvPicPr>
        <p:blipFill>
          <a:blip r:embed="rId1"/>
          <a:stretch/>
        </p:blipFill>
        <p:spPr>
          <a:xfrm>
            <a:off x="611280" y="907920"/>
            <a:ext cx="5064120" cy="5523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894280" y="1358640"/>
            <a:ext cx="2494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ушканчик в норку уволок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ёный сочный стебелёк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ь пища влагою полн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а и вовсе не нуж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435280" y="836280"/>
            <a:ext cx="3097080" cy="52563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МЯ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ле встретится нечаст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мячок — малыш щекасты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ит спрятаться в нор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ихонько грызть орех </a:t>
            </a: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Хомячок"/>
          <p:cNvPicPr/>
          <p:nvPr/>
        </p:nvPicPr>
        <p:blipFill>
          <a:blip r:embed="rId1"/>
          <a:stretch/>
        </p:blipFill>
        <p:spPr>
          <a:xfrm>
            <a:off x="0" y="0"/>
            <a:ext cx="5435640" cy="68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233392275_gusenok" descr="Гусенок"/>
          <p:cNvPicPr/>
          <p:nvPr/>
        </p:nvPicPr>
        <p:blipFill>
          <a:blip r:embed="rId1"/>
          <a:stretch/>
        </p:blipFill>
        <p:spPr>
          <a:xfrm>
            <a:off x="468360" y="765000"/>
            <a:ext cx="5832360" cy="609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16720" y="1772280"/>
            <a:ext cx="208764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пока — не важный гусь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— гусён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учус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т кого бы ущипнуть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оть немножко,                         хоть чуть-чу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8b049"/>
              </a:gs>
              <a:gs pos="100000">
                <a:srgbClr val="fc9fcb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СТОЧКА  - МАЛ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Ласточка-малышка"/>
          <p:cNvPicPr/>
          <p:nvPr/>
        </p:nvPicPr>
        <p:blipFill>
          <a:blip r:embed="rId1"/>
          <a:stretch/>
        </p:blipFill>
        <p:spPr>
          <a:xfrm>
            <a:off x="684360" y="1052640"/>
            <a:ext cx="4967280" cy="5805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40360" y="1557360"/>
            <a:ext cx="28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крепившись на лету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сточки-малышк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жно трели заведут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в рядком на кры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РОБУШ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1239657013_vorobushek" descr="Воробушек"/>
          <p:cNvPicPr/>
          <p:nvPr/>
        </p:nvPicPr>
        <p:blipFill>
          <a:blip r:embed="rId2"/>
          <a:stretch/>
        </p:blipFill>
        <p:spPr>
          <a:xfrm>
            <a:off x="1116000" y="1844640"/>
            <a:ext cx="4013280" cy="4437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2720" y="1178280"/>
            <a:ext cx="24462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рослым стать довольно просто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гнезда я прыгну в воздух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не страшно мне ничуть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не падаю — леч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ac1f4"/>
              </a:gs>
              <a:gs pos="100000">
                <a:srgbClr val="abf3c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Т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239310537_krotenok" descr="Кротенок"/>
          <p:cNvPicPr/>
          <p:nvPr/>
        </p:nvPicPr>
        <p:blipFill>
          <a:blip r:embed="rId1"/>
          <a:stretch/>
        </p:blipFill>
        <p:spPr>
          <a:xfrm>
            <a:off x="395280" y="836640"/>
            <a:ext cx="4897440" cy="561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292720" y="1569960"/>
            <a:ext cx="3095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— кротё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землёю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ходы-тоннели рою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всегда я, правда, знаю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ту ли сторону копаю?</a:t>
            </a:r>
            <a:br>
              <a:rPr sz="2400"/>
            </a:b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БР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239048976_bobrenok" descr="Бобренок"/>
          <p:cNvPicPr/>
          <p:nvPr/>
        </p:nvPicPr>
        <p:blipFill>
          <a:blip r:embed="rId1"/>
          <a:stretch/>
        </p:blipFill>
        <p:spPr>
          <a:xfrm>
            <a:off x="324000" y="981000"/>
            <a:ext cx="5256000" cy="547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80000" y="2220480"/>
            <a:ext cx="3024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— бобрёнок молодой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ход в мой домик — под водой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грызаю ветки ровно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нируюсь делать брё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З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1920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1237580579_khorovod-kozka-1" descr="Козка"/>
          <p:cNvPicPr/>
          <p:nvPr/>
        </p:nvPicPr>
        <p:blipFill>
          <a:blip r:embed="rId1"/>
          <a:stretch/>
        </p:blipFill>
        <p:spPr>
          <a:xfrm>
            <a:off x="395280" y="836640"/>
            <a:ext cx="4392720" cy="5545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24320" y="899280"/>
            <a:ext cx="287676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а козка встал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 поскак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Чего козка ищет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Брусоче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На что ей брусочек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Серпок точ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На что ей серпок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Жито жать-коси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да козка хвостом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уда жито кусто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да козка рогом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уда жито стого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да козка ного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уда жито копно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1f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ЛИКАН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239655471_pelikanchik" descr="Пеликанчик"/>
          <p:cNvPicPr/>
          <p:nvPr/>
        </p:nvPicPr>
        <p:blipFill>
          <a:blip r:embed="rId1"/>
          <a:stretch/>
        </p:blipFill>
        <p:spPr>
          <a:xfrm>
            <a:off x="611280" y="981000"/>
            <a:ext cx="5035320" cy="5357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51640" y="1827000"/>
            <a:ext cx="2736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ликанчик неуклюж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ыбалке весь пром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уже почти простужен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припас рыбёшек впр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ыш фламин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1239559338_malysh-flamingo" descr="Малыш Фламинго"/>
          <p:cNvPicPr/>
          <p:nvPr/>
        </p:nvPicPr>
        <p:blipFill>
          <a:blip r:embed="rId2"/>
          <a:stretch/>
        </p:blipFill>
        <p:spPr>
          <a:xfrm>
            <a:off x="611280" y="1052640"/>
            <a:ext cx="4537080" cy="5006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651640" y="883800"/>
            <a:ext cx="266544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м я «птичье молочко»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сту за лето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у сам искать рачк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ловить креветок.</a:t>
            </a:r>
            <a:br>
              <a:rPr sz="2400"/>
            </a:br>
            <a:br>
              <a:rPr sz="24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кий ут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1641240"/>
            <a:ext cx="25192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— утёнок. Мне по нраву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ь болотной тины плавать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нимаюсь рыбной ловл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юг лететь готовлюсь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Дикий утенок"/>
          <p:cNvPicPr/>
          <p:nvPr/>
        </p:nvPicPr>
        <p:blipFill>
          <a:blip r:embed="rId1"/>
          <a:stretch/>
        </p:blipFill>
        <p:spPr>
          <a:xfrm>
            <a:off x="539640" y="692280"/>
            <a:ext cx="5472360" cy="57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9d79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БИК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волны невдалек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ясь неспор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бик ножкой на песк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ет узоры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1239535223_krabik" descr="Крабик"/>
          <p:cNvPicPr/>
          <p:nvPr/>
        </p:nvPicPr>
        <p:blipFill>
          <a:blip r:embed="rId1"/>
          <a:stretch/>
        </p:blipFill>
        <p:spPr>
          <a:xfrm>
            <a:off x="3730680" y="692280"/>
            <a:ext cx="4944960" cy="5689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ской ко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239467551_morskojj-konek" descr="Морской конек"/>
          <p:cNvPicPr/>
          <p:nvPr/>
        </p:nvPicPr>
        <p:blipFill>
          <a:blip r:embed="rId1"/>
          <a:stretch/>
        </p:blipFill>
        <p:spPr>
          <a:xfrm>
            <a:off x="324000" y="765000"/>
            <a:ext cx="5327640" cy="583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724360" y="1271160"/>
            <a:ext cx="25927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похож я на коня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ейка, гривка у меня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есь какая-то ошибка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 на самом деле — ры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тёнка много дел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пки мыл, сметанку е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овру гонял клубо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пки в кухню привол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отенок"/>
          <p:cNvPicPr/>
          <p:nvPr/>
        </p:nvPicPr>
        <p:blipFill>
          <a:blip r:embed="rId2"/>
          <a:stretch/>
        </p:blipFill>
        <p:spPr>
          <a:xfrm>
            <a:off x="324000" y="449280"/>
            <a:ext cx="4681440" cy="6408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685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29d795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6360" y="1091160"/>
            <a:ext cx="2592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меня конюшня — д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сти меня овсом!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ва вьётся за спино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угонишься за мной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Лошадь"/>
          <p:cNvPicPr/>
          <p:nvPr/>
        </p:nvPicPr>
        <p:blipFill>
          <a:blip r:embed="rId1"/>
          <a:stretch/>
        </p:blipFill>
        <p:spPr>
          <a:xfrm>
            <a:off x="468360" y="765000"/>
            <a:ext cx="5256000" cy="54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1639440"/>
            <a:ext cx="280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</a:t>
            </a: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кай твердят, что я упря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ростоват немножко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бя в обиду я не дам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я защита — рожки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Баран"/>
          <p:cNvPicPr/>
          <p:nvPr/>
        </p:nvPicPr>
        <p:blipFill>
          <a:blip r:embed="rId2"/>
          <a:stretch/>
        </p:blipFill>
        <p:spPr>
          <a:xfrm>
            <a:off x="539640" y="836640"/>
            <a:ext cx="5184720" cy="57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ac1f4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1639800"/>
            <a:ext cx="28796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зеленеющем лугу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провести весь день могу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у тебя спрошу тайком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ветами пахнет молоко?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Корова"/>
          <p:cNvPicPr/>
          <p:nvPr/>
        </p:nvPicPr>
        <p:blipFill>
          <a:blip r:embed="rId1"/>
          <a:stretch/>
        </p:blipFill>
        <p:spPr>
          <a:xfrm>
            <a:off x="611280" y="836640"/>
            <a:ext cx="4895640" cy="54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505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ю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1364400"/>
            <a:ext cx="25923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занят с самого утр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та за заботой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ик птичьего двора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юк краснобороды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Индюк"/>
          <p:cNvPicPr/>
          <p:nvPr/>
        </p:nvPicPr>
        <p:blipFill>
          <a:blip r:embed="rId1"/>
          <a:stretch/>
        </p:blipFill>
        <p:spPr>
          <a:xfrm>
            <a:off x="324000" y="620640"/>
            <a:ext cx="5184720" cy="566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9d795"/>
              </a:gs>
              <a:gs pos="100000">
                <a:srgbClr val="fb643b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1913040"/>
            <a:ext cx="26636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ъев зерно, попив водички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снесла тебе яичко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нята теперь я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щу клювом пер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Курица"/>
          <p:cNvPicPr/>
          <p:nvPr/>
        </p:nvPicPr>
        <p:blipFill>
          <a:blip r:embed="rId1"/>
          <a:stretch/>
        </p:blipFill>
        <p:spPr>
          <a:xfrm>
            <a:off x="539640" y="836640"/>
            <a:ext cx="5400720" cy="54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1458720"/>
            <a:ext cx="29527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и день — влезает в драк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й петька-забия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зато разбудит в сро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детишек на урок.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Петух"/>
          <p:cNvPicPr/>
          <p:nvPr/>
        </p:nvPicPr>
        <p:blipFill>
          <a:blip r:embed="rId1"/>
          <a:stretch/>
        </p:blipFill>
        <p:spPr>
          <a:xfrm>
            <a:off x="611280" y="692280"/>
            <a:ext cx="4838760" cy="567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196848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с мой предок Древний Ри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готанием свои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сказал: «Сердитый гусь!»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шиплю, когда боюс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Гусь"/>
          <p:cNvPicPr/>
          <p:nvPr/>
        </p:nvPicPr>
        <p:blipFill>
          <a:blip r:embed="rId1"/>
          <a:stretch/>
        </p:blipFill>
        <p:spPr>
          <a:xfrm>
            <a:off x="611280" y="765000"/>
            <a:ext cx="4968720" cy="552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fb643b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2066760"/>
            <a:ext cx="295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до в заводи плывёт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ка, словно пароход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еницей корабл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ь утят спешат за 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Утка"/>
          <p:cNvPicPr/>
          <p:nvPr/>
        </p:nvPicPr>
        <p:blipFill>
          <a:blip r:embed="rId1"/>
          <a:stretch/>
        </p:blipFill>
        <p:spPr>
          <a:xfrm>
            <a:off x="755640" y="620640"/>
            <a:ext cx="5184720" cy="571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bf3c6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ac1f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1458360"/>
            <a:ext cx="252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ойди ко мне поближе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ыша я не обижу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грай со мной минутку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бодаюсь только в шутку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Коза"/>
          <p:cNvPicPr/>
          <p:nvPr/>
        </p:nvPicPr>
        <p:blipFill>
          <a:blip r:embed="rId1"/>
          <a:stretch/>
        </p:blipFill>
        <p:spPr>
          <a:xfrm>
            <a:off x="684360" y="620640"/>
            <a:ext cx="554328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рунду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1549440"/>
            <a:ext cx="28796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</a:t>
            </a: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за каждой щёчко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чу по мешочку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дом ношу без спешк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зиму орешки.</a:t>
            </a:r>
            <a:br>
              <a:rPr sz="2400"/>
            </a:b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Бурундучок"/>
          <p:cNvPicPr/>
          <p:nvPr/>
        </p:nvPicPr>
        <p:blipFill>
          <a:blip r:embed="rId1"/>
          <a:stretch/>
        </p:blipFill>
        <p:spPr>
          <a:xfrm>
            <a:off x="826920" y="836640"/>
            <a:ext cx="504036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505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ЩЕН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комьтесь со щенком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ранять он хочет до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в округе знаю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так громко ла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233393100_shhenok" descr="Щенок"/>
          <p:cNvPicPr/>
          <p:nvPr/>
        </p:nvPicPr>
        <p:blipFill>
          <a:blip r:embed="rId1"/>
          <a:stretch/>
        </p:blipFill>
        <p:spPr>
          <a:xfrm>
            <a:off x="3851280" y="260280"/>
            <a:ext cx="489744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н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1365120"/>
            <a:ext cx="2879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, что у енотик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олят животик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, что может стать едо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учейке еноты моют.</a:t>
            </a:r>
            <a:br>
              <a:rPr sz="2400"/>
            </a:b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Енотик"/>
          <p:cNvPicPr/>
          <p:nvPr/>
        </p:nvPicPr>
        <p:blipFill>
          <a:blip r:embed="rId2"/>
          <a:stretch/>
        </p:blipFill>
        <p:spPr>
          <a:xfrm>
            <a:off x="826920" y="620640"/>
            <a:ext cx="5113440" cy="5661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веж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1638360"/>
            <a:ext cx="280836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тавучий, как смол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стый, как бочонок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ёд, что спрятала пчел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щет МЕДВЕЖО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Медвежонок"/>
          <p:cNvPicPr/>
          <p:nvPr/>
        </p:nvPicPr>
        <p:blipFill>
          <a:blip r:embed="rId2"/>
          <a:stretch/>
        </p:blipFill>
        <p:spPr>
          <a:xfrm>
            <a:off x="468360" y="620640"/>
            <a:ext cx="5327640" cy="5639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опар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1458360"/>
            <a:ext cx="28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метишь среди листье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пардиков пятнистых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кируют ловко спинк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кошки-невидим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Леопардик"/>
          <p:cNvPicPr/>
          <p:nvPr/>
        </p:nvPicPr>
        <p:blipFill>
          <a:blip r:embed="rId1"/>
          <a:stretch/>
        </p:blipFill>
        <p:spPr>
          <a:xfrm>
            <a:off x="611280" y="765000"/>
            <a:ext cx="5256000" cy="5632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9d795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ая пант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1458360"/>
            <a:ext cx="295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теренок я проворны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й окрас — как уголь, чёрны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му что я охочус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ёмной-тёмной ночь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Черная пантерка"/>
          <p:cNvPicPr/>
          <p:nvPr/>
        </p:nvPicPr>
        <p:blipFill>
          <a:blip r:embed="rId1"/>
          <a:stretch/>
        </p:blipFill>
        <p:spPr>
          <a:xfrm>
            <a:off x="468360" y="765000"/>
            <a:ext cx="5327640" cy="5394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ч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1641240"/>
            <a:ext cx="266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   </a:t>
            </a: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о не обижал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ьчиков, девчонок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ярким шариком бежал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енький ВОЛЧО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Волчонок"/>
          <p:cNvPicPr/>
          <p:nvPr/>
        </p:nvPicPr>
        <p:blipFill>
          <a:blip r:embed="rId1"/>
          <a:stretch/>
        </p:blipFill>
        <p:spPr>
          <a:xfrm>
            <a:off x="468360" y="765000"/>
            <a:ext cx="5329080" cy="5429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ко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5640" y="1548720"/>
            <a:ext cx="31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таков? Поди проверь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ли птица, то ли зверь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чий клюв, звериный хвости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— забавный утконосик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Утконосик"/>
          <p:cNvPicPr/>
          <p:nvPr/>
        </p:nvPicPr>
        <p:blipFill>
          <a:blip r:embed="rId2"/>
          <a:stretch/>
        </p:blipFill>
        <p:spPr>
          <a:xfrm>
            <a:off x="611280" y="620640"/>
            <a:ext cx="5040360" cy="5683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ый медвеж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1549080"/>
            <a:ext cx="266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и льдин, таких знакомых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пкой нос прикрыв чуть-чут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прикинусь снежным комом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добычу не спугнуть!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Белый медвежонок"/>
          <p:cNvPicPr/>
          <p:nvPr/>
        </p:nvPicPr>
        <p:blipFill>
          <a:blip r:embed="rId1"/>
          <a:stretch/>
        </p:blipFill>
        <p:spPr>
          <a:xfrm>
            <a:off x="539640" y="620640"/>
            <a:ext cx="5472360" cy="5591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bf3c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юлен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876960"/>
            <a:ext cx="23032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юленёнок лишь на суш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шковатый, неуклюжий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зато в воде холодно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ловчей кого угодно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Тюлененок"/>
          <p:cNvPicPr/>
          <p:nvPr/>
        </p:nvPicPr>
        <p:blipFill>
          <a:blip r:embed="rId1"/>
          <a:stretch/>
        </p:blipFill>
        <p:spPr>
          <a:xfrm>
            <a:off x="539640" y="620640"/>
            <a:ext cx="5616720" cy="56548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с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1545840"/>
            <a:ext cx="295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но мог назад лет двест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тись в любом, пожалуй, мест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Африке. Но рог бесценны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 браконьерам главной цель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Носорог"/>
          <p:cNvPicPr/>
          <p:nvPr/>
        </p:nvPicPr>
        <p:blipFill>
          <a:blip r:embed="rId1"/>
          <a:stretch/>
        </p:blipFill>
        <p:spPr>
          <a:xfrm>
            <a:off x="468360" y="692280"/>
            <a:ext cx="4971960" cy="5452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790200"/>
            <a:ext cx="266544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репый блеск во взгляде рысье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замер хищник среди листье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ятнистый, словно в бликах солнца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ыжок — и вряд ли кто спасётс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Рысь"/>
          <p:cNvPicPr/>
          <p:nvPr/>
        </p:nvPicPr>
        <p:blipFill>
          <a:blip r:embed="rId2"/>
          <a:stretch/>
        </p:blipFill>
        <p:spPr>
          <a:xfrm>
            <a:off x="755640" y="692280"/>
            <a:ext cx="5111640" cy="5684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8720" y="1607040"/>
            <a:ext cx="28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ЫПЛ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ыпа-цып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сти просим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щайтесь вкусным просом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ша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ват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ежали к нам ЦЫПЛЯ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Цыплята"/>
          <p:cNvPicPr/>
          <p:nvPr/>
        </p:nvPicPr>
        <p:blipFill>
          <a:blip r:embed="rId1"/>
          <a:stretch/>
        </p:blipFill>
        <p:spPr>
          <a:xfrm>
            <a:off x="395280" y="260280"/>
            <a:ext cx="504036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1458720"/>
            <a:ext cx="29530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ет очень-очень рад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гласить вас в гости панд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стить бамбуком вкусным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готовленным искусно.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Панда"/>
          <p:cNvPicPr/>
          <p:nvPr/>
        </p:nvPicPr>
        <p:blipFill>
          <a:blip r:embed="rId1"/>
          <a:stretch/>
        </p:blipFill>
        <p:spPr>
          <a:xfrm>
            <a:off x="179280" y="692280"/>
            <a:ext cx="5184720" cy="5621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е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96000" y="1549440"/>
            <a:ext cx="2808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бегемот с горою схожи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гко он бегать, плавать может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ов же этого верзилы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ятся даже крокодил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Бегемот"/>
          <p:cNvPicPr/>
          <p:nvPr/>
        </p:nvPicPr>
        <p:blipFill>
          <a:blip r:embed="rId1"/>
          <a:stretch/>
        </p:blipFill>
        <p:spPr>
          <a:xfrm>
            <a:off x="826920" y="620640"/>
            <a:ext cx="4897440" cy="5648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bbe0e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с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0360" y="1639800"/>
            <a:ext cx="266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нём дремать он любит очень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хоту ходит ночью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, набив живот-корзину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ытый спит в норе всю зиму.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Барсук"/>
          <p:cNvPicPr/>
          <p:nvPr/>
        </p:nvPicPr>
        <p:blipFill>
          <a:blip r:embed="rId1"/>
          <a:stretch/>
        </p:blipFill>
        <p:spPr>
          <a:xfrm>
            <a:off x="539640" y="765000"/>
            <a:ext cx="5040360" cy="5664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1366200"/>
            <a:ext cx="28810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</a:t>
            </a: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р — древнейший на планете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живёт сегодня этот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к, чьей шерсти нету гущ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ько в Беловежской Пуще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Зубр"/>
          <p:cNvPicPr/>
          <p:nvPr/>
        </p:nvPicPr>
        <p:blipFill>
          <a:blip r:embed="rId2"/>
          <a:stretch/>
        </p:blipFill>
        <p:spPr>
          <a:xfrm>
            <a:off x="755640" y="692280"/>
            <a:ext cx="4896000" cy="5497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1458360"/>
            <a:ext cx="273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казках — «Чудо-Юдо» он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страшен, разъярён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яву ж — известно всем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биден кит совсе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Кит"/>
          <p:cNvPicPr/>
          <p:nvPr/>
        </p:nvPicPr>
        <p:blipFill>
          <a:blip r:embed="rId2"/>
          <a:stretch/>
        </p:blipFill>
        <p:spPr>
          <a:xfrm>
            <a:off x="468360" y="765000"/>
            <a:ext cx="5398920" cy="5567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35640" y="1458360"/>
            <a:ext cx="302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дельфинах всем известно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 животных интересней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рый ум, движенья ловк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егки для дрессиров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Дельфин"/>
          <p:cNvPicPr/>
          <p:nvPr/>
        </p:nvPicPr>
        <p:blipFill>
          <a:blip r:embed="rId2"/>
          <a:stretch/>
        </p:blipFill>
        <p:spPr>
          <a:xfrm>
            <a:off x="324000" y="549360"/>
            <a:ext cx="4822560" cy="5807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пугай 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0" y="1911240"/>
            <a:ext cx="25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хож с любою птицей Ара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ост, головка, крыльев пар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имеет оперенье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о, скажем, загляден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Попугай Ара"/>
          <p:cNvPicPr/>
          <p:nvPr/>
        </p:nvPicPr>
        <p:blipFill>
          <a:blip r:embed="rId1"/>
          <a:stretch/>
        </p:blipFill>
        <p:spPr>
          <a:xfrm>
            <a:off x="755640" y="620640"/>
            <a:ext cx="4968720" cy="5649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29d79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ликовая игр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6000" y="1829880"/>
            <a:ext cx="280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игрунки — словно дети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чше нет для них на свет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шалить (и не на шутку!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дыхая лишь минутк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Карликовая Игрунка"/>
          <p:cNvPicPr/>
          <p:nvPr/>
        </p:nvPicPr>
        <p:blipFill>
          <a:blip r:embed="rId1"/>
          <a:stretch/>
        </p:blipFill>
        <p:spPr>
          <a:xfrm>
            <a:off x="324000" y="765000"/>
            <a:ext cx="5076720" cy="5513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1728360"/>
            <a:ext cx="280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его не съели волки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пине растут игол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штанчик он похож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адали? — Это ЁЖ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Ёж"/>
          <p:cNvPicPr/>
          <p:nvPr/>
        </p:nvPicPr>
        <p:blipFill>
          <a:blip r:embed="rId1"/>
          <a:stretch/>
        </p:blipFill>
        <p:spPr>
          <a:xfrm>
            <a:off x="684360" y="620640"/>
            <a:ext cx="4962240" cy="5938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й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1640" y="1989000"/>
            <a:ext cx="2952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ый. Прыгает в лесу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о смотрит на лису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догонишь, так и знай-к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ежит ушастый ЗА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Зайка"/>
          <p:cNvPicPr/>
          <p:nvPr/>
        </p:nvPicPr>
        <p:blipFill>
          <a:blip r:embed="rId1"/>
          <a:stretch/>
        </p:blipFill>
        <p:spPr>
          <a:xfrm>
            <a:off x="468360" y="765000"/>
            <a:ext cx="5183280" cy="5805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гн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1233527606_jagnenok" descr="Ягненок"/>
          <p:cNvPicPr/>
          <p:nvPr/>
        </p:nvPicPr>
        <p:blipFill>
          <a:blip r:embed="rId1"/>
          <a:stretch/>
        </p:blipFill>
        <p:spPr>
          <a:xfrm>
            <a:off x="324000" y="907920"/>
            <a:ext cx="5111640" cy="5689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56360" y="1194120"/>
            <a:ext cx="237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, качая голово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пешит на водопой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секрету скажем вам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 ягнёнок так упр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643b"/>
              </a:gs>
              <a:gs pos="100000">
                <a:srgbClr val="339933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1817640"/>
            <a:ext cx="30974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х встречает громким лае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с ним весело играе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систый, как звонок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ивительный ЩЕ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Щенок(2)"/>
          <p:cNvPicPr/>
          <p:nvPr/>
        </p:nvPicPr>
        <p:blipFill>
          <a:blip r:embed="rId1"/>
          <a:stretch/>
        </p:blipFill>
        <p:spPr>
          <a:xfrm>
            <a:off x="468360" y="765000"/>
            <a:ext cx="4895640" cy="5688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н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51640" y="1458720"/>
            <a:ext cx="29527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Юркий маленький зверёк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сатый поперёк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ёмно-желтый мех на нём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— ЕНОТОМ назовём.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Енот"/>
          <p:cNvPicPr/>
          <p:nvPr/>
        </p:nvPicPr>
        <p:blipFill>
          <a:blip r:embed="rId1"/>
          <a:stretch/>
        </p:blipFill>
        <p:spPr>
          <a:xfrm>
            <a:off x="826920" y="620640"/>
            <a:ext cx="4824720" cy="5621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сост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-психолог детского сада № 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ТАШАН Ирина Фед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Возжа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233393620_telenok" descr="Теленок"/>
          <p:cNvPicPr/>
          <p:nvPr/>
        </p:nvPicPr>
        <p:blipFill>
          <a:blip r:embed="rId1"/>
          <a:stretch/>
        </p:blipFill>
        <p:spPr>
          <a:xfrm>
            <a:off x="0" y="0"/>
            <a:ext cx="569736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1870920"/>
            <a:ext cx="23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Л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ленький телёнок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мотрит удивлённо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впервые видит луг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лько зелени вок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233523697_zherebenok" descr="Жеребенок"/>
          <p:cNvPicPr/>
          <p:nvPr/>
        </p:nvPicPr>
        <p:blipFill>
          <a:blip r:embed="rId1"/>
          <a:stretch/>
        </p:blipFill>
        <p:spPr>
          <a:xfrm>
            <a:off x="3203640" y="333360"/>
            <a:ext cx="5616360" cy="6264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846720"/>
            <a:ext cx="237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ЖЕРЕБ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Жеребёнка тешит всё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всегда резвится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ивкой радостно трясёт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окает копыт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233527785_kozlenok" descr="Козленок"/>
          <p:cNvPicPr/>
          <p:nvPr/>
        </p:nvPicPr>
        <p:blipFill>
          <a:blip r:embed="rId1"/>
          <a:stretch/>
        </p:blipFill>
        <p:spPr>
          <a:xfrm>
            <a:off x="0" y="0"/>
            <a:ext cx="5651640" cy="6597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88080" y="1729440"/>
            <a:ext cx="267156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ЗЛ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день козлёнок на нога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 ним не смей смеяться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т отрастит себе рога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ак начнёт бода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9:12:01Z</dcterms:created>
  <dc:creator>XTreme</dc:creator>
  <dc:description/>
  <dc:language>en-US</dc:language>
  <cp:lastModifiedBy>XTreme</cp:lastModifiedBy>
  <dcterms:modified xsi:type="dcterms:W3CDTF">2011-01-23T15:03:05Z</dcterms:modified>
  <cp:revision>9</cp:revision>
  <dc:subject/>
  <dc:title>Слайд 1</dc:title>
</cp:coreProperties>
</file>