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18.jpeg" ContentType="image/jpeg"/>
  <Override PartName="/ppt/media/image22.jpeg" ContentType="image/jpeg"/>
  <Override PartName="/ppt/media/image21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52.png" ContentType="image/pn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828-F10E-4140-B614-9665D7A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0B9-B69F-4A14-955F-40CDCDA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C70-B47D-47B6-9B86-F77BE090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9D7-33FD-475B-B216-C4C33E1B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1CB-E681-45C5-9337-D424495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5B7-09F5-496E-8494-CA120315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778-6E78-4E59-BEBB-7B9B0D4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710-51DC-4B0C-BC14-90168105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55B-36F1-4D47-A366-FF5F77E0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807-F66E-4E3C-BEE1-41EC95EB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7A7-B867-4E59-A59E-5319630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88B-5BC4-40FB-A83D-F70F4129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F1CF-BEC9-4AE8-8226-6DD466EE7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1197000"/>
            <a:ext cx="648180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ышам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диких 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их животны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aac1f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054080"/>
            <a:ext cx="302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Я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ржать их не могу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я трава помят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ыгрались на лугу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вые КОЗЛЯ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озлята"/>
          <p:cNvPicPr/>
          <p:nvPr/>
        </p:nvPicPr>
        <p:blipFill>
          <a:blip r:embed="rId1"/>
          <a:stretch/>
        </p:blipFill>
        <p:spPr>
          <a:xfrm>
            <a:off x="324000" y="0"/>
            <a:ext cx="4944960" cy="6597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233524093_utenok" descr="Утенок"/>
          <p:cNvPicPr/>
          <p:nvPr/>
        </p:nvPicPr>
        <p:blipFill>
          <a:blip r:embed="rId2"/>
          <a:stretch/>
        </p:blipFill>
        <p:spPr>
          <a:xfrm>
            <a:off x="324000" y="981000"/>
            <a:ext cx="5256000" cy="554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1640" y="1459800"/>
            <a:ext cx="2808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ут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пру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рабрый наш утёнок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ыша зовёт вода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— пловец с пелён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1750680"/>
            <a:ext cx="2952720" cy="33858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у мамы на вид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выркается в пруду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те-ка, ребят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лавают УТ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Утята"/>
          <p:cNvPicPr/>
          <p:nvPr/>
        </p:nvPicPr>
        <p:blipFill>
          <a:blip r:embed="rId1"/>
          <a:stretch/>
        </p:blipFill>
        <p:spPr>
          <a:xfrm>
            <a:off x="324000" y="692280"/>
            <a:ext cx="554328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1233527218_cyplenok" descr="Цыпленок"/>
          <p:cNvPicPr/>
          <p:nvPr/>
        </p:nvPicPr>
        <p:blipFill>
          <a:blip r:embed="rId1"/>
          <a:stretch/>
        </p:blipFill>
        <p:spPr>
          <a:xfrm>
            <a:off x="611280" y="620640"/>
            <a:ext cx="5616360" cy="583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72360" y="1467360"/>
            <a:ext cx="223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ыплёнок мал ещё пок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быстро подрастает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сам находит червяк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ам его съ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233527328_porosenok" descr="Поросенок"/>
          <p:cNvPicPr/>
          <p:nvPr/>
        </p:nvPicPr>
        <p:blipFill>
          <a:blip r:embed="rId1"/>
          <a:stretch/>
        </p:blipFill>
        <p:spPr>
          <a:xfrm>
            <a:off x="324000" y="692280"/>
            <a:ext cx="4752720" cy="5473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65680" y="392904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4194720"/>
            <a:ext cx="26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628640"/>
            <a:ext cx="3311640" cy="448092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дко жмурится спросонок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мытый поросёнок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айте завтрак мой скорей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больше овощ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С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874800"/>
            <a:ext cx="23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ром, маму чтоб позв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юкает спросоно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жёлуди жеват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ый ПОРОСЁ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Поросенок (2)"/>
          <p:cNvPicPr/>
          <p:nvPr/>
        </p:nvPicPr>
        <p:blipFill>
          <a:blip r:embed="rId1"/>
          <a:stretch/>
        </p:blipFill>
        <p:spPr>
          <a:xfrm>
            <a:off x="611280" y="836640"/>
            <a:ext cx="5113080" cy="561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435280" y="1125000"/>
            <a:ext cx="3097080" cy="45133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БЛЮЖ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 выносливее нет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ем колючки на обед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ы подолгу не прошу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яжёлый груз в песках ношу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Верблюжонок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ЫШ Л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5640" y="1787400"/>
            <a:ext cx="3384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и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ка-лам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не верь, что я упрям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 со мною вместе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арю на шарфик шерсти.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Малыш Лама"/>
          <p:cNvPicPr/>
          <p:nvPr/>
        </p:nvPicPr>
        <p:blipFill>
          <a:blip r:embed="rId1"/>
          <a:stretch/>
        </p:blipFill>
        <p:spPr>
          <a:xfrm>
            <a:off x="611280" y="907920"/>
            <a:ext cx="5040360" cy="50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66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240753478_tushkanchik" descr="Тушканчик"/>
          <p:cNvPicPr/>
          <p:nvPr/>
        </p:nvPicPr>
        <p:blipFill>
          <a:blip r:embed="rId1"/>
          <a:stretch/>
        </p:blipFill>
        <p:spPr>
          <a:xfrm>
            <a:off x="611280" y="907920"/>
            <a:ext cx="5064120" cy="5523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894280" y="1358640"/>
            <a:ext cx="249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ушканчик в норку уволо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ёный сочный стебелё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ь пища влагою полн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а и вовсе не нуж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435280" y="836280"/>
            <a:ext cx="3097080" cy="52563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ле встретится нечаст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мячок — малыш щекасты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спрятаться в нор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ихонько грызть орех 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Хомячок"/>
          <p:cNvPicPr/>
          <p:nvPr/>
        </p:nvPicPr>
        <p:blipFill>
          <a:blip r:embed="rId1"/>
          <a:stretch/>
        </p:blipFill>
        <p:spPr>
          <a:xfrm>
            <a:off x="0" y="0"/>
            <a:ext cx="543564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233392275_gusenok" descr="Гусенок"/>
          <p:cNvPicPr/>
          <p:nvPr/>
        </p:nvPicPr>
        <p:blipFill>
          <a:blip r:embed="rId1"/>
          <a:stretch/>
        </p:blipFill>
        <p:spPr>
          <a:xfrm>
            <a:off x="468360" y="765000"/>
            <a:ext cx="5832360" cy="609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16720" y="1772280"/>
            <a:ext cx="20876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ка — не важный гус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— гусён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учус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кого бы ущипнут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оть немножко,                         хоть чуть-чу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100000">
                <a:srgbClr val="fc9fcb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СТОЧКА  - МАЛ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Ласточка-малышка"/>
          <p:cNvPicPr/>
          <p:nvPr/>
        </p:nvPicPr>
        <p:blipFill>
          <a:blip r:embed="rId1"/>
          <a:stretch/>
        </p:blipFill>
        <p:spPr>
          <a:xfrm>
            <a:off x="684360" y="1052640"/>
            <a:ext cx="496728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0360" y="1557360"/>
            <a:ext cx="28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крепившись на лет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сточки-малыш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жно трели заведут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в рядком на кры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РОБ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239657013_vorobushek" descr="Воробушек"/>
          <p:cNvPicPr/>
          <p:nvPr/>
        </p:nvPicPr>
        <p:blipFill>
          <a:blip r:embed="rId2"/>
          <a:stretch/>
        </p:blipFill>
        <p:spPr>
          <a:xfrm>
            <a:off x="1116000" y="1844640"/>
            <a:ext cx="4013280" cy="44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1178280"/>
            <a:ext cx="2446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рослым стать довольно просто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гнезда я прыгну в воздух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е страшно мне ничуть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е падаю — леч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ac1f4"/>
              </a:gs>
              <a:gs pos="100000">
                <a:srgbClr val="abf3c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239310537_krotenok" descr="Кротенок"/>
          <p:cNvPicPr/>
          <p:nvPr/>
        </p:nvPicPr>
        <p:blipFill>
          <a:blip r:embed="rId1"/>
          <a:stretch/>
        </p:blipFill>
        <p:spPr>
          <a:xfrm>
            <a:off x="395280" y="836640"/>
            <a:ext cx="489744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92720" y="1569960"/>
            <a:ext cx="3095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— кротё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землёю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ды-тоннели ро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всегда я, правда, знаю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ту ли сторону копаю?</a:t>
            </a:r>
            <a:br>
              <a:rPr sz="24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БР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239048976_bobrenok" descr="Бобренок"/>
          <p:cNvPicPr/>
          <p:nvPr/>
        </p:nvPicPr>
        <p:blipFill>
          <a:blip r:embed="rId1"/>
          <a:stretch/>
        </p:blipFill>
        <p:spPr>
          <a:xfrm>
            <a:off x="324000" y="981000"/>
            <a:ext cx="525600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80000" y="2220480"/>
            <a:ext cx="3024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— бобрёнок молодо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ход в мой домик — под водо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грызаю ветки ровн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нируюсь делать брё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З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19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237580579_khorovod-kozka-1" descr="Козка"/>
          <p:cNvPicPr/>
          <p:nvPr/>
        </p:nvPicPr>
        <p:blipFill>
          <a:blip r:embed="rId1"/>
          <a:stretch/>
        </p:blipFill>
        <p:spPr>
          <a:xfrm>
            <a:off x="395280" y="836640"/>
            <a:ext cx="4392720" cy="5545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24320" y="899280"/>
            <a:ext cx="287676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а козка встал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 поскак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Чего козка ищет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Брусоче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а что ей брусочек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ерпок точ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а что ей серпок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Жито жать-коси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козка хвосто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да жито кусто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козка рого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да жито стого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козка ног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да жито копн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1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ЛИК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239655471_pelikanchik" descr="Пеликанчик"/>
          <p:cNvPicPr/>
          <p:nvPr/>
        </p:nvPicPr>
        <p:blipFill>
          <a:blip r:embed="rId1"/>
          <a:stretch/>
        </p:blipFill>
        <p:spPr>
          <a:xfrm>
            <a:off x="611280" y="981000"/>
            <a:ext cx="5035320" cy="535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51640" y="1827000"/>
            <a:ext cx="2736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ликанчик неуклюж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ыбалке весь пром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уже почти простужен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припас рыбёшек впр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ыш фламин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1239559338_malysh-flamingo" descr="Малыш Фламинго"/>
          <p:cNvPicPr/>
          <p:nvPr/>
        </p:nvPicPr>
        <p:blipFill>
          <a:blip r:embed="rId2"/>
          <a:stretch/>
        </p:blipFill>
        <p:spPr>
          <a:xfrm>
            <a:off x="611280" y="1052640"/>
            <a:ext cx="4537080" cy="5006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51640" y="883800"/>
            <a:ext cx="266544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м я «птичье молочко»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сту за лето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у сам искать рачк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ловить креветок.</a:t>
            </a:r>
            <a:br>
              <a:rPr sz="2400"/>
            </a:br>
            <a:br>
              <a:rPr sz="2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кий у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641240"/>
            <a:ext cx="2519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— утёнок. Мне по нрав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ь болотной тины плавать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имаюсь рыбной лов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юг лететь готовлюсь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икий утенок"/>
          <p:cNvPicPr/>
          <p:nvPr/>
        </p:nvPicPr>
        <p:blipFill>
          <a:blip r:embed="rId1"/>
          <a:stretch/>
        </p:blipFill>
        <p:spPr>
          <a:xfrm>
            <a:off x="539640" y="692280"/>
            <a:ext cx="5472360" cy="57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9d79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ИК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волны невдалек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ясь неспор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бик ножкой на пес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ет узоры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1239535223_krabik" descr="Крабик"/>
          <p:cNvPicPr/>
          <p:nvPr/>
        </p:nvPicPr>
        <p:blipFill>
          <a:blip r:embed="rId1"/>
          <a:stretch/>
        </p:blipFill>
        <p:spPr>
          <a:xfrm>
            <a:off x="3730680" y="692280"/>
            <a:ext cx="494496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ской ко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239467551_morskojj-konek" descr="Морской конек"/>
          <p:cNvPicPr/>
          <p:nvPr/>
        </p:nvPicPr>
        <p:blipFill>
          <a:blip r:embed="rId1"/>
          <a:stretch/>
        </p:blipFill>
        <p:spPr>
          <a:xfrm>
            <a:off x="324000" y="765000"/>
            <a:ext cx="5327640" cy="583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24360" y="1271160"/>
            <a:ext cx="2592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похож я на коня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ейка, гривка у меня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какая-то ошибк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 самом деле — ры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ёнка много де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ки мыл, сметанку е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вру гонял клубо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пки в кухню привол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отенок"/>
          <p:cNvPicPr/>
          <p:nvPr/>
        </p:nvPicPr>
        <p:blipFill>
          <a:blip r:embed="rId2"/>
          <a:stretch/>
        </p:blipFill>
        <p:spPr>
          <a:xfrm>
            <a:off x="324000" y="449280"/>
            <a:ext cx="468144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29d79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091160"/>
            <a:ext cx="2592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меня конюшня — д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сти меня овсом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ва вьётся за спино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угонишься за мной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Лошадь"/>
          <p:cNvPicPr/>
          <p:nvPr/>
        </p:nvPicPr>
        <p:blipFill>
          <a:blip r:embed="rId1"/>
          <a:stretch/>
        </p:blipFill>
        <p:spPr>
          <a:xfrm>
            <a:off x="468360" y="765000"/>
            <a:ext cx="5256000" cy="54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639440"/>
            <a:ext cx="280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кай твердят, что я упря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ростоват немножк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бя в обиду я не да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я защита — рожк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Баран"/>
          <p:cNvPicPr/>
          <p:nvPr/>
        </p:nvPicPr>
        <p:blipFill>
          <a:blip r:embed="rId2"/>
          <a:stretch/>
        </p:blipFill>
        <p:spPr>
          <a:xfrm>
            <a:off x="539640" y="836640"/>
            <a:ext cx="5184720" cy="57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ac1f4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1639800"/>
            <a:ext cx="2879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еленеющем луг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ровести весь день мог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у тебя спрошу тайком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ветами пахнет молоко?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орова"/>
          <p:cNvPicPr/>
          <p:nvPr/>
        </p:nvPicPr>
        <p:blipFill>
          <a:blip r:embed="rId1"/>
          <a:stretch/>
        </p:blipFill>
        <p:spPr>
          <a:xfrm>
            <a:off x="611280" y="836640"/>
            <a:ext cx="4895640" cy="54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505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1364400"/>
            <a:ext cx="25923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ят с самого ут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за забото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ик птичьего двора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юк краснобороды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Индюк"/>
          <p:cNvPicPr/>
          <p:nvPr/>
        </p:nvPicPr>
        <p:blipFill>
          <a:blip r:embed="rId1"/>
          <a:stretch/>
        </p:blipFill>
        <p:spPr>
          <a:xfrm>
            <a:off x="324000" y="620640"/>
            <a:ext cx="5184720" cy="566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d795"/>
              </a:gs>
              <a:gs pos="100000">
                <a:srgbClr val="fb643b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1913040"/>
            <a:ext cx="2663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ъев зерно, попив водички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снесла тебе яичк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ята теперь я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щу клювом пер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Курица"/>
          <p:cNvPicPr/>
          <p:nvPr/>
        </p:nvPicPr>
        <p:blipFill>
          <a:blip r:embed="rId1"/>
          <a:stretch/>
        </p:blipFill>
        <p:spPr>
          <a:xfrm>
            <a:off x="539640" y="836640"/>
            <a:ext cx="5400720" cy="54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458720"/>
            <a:ext cx="29527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и день — влезает в дра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 петька-забия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зато разбудит в сро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етишек на урок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Петух"/>
          <p:cNvPicPr/>
          <p:nvPr/>
        </p:nvPicPr>
        <p:blipFill>
          <a:blip r:embed="rId1"/>
          <a:stretch/>
        </p:blipFill>
        <p:spPr>
          <a:xfrm>
            <a:off x="611280" y="692280"/>
            <a:ext cx="4838760" cy="567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196848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с мой предок Древний Ри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готанием свои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сказал: «Сердитый гусь!»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шиплю, когда бою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Гусь"/>
          <p:cNvPicPr/>
          <p:nvPr/>
        </p:nvPicPr>
        <p:blipFill>
          <a:blip r:embed="rId1"/>
          <a:stretch/>
        </p:blipFill>
        <p:spPr>
          <a:xfrm>
            <a:off x="611280" y="765000"/>
            <a:ext cx="4968720" cy="55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fb643b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2066760"/>
            <a:ext cx="295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о в заводи плывё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ка, словно пароход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еницей кораб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 утят спешат за 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Утка"/>
          <p:cNvPicPr/>
          <p:nvPr/>
        </p:nvPicPr>
        <p:blipFill>
          <a:blip r:embed="rId1"/>
          <a:stretch/>
        </p:blipFill>
        <p:spPr>
          <a:xfrm>
            <a:off x="755640" y="620640"/>
            <a:ext cx="5184720" cy="571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bf3c6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ac1f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1458360"/>
            <a:ext cx="252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ойди ко мне поближе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а я не обиж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 со мной минутк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одаюсь только в шутку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Коза"/>
          <p:cNvPicPr/>
          <p:nvPr/>
        </p:nvPicPr>
        <p:blipFill>
          <a:blip r:embed="rId1"/>
          <a:stretch/>
        </p:blipFill>
        <p:spPr>
          <a:xfrm>
            <a:off x="684360" y="620640"/>
            <a:ext cx="554328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рунду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1549440"/>
            <a:ext cx="287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за каждой щёчк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чу по мешочк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дом ношу без спеш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иму орешки.</a:t>
            </a:r>
            <a:br>
              <a:rPr sz="2400"/>
            </a:b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Бурундучок"/>
          <p:cNvPicPr/>
          <p:nvPr/>
        </p:nvPicPr>
        <p:blipFill>
          <a:blip r:embed="rId1"/>
          <a:stretch/>
        </p:blipFill>
        <p:spPr>
          <a:xfrm>
            <a:off x="826920" y="836640"/>
            <a:ext cx="504036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505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Н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ьтесь со щенком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ранять он хочет до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 округе знаю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так громко л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233393100_shhenok" descr="Щенок"/>
          <p:cNvPicPr/>
          <p:nvPr/>
        </p:nvPicPr>
        <p:blipFill>
          <a:blip r:embed="rId1"/>
          <a:stretch/>
        </p:blipFill>
        <p:spPr>
          <a:xfrm>
            <a:off x="385128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н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365120"/>
            <a:ext cx="2879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, что у еноти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олят животик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может стать едо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чейке еноты моют.</a:t>
            </a:r>
            <a:br>
              <a:rPr sz="24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Енотик"/>
          <p:cNvPicPr/>
          <p:nvPr/>
        </p:nvPicPr>
        <p:blipFill>
          <a:blip r:embed="rId2"/>
          <a:stretch/>
        </p:blipFill>
        <p:spPr>
          <a:xfrm>
            <a:off x="826920" y="620640"/>
            <a:ext cx="5113440" cy="5661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веж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1638360"/>
            <a:ext cx="280836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авучий, как смол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стый, как бочоно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ёд, что спрятала пчел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щет МЕДВЕЖО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Медвежонок"/>
          <p:cNvPicPr/>
          <p:nvPr/>
        </p:nvPicPr>
        <p:blipFill>
          <a:blip r:embed="rId2"/>
          <a:stretch/>
        </p:blipFill>
        <p:spPr>
          <a:xfrm>
            <a:off x="468360" y="620640"/>
            <a:ext cx="5327640" cy="563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опар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458360"/>
            <a:ext cx="28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метишь среди листье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ардиков пятнистых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кируют ловко спин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кошки-невидим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Леопардик"/>
          <p:cNvPicPr/>
          <p:nvPr/>
        </p:nvPicPr>
        <p:blipFill>
          <a:blip r:embed="rId1"/>
          <a:stretch/>
        </p:blipFill>
        <p:spPr>
          <a:xfrm>
            <a:off x="611280" y="765000"/>
            <a:ext cx="5256000" cy="5632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d795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ая пант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1458360"/>
            <a:ext cx="295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теренок я проворны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окрас — как уголь, чёрны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у что я охочус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ёмной-тёмной ноч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Черная пантерка"/>
          <p:cNvPicPr/>
          <p:nvPr/>
        </p:nvPicPr>
        <p:blipFill>
          <a:blip r:embed="rId1"/>
          <a:stretch/>
        </p:blipFill>
        <p:spPr>
          <a:xfrm>
            <a:off x="468360" y="765000"/>
            <a:ext cx="5327640" cy="5394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1641240"/>
            <a:ext cx="266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о не обижал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ьчиков, девчонок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ярким шариком бежа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енький ВОЛЧО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Волчонок"/>
          <p:cNvPicPr/>
          <p:nvPr/>
        </p:nvPicPr>
        <p:blipFill>
          <a:blip r:embed="rId1"/>
          <a:stretch/>
        </p:blipFill>
        <p:spPr>
          <a:xfrm>
            <a:off x="468360" y="765000"/>
            <a:ext cx="532908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ко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1548720"/>
            <a:ext cx="31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таков? Поди проверь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 птица, то ли зверь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ий клюв, звериный хвост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— забавный утконосик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Утконосик"/>
          <p:cNvPicPr/>
          <p:nvPr/>
        </p:nvPicPr>
        <p:blipFill>
          <a:blip r:embed="rId2"/>
          <a:stretch/>
        </p:blipFill>
        <p:spPr>
          <a:xfrm>
            <a:off x="611280" y="620640"/>
            <a:ext cx="5040360" cy="5683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й медвеж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1549080"/>
            <a:ext cx="266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льдин, таких знакомых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пкой нос прикрыв чуть-чу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рикинусь снежным комо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добычу не спугнуть!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Белый медвежонок"/>
          <p:cNvPicPr/>
          <p:nvPr/>
        </p:nvPicPr>
        <p:blipFill>
          <a:blip r:embed="rId1"/>
          <a:stretch/>
        </p:blipFill>
        <p:spPr>
          <a:xfrm>
            <a:off x="539640" y="620640"/>
            <a:ext cx="5472360" cy="5591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bf3c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юлен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876960"/>
            <a:ext cx="23032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юленёнок лишь на суш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шковатый, неуклюжи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зато в воде холодн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ловчей кого угодно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Тюлененок"/>
          <p:cNvPicPr/>
          <p:nvPr/>
        </p:nvPicPr>
        <p:blipFill>
          <a:blip r:embed="rId1"/>
          <a:stretch/>
        </p:blipFill>
        <p:spPr>
          <a:xfrm>
            <a:off x="539640" y="620640"/>
            <a:ext cx="5616720" cy="5654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с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1545840"/>
            <a:ext cx="295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о мог назад лет двест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тись в любом, пожалуй, мест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Африке. Но рог бесценны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 браконьерам главной цел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Носорог"/>
          <p:cNvPicPr/>
          <p:nvPr/>
        </p:nvPicPr>
        <p:blipFill>
          <a:blip r:embed="rId1"/>
          <a:stretch/>
        </p:blipFill>
        <p:spPr>
          <a:xfrm>
            <a:off x="468360" y="692280"/>
            <a:ext cx="4971960" cy="5452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790200"/>
            <a:ext cx="26654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репый блеск во взгляде рысье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замер хищник среди листье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нистый, словно в бликах солнц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жок — и вряд ли кто спасё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Рысь"/>
          <p:cNvPicPr/>
          <p:nvPr/>
        </p:nvPicPr>
        <p:blipFill>
          <a:blip r:embed="rId2"/>
          <a:stretch/>
        </p:blipFill>
        <p:spPr>
          <a:xfrm>
            <a:off x="755640" y="692280"/>
            <a:ext cx="5111640" cy="5684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160704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ЫП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ыпа-цып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ти просим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щайтесь вкусным просом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ша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ат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жали к нам ЦЫПЛЯ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Цыплята"/>
          <p:cNvPicPr/>
          <p:nvPr/>
        </p:nvPicPr>
        <p:blipFill>
          <a:blip r:embed="rId1"/>
          <a:stretch/>
        </p:blipFill>
        <p:spPr>
          <a:xfrm>
            <a:off x="395280" y="260280"/>
            <a:ext cx="50403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1458720"/>
            <a:ext cx="2953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 очень-очень рад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ласить вас в гости панд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стить бамбуком вкусны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товленным искусно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Панда"/>
          <p:cNvPicPr/>
          <p:nvPr/>
        </p:nvPicPr>
        <p:blipFill>
          <a:blip r:embed="rId1"/>
          <a:stretch/>
        </p:blipFill>
        <p:spPr>
          <a:xfrm>
            <a:off x="179280" y="692280"/>
            <a:ext cx="5184720" cy="562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1549440"/>
            <a:ext cx="2808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бегемот с горою схожи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 он бегать, плавать может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ов же этого верзилы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ятся даже крокодил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Бегемот"/>
          <p:cNvPicPr/>
          <p:nvPr/>
        </p:nvPicPr>
        <p:blipFill>
          <a:blip r:embed="rId1"/>
          <a:stretch/>
        </p:blipFill>
        <p:spPr>
          <a:xfrm>
            <a:off x="826920" y="620640"/>
            <a:ext cx="4897440" cy="5648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bbe0e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с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1639800"/>
            <a:ext cx="266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ём дремать он любит очень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хоту ходит ночь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, набив живот-корзин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ытый спит в норе всю зиму.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Барсук"/>
          <p:cNvPicPr/>
          <p:nvPr/>
        </p:nvPicPr>
        <p:blipFill>
          <a:blip r:embed="rId1"/>
          <a:stretch/>
        </p:blipFill>
        <p:spPr>
          <a:xfrm>
            <a:off x="539640" y="765000"/>
            <a:ext cx="5040360" cy="5664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1366200"/>
            <a:ext cx="28810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</a:t>
            </a: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р — древнейший на планет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живёт сегодня это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к, чьей шерсти нету гущ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в Беловежской Пуще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Зубр"/>
          <p:cNvPicPr/>
          <p:nvPr/>
        </p:nvPicPr>
        <p:blipFill>
          <a:blip r:embed="rId2"/>
          <a:stretch/>
        </p:blipFill>
        <p:spPr>
          <a:xfrm>
            <a:off x="755640" y="692280"/>
            <a:ext cx="4896000" cy="5497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1458360"/>
            <a:ext cx="273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казках — «Чудо-Юдо» он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страшен, разъярён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яву ж — известно всем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биден кит совс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Кит"/>
          <p:cNvPicPr/>
          <p:nvPr/>
        </p:nvPicPr>
        <p:blipFill>
          <a:blip r:embed="rId2"/>
          <a:stretch/>
        </p:blipFill>
        <p:spPr>
          <a:xfrm>
            <a:off x="468360" y="765000"/>
            <a:ext cx="5398920" cy="5567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1458360"/>
            <a:ext cx="302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дельфинах всем известно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животных интересней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рый ум, движенья лов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гки для дрессиров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Дельфин"/>
          <p:cNvPicPr/>
          <p:nvPr/>
        </p:nvPicPr>
        <p:blipFill>
          <a:blip r:embed="rId2"/>
          <a:stretch/>
        </p:blipFill>
        <p:spPr>
          <a:xfrm>
            <a:off x="324000" y="549360"/>
            <a:ext cx="4822560" cy="5807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угай 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1911240"/>
            <a:ext cx="25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ож с любою птицей Ар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ст, головка, крыльев пар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меет оперенье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о, скажем, загляден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Попугай Ара"/>
          <p:cNvPicPr/>
          <p:nvPr/>
        </p:nvPicPr>
        <p:blipFill>
          <a:blip r:embed="rId1"/>
          <a:stretch/>
        </p:blipFill>
        <p:spPr>
          <a:xfrm>
            <a:off x="755640" y="620640"/>
            <a:ext cx="4968720" cy="564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29d79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ликовая игр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6000" y="1829880"/>
            <a:ext cx="280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игрунки — словно дети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е нет для них на свет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шалить (и не на шутку!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ыхая лишь минут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Карликовая Игрунка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5513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728360"/>
            <a:ext cx="28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его не съели волки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 растут игол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штанчик он похож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адали? — Это ЁЖ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Ёж"/>
          <p:cNvPicPr/>
          <p:nvPr/>
        </p:nvPicPr>
        <p:blipFill>
          <a:blip r:embed="rId1"/>
          <a:stretch/>
        </p:blipFill>
        <p:spPr>
          <a:xfrm>
            <a:off x="684360" y="620640"/>
            <a:ext cx="4962240" cy="593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1640" y="1989000"/>
            <a:ext cx="2952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ый. Прыгает в лес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о смотрит на лис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гонишь, так и знай-к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жит ушастый ЗА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Зайка"/>
          <p:cNvPicPr/>
          <p:nvPr/>
        </p:nvPicPr>
        <p:blipFill>
          <a:blip r:embed="rId1"/>
          <a:stretch/>
        </p:blipFill>
        <p:spPr>
          <a:xfrm>
            <a:off x="468360" y="765000"/>
            <a:ext cx="5183280" cy="5805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гн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233527606_jagnenok" descr="Ягненок"/>
          <p:cNvPicPr/>
          <p:nvPr/>
        </p:nvPicPr>
        <p:blipFill>
          <a:blip r:embed="rId1"/>
          <a:stretch/>
        </p:blipFill>
        <p:spPr>
          <a:xfrm>
            <a:off x="324000" y="907920"/>
            <a:ext cx="51116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56360" y="1194120"/>
            <a:ext cx="237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качая голово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пешит на водопой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екрету скажем вам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ягнёнок так упр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643b"/>
              </a:gs>
              <a:gs pos="100000">
                <a:srgbClr val="3399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817640"/>
            <a:ext cx="30974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встречает громким лае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 ним весело играе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систый, как звонок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ивительный ЩЕ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Щенок(2)"/>
          <p:cNvPicPr/>
          <p:nvPr/>
        </p:nvPicPr>
        <p:blipFill>
          <a:blip r:embed="rId1"/>
          <a:stretch/>
        </p:blipFill>
        <p:spPr>
          <a:xfrm>
            <a:off x="468360" y="765000"/>
            <a:ext cx="4895640" cy="568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н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1640" y="1458720"/>
            <a:ext cx="29527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ркий маленький зверё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сатый поперё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ёмно-желтый мех на нё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— ЕНОТОМ назовём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Енот"/>
          <p:cNvPicPr/>
          <p:nvPr/>
        </p:nvPicPr>
        <p:blipFill>
          <a:blip r:embed="rId1"/>
          <a:stretch/>
        </p:blipFill>
        <p:spPr>
          <a:xfrm>
            <a:off x="826920" y="620640"/>
            <a:ext cx="4824720" cy="5621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-психолог детского сада № 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ТАШАН Ирина Фед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Возжа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233393620_telenok" descr="Теленок"/>
          <p:cNvPicPr/>
          <p:nvPr/>
        </p:nvPicPr>
        <p:blipFill>
          <a:blip r:embed="rId1"/>
          <a:stretch/>
        </p:blipFill>
        <p:spPr>
          <a:xfrm>
            <a:off x="0" y="0"/>
            <a:ext cx="569736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1870920"/>
            <a:ext cx="23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Л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енький телёно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трит удивлённ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первые видит луг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ько зелени вок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233523697_zherebenok" descr="Жеребенок"/>
          <p:cNvPicPr/>
          <p:nvPr/>
        </p:nvPicPr>
        <p:blipFill>
          <a:blip r:embed="rId1"/>
          <a:stretch/>
        </p:blipFill>
        <p:spPr>
          <a:xfrm>
            <a:off x="3203640" y="333360"/>
            <a:ext cx="5616360" cy="626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846720"/>
            <a:ext cx="237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ЕРЕБ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еребёнка тешит всё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сегда резвится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ивкой радостно трясёт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окает копыт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233527785_kozlenok" descr="Козленок"/>
          <p:cNvPicPr/>
          <p:nvPr/>
        </p:nvPicPr>
        <p:blipFill>
          <a:blip r:embed="rId1"/>
          <a:stretch/>
        </p:blipFill>
        <p:spPr>
          <a:xfrm>
            <a:off x="0" y="0"/>
            <a:ext cx="5651640" cy="659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88080" y="1729440"/>
            <a:ext cx="26715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ЗЛ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день козлёнок на нога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ним не смей смеяться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отрастит себе рога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ак начнёт бода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9:12:01Z</dcterms:created>
  <dc:creator>XTreme</dc:creator>
  <dc:description/>
  <dc:language>en-US</dc:language>
  <cp:lastModifiedBy>XTreme</cp:lastModifiedBy>
  <dcterms:modified xsi:type="dcterms:W3CDTF">2011-01-23T15:03:05Z</dcterms:modified>
  <cp:revision>9</cp:revision>
  <dc:subject/>
  <dc:title>Слайд 1</dc:title>
</cp:coreProperties>
</file>