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D5C-C5E0-4D1C-AECA-72B9EAFA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693-F519-412F-A778-FB80710A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883-840B-4E31-89E8-A74DD524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DE4-FE71-4314-BCFA-14EA2A46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487-F240-4DA3-8DD8-0F454AA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CC8-2E44-429E-BA8F-7D1AB993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64-BA9B-4A30-95AE-EC57BC1D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39B-AB34-4361-A7ED-5D12ABA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EB1-1C99-43BE-9C9C-07DB77A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08B-0282-4558-91A5-B67333B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567-A192-43C8-AE03-12135CE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E63-7AEF-40ED-8EB4-4C691A0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ерстова Е.В., г.Шелех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761-C7E4-4746-A129-958AD81E0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44480" y="333360"/>
            <a:ext cx="83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е учреждение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жневартовский социально-гуманитарный колледж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 СПО «НСГ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292720" y="4005360"/>
            <a:ext cx="36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енская Екатерина Виктор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409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нова Наталь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о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036800" y="1225440"/>
            <a:ext cx="8113680" cy="247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846240" y="6273720"/>
            <a:ext cx="172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-357120"/>
            <a:ext cx="896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3492360" y="2349360"/>
            <a:ext cx="2737080" cy="1297080"/>
          </a:xfrm>
          <a:prstGeom prst="rect">
            <a:avLst/>
          </a:prstGeom>
          <a:solidFill>
            <a:srgbClr val="7c3b0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урока литературного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Прямая со стрелкой 19"/>
          <p:cNvCxnSpPr/>
          <p:nvPr/>
        </p:nvCxnSpPr>
        <p:spPr>
          <a:xfrm>
            <a:off x="5219280" y="3860280"/>
            <a:ext cx="289440" cy="12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рямоугольник 5"/>
          <p:cNvSpPr/>
          <p:nvPr/>
        </p:nvSpPr>
        <p:spPr>
          <a:xfrm>
            <a:off x="1547640" y="54936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ующий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684360" y="2421000"/>
            <a:ext cx="2089080" cy="122400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формирования темы и цели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547640" y="465300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словар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140360" y="5373720"/>
            <a:ext cx="208908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начала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6732720" y="2637000"/>
            <a:ext cx="2089080" cy="86328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его про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588000" y="429264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084720" y="692280"/>
            <a:ext cx="2089440" cy="863640"/>
          </a:xfrm>
          <a:prstGeom prst="rect">
            <a:avLst/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творческ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Прямая со стрелкой 19"/>
          <p:cNvCxnSpPr/>
          <p:nvPr/>
        </p:nvCxnSpPr>
        <p:spPr>
          <a:xfrm flipH="1" flipV="1">
            <a:off x="3058920" y="1555560"/>
            <a:ext cx="1152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9"/>
          <p:cNvCxnSpPr/>
          <p:nvPr/>
        </p:nvCxnSpPr>
        <p:spPr>
          <a:xfrm flipH="1">
            <a:off x="2915640" y="2707920"/>
            <a:ext cx="43236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>
            <a:off x="6300720" y="2637000"/>
            <a:ext cx="2880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9"/>
          <p:cNvCxnSpPr/>
          <p:nvPr/>
        </p:nvCxnSpPr>
        <p:spPr>
          <a:xfrm>
            <a:off x="6300360" y="3716280"/>
            <a:ext cx="64836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9"/>
          <p:cNvCxnSpPr/>
          <p:nvPr/>
        </p:nvCxnSpPr>
        <p:spPr>
          <a:xfrm flipH="1">
            <a:off x="2916360" y="3860280"/>
            <a:ext cx="57636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19"/>
          <p:cNvCxnSpPr/>
          <p:nvPr/>
        </p:nvCxnSpPr>
        <p:spPr>
          <a:xfrm flipV="1">
            <a:off x="5508720" y="1699560"/>
            <a:ext cx="1008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2559600" y="606600"/>
            <a:ext cx="36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билизующий эта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49440" y="1628640"/>
            <a:ext cx="5543640" cy="70380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Концентрация внимания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й план действ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Прямая со стрелкой 19"/>
          <p:cNvCxnSpPr/>
          <p:nvPr/>
        </p:nvCxnSpPr>
        <p:spPr>
          <a:xfrm>
            <a:off x="4284360" y="105264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9"/>
          <p:cNvCxnSpPr/>
          <p:nvPr/>
        </p:nvCxnSpPr>
        <p:spPr>
          <a:xfrm>
            <a:off x="4284360" y="242100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 Box 11"/>
          <p:cNvSpPr/>
          <p:nvPr/>
        </p:nvSpPr>
        <p:spPr>
          <a:xfrm>
            <a:off x="2556000" y="299736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Прямая со стрелкой 19"/>
          <p:cNvCxnSpPr/>
          <p:nvPr/>
        </p:nvCxnSpPr>
        <p:spPr>
          <a:xfrm>
            <a:off x="2771280" y="342900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9"/>
          <p:cNvCxnSpPr/>
          <p:nvPr/>
        </p:nvCxnSpPr>
        <p:spPr>
          <a:xfrm>
            <a:off x="4716000" y="342900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19"/>
          <p:cNvCxnSpPr/>
          <p:nvPr/>
        </p:nvCxnSpPr>
        <p:spPr>
          <a:xfrm>
            <a:off x="6516360" y="335772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Text Box 15"/>
          <p:cNvSpPr/>
          <p:nvPr/>
        </p:nvSpPr>
        <p:spPr>
          <a:xfrm>
            <a:off x="1979640" y="400536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развитие наглядно-действенного мышления и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924360" y="395604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совершенствование наглядно-образного мышления и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867280" y="393372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я на развитие словесно- логического мышления и ре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ап формирования темы и 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47640" y="1341360"/>
            <a:ext cx="6337440" cy="100872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Актуализация зна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темы, проблемы уро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ка целей у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Прямая со стрелкой 19"/>
          <p:cNvCxnSpPr/>
          <p:nvPr/>
        </p:nvCxnSpPr>
        <p:spPr>
          <a:xfrm>
            <a:off x="4427640" y="1052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>
            <a:off x="4500360" y="242064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Прямая со стрелкой 19"/>
          <p:cNvCxnSpPr/>
          <p:nvPr/>
        </p:nvCxnSpPr>
        <p:spPr>
          <a:xfrm>
            <a:off x="3564000" y="3428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19"/>
          <p:cNvCxnSpPr/>
          <p:nvPr/>
        </p:nvCxnSpPr>
        <p:spPr>
          <a:xfrm flipH="1">
            <a:off x="1909440" y="3357360"/>
            <a:ext cx="2865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9"/>
          <p:cNvCxnSpPr/>
          <p:nvPr/>
        </p:nvCxnSpPr>
        <p:spPr>
          <a:xfrm>
            <a:off x="5435640" y="349992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 Box 11"/>
          <p:cNvSpPr/>
          <p:nvPr/>
        </p:nvSpPr>
        <p:spPr>
          <a:xfrm>
            <a:off x="2411280" y="285264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042920" y="378936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работу с бук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059280" y="3884760"/>
            <a:ext cx="201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на основе работы с символами, цифрами, схе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076720" y="3933720"/>
            <a:ext cx="18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антиципацию отрезков слов или целых с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948360" y="3500280"/>
            <a:ext cx="20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мы урока, через сравнительный анализ исходных еди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Прямая со стрелкой 19"/>
          <p:cNvCxnSpPr/>
          <p:nvPr/>
        </p:nvCxnSpPr>
        <p:spPr>
          <a:xfrm>
            <a:off x="6876720" y="3141360"/>
            <a:ext cx="36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905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 словар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9"/>
          <p:cNvCxnSpPr/>
          <p:nvPr/>
        </p:nvCxnSpPr>
        <p:spPr>
          <a:xfrm>
            <a:off x="4140360" y="90756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 Box 6"/>
          <p:cNvSpPr/>
          <p:nvPr/>
        </p:nvSpPr>
        <p:spPr>
          <a:xfrm>
            <a:off x="826920" y="1341360"/>
            <a:ext cx="7777440" cy="100872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Учащиеся самостоятельно предопределя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комые слова из нового произве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его предварительного прочт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195640" y="2781360"/>
            <a:ext cx="4176720" cy="39888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агаемые упра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Прямая со стрелкой 19"/>
          <p:cNvCxnSpPr/>
          <p:nvPr/>
        </p:nvCxnSpPr>
        <p:spPr>
          <a:xfrm>
            <a:off x="4140360" y="242100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 flipH="1">
            <a:off x="2052360" y="3284280"/>
            <a:ext cx="504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Text Box 10"/>
          <p:cNvSpPr/>
          <p:nvPr/>
        </p:nvSpPr>
        <p:spPr>
          <a:xfrm>
            <a:off x="971640" y="356868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ь слова осложняется «зашумлением», линиями, штрихам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32000" y="41180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а представляются с отсутствием букв или их ча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19640" y="3956040"/>
            <a:ext cx="18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 направлены на работу с символами, шифрами, код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093080" y="3284640"/>
            <a:ext cx="172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ое слово связывается с изучаемым материалом по русскому язы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19"/>
          <p:cNvCxnSpPr/>
          <p:nvPr/>
        </p:nvCxnSpPr>
        <p:spPr>
          <a:xfrm>
            <a:off x="3924000" y="335736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19"/>
          <p:cNvCxnSpPr/>
          <p:nvPr/>
        </p:nvCxnSpPr>
        <p:spPr>
          <a:xfrm>
            <a:off x="5508720" y="3357360"/>
            <a:ext cx="397440" cy="4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19"/>
          <p:cNvCxnSpPr/>
          <p:nvPr/>
        </p:nvCxnSpPr>
        <p:spPr>
          <a:xfrm>
            <a:off x="6588000" y="2923920"/>
            <a:ext cx="11534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44280"/>
            <a:ext cx="82296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начала ч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806400" y="549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апа: развитие важнейшего читательского умения, как антиципация, т.е. умение предполагать, предвосхищать содержание текста по заглавию, иллюстрации, по фамилии автора и группе ключевых с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ые шаги работы с текстом до начала чт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читают фамилию автора, заглавие произведения, рассматривают иллюстрацию, которая высказывает свои предположения о героях, теме, содерж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читают (про себя, затем вслух) ключевые слова, которые учитель заранее вычленяет из текста и записывает на доске. Уточняют свои предположения о теме произведения, героях, развитии действ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тавит задачу провести "диалог с автором" через текст, проверить и уточнить свои первоначальные предположения. Детям на уроках нужно показать, что чтение - это общение не непосредственно, а через текст, созданный авто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7351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достижение понимания текста на уровне содерж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соблюдать  последовательность действ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ребят видеть в тексте авторские вопросы, прямые и скрыт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творческое воображение учащихся: по слову, детали, иной свернутой текстовой информации читатель прогнозирует, что случится дальше, как будут развиваться события, чем может закончиться этот эпизод (часть, все произведени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ят задавать свои вопросы автору по ходу чтения. Это вопросы, ответы на которые содержатся в тексте, но в неявной, скрытой фор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новка в тексте (в конце предложений) сигналы: В - вопрос (найди, задай), О - ответ (ответь на этот вопрос), П - проверка (проверь точность своих предположений именно в этом месте текста), 3 - зеркало (включи воображение, не торопись читать, загляни в волшебное зеркало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его прочтения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806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ого этапа — достижение понимания на уровне смысла (понимания основной мысли, подтекста — «чтение между строк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або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проблемному вопросу ко всему тексту в целом. Результатом этой беседы должно стать понимание основной мысли произведения, того, что автор прямо не высказал словами, а «спрятал между стро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учителя о писате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е обращение к заглавию и иллюстрации, беседа о смысле заглавия, его связи с главной мыслью, о содержании иллюстрации, взгляде художник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 твор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6920" y="126036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: Выбор творческого задания направленного на одну из сфер читательской деятельности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304280" y="2276640"/>
            <a:ext cx="753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ирование, устное словесное рисова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диафильма к тексту, инсценирование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ем кодирования информации текста с помощ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овой гаммы, подбор фразеологизмов к героя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высказываний по аналогии с отрыв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читанного тек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нового объекта в связи с прочитанным произвед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6" descr="06493.gif"/>
          <p:cNvPicPr/>
          <p:nvPr/>
        </p:nvPicPr>
        <p:blipFill>
          <a:blip r:embed="rId1"/>
          <a:stretch/>
        </p:blipFill>
        <p:spPr>
          <a:xfrm>
            <a:off x="6443640" y="333360"/>
            <a:ext cx="2297160" cy="2400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 flipV="1" rot="10800000">
            <a:off x="2047680" y="834120"/>
            <a:ext cx="43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42920" y="2781360"/>
            <a:ext cx="63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Благодарю за внимание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3924360" y="189000"/>
            <a:ext cx="4968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тать - это ещё ничего не значит; что читать и как понимать прочитанное – вот в чём главное дело</a:t>
            </a: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.</a:t>
            </a:r>
            <a:br>
              <a:rPr sz="1800"/>
            </a:br>
            <a:r>
              <a:rPr b="1" i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.Д.Ушинский. </a:t>
            </a:r>
            <a:br>
              <a:rPr sz="1800"/>
            </a:b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 </a:t>
            </a:r>
            <a:br>
              <a:rPr sz="1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547640" y="1916280"/>
            <a:ext cx="62247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навыка продуктивного чтения младших школьников средствами  технологии критического мыш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Перо"/>
          <p:cNvPicPr/>
          <p:nvPr/>
        </p:nvPicPr>
        <p:blipFill>
          <a:blip r:embed="rId1"/>
          <a:stretch/>
        </p:blipFill>
        <p:spPr>
          <a:xfrm>
            <a:off x="7956720" y="5229360"/>
            <a:ext cx="7826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547560"/>
            <a:ext cx="59767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Если в начальной школ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и мало читали, мало мыслили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них складывалась структур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одеятельного мозга»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207880"/>
            <a:ext cx="84456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ым условием успешности обучения чтению и литературного образования детей в начальной школе является обязательность собственной читательской и учебной деятельности ученика, при которой обучающийся наравне с учителем становится субъектом и учебного процесса в целом, и процесса чтения в ча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19280" y="4005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чь высокого уровня активной и осознанной деятельности школьников, обеспечить субъективизацию  процесса обучения литературному чтению возможно посредством  использования в учебной практике такой  технологии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80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539640" algn="just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71680" y="271476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1600200" indent="-2286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лияния технологии критического мышления на формирование навыка продуктивного чтен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835280" y="3573360"/>
            <a:ext cx="691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357120" y="28584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771640" y="4035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работы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087560"/>
            <a:ext cx="74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ущность технологии критического мышления, охарактеризовать ее функции с тем, чтобы установить значение  её  компонентов  для учеб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теоретические основы формирования продуктивного чтения  младших школьников в учебном процессе посредством данной технологии;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58920" y="278136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руктуру современного урока литературного чтения и определить возможности использования технологии критического мышления для формирования навыка продуктивного чт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серию конспектов - уроков по теме работы, кейс с   заданиями  для обучающихся к  разным стадиям-этапам уро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-357120"/>
            <a:ext cx="896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179280" y="112536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1285920" y="4000680"/>
            <a:ext cx="742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50920" y="1049400"/>
            <a:ext cx="91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с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я навыка продуктивного чтения младших школь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2205000"/>
            <a:ext cx="866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 критического мышл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26920" y="3273480"/>
            <a:ext cx="827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использовать технологию критического мышления  в системе на разных этапах урока литературного чтения, то будет обеспечено повышение показателей качества продуктивного чтения 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1785960" y="404640"/>
            <a:ext cx="707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ритическое мышление» был введен в  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66840" y="476280"/>
            <a:ext cx="1276200" cy="1547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500200" y="24922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050920" y="3284640"/>
            <a:ext cx="6985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ики  – сравнительно новое понятие.  Преимущественная сфера применения – обучение чтению. Продуктивное чтение -……………………. и успешно используется для работы с книгой и текстом в технологии формирования типа правильной читательск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57120" y="2143080"/>
            <a:ext cx="849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ехнология крит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рь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591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ункции технологии критического                                             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9"/>
          <p:cNvCxnSpPr/>
          <p:nvPr/>
        </p:nvCxnSpPr>
        <p:spPr>
          <a:xfrm flipH="1">
            <a:off x="1978920" y="126792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9"/>
          <p:cNvCxnSpPr/>
          <p:nvPr/>
        </p:nvCxnSpPr>
        <p:spPr>
          <a:xfrm>
            <a:off x="4500720" y="1196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6948000" y="126792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 Box 7"/>
          <p:cNvSpPr/>
          <p:nvPr/>
        </p:nvSpPr>
        <p:spPr>
          <a:xfrm>
            <a:off x="826920" y="1773360"/>
            <a:ext cx="23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я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ажается в опережающей подготовке, прогнозе результатов действий и построение его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03640" y="1413000"/>
            <a:ext cx="290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гни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язана с осуществлением различных познавательных процессов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243480" y="1844640"/>
            <a:ext cx="290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любое общение, взаимодействие между детьми, способность узнавать эмоциональное состояние друг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6" descr="06493.gif"/>
          <p:cNvPicPr/>
          <p:nvPr/>
        </p:nvPicPr>
        <p:blipFill>
          <a:blip r:embed="rId1"/>
          <a:stretch/>
        </p:blipFill>
        <p:spPr>
          <a:xfrm>
            <a:off x="7596360" y="4653000"/>
            <a:ext cx="12967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285840" y="-29376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1547640" y="404640"/>
            <a:ext cx="7139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ецифические принципы проведения урока литературного чтения с  технологии развития критического мыш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предварительного осознания учащимися содержания и видов учебных действий на уроке литературного чтения состоит в том, что учащиеся привлекаются к планированию, организации и проведению учебного процесс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возрастающего объёма используемых техник     предполагает привлечение детей к планированию, организации и проведению урока литературного чтения, осуществляется постепен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нцип триединого развивающего характера заданий для прогнозирования учащимися содержания и видов учебных действий: развитие  продуктивного чтения, речевое разви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Перо"/>
          <p:cNvPicPr/>
          <p:nvPr/>
        </p:nvPicPr>
        <p:blipFill>
          <a:blip r:embed="rId1"/>
          <a:stretch/>
        </p:blipFill>
        <p:spPr>
          <a:xfrm>
            <a:off x="468360" y="3645000"/>
            <a:ext cx="1492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18:15Z</dcterms:created>
  <dc:creator>1</dc:creator>
  <dc:description/>
  <dc:language>en-US</dc:language>
  <cp:lastModifiedBy>Larisa</cp:lastModifiedBy>
  <dcterms:modified xsi:type="dcterms:W3CDTF">2015-10-10T05:30:23Z</dcterms:modified>
  <cp:revision>105</cp:revision>
  <dc:subject/>
  <dc:title>антиципация</dc:title>
</cp:coreProperties>
</file>