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8D1-5418-4380-A79B-7552345C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F34-DAC6-4C94-8BC3-D17E7446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9EB-E2FC-4858-BBDA-4E8BA7D2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DA7-3907-498D-84F9-E626D52A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6D9-AF7C-4A16-8B08-2177D4D3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67F-7E75-4EEA-B6E0-A1FB4496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147-347D-4722-ACF0-F1E863E3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921-C103-4322-AF6A-C450449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4EF-B21A-4750-84AA-6A988848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F89-7030-45E2-87DE-B9DA9503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6BA-3CEF-4319-A435-C9BA52F5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985-AE2A-432F-AC42-2103A148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87B5-0B05-485E-985A-6B5E243A1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88880" y="639720"/>
            <a:ext cx="707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родская основная общеобразовательная школа» отделени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онного обучения  г.Калязина  Тверской обла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419640" y="436572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Блинов Владимир Николаевич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618720" y="6184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g4"/>
          <p:cNvPicPr/>
          <p:nvPr/>
        </p:nvPicPr>
        <p:blipFill>
          <a:blip r:embed="rId1"/>
          <a:stretch/>
        </p:blipFill>
        <p:spPr>
          <a:xfrm>
            <a:off x="324000" y="364500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g3"/>
          <p:cNvPicPr/>
          <p:nvPr/>
        </p:nvPicPr>
        <p:blipFill>
          <a:blip r:embed="rId2"/>
          <a:stretch/>
        </p:blipFill>
        <p:spPr>
          <a:xfrm>
            <a:off x="1258920" y="443700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547640" y="2205000"/>
            <a:ext cx="6048720" cy="19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d023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ЗНЫЕ ИСКОПАЕМЫЕ</a:t>
            </a:r>
            <a:endParaRPr b="0" i="1" lang="en-US" sz="1800" spc="1" strike="noStrike">
              <a:ln w="0">
                <a:noFill/>
              </a:ln>
              <a:solidFill>
                <a:srgbClr val="d023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d023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нит</a:t>
            </a:r>
            <a:endParaRPr b="0" i="1" lang="en-US" sz="1800" spc="1" strike="noStrike">
              <a:ln w="0">
                <a:noFill/>
              </a:ln>
              <a:solidFill>
                <a:srgbClr val="d023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0">
                <a:noFill/>
              </a:ln>
              <a:solidFill>
                <a:srgbClr val="d023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0">
                <a:noFill/>
              </a:ln>
              <a:solidFill>
                <a:srgbClr val="d023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2693880" y="3244680"/>
            <a:ext cx="37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2693880" y="3244680"/>
            <a:ext cx="43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 биологии, 6 класс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а 8 ви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47640" y="1341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Полевой шпат определяет цвет  гранита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Блеск граниту  придает  слюда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kapust_gr"/>
          <p:cNvPicPr/>
          <p:nvPr/>
        </p:nvPicPr>
        <p:blipFill>
          <a:blip r:embed="rId1"/>
          <a:stretch/>
        </p:blipFill>
        <p:spPr>
          <a:xfrm>
            <a:off x="6659640" y="414972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isetskii_granit1525306724granit4"/>
          <p:cNvPicPr/>
          <p:nvPr/>
        </p:nvPicPr>
        <p:blipFill>
          <a:blip r:embed="rId2"/>
          <a:stretch/>
        </p:blipFill>
        <p:spPr>
          <a:xfrm>
            <a:off x="395280" y="2205000"/>
            <a:ext cx="2664000" cy="167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MdLiryo2wLg48M"/>
          <p:cNvPicPr/>
          <p:nvPr/>
        </p:nvPicPr>
        <p:blipFill>
          <a:blip r:embed="rId3"/>
          <a:stretch/>
        </p:blipFill>
        <p:spPr>
          <a:xfrm>
            <a:off x="3564000" y="4076640"/>
            <a:ext cx="2592360" cy="226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4EwI872EbrI6iM"/>
          <p:cNvPicPr/>
          <p:nvPr/>
        </p:nvPicPr>
        <p:blipFill>
          <a:blip r:embed="rId4"/>
          <a:stretch/>
        </p:blipFill>
        <p:spPr>
          <a:xfrm>
            <a:off x="3564000" y="2205000"/>
            <a:ext cx="2593800" cy="167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P9LQ9RQ9bYXWM"/>
          <p:cNvPicPr/>
          <p:nvPr/>
        </p:nvPicPr>
        <p:blipFill>
          <a:blip r:embed="rId5"/>
          <a:stretch/>
        </p:blipFill>
        <p:spPr>
          <a:xfrm>
            <a:off x="6659640" y="2205000"/>
            <a:ext cx="216036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pic497_b"/>
          <p:cNvPicPr/>
          <p:nvPr/>
        </p:nvPicPr>
        <p:blipFill>
          <a:blip r:embed="rId6"/>
          <a:stretch/>
        </p:blipFill>
        <p:spPr>
          <a:xfrm>
            <a:off x="324000" y="4149720"/>
            <a:ext cx="2735280" cy="21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3851280" y="404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2306"/>
                </a:solidFill>
                <a:latin typeface="Garamond"/>
              </a:rPr>
              <a:t>ЦВЕ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50920" y="54936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1</a:t>
            </a:r>
            <a:r>
              <a:rPr b="0" i="1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.</a:t>
            </a: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Долговечность</a:t>
            </a:r>
            <a:r>
              <a:rPr b="0" i="1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.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ушается после 500 лет, из-за этот камень часто называют «вечным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2.Проч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  очень прочный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3.</a:t>
            </a: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Водонепроницаем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камень практически не впитывает влаг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Экологич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 радиационно безопасен и може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ся во всех видах строительства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5.Богатство факту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большие декоративные возможности( очень  красив)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6.Совместимость с другими материал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 прекрасно  сочетается с металлом, деревом, керамикой и другими материалами, используемыми в строительстве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19800" y="15084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2707"/>
                </a:solidFill>
                <a:latin typeface="Garamond"/>
              </a:rPr>
              <a:t>СВОЙ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granit2"/>
          <p:cNvPicPr/>
          <p:nvPr/>
        </p:nvPicPr>
        <p:blipFill>
          <a:blip r:embed="rId1"/>
          <a:stretch/>
        </p:blipFill>
        <p:spPr>
          <a:xfrm>
            <a:off x="6705720" y="1523880"/>
            <a:ext cx="2255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42920" y="47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125360"/>
          <a:ext cx="8229600" cy="5183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14" descr="1"/>
          <p:cNvPicPr/>
          <p:nvPr/>
        </p:nvPicPr>
        <p:blipFill>
          <a:blip r:embed="rId1"/>
          <a:stretch/>
        </p:blipFill>
        <p:spPr>
          <a:xfrm>
            <a:off x="5003640" y="1268280"/>
            <a:ext cx="3095640" cy="194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image007"/>
          <p:cNvPicPr/>
          <p:nvPr/>
        </p:nvPicPr>
        <p:blipFill>
          <a:blip r:embed="rId2"/>
          <a:stretch/>
        </p:blipFill>
        <p:spPr>
          <a:xfrm>
            <a:off x="900000" y="3789360"/>
            <a:ext cx="3097440" cy="2149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koridor"/>
          <p:cNvPicPr/>
          <p:nvPr/>
        </p:nvPicPr>
        <p:blipFill>
          <a:blip r:embed="rId3"/>
          <a:stretch/>
        </p:blipFill>
        <p:spPr>
          <a:xfrm>
            <a:off x="5003640" y="3789360"/>
            <a:ext cx="3238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main"/>
          <p:cNvPicPr/>
          <p:nvPr/>
        </p:nvPicPr>
        <p:blipFill>
          <a:blip r:embed="rId4"/>
          <a:stretch/>
        </p:blipFill>
        <p:spPr>
          <a:xfrm>
            <a:off x="755640" y="1268280"/>
            <a:ext cx="3409920" cy="2016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1959120" y="3213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ск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994720" y="3160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тниц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981440" y="59371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6135840" y="595008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н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68360" y="1268280"/>
          <a:ext cx="8229600" cy="489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13" descr="3kl7xYnwzhPjbM"/>
          <p:cNvPicPr/>
          <p:nvPr/>
        </p:nvPicPr>
        <p:blipFill>
          <a:blip r:embed="rId1"/>
          <a:stretch/>
        </p:blipFill>
        <p:spPr>
          <a:xfrm>
            <a:off x="1116000" y="3789360"/>
            <a:ext cx="2881440" cy="194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_i1160"/>
          <p:cNvPicPr/>
          <p:nvPr/>
        </p:nvPicPr>
        <p:blipFill>
          <a:blip r:embed="rId2"/>
          <a:stretch/>
        </p:blipFill>
        <p:spPr>
          <a:xfrm>
            <a:off x="5580000" y="1484280"/>
            <a:ext cx="2087640" cy="1779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6084720" y="3213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Балясин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959120" y="5734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усчат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cd3Apr45ZGNqIM"/>
          <p:cNvPicPr/>
          <p:nvPr/>
        </p:nvPicPr>
        <p:blipFill>
          <a:blip r:embed="rId3"/>
          <a:stretch/>
        </p:blipFill>
        <p:spPr>
          <a:xfrm>
            <a:off x="1763640" y="1413000"/>
            <a:ext cx="1652760" cy="1871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8"/>
          <p:cNvSpPr/>
          <p:nvPr/>
        </p:nvSpPr>
        <p:spPr>
          <a:xfrm>
            <a:off x="212400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– 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103480" y="32846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з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70_62"/>
          <p:cNvPicPr/>
          <p:nvPr/>
        </p:nvPicPr>
        <p:blipFill>
          <a:blip r:embed="rId4"/>
          <a:stretch/>
        </p:blipFill>
        <p:spPr>
          <a:xfrm>
            <a:off x="5219640" y="3789360"/>
            <a:ext cx="2737080" cy="2048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1"/>
          <p:cNvSpPr/>
          <p:nvPr/>
        </p:nvSpPr>
        <p:spPr>
          <a:xfrm>
            <a:off x="6158520" y="57927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Ками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68360" y="1484280"/>
          <a:ext cx="7991280" cy="51134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28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13" descr="YUtp5P7jGBrvVM"/>
          <p:cNvPicPr/>
          <p:nvPr/>
        </p:nvPicPr>
        <p:blipFill>
          <a:blip r:embed="rId1"/>
          <a:stretch/>
        </p:blipFill>
        <p:spPr>
          <a:xfrm>
            <a:off x="1042920" y="1773360"/>
            <a:ext cx="2881440" cy="18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P1000785_b"/>
          <p:cNvPicPr/>
          <p:nvPr/>
        </p:nvPicPr>
        <p:blipFill>
          <a:blip r:embed="rId2"/>
          <a:stretch/>
        </p:blipFill>
        <p:spPr>
          <a:xfrm>
            <a:off x="5076720" y="184464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podok01"/>
          <p:cNvPicPr/>
          <p:nvPr/>
        </p:nvPicPr>
        <p:blipFill>
          <a:blip r:embed="rId3"/>
          <a:stretch/>
        </p:blipFill>
        <p:spPr>
          <a:xfrm>
            <a:off x="5076720" y="4508640"/>
            <a:ext cx="2808360" cy="1614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6"/>
          <p:cNvSpPr/>
          <p:nvPr/>
        </p:nvSpPr>
        <p:spPr>
          <a:xfrm>
            <a:off x="2268360" y="404640"/>
            <a:ext cx="60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amyatniki_bruschatka_plitka_oblitsovochnaya_izdeliya_iz_granita_i_t_d_16553956_1_F"/>
          <p:cNvPicPr/>
          <p:nvPr/>
        </p:nvPicPr>
        <p:blipFill>
          <a:blip r:embed="rId4"/>
          <a:stretch/>
        </p:blipFill>
        <p:spPr>
          <a:xfrm>
            <a:off x="1332000" y="4508640"/>
            <a:ext cx="2232000" cy="1617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1979640" y="38941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хн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651640" y="393372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ешниц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1908000" y="616572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Памятник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565164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конник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68360" y="1197000"/>
          <a:ext cx="8229600" cy="5416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13" descr="00cq6gz8"/>
          <p:cNvPicPr/>
          <p:nvPr/>
        </p:nvPicPr>
        <p:blipFill>
          <a:blip r:embed="rId1"/>
          <a:stretch/>
        </p:blipFill>
        <p:spPr>
          <a:xfrm>
            <a:off x="1042920" y="1484280"/>
            <a:ext cx="2952720" cy="2085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1042920" y="328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Набереж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7857339"/>
          <p:cNvPicPr/>
          <p:nvPr/>
        </p:nvPicPr>
        <p:blipFill>
          <a:blip r:embed="rId2"/>
          <a:stretch/>
        </p:blipFill>
        <p:spPr>
          <a:xfrm>
            <a:off x="5796000" y="1413000"/>
            <a:ext cx="1643040" cy="2087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6"/>
          <p:cNvSpPr/>
          <p:nvPr/>
        </p:nvSpPr>
        <p:spPr>
          <a:xfrm>
            <a:off x="5651640" y="3500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у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7" descr="ckurkino3"/>
          <p:cNvPicPr/>
          <p:nvPr/>
        </p:nvPicPr>
        <p:blipFill>
          <a:blip r:embed="rId3"/>
          <a:stretch/>
        </p:blipFill>
        <p:spPr>
          <a:xfrm>
            <a:off x="1116000" y="4149720"/>
            <a:ext cx="26640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8"/>
          <p:cNvSpPr/>
          <p:nvPr/>
        </p:nvSpPr>
        <p:spPr>
          <a:xfrm>
            <a:off x="2124000" y="6165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Фас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9" descr="111180"/>
          <p:cNvPicPr/>
          <p:nvPr/>
        </p:nvPicPr>
        <p:blipFill>
          <a:blip r:embed="rId4"/>
          <a:stretch/>
        </p:blipFill>
        <p:spPr>
          <a:xfrm>
            <a:off x="5148360" y="4076640"/>
            <a:ext cx="2977920" cy="1979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0"/>
          <p:cNvSpPr/>
          <p:nvPr/>
        </p:nvSpPr>
        <p:spPr>
          <a:xfrm>
            <a:off x="594036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Дорож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1935000" y="404640"/>
            <a:ext cx="63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13" descr="62603_w640_h640_da5"/>
          <p:cNvPicPr/>
          <p:nvPr/>
        </p:nvPicPr>
        <p:blipFill>
          <a:blip r:embed="rId1"/>
          <a:stretch/>
        </p:blipFill>
        <p:spPr>
          <a:xfrm>
            <a:off x="1042920" y="1773360"/>
            <a:ext cx="2806920" cy="1992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4"/>
          <p:cNvSpPr/>
          <p:nvPr/>
        </p:nvSpPr>
        <p:spPr>
          <a:xfrm>
            <a:off x="1456200" y="37368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Столы и стуль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4"/>
          <p:cNvPicPr/>
          <p:nvPr/>
        </p:nvPicPr>
        <p:blipFill>
          <a:blip r:embed="rId2"/>
          <a:stretch/>
        </p:blipFill>
        <p:spPr>
          <a:xfrm>
            <a:off x="5292720" y="1773360"/>
            <a:ext cx="2808360" cy="1979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6"/>
          <p:cNvSpPr/>
          <p:nvPr/>
        </p:nvSpPr>
        <p:spPr>
          <a:xfrm>
            <a:off x="6156360" y="37497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Клумб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OMQfcCn8Y1NsGM"/>
          <p:cNvPicPr/>
          <p:nvPr/>
        </p:nvPicPr>
        <p:blipFill>
          <a:blip r:embed="rId3"/>
          <a:stretch/>
        </p:blipFill>
        <p:spPr>
          <a:xfrm>
            <a:off x="1258920" y="4292640"/>
            <a:ext cx="2449440" cy="1835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8"/>
          <p:cNvSpPr/>
          <p:nvPr/>
        </p:nvSpPr>
        <p:spPr>
          <a:xfrm>
            <a:off x="3579840" y="638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549800" y="622476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Садовая бесед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0" descr="mozaika_mramora_116"/>
          <p:cNvPicPr/>
          <p:nvPr/>
        </p:nvPicPr>
        <p:blipFill>
          <a:blip r:embed="rId4"/>
          <a:stretch/>
        </p:blipFill>
        <p:spPr>
          <a:xfrm>
            <a:off x="5580000" y="4221000"/>
            <a:ext cx="2374920" cy="1944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1"/>
          <p:cNvSpPr/>
          <p:nvPr/>
        </p:nvSpPr>
        <p:spPr>
          <a:xfrm>
            <a:off x="6229080" y="61531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Мозаи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935000" y="620640"/>
            <a:ext cx="63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ГРАНИТ - </a:t>
            </a: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268280"/>
          <a:ext cx="8229600" cy="496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4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14" descr="fontanh21_resize"/>
          <p:cNvPicPr/>
          <p:nvPr/>
        </p:nvPicPr>
        <p:blipFill>
          <a:blip r:embed="rId1"/>
          <a:stretch/>
        </p:blipFill>
        <p:spPr>
          <a:xfrm>
            <a:off x="755640" y="1413000"/>
            <a:ext cx="340992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mavzoley"/>
          <p:cNvPicPr/>
          <p:nvPr/>
        </p:nvPicPr>
        <p:blipFill>
          <a:blip r:embed="rId2"/>
          <a:stretch/>
        </p:blipFill>
        <p:spPr>
          <a:xfrm>
            <a:off x="4932360" y="1484280"/>
            <a:ext cx="3409920" cy="194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LK0IKi9u28zRJM"/>
          <p:cNvPicPr/>
          <p:nvPr/>
        </p:nvPicPr>
        <p:blipFill>
          <a:blip r:embed="rId3"/>
          <a:stretch/>
        </p:blipFill>
        <p:spPr>
          <a:xfrm>
            <a:off x="5076720" y="393372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7"/>
          <p:cNvSpPr/>
          <p:nvPr/>
        </p:nvSpPr>
        <p:spPr>
          <a:xfrm>
            <a:off x="190800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та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867280" y="5877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5940360" y="33894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взоле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0" descr="skameiki-vazoni-granit-01"/>
          <p:cNvPicPr/>
          <p:nvPr/>
        </p:nvPicPr>
        <p:blipFill>
          <a:blip r:embed="rId4"/>
          <a:stretch/>
        </p:blipFill>
        <p:spPr>
          <a:xfrm>
            <a:off x="900000" y="3789360"/>
            <a:ext cx="3024360" cy="2009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1908000" y="5864400"/>
            <a:ext cx="13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зон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нит выдерживает температуры до 800 С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и природных минералов по прочности он занимает второе место после алма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легко пол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 70 отте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 в обрабо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нит тяжё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трудно доб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т дор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 к мор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ревности на Ру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нит назыв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икий камен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136320" y="5810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2707"/>
                </a:solidFill>
                <a:latin typeface="Garamond"/>
              </a:rPr>
              <a:t>ЭТО ИНТЕРЕСНО</a:t>
            </a:r>
            <a:r>
              <a:rPr b="0" lang="ru-RU" sz="1800" spc="-1" strike="noStrike">
                <a:solidFill>
                  <a:srgbClr val="e72707"/>
                </a:solidFill>
                <a:latin typeface="Garamond"/>
              </a:rPr>
              <a:t>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1246251163_axmed"/>
          <p:cNvPicPr/>
          <p:nvPr/>
        </p:nvPicPr>
        <p:blipFill>
          <a:blip r:embed="rId1"/>
          <a:stretch/>
        </p:blipFill>
        <p:spPr>
          <a:xfrm>
            <a:off x="3132000" y="2276640"/>
            <a:ext cx="56880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img2"/>
          <p:cNvPicPr/>
          <p:nvPr/>
        </p:nvPicPr>
        <p:blipFill>
          <a:blip r:embed="rId1"/>
          <a:stretch/>
        </p:blipFill>
        <p:spPr>
          <a:xfrm>
            <a:off x="1763640" y="1341360"/>
            <a:ext cx="604836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132000" y="549360"/>
            <a:ext cx="41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2707"/>
                </a:solidFill>
                <a:latin typeface="Arial"/>
              </a:rPr>
              <a:t>ДОБЫВАНИЕ ГРАНИТ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цели и задач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формировать у детей представление о составе грани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сширить имеющиеся у обучающихся знания о свойствах грани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казать значение и использование гранита в хозяйстве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знакомить детей со способами добычи и нахождением гранита в прир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тренировать умение работать с текстом учебника, работать со схе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тренировать коммуникативные умения, слушать друг друга, высказывать свою точку зрения и аргументировать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50920" y="2060640"/>
            <a:ext cx="46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 - 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натуральный камень. Каждый кусочек камня имеет неповторимую индивидуальность, а в умелых руках мастеров становится настоящим произведением искусства. </a:t>
            </a:r>
            <a:br>
              <a:rPr sz="1800"/>
            </a:b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Жизнь гранита измеряется веками, но даже "стареет" натуральный камень красив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Koshelek"/>
          <p:cNvPicPr/>
          <p:nvPr/>
        </p:nvPicPr>
        <p:blipFill>
          <a:blip r:embed="rId1"/>
          <a:stretch/>
        </p:blipFill>
        <p:spPr>
          <a:xfrm>
            <a:off x="2195640" y="260280"/>
            <a:ext cx="1728720" cy="145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1260431592_vase1"/>
          <p:cNvPicPr/>
          <p:nvPr/>
        </p:nvPicPr>
        <p:blipFill>
          <a:blip r:embed="rId2"/>
          <a:stretch/>
        </p:blipFill>
        <p:spPr>
          <a:xfrm>
            <a:off x="46836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193550_w640_h640_kamin_mal"/>
          <p:cNvPicPr/>
          <p:nvPr/>
        </p:nvPicPr>
        <p:blipFill>
          <a:blip r:embed="rId3"/>
          <a:stretch/>
        </p:blipFill>
        <p:spPr>
          <a:xfrm>
            <a:off x="5292720" y="692280"/>
            <a:ext cx="3529080" cy="544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IMG_0150"/>
          <p:cNvPicPr/>
          <p:nvPr/>
        </p:nvPicPr>
        <p:blipFill>
          <a:blip r:embed="rId4"/>
          <a:stretch/>
        </p:blipFill>
        <p:spPr>
          <a:xfrm>
            <a:off x="1476360" y="4365720"/>
            <a:ext cx="28335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Первичное  закрепление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учебником: прочить материал и ответить на вопросы к тек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 чего состоит гран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ой из минералов в составе гранита придает ему бле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Что  означает слово « гранит»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ыберите свойства грани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ость, долговечность, экологичность, водопроницаемость, сыпу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Где в природе можно  найти гранит?*( на поверхности земли, в горных реках и целые горы могут состоять из гран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я учебной деятельност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О чем  мы говорили  сегодня  на  уроке?                        Как вы считаете,  достигли ли  мы   поставленной цел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аких источников  мы осуществили  открытие новых знаний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равился ли вам  данный урок?*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чем вы расскажете  дома своим родителям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ении позвольте загадать вам загадку  и получить  её разгадк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очень прочен и упруг,  Строителям – надежный друг: Дома, ступени, постаменты  Красивы будут и заме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читать текст учебника на стр. 116-119 и ответить на вопросы и задания на стр.1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ПАСИБО   за 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ограммы для специальных( коррекционных)образовательных учреждений 8 вида под редакцией В.В.Воронковой. М: Просвещение,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.И.Никишов. Биология. Неживая природа. 6 класс: учеб. для спец. ( коррекц.)  образоват. учреждений  8 вида. М.: Просвещение,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.Ю. Целоусова, Т.ВМаксимова. Поурочные разработки по курсу Окружающий мир.3 кл. М. « Вако»,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 работы: беседа, работа с лупой и учебником, географической кар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ние: лупы, кусочки гранита, физическая карт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урока: комбинирова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рганизационный момент(сообщение даты,  изучаемой темы, темы урока, психологический настрой обучающихс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амоопределение к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онтальная 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теме были посвящены прошлые уроки?( Что такое полезные ископаемые. Полезные ископаемые, используемые в строительств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чем мы говорили на прошлом уроке?( О строительных материалах и полезных ископаемых, из которых они изготовлены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 думаете, зачем  мы с вами  им уделяем  столько внимания?( Они играют важную роль в жизни челове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, правильно.  Сегодня мы продолжим разговор о полезных ископаемых, применяемых в строительстве. Каждый из вас на уроке постарается самостоятельно сделать ещё один шаг вперед. Возможно, у вас будут ошибки, но только преодолев собственные ошибки, вы сможете открыть новые знания для самих себя. Вам предстоит интересная работа! Я желаю вам успех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 будете открывать новые знания?  В течение урока  будем заполнять   ЛОК( логически опорный конспект) и постараемся ответить на вопросы  т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Актуализац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 фронтальной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 чем приступить к изучению новой темы, что необходимо сделать?( надо повторить пройденный материал, необходимый для открытия новог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ьте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полезные ископаемые? Почему их так на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значают слова « геология», геоло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акие группы мы поделим все полезные ископаем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строительные материалы, из которых можно построить дом, школу, магазин,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думаете из чего они изготовле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немного  отдохнем, Встанем, глубоко вздохн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 по лесу гуляли, За природой наблюд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рх на солнце посмотрели, И их всех лучи согр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а у нас на свете- Стали карликам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отом все дружно встали, Великанами мы 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жно хлопаем, Ногами топа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мы погуляли И немножечко устал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е темы и урока цели : ( узнаете, отгадав  следующую загад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адка.      Я, конечно,  знаменит. То как  памятник ст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порой мост  держу. Залегаю я в гора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нит. Внешний вид и свойства. Добыча и использ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997-31333229"/>
          <p:cNvPicPr/>
          <p:nvPr/>
        </p:nvPicPr>
        <p:blipFill>
          <a:blip r:embed="rId1"/>
          <a:stretch/>
        </p:blipFill>
        <p:spPr>
          <a:xfrm>
            <a:off x="4191120" y="4038480"/>
            <a:ext cx="3409920" cy="256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g3"/>
          <p:cNvPicPr/>
          <p:nvPr/>
        </p:nvPicPr>
        <p:blipFill>
          <a:blip r:embed="rId2"/>
          <a:stretch/>
        </p:blipFill>
        <p:spPr>
          <a:xfrm>
            <a:off x="1447920" y="44956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 новых  знан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ая    рабо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кусочек гранита с помощью лупы и выясните из каких частиц  он со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каких частиц больше и какие частицы придают цвет грани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ещё частицы в составе гранита  вы увид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в тексте учебника значение слова « грани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4360" y="40464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горная порода, натуральный камень (в переводе «зернистый»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2987640" y="458136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 flipV="1">
            <a:off x="2843280" y="350028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3203640" y="206064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M-Q-gwin-FM"/>
          <p:cNvPicPr/>
          <p:nvPr/>
        </p:nvPicPr>
        <p:blipFill>
          <a:blip r:embed="rId1"/>
          <a:stretch/>
        </p:blipFill>
        <p:spPr>
          <a:xfrm>
            <a:off x="4211640" y="906480"/>
            <a:ext cx="2448000" cy="164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7308720" y="1628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gdbT09XJ7r5ocM"/>
          <p:cNvPicPr/>
          <p:nvPr/>
        </p:nvPicPr>
        <p:blipFill>
          <a:blip r:embed="rId2"/>
          <a:stretch/>
        </p:blipFill>
        <p:spPr>
          <a:xfrm>
            <a:off x="3995640" y="2781360"/>
            <a:ext cx="302436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img377"/>
          <p:cNvPicPr/>
          <p:nvPr/>
        </p:nvPicPr>
        <p:blipFill>
          <a:blip r:embed="rId3"/>
          <a:stretch/>
        </p:blipFill>
        <p:spPr>
          <a:xfrm>
            <a:off x="4211640" y="4797360"/>
            <a:ext cx="2738520" cy="1854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752472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7020000" y="34290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258920" y="48690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2707"/>
                </a:solidFill>
                <a:latin typeface="Garamond"/>
              </a:rPr>
              <a:t>ГРАНИ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1997-31333229"/>
          <p:cNvPicPr/>
          <p:nvPr/>
        </p:nvPicPr>
        <p:blipFill>
          <a:blip r:embed="rId4"/>
          <a:stretch/>
        </p:blipFill>
        <p:spPr>
          <a:xfrm>
            <a:off x="250920" y="2133720"/>
            <a:ext cx="34099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5-09-28T14:40:3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