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breeze.wav" ContentType="audio/x-wav"/>
  <Override PartName="/ppt/media/cashreg.wav" ContentType="audio/x-wav"/>
  <Override PartName="/ppt/media/applause.wav" ContentType="audio/x-wav"/>
  <Override PartName="/ppt/media/chimes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push.wav" ContentType="audio/x-wav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EF67-AB8E-43A6-A4C7-5DF0D3140554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6DC0-9223-459F-800E-9FB0EEDC372B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i="1" lang="en-US" sz="12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40B3-956C-4C30-B632-5695D029AEEB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i="1" lang="en-US" sz="12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9DA-89D0-4FC8-8134-439D7AF8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CC4-D3D9-4A2A-BEF0-11330405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68062-5602-4818-8AE7-1C1F125B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3F186-27C3-40F3-A95C-00D20212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27D37-3C1C-4470-BB32-EF109072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F7440-220D-4CFC-B03B-C345D846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32DB2-017B-4209-ABE3-74FB8858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549CB-3DFA-4A94-A3D3-C0EB476F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3FA3C-DFE1-4557-9D95-324B435F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793F1-DFE3-42B3-8B5C-BD142902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FB850-6F77-4C25-A7A7-CF612B1C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66BA5-C6D0-49CE-9E23-BF13F587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66C-1342-4469-B12D-594B4E8D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BEB40-D618-406F-B6D1-A0BFA079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DB942-C7DF-433B-85D1-9BED0C1F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73B0F-1A14-4B0C-9806-1F0107B9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53A2B-CDE3-4274-B914-2953AA45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1C375-D74D-40A7-892F-BDA84FC5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E27ED-CDCD-4E51-8A84-99C42DBF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DEBCD-1C83-4C29-AEF7-B5B41738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8CA1F-89EA-4E97-A3B4-FC1F9A4E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7B974-BA97-4535-BE01-579581F5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C4444-3925-49C3-AD63-9B7175C2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B15-51F9-40AF-8E42-828ECF46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59C1A-B1A4-46EE-8149-1A4E0479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DFFA9-CB44-49F5-8BE5-7C0BDA72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73B59-F2BF-4E84-9319-2FBA1834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5E5AC-222C-4DE2-87B7-E87D5CF6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CC286-0A2D-44E0-8569-D7846D36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E6793-A27A-416D-BE6B-864DF313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3AD39-F201-4AF1-86F9-384817E5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7C5DD-14E4-4CE6-9AB4-C94B0C3D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A6528-241F-47E2-9278-44211A99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FC35E-8BE5-429A-B03D-1791B091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D2CE-EEB9-470F-9556-59232B43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60E2F-02F5-45C4-94C1-961161B4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31EC3-600C-4B3F-ABD8-3D107589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FC9BE-6D2A-4CA8-9886-F523F483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E1BEE-2394-47BE-8E4D-0C5F91CE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8CCE4-E881-4C49-BA89-65D432A2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54CA1-16AF-4583-8ADD-49BF6E4B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3E2C1-7A51-4B07-A470-201E7B74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CFB51-495D-406E-A883-D5A9E01D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09747-502A-4B4F-9DF0-AF1BF679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60F82-23EE-48DC-B577-D6C9CE3B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8812-E0B1-48BB-A6EF-3D593C2E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18CDF-7F56-405B-95B7-3896CD18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B3F7E-2AC5-4596-9FA7-9209777A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6B1B9-95C5-4954-A025-4365FA0B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F3E4C-AD75-4C52-804B-E2BA1343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17701-AC41-41F8-A626-323F5220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83447-98CC-4119-A1CF-72F806C4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FE904-8BA7-4E73-8056-8E36A674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A94B1-09E2-4098-938A-953EC6C6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B5DD2-5F4A-44B6-8BD3-E7874DCA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92D40-E5F7-49E9-AE2D-115A830F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53E3-4AB7-4572-A9F6-D56C5CFD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52158-F382-4420-A026-BD505209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4EBF0-EB65-4F6A-8781-746BF8FC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69D52-21FF-40BE-93AE-60D13A98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4F614-74D8-40C9-877D-5762C05B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F0B63-645D-4727-958F-69F6F6B5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3C024-2D82-4B42-81BE-8E32AAC6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50501-8098-4B2D-8FF8-28E15952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065F-FF66-4367-90D3-6845A75F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5456-168A-47AC-8529-297E6B8C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F73C-487C-45A9-8251-F63C004E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0AFF-BE1C-4CB5-97A3-A57B2970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7FB-D613-409F-BD49-0B337291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A998-DFAC-428F-9815-2F1EC855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782C-EEA0-4322-BC39-C369A0D1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10B1-4097-4166-BCB4-FA9DEF82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0406-1B58-4C01-875B-63E53B7B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E411-67CF-4B6F-A02E-ABD80150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FB5C-58E0-4F4A-9CF0-30A208FA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B191-6FDC-40F1-B61D-F4EBDAF4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C146-C6C3-465A-8C75-B2A44CA5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A611-2D5A-4417-BC90-0EC5F655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1507A-BBFD-4539-ACAE-EBC39FF2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EBA-3246-45B6-B827-633163FD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AD297-0F08-48AD-BF01-075D664F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ED3B-7BA9-4F07-9CD2-069CDE7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6AB7-121F-4AA9-A9F3-AD15AB9B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A0AE-0310-466F-B1D8-89ED18D6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B71D-C5CD-4722-940E-816374D6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AF981-B926-4E7A-8637-07088456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E73E4-9D9F-4A6E-AF76-08AB7179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5B655-1F50-4FB8-955E-75F6DEA0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F9466-1274-4A4D-B03F-858509C3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89586-82DE-46FF-8DF0-03ABC60F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835-7318-49CC-91A0-2B4437AB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1E070-BB81-4538-9B34-4486B87C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9A8F9-1FB5-4402-9308-A1FB336B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AEAF5-6CD3-47AF-B567-EAEFFF25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A333A-E41E-4FE3-AC22-852E26CB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05998-4C7A-4A85-B996-F88B9B17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6705C-A086-4E81-95BE-E39411C1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8FA3B-7769-41D3-82D6-508DB3D5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DCC9B-22E4-4611-8C67-B1EF79C7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28C0D-1CA0-4E65-9D6F-E74D9804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5487B-F500-4E4D-9911-07841369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84F-7D24-406E-BE8D-02B2BBEB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C0B1E-5D4D-4B8A-A410-83DB5A08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4DB69-2F2B-4DCA-8E80-4D4B080A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CCC11-5F53-42DD-93A1-E9B722C0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B5F13-630D-45F6-88B1-66011848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A9169-F8C1-4A45-A3FE-66891124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CFB16-C7EF-49E0-9F2D-6E61ECBB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CABB7-8414-447A-B0F7-D03886A4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8FF1E-8CAA-401B-A0BF-7807FCA7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9E470-F082-4E69-B9EA-02DB3261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A537E-99F1-4F48-8A5D-29DC89BE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506-594E-41BA-B334-894A195B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8C671-DAB6-47C9-A460-3044A32F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28D6F-688C-4092-83EA-DC6F4426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FCF6D-DD67-4D2D-BE12-2CCE8030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9D0F0-2754-43DC-92D0-2A675233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1902B-6045-4243-959D-44A98B7B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BA439-92D2-404A-AC60-905C48E8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F5D4E-E674-4318-9EA4-E74D8F7E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247A0-59D1-4D91-B664-2EA407D4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1E57F-4C48-48E9-AB3D-CD864146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8FC75-BE2F-4D03-9FF7-F0B80BA2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93F-2459-464F-86DB-7ADC1AF4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E12A7-1A43-4A61-9863-F9F1B2B2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41562-EC2C-47EC-8A62-64E38A8F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A9ABF-85AB-4031-A5AE-3A3DA568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4E72D-C757-4192-9F38-EEF60366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DE27A-156E-40B5-A6F8-1FE2EEF0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682E9-95EE-4476-AA2A-0368F242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37928-1208-47F0-A0A3-CA408517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D3BCB-1CEE-4F86-A6C9-77C572C6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E1B2B-4772-4896-A62F-1F559247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D0B0F-C9AC-48F4-B93C-654B4EF4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B5D-3B68-4F21-A2CF-E4A27F23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F6726-BDAA-438F-B7EA-1E08FFAB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8F6FF-FB78-4B7D-BE9B-EE417ED0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1224F-0253-4986-B848-2A36E680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2A98D-BC2F-46FF-A9C2-E4507693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6806C-9F19-459E-9A45-892591E5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D7855-A96A-4F30-BC28-FDDA6763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55349-4FDF-4CD7-A41E-DC456CD3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BF604-C7C1-4700-BA50-726A50C8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1AF86-0433-496F-AB88-957AB1A0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3E5D2-6EFF-455A-8951-65B82984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171-6288-4C68-A5E6-BA5C4FEB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9D032-FB24-4095-8D42-9F438892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9C050-203F-440E-917F-133FEE1C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7B5D9-5840-49B5-8A08-2DBA656F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43CD3-695D-4B36-B47A-80ADCD25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ABD33-7854-4815-925A-9B0D2858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9661E-9F60-4332-8143-0808BECD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648B7-8E62-4E87-8F60-FEF8314F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710BA-BE20-47FA-B8CA-1DDE0E47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96290-3B20-4980-92A1-E59DAB25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BDF86-57B6-4D6C-97AA-302A58A4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7990-F8A4-43F7-93BC-A4CC24E3DBD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0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0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0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70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0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0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0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72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3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73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3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3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3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3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3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73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3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198A-27C9-47A7-9B1A-7CB666AF594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8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8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8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78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8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8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8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8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8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79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9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80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1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1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1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1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1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81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1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8EC9-4344-49D0-9D5B-FBB7E88A0CF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5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6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6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86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6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87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7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7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7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88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8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9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9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9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89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9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1799-DEF4-4C9F-B3B3-5F24EAB6755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37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38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39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940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41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2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3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4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5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6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7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8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9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50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51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52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53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954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55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56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57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58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59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60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61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62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63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64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965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66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67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68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69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70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971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72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3DAA-0E18-4EAF-9077-DF61787D954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943E-8E45-493B-9271-290DFC83BA6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57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59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160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61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2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3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4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70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71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72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73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174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76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77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78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79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80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185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86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87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88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90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191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92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538A-93C3-42FC-9227-2DB70EBB5B7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3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23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3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5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5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25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6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26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6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6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6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6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6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26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7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1211-AE88-4CF0-8F8B-A5C29B15B68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1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1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31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1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1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33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4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34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4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4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4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4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4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34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4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8105-CE9B-4FF6-8853-8C32C25977C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3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4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4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4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549D-06C1-471F-B01C-ECB3616865A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7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7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7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7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7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7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7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7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7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8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8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8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8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8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8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48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8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8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8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49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9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9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0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0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0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50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0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58CF-9BC4-416D-A6D1-EECF738C5A3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47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48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49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550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51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2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3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4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5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6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7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8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9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60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61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62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63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564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65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66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67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68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69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70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71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72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73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74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575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76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77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78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79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80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581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82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CBA1-C245-406B-969A-3766843AAC5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2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2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2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62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2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4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4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64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5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5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5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65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5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5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5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5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5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65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6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676E-6EA0-4D57-B43E-48561599856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6371a"/>
                </a:solidFill>
                <a:latin typeface="Arial Unicode MS"/>
              </a:rPr>
              <a:t>Ф и з и к а-8</a:t>
            </a:r>
            <a:endParaRPr b="0" lang="en-US" sz="96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Гришина Е.М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АВ(С)ОУ ЦО № 1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3" name="Picture 4" descr="j0217698"/>
          <p:cNvPicPr/>
          <p:nvPr/>
        </p:nvPicPr>
        <p:blipFill>
          <a:blip r:embed="rId1"/>
          <a:stretch/>
        </p:blipFill>
        <p:spPr>
          <a:xfrm>
            <a:off x="0" y="3357720"/>
            <a:ext cx="529272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3280" y="1989000"/>
            <a:ext cx="8640720" cy="31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Unicode MS"/>
              </a:rPr>
              <a:t>И </a:t>
            </a:r>
            <a:endParaRPr b="0" lang="en-US" sz="40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81" name="AutoShape 3">
            <a:hlinkClick r:id="" action="ppaction://hlinkshowjump?jump=previousslide"/>
          </p:cNvPr>
          <p:cNvSpPr/>
          <p:nvPr/>
        </p:nvSpPr>
        <p:spPr>
          <a:xfrm>
            <a:off x="539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82" name="AutoShape 4">
            <a:hlinkClick r:id="" action="ppaction://hlinkshowjump?jump=nextslide"/>
          </p:cNvPr>
          <p:cNvSpPr/>
          <p:nvPr/>
        </p:nvSpPr>
        <p:spPr>
          <a:xfrm>
            <a:off x="1116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83" name="AutoShape 5">
            <a:hlinkClick r:id="" action="ppaction://hlinkshowjump?jump=firstslide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84" name="Rectangle 6"/>
          <p:cNvSpPr/>
          <p:nvPr/>
        </p:nvSpPr>
        <p:spPr>
          <a:xfrm>
            <a:off x="0" y="0"/>
            <a:ext cx="89647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i="1" lang="en-US" sz="60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ransition spd="slow">
    <p:comb dir="horz"/>
    <p:sndAc>
      <p:stSnd>
        <p:snd r:embed="rId1" name="breeze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Unicode MS"/>
              </a:rPr>
              <a:t>От какого слова возникло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Unicode MS"/>
              </a:rPr>
              <a:t>слово </a:t>
            </a:r>
            <a:r>
              <a:rPr b="0" lang="ru-RU" sz="4400" spc="-1" strike="noStrike">
                <a:solidFill>
                  <a:srgbClr val="ff0066"/>
                </a:solidFill>
                <a:latin typeface="Arial Unicode MS"/>
              </a:rPr>
              <a:t>импульс</a:t>
            </a:r>
            <a:r>
              <a:rPr b="0" lang="ru-RU" sz="4400" spc="-1" strike="noStrike">
                <a:solidFill>
                  <a:srgbClr val="ccecff"/>
                </a:solidFill>
                <a:latin typeface="Arial Unicode MS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radley Hand ITC"/>
              </a:rPr>
              <a:t>От лат. </a:t>
            </a: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Impulsus-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Bradley Hand ITC"/>
              </a:rPr>
              <a:t>толчок</a:t>
            </a:r>
            <a:r>
              <a:rPr b="0" lang="ru-RU" sz="3200" spc="-1" strike="noStrike">
                <a:solidFill>
                  <a:srgbClr val="ffff00"/>
                </a:solidFill>
                <a:latin typeface="Bradley Hand ITC"/>
              </a:rPr>
              <a:t> к чему-либо, пробуждение, стремление, быстрый скач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Управляющая кнопка: домой 12">
            <a:hlinkClick r:id="" action="ppaction://hlinkshowjump?jump=firstslide"/>
          </p:cNvPr>
          <p:cNvSpPr/>
          <p:nvPr/>
        </p:nvSpPr>
        <p:spPr>
          <a:xfrm>
            <a:off x="0" y="6286680"/>
            <a:ext cx="571680" cy="57132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4" y="10800"/>
                </a:lnTo>
                <a:close/>
              </a:path>
              <a:path fill="darkenLess" w="21614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4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88" name="Управляющая кнопка: назад 13">
            <a:hlinkClick r:id="" action="ppaction://hlinkshowjump?jump=previousslide"/>
          </p:cNvPr>
          <p:cNvSpPr/>
          <p:nvPr/>
        </p:nvSpPr>
        <p:spPr>
          <a:xfrm flipH="1">
            <a:off x="1071000" y="6286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12338"/>
                </a:moveTo>
                <a:lnTo>
                  <a:pt x="17806" y="5332"/>
                </a:lnTo>
                <a:lnTo>
                  <a:pt x="17806" y="19345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89" name="Управляющая кнопка: далее 14">
            <a:hlinkClick r:id="" action="ppaction://hlinkshowjump?jump=nextslide"/>
          </p:cNvPr>
          <p:cNvSpPr/>
          <p:nvPr/>
        </p:nvSpPr>
        <p:spPr>
          <a:xfrm flipH="1">
            <a:off x="570960" y="6286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5332"/>
                </a:moveTo>
                <a:lnTo>
                  <a:pt x="17806" y="12338"/>
                </a:lnTo>
                <a:lnTo>
                  <a:pt x="3794" y="19345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Unicode MS"/>
              </a:rPr>
              <a:t>В каких единицах измеряются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 Unicode MS"/>
              </a:rPr>
              <a:t>импульс тела и импульс силы в СИ?</a:t>
            </a:r>
            <a:endParaRPr b="0" lang="en-US" sz="32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=</a:t>
            </a:r>
            <a:r>
              <a:rPr b="0" lang="de-LU" sz="3200" spc="-1" strike="noStrike">
                <a:solidFill>
                  <a:srgbClr val="ffffff"/>
                </a:solidFill>
                <a:latin typeface="Verdana"/>
              </a:rPr>
              <a:t>m·V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;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de-LU" sz="3200" spc="-1" strike="noStrike">
                <a:solidFill>
                  <a:srgbClr val="ffffff"/>
                </a:solidFill>
                <a:latin typeface="Verdana"/>
              </a:rPr>
              <a:t>m[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г</a:t>
            </a:r>
            <a:r>
              <a:rPr b="0" lang="de-LU" sz="3200" spc="-1" strike="noStrike">
                <a:solidFill>
                  <a:srgbClr val="ffffff"/>
                </a:solidFill>
                <a:latin typeface="Verdana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;                   </a:t>
            </a:r>
            <a:r>
              <a:rPr b="0" lang="de-LU" sz="3200" spc="-1" strike="noStrike">
                <a:solidFill>
                  <a:srgbClr val="ffffff"/>
                </a:solidFill>
                <a:latin typeface="Verdana"/>
              </a:rPr>
              <a:t>V[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/с</a:t>
            </a:r>
            <a:r>
              <a:rPr b="0" lang="de-LU" sz="3200" spc="-1" strike="noStrike">
                <a:solidFill>
                  <a:srgbClr val="ffffff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Р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Verdana"/>
              </a:rPr>
              <a:t>[кг·м/с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de-LU" sz="3200" spc="-1" strike="noStrike" u="sng">
                <a:solidFill>
                  <a:srgbClr val="ffffff"/>
                </a:solidFill>
                <a:uFillTx/>
                <a:latin typeface="Verdana"/>
              </a:rPr>
              <a:t>F·t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de-LU" sz="3200" spc="-1" strike="noStrike" u="sng">
                <a:solidFill>
                  <a:srgbClr val="ffc000"/>
                </a:solidFill>
                <a:uFillTx/>
                <a:latin typeface="Verdana"/>
              </a:rPr>
              <a:t>[</a:t>
            </a:r>
            <a:r>
              <a:rPr b="0" lang="ru-RU" sz="3200" spc="-1" strike="noStrike" u="sng">
                <a:solidFill>
                  <a:srgbClr val="ffc000"/>
                </a:solidFill>
                <a:uFillTx/>
                <a:latin typeface="Verdana"/>
              </a:rPr>
              <a:t>Н·с</a:t>
            </a:r>
            <a:r>
              <a:rPr b="0" lang="de-LU" sz="3200" spc="-1" strike="noStrike" u="sng">
                <a:solidFill>
                  <a:srgbClr val="ffc000"/>
                </a:solidFill>
                <a:uFillTx/>
                <a:latin typeface="Verdan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092" name="Прямая со стрелкой 4"/>
          <p:cNvCxnSpPr/>
          <p:nvPr/>
        </p:nvCxnSpPr>
        <p:spPr>
          <a:xfrm flipH="1">
            <a:off x="1785240" y="2214720"/>
            <a:ext cx="150084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93" name="Прямая со стрелкой 8"/>
          <p:cNvCxnSpPr/>
          <p:nvPr/>
        </p:nvCxnSpPr>
        <p:spPr>
          <a:xfrm>
            <a:off x="4000680" y="2142720"/>
            <a:ext cx="1786320" cy="715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94" name="Прямая со стрелкой 10"/>
          <p:cNvCxnSpPr/>
          <p:nvPr/>
        </p:nvCxnSpPr>
        <p:spPr>
          <a:xfrm>
            <a:off x="2786040" y="2071440"/>
            <a:ext cx="929520" cy="1500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95" name="Управляющая кнопка: домой 12">
            <a:hlinkClick r:id="" action="ppaction://hlinkshowjump?jump=firstslide"/>
          </p:cNvPr>
          <p:cNvSpPr/>
          <p:nvPr/>
        </p:nvSpPr>
        <p:spPr>
          <a:xfrm>
            <a:off x="0" y="628668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14853" y="3837"/>
                </a:moveTo>
                <a:lnTo>
                  <a:pt x="17430" y="6448"/>
                </a:ln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lnTo>
                  <a:pt x="21816" y="10800"/>
                </a:lnTo>
                <a:lnTo>
                  <a:pt x="20163" y="10800"/>
                </a:lnTo>
                <a:lnTo>
                  <a:pt x="20163" y="17989"/>
                </a:lnTo>
                <a:lnTo>
                  <a:pt x="9544" y="17989"/>
                </a:lnTo>
                <a:lnTo>
                  <a:pt x="9544" y="10800"/>
                </a:lnTo>
                <a:lnTo>
                  <a:pt x="7890" y="10800"/>
                </a:lnTo>
                <a:close/>
              </a:path>
              <a:path fill="darkenLess" w="29707" h="21600">
                <a:moveTo>
                  <a:pt x="17430" y="6448"/>
                </a:move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close/>
              </a:path>
              <a:path fill="darkenLess" w="29707" h="21600">
                <a:moveTo>
                  <a:pt x="13931" y="14299"/>
                </a:moveTo>
                <a:lnTo>
                  <a:pt x="15776" y="14299"/>
                </a:lnTo>
                <a:lnTo>
                  <a:pt x="15776" y="17989"/>
                </a:lnTo>
                <a:lnTo>
                  <a:pt x="20163" y="17989"/>
                </a:lnTo>
                <a:lnTo>
                  <a:pt x="20163" y="10800"/>
                </a:lnTo>
                <a:lnTo>
                  <a:pt x="9544" y="10800"/>
                </a:lnTo>
                <a:lnTo>
                  <a:pt x="9544" y="17989"/>
                </a:lnTo>
                <a:lnTo>
                  <a:pt x="13931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96" name="Управляющая кнопка: назад 13">
            <a:hlinkClick r:id="" action="ppaction://hlinkshowjump?jump=previousslide"/>
          </p:cNvPr>
          <p:cNvSpPr/>
          <p:nvPr/>
        </p:nvSpPr>
        <p:spPr>
          <a:xfrm>
            <a:off x="64296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5147" y="10800"/>
                </a:moveTo>
                <a:lnTo>
                  <a:pt x="19160" y="3794"/>
                </a:lnTo>
                <a:lnTo>
                  <a:pt x="19160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97" name="Управляющая кнопка: далее 14">
            <a:hlinkClick r:id="" action="ppaction://hlinkshowjump?jump=nextslide"/>
          </p:cNvPr>
          <p:cNvSpPr/>
          <p:nvPr/>
        </p:nvSpPr>
        <p:spPr>
          <a:xfrm>
            <a:off x="1285920" y="6286680"/>
            <a:ext cx="714240" cy="57132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67760" cy="2571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66"/>
                </a:solidFill>
                <a:uFillTx/>
                <a:latin typeface="Arial Unicode MS"/>
              </a:rPr>
              <a:t>Задачка:</a:t>
            </a:r>
            <a:br>
              <a:rPr sz="32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Корова массой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200кг</a:t>
            </a: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 стоит и жуёт жвачку,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около неё летает муха (она маленькая –её не видно)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массой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0,0001кг</a:t>
            </a: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 со скоростью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5м/с.</a:t>
            </a: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Чему равны импульсы коровы и мухи ?</a:t>
            </a:r>
            <a:r>
              <a:rPr b="0" lang="ru-RU" sz="4000" spc="-1" strike="noStrike">
                <a:solidFill>
                  <a:srgbClr val="ccecff"/>
                </a:solidFill>
                <a:latin typeface="Arial Unicode MS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79280" y="2754360"/>
            <a:ext cx="8964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6371a"/>
                </a:solidFill>
                <a:uFillTx/>
                <a:latin typeface="Verdana"/>
              </a:rPr>
              <a:t>Варианты ответ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1.Коровы-700кг∙м/с; мухи-0,5кг∙м/с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2.Коровы-0кг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∙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м/с; мухи-0,0005кг∙м/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3.Коровы-700кг∙м/с; мухи-0кг∙м/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(Правильный ответ под №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0" name="Picture 4" descr="j0149627"/>
          <p:cNvPicPr/>
          <p:nvPr/>
        </p:nvPicPr>
        <p:blipFill>
          <a:blip r:embed="rId1"/>
          <a:stretch/>
        </p:blipFill>
        <p:spPr>
          <a:xfrm>
            <a:off x="6610320" y="5057640"/>
            <a:ext cx="2533680" cy="1800360"/>
          </a:xfrm>
          <a:prstGeom prst="rect">
            <a:avLst/>
          </a:prstGeom>
          <a:ln w="0">
            <a:noFill/>
          </a:ln>
        </p:spPr>
      </p:pic>
      <p:sp>
        <p:nvSpPr>
          <p:cNvPr id="1101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0" y="6286680"/>
            <a:ext cx="571680" cy="57132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4" y="10800"/>
                </a:lnTo>
                <a:close/>
              </a:path>
              <a:path fill="darkenLess" w="21614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4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02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571680" y="6286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12338"/>
                </a:moveTo>
                <a:lnTo>
                  <a:pt x="17806" y="5332"/>
                </a:lnTo>
                <a:lnTo>
                  <a:pt x="17806" y="19345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03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1071720" y="6286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5332"/>
                </a:moveTo>
                <a:lnTo>
                  <a:pt x="17806" y="12338"/>
                </a:lnTo>
                <a:lnTo>
                  <a:pt x="3794" y="19345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indefinite"/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indefinite"/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indefinite"/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28760" y="-500040"/>
            <a:ext cx="8229600" cy="7143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66ff33"/>
                </a:solidFill>
                <a:latin typeface="Arial Unicode MS"/>
              </a:rPr>
              <a:t>Делаем вывод: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Если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скорость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тела равна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нулю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,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то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даже при такой большой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массе как у коровы,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импульс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её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равен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нулю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!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Unicode MS"/>
              </a:rPr>
              <a:t>Если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 </a:t>
            </a:r>
            <a:r>
              <a:rPr b="0" lang="de-L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V=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0 ⇨Р</a:t>
            </a:r>
            <a:r>
              <a:rPr b="0" lang="de-L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 =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0</a:t>
            </a:r>
            <a:endParaRPr b="0" lang="en-US" sz="36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 rot="10800000">
            <a:off x="457200" y="32144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0" y="63579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837"/>
                </a:moveTo>
                <a:lnTo>
                  <a:pt x="14922" y="6448"/>
                </a:ln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lnTo>
                  <a:pt x="19309" y="10800"/>
                </a:lnTo>
                <a:lnTo>
                  <a:pt x="17655" y="10800"/>
                </a:lnTo>
                <a:lnTo>
                  <a:pt x="17655" y="17989"/>
                </a:lnTo>
                <a:lnTo>
                  <a:pt x="7037" y="17989"/>
                </a:lnTo>
                <a:lnTo>
                  <a:pt x="7037" y="10800"/>
                </a:lnTo>
                <a:lnTo>
                  <a:pt x="5383" y="10800"/>
                </a:lnTo>
                <a:close/>
              </a:path>
              <a:path fill="darkenLess" w="24692" h="21600">
                <a:moveTo>
                  <a:pt x="14922" y="6448"/>
                </a:move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close/>
              </a:path>
              <a:path fill="darkenLess" w="24692" h="21600">
                <a:moveTo>
                  <a:pt x="11424" y="14299"/>
                </a:moveTo>
                <a:lnTo>
                  <a:pt x="13269" y="14299"/>
                </a:lnTo>
                <a:lnTo>
                  <a:pt x="13269" y="17989"/>
                </a:lnTo>
                <a:lnTo>
                  <a:pt x="17655" y="17989"/>
                </a:lnTo>
                <a:lnTo>
                  <a:pt x="17655" y="10800"/>
                </a:lnTo>
                <a:lnTo>
                  <a:pt x="7037" y="10800"/>
                </a:lnTo>
                <a:lnTo>
                  <a:pt x="7037" y="17989"/>
                </a:lnTo>
                <a:lnTo>
                  <a:pt x="11424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07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57168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08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107172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14716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Unicode MS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ccecff"/>
                </a:solidFill>
                <a:latin typeface="Arial Unicode MS"/>
              </a:rPr>
              <a:t>Отгадайте слова-ответы и вы узнаете, кто впервые ввёл понятие </a:t>
            </a:r>
            <a:r>
              <a:rPr b="0" lang="ru-RU" sz="2400" spc="-1" strike="noStrike">
                <a:solidFill>
                  <a:srgbClr val="c6371a"/>
                </a:solidFill>
                <a:latin typeface="Arial Unicode MS"/>
              </a:rPr>
              <a:t>«импульс».</a:t>
            </a:r>
            <a:r>
              <a:rPr b="0" lang="ru-RU" sz="2400" spc="-1" strike="noStrike">
                <a:solidFill>
                  <a:srgbClr val="ccecff"/>
                </a:solidFill>
                <a:latin typeface="Arial Unicode MS"/>
              </a:rPr>
              <a:t> </a:t>
            </a:r>
            <a:br>
              <a:rPr sz="2400"/>
            </a:br>
            <a:r>
              <a:rPr b="0" lang="ru-RU" sz="4000" spc="-1" strike="noStrike">
                <a:solidFill>
                  <a:srgbClr val="ccecff"/>
                </a:solidFill>
                <a:latin typeface="Arial Unicode MS"/>
              </a:rPr>
              <a:t>                                                                                                                                                         </a:t>
            </a:r>
            <a:br>
              <a:rPr sz="2400"/>
            </a:br>
            <a:br>
              <a:rPr sz="2400"/>
            </a:br>
            <a:endParaRPr b="0" lang="en-US" sz="40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110" name="Text Box 3"/>
          <p:cNvSpPr/>
          <p:nvPr/>
        </p:nvSpPr>
        <p:spPr>
          <a:xfrm>
            <a:off x="6372360" y="1773360"/>
            <a:ext cx="1944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11" name="Text Box 4"/>
          <p:cNvSpPr/>
          <p:nvPr/>
        </p:nvSpPr>
        <p:spPr>
          <a:xfrm>
            <a:off x="324000" y="1071720"/>
            <a:ext cx="8820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1.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ибор для измерения силы.</a:t>
            </a: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2.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Любой предмет в физике.</a:t>
            </a: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3.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Больше грамма в 1000 раз.</a:t>
            </a: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4.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Мера инертности.</a:t>
            </a: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5.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Течёт не кончается, никогда не возвращается.</a:t>
            </a: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6.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Великий физик, автор 3-х законов.</a:t>
            </a: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pic>
        <p:nvPicPr>
          <p:cNvPr id="1112" name="Picture 6" descr="j0299125"/>
          <p:cNvPicPr/>
          <p:nvPr/>
        </p:nvPicPr>
        <p:blipFill>
          <a:blip r:embed="rId1"/>
          <a:stretch/>
        </p:blipFill>
        <p:spPr>
          <a:xfrm>
            <a:off x="6929280" y="1143000"/>
            <a:ext cx="2071800" cy="2000160"/>
          </a:xfrm>
          <a:prstGeom prst="rect">
            <a:avLst/>
          </a:prstGeom>
          <a:ln w="0">
            <a:noFill/>
          </a:ln>
        </p:spPr>
      </p:pic>
      <p:sp>
        <p:nvSpPr>
          <p:cNvPr id="1113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814392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14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15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764388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graphicFrame>
        <p:nvGraphicFramePr>
          <p:cNvPr id="1116" name=""/>
          <p:cNvGraphicFramePr/>
          <p:nvPr/>
        </p:nvGraphicFramePr>
        <p:xfrm>
          <a:off x="1643040" y="4286160"/>
          <a:ext cx="6072120" cy="428760"/>
        </p:xfrm>
        <a:graphic>
          <a:graphicData uri="http://schemas.openxmlformats.org/drawingml/2006/table">
            <a:tbl>
              <a:tblPr/>
              <a:tblGrid>
                <a:gridCol w="608040"/>
                <a:gridCol w="577800"/>
                <a:gridCol w="636480"/>
                <a:gridCol w="606600"/>
                <a:gridCol w="608040"/>
                <a:gridCol w="606240"/>
                <a:gridCol w="608040"/>
                <a:gridCol w="606600"/>
                <a:gridCol w="608040"/>
                <a:gridCol w="60624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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д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и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н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а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м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о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м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е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т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7" name=""/>
          <p:cNvGraphicFramePr/>
          <p:nvPr/>
        </p:nvGraphicFramePr>
        <p:xfrm>
          <a:off x="1071720" y="4714920"/>
          <a:ext cx="2357280" cy="428760"/>
        </p:xfrm>
        <a:graphic>
          <a:graphicData uri="http://schemas.openxmlformats.org/drawingml/2006/table">
            <a:tbl>
              <a:tblPr/>
              <a:tblGrid>
                <a:gridCol w="588960"/>
                <a:gridCol w="588960"/>
                <a:gridCol w="590400"/>
                <a:gridCol w="58896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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т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е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л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о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8" name=""/>
          <p:cNvGraphicFramePr/>
          <p:nvPr/>
        </p:nvGraphicFramePr>
        <p:xfrm>
          <a:off x="1643040" y="5143680"/>
          <a:ext cx="5715000" cy="36504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  <a:gridCol w="635040"/>
                <a:gridCol w="635040"/>
                <a:gridCol w="634680"/>
                <a:gridCol w="635040"/>
                <a:gridCol w="635040"/>
                <a:gridCol w="635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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к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и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л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о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г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а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м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м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1000080" y="5500800"/>
          <a:ext cx="3214800" cy="428400"/>
        </p:xfrm>
        <a:graphic>
          <a:graphicData uri="http://schemas.openxmlformats.org/drawingml/2006/table">
            <a:tbl>
              <a:tblPr/>
              <a:tblGrid>
                <a:gridCol w="642960"/>
                <a:gridCol w="642960"/>
                <a:gridCol w="642960"/>
                <a:gridCol w="642960"/>
                <a:gridCol w="642960"/>
              </a:tblGrid>
              <a:tr h="428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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м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а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0" name=""/>
          <p:cNvGraphicFramePr/>
          <p:nvPr/>
        </p:nvGraphicFramePr>
        <p:xfrm>
          <a:off x="1000080" y="5929200"/>
          <a:ext cx="3214800" cy="436680"/>
        </p:xfrm>
        <a:graphic>
          <a:graphicData uri="http://schemas.openxmlformats.org/drawingml/2006/table">
            <a:tbl>
              <a:tblPr/>
              <a:tblGrid>
                <a:gridCol w="642960"/>
                <a:gridCol w="642960"/>
                <a:gridCol w="642960"/>
                <a:gridCol w="642960"/>
                <a:gridCol w="642960"/>
              </a:tblGrid>
              <a:tr h="43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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р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е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м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я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1" name=""/>
          <p:cNvGraphicFramePr/>
          <p:nvPr/>
        </p:nvGraphicFramePr>
        <p:xfrm>
          <a:off x="0" y="6357960"/>
          <a:ext cx="3571920" cy="500040"/>
        </p:xfrm>
        <a:graphic>
          <a:graphicData uri="http://schemas.openxmlformats.org/drawingml/2006/table">
            <a:tbl>
              <a:tblPr/>
              <a:tblGrid>
                <a:gridCol w="520560"/>
                <a:gridCol w="479520"/>
                <a:gridCol w="642960"/>
                <a:gridCol w="642960"/>
                <a:gridCol w="642960"/>
                <a:gridCol w="6429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r>
                        <a:rPr b="0" lang="ru-RU" sz="10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н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ь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ю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т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о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н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1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0" y="1857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Французский учёный </a:t>
            </a:r>
            <a:r>
              <a:rPr b="0" lang="ru-RU" sz="2800" spc="-1" strike="noStrike">
                <a:solidFill>
                  <a:srgbClr val="66ff33"/>
                </a:solidFill>
                <a:latin typeface="Arial Unicode MS"/>
              </a:rPr>
              <a:t>Рене Декарт</a:t>
            </a: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(1596-1650) называл эту величину не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импульсом</a:t>
            </a: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, а количеством движения </a:t>
            </a:r>
            <a:r>
              <a:rPr b="0" lang="ru-RU" sz="2800" spc="-1" strike="noStrike">
                <a:solidFill>
                  <a:srgbClr val="00b050"/>
                </a:solidFill>
                <a:latin typeface="Arial Unicode MS"/>
              </a:rPr>
              <a:t>«…если одно тело приводит в движение другое, то теряет столько своего движения, сколько его сообщает»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Этими словами Декарт впервые сформулировал  закон сохранения импульса.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Запишите в тетради:</a:t>
            </a:r>
            <a:br>
              <a:rPr sz="2800"/>
            </a:b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 Unicode MS"/>
              </a:rPr>
              <a:t>При взаимодействии двух тел их общий</a:t>
            </a:r>
            <a:br>
              <a:rPr sz="2800"/>
            </a:b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 Unicode MS"/>
              </a:rPr>
              <a:t>импульс сохраняется.</a:t>
            </a:r>
            <a:br>
              <a:rPr sz="2800"/>
            </a:b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опыт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 Unicode MS"/>
            </a:endParaRPr>
          </a:p>
        </p:txBody>
      </p:sp>
      <p:pic>
        <p:nvPicPr>
          <p:cNvPr id="1123" name="Picture 3" descr="j0212957"/>
          <p:cNvPicPr/>
          <p:nvPr/>
        </p:nvPicPr>
        <p:blipFill>
          <a:blip r:embed="rId1"/>
          <a:stretch/>
        </p:blipFill>
        <p:spPr>
          <a:xfrm>
            <a:off x="4896000" y="4429080"/>
            <a:ext cx="4248000" cy="2309760"/>
          </a:xfrm>
          <a:prstGeom prst="rect">
            <a:avLst/>
          </a:prstGeom>
          <a:ln w="0">
            <a:noFill/>
          </a:ln>
        </p:spPr>
      </p:pic>
      <p:sp>
        <p:nvSpPr>
          <p:cNvPr id="1124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25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50004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2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00008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Motion origin="layout" path="M -5.55556E-006 4.44444E-006 C -0.00869 -0.00162 -0.01146 -0.00486 -0.0191 -0.00811 C -0.05296 -0.02223 -0.00973 0.00208 -0.04653 -0.0176 C -0.05383 -0.02153 -0.06042 -0.02755 -0.06789 -0.03033 C -0.07639 -0.03334 -0.08542 -0.03334 -0.0941 -0.03496 C -0.13646 -0.05463 -0.17917 -0.07037 -0.22153 -0.08889 C -0.22935 -0.09236 -0.23646 -0.09861 -0.24428 -0.10162 C -0.26563 -0.10996 -0.29254 -0.1088 -0.31442 -0.11111 C -0.33108 -0.11065 -0.34792 -0.11204 -0.36442 -0.10973 C -0.36667 -0.10949 -0.36719 -0.10486 -0.3691 -0.10324 C -0.37483 -0.09838 -0.38108 -0.09468 -0.38699 -0.09051 C -0.38889 -0.08912 -0.38994 -0.08611 -0.39167 -0.08426 C -0.39758 -0.07824 -0.40539 -0.07385 -0.41077 -0.06667 C -0.42153 -0.05232 -0.43178 -0.03912 -0.44653 -0.03195 C -0.45209 -0.01991 -0.46355 -0.01459 -0.47032 -0.00324 C -0.4816 0.01551 -0.48837 0.03379 -0.49289 0.05694 C -0.49202 0.11898 -0.49237 0.18102 -0.49046 0.24282 C -0.49028 0.24583 -0.48803 0.24791 -0.48699 0.25069 C -0.48421 0.2574 -0.48143 0.26435 -0.47865 0.27129 C -0.47587 0.27824 -0.46806 0.27939 -0.46442 0.28564 C -0.45626 0.30023 -0.45018 0.31713 -0.43942 0.32847 C -0.429 0.35092 -0.39567 0.3625 -0.37744 0.36666 C -0.34844 0.36551 -0.31945 0.36643 -0.29046 0.36342 C -0.28455 0.36273 -0.27935 0.3581 -0.27379 0.35555 C -0.25469 0.34722 -0.23594 0.3375 -0.21667 0.33009 C -0.20851 0.3206 -0.20122 0.31273 -0.19167 0.30625 C -0.18594 0.29398 -0.19393 0.30902 -0.18455 0.29838 C -0.18299 0.29676 -0.18247 0.29398 -0.18108 0.29189 C -0.17466 0.2824 -0.16806 0.27477 -0.16077 0.26666 C -0.15643 0.25509 -0.13768 0.23634 -0.12744 0.23333 C -0.1231 0.22176 -0.11337 0.22014 -0.10608 0.2125 C -0.10296 0.20926 -0.10053 0.20509 -0.09775 0.20139 C -0.0915 0.19305 -0.08178 0.18796 -0.07501 0.18078 C -0.0665 0.17176 -0.05643 0.15347 -0.05001 0.1412 C -0.04688 0.1287 -0.05139 0.14375 -0.04532 0.13333 C -0.04445 0.13194 -0.0448 0.12986 -0.0441 0.12847 C -0.03681 0.11365 -0.02501 0.10092 -0.01546 0.08889 C -0.01216 0.07963 -0.00678 0.0706 -0.00122 0.06342 C -0.00087 0.0618 -5.55556E-006 0.05856 -5.55556E-006 0.05856 L -5.55556E-006 4.44444E-006 Z">
                                      <p:cBhvr>
                                        <p:cTn id="338" dur="2000" fill="hold"/>
                                        <p:tgtEl>
                                          <p:spTgt spid="1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Это было в школьном  коридоре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Петя стоял и смотрел рассписание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Сева ,как трус, от девчонок  бежал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Петю увидеть он не успел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И на него налетел-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Петя в движение пришёл 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А Сева-в объятья девчонок попал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Куда девался импульс Севы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Ведь скоростью он обладал?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0" y="4429080"/>
            <a:ext cx="91440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Если предположить,что массы мальчиков примерно одинаковы,а Сева бежал со скоростью 2 м/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(и остановился),то Петя в движение пришё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со скоростью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 м/с Вот и применили закон сохранения импульс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9144000" cy="722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Взлёт ракет, передвижение кальмаров и медуз-всё это связано с импульсом тела! Но об этом мы будем говорить на следующем урок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ff33"/>
                </a:solidFill>
                <a:uFillTx/>
                <a:latin typeface="Verdana"/>
              </a:rPr>
              <a:t>Д/З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стр.28-30.Устно ответить на вопросы 1-4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1" name="Picture 4" descr="j0215086"/>
          <p:cNvPicPr/>
          <p:nvPr/>
        </p:nvPicPr>
        <p:blipFill>
          <a:blip r:embed="rId1"/>
          <a:stretch/>
        </p:blipFill>
        <p:spPr>
          <a:xfrm>
            <a:off x="7715160" y="4621320"/>
            <a:ext cx="142884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571400" y="856800"/>
            <a:ext cx="6669000" cy="2786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Bradley Hand ITC"/>
              </a:rPr>
              <a:t>Тема урока:</a:t>
            </a:r>
            <a:br>
              <a:rPr sz="4000"/>
            </a:b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Bradley Hand ITC"/>
              </a:rPr>
              <a:t>«Импульс тела.Закон сохранения импульса.</a:t>
            </a:r>
            <a:r>
              <a:rPr b="1" i="1" lang="ru-RU" sz="6000" spc="-1" strike="noStrike" u="sng">
                <a:solidFill>
                  <a:srgbClr val="ff3300"/>
                </a:solidFill>
                <a:uFillTx/>
                <a:latin typeface="Bradley Hand ITC"/>
              </a:rPr>
              <a:t>»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25" name="Oval 3"/>
          <p:cNvSpPr/>
          <p:nvPr/>
        </p:nvSpPr>
        <p:spPr>
          <a:xfrm>
            <a:off x="755640" y="2852640"/>
            <a:ext cx="1512720" cy="13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>
                <a:alpha val="7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26" name="Oval 4"/>
          <p:cNvSpPr/>
          <p:nvPr/>
        </p:nvSpPr>
        <p:spPr>
          <a:xfrm>
            <a:off x="3786120" y="4429080"/>
            <a:ext cx="1440000" cy="14400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27" name="Oval 5"/>
          <p:cNvSpPr/>
          <p:nvPr/>
        </p:nvSpPr>
        <p:spPr>
          <a:xfrm>
            <a:off x="2843280" y="5084640"/>
            <a:ext cx="649080" cy="576360"/>
          </a:xfrm>
          <a:prstGeom prst="ellipse">
            <a:avLst/>
          </a:prstGeom>
          <a:solidFill>
            <a:srgbClr val="0b4677"/>
          </a:solidFill>
          <a:ln w="9360">
            <a:solidFill>
              <a:srgbClr val="250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28" name="Oval 6"/>
          <p:cNvSpPr/>
          <p:nvPr/>
        </p:nvSpPr>
        <p:spPr>
          <a:xfrm>
            <a:off x="6300720" y="4221000"/>
            <a:ext cx="2519280" cy="2376720"/>
          </a:xfrm>
          <a:prstGeom prst="ellipse">
            <a:avLst/>
          </a:prstGeom>
          <a:solidFill>
            <a:srgbClr val="b5c610"/>
          </a:solidFill>
          <a:ln w="9360">
            <a:solidFill>
              <a:srgbClr val="b5c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29" name="AutoShape 7">
            <a:hlinkClick r:id="" action="ppaction://hlinkshowjump?jump=previousslide"/>
          </p:cNvPr>
          <p:cNvSpPr/>
          <p:nvPr/>
        </p:nvSpPr>
        <p:spPr>
          <a:xfrm>
            <a:off x="68436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10800"/>
                </a:moveTo>
                <a:lnTo>
                  <a:pt x="18302" y="3794"/>
                </a:lnTo>
                <a:lnTo>
                  <a:pt x="1830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30" name="AutoShape 8">
            <a:hlinkClick r:id="" action="ppaction://hlinkshowjump?jump=firstslide"/>
          </p:cNvPr>
          <p:cNvSpPr/>
          <p:nvPr/>
        </p:nvSpPr>
        <p:spPr>
          <a:xfrm>
            <a:off x="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13452" y="3837"/>
                </a:moveTo>
                <a:lnTo>
                  <a:pt x="16029" y="6448"/>
                </a:lnTo>
                <a:lnTo>
                  <a:pt x="16029" y="4707"/>
                </a:lnTo>
                <a:lnTo>
                  <a:pt x="17804" y="4707"/>
                </a:lnTo>
                <a:lnTo>
                  <a:pt x="17804" y="8224"/>
                </a:lnTo>
                <a:lnTo>
                  <a:pt x="20415" y="10800"/>
                </a:lnTo>
                <a:lnTo>
                  <a:pt x="18762" y="10800"/>
                </a:lnTo>
                <a:lnTo>
                  <a:pt x="18762" y="17989"/>
                </a:lnTo>
                <a:lnTo>
                  <a:pt x="8143" y="17989"/>
                </a:lnTo>
                <a:lnTo>
                  <a:pt x="8143" y="10800"/>
                </a:lnTo>
                <a:lnTo>
                  <a:pt x="6489" y="10800"/>
                </a:lnTo>
                <a:close/>
              </a:path>
              <a:path fill="darkenLess" w="26905" h="21600">
                <a:moveTo>
                  <a:pt x="16029" y="6448"/>
                </a:moveTo>
                <a:lnTo>
                  <a:pt x="16029" y="4707"/>
                </a:lnTo>
                <a:lnTo>
                  <a:pt x="17804" y="4707"/>
                </a:lnTo>
                <a:lnTo>
                  <a:pt x="17804" y="8224"/>
                </a:lnTo>
                <a:close/>
              </a:path>
              <a:path fill="darkenLess" w="26905" h="21600">
                <a:moveTo>
                  <a:pt x="12530" y="14299"/>
                </a:moveTo>
                <a:lnTo>
                  <a:pt x="14375" y="14299"/>
                </a:lnTo>
                <a:lnTo>
                  <a:pt x="14375" y="17989"/>
                </a:lnTo>
                <a:lnTo>
                  <a:pt x="18762" y="17989"/>
                </a:lnTo>
                <a:lnTo>
                  <a:pt x="18762" y="10800"/>
                </a:lnTo>
                <a:lnTo>
                  <a:pt x="8143" y="10800"/>
                </a:lnTo>
                <a:lnTo>
                  <a:pt x="8143" y="17989"/>
                </a:lnTo>
                <a:lnTo>
                  <a:pt x="12530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31" name="AutoShape 9">
            <a:hlinkClick r:id="" action="ppaction://hlinkshowjump?jump=nextslide"/>
          </p:cNvPr>
          <p:cNvSpPr/>
          <p:nvPr/>
        </p:nvSpPr>
        <p:spPr>
          <a:xfrm>
            <a:off x="1258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02474 C -0.16094 -0.01873 -0.18438 -0.20532 -0.1849 -0.17249 C -0.18507 -0.13989 -0.14271 0.11537 -0.10903 0.17225 C -0.07535 0.22959 -0.02535 0.17017 0.01666 0.16994 C 0.0585 0.16994 0.1217 0.20832 0.14253 0.16994 C 0.16336 0.13179 0.14253 0.00346 0.14253 -0.06012 C 0.14253 -0.12324 0.1842 -0.2148 0.14253 -0.20995 C 0.10121 -0.20486 -0.05174 -0.03099 -0.10625 -0.02474 Z">
                                      <p:cBhvr>
                                        <p:cTn id="18" dur="2000" fill="hold"/>
                                        <p:tgtEl>
                                          <p:spTgt spid="10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0.07307 C -0.01718 -0.1096 -0.15607 -0.17804 -0.16666 -0.15538 C -0.17725 -0.13203 -0.09114 0.05387 -0.06336 0.06751 C -0.03559 0.08115 0.01719 -0.03584 -3.88889E-006 -0.07307 Z">
                                      <p:cBhvr>
                                        <p:cTn id="20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0139 C -0.03577 -0.00739 -0.1349 0.15885 -0.11875 0.20116 C -0.10261 0.24347 0.07725 0.28833 0.09705 0.2548 C 0.11666 0.22151 0.03611 0.01041 2.22222E-006 0.00139 Z">
                                      <p:cBhvr>
                                        <p:cTn id="22" dur="2000" fill="hold"/>
                                        <p:tgtEl>
                                          <p:spTgt spid="10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7.51445E-007 C -0.00242 0.0215 -0.00138 0.03214 -0.01266 0.04647 C -0.01527 0.05711 -0.0203 0.0652 -0.02534 0.07399 C -0.02586 0.07607 -0.02621 0.07838 -0.0269 0.08046 C -0.02829 0.08393 -0.03037 0.08716 -0.03159 0.09063 C -0.03506 0.10242 -0.0361 0.11537 -0.0427 0.12485 C -0.04201 0.14497 -0.04114 0.18104 -0.03957 0.203 C -0.03923 0.20786 -0.03871 0.21294 -0.03801 0.2178 C -0.03766 0.21988 -0.03645 0.22404 -0.03645 0.22404 L 0.08577 0.2178 L 0.04445 -0.49457 L 5.55556E-006 7.51445E-007 Z">
                                      <p:cBhvr>
                                        <p:cTn id="24" dur="2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cc33"/>
                </a:solidFill>
                <a:latin typeface="Arial Unicode MS"/>
              </a:rPr>
              <a:t>Ход урока.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Сопутствующее повторение.(Разминка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Изучение нового материала.(Вывод формулы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мпульса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Закрепление.(Решение задачи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Кроссворд.(Минута отдыха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Закон сохранения импуль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Примеры проявления закона сохранения импульс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7.Самостоятельная рабо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.Домашнее задани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AutoShape 4">
            <a:hlinkClick r:id="" action="ppaction://hlinkshowjump?jump=nextslide"/>
          </p:cNvPr>
          <p:cNvSpPr/>
          <p:nvPr/>
        </p:nvSpPr>
        <p:spPr>
          <a:xfrm>
            <a:off x="1116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35" name="AutoShape 5">
            <a:hlinkClick r:id="" action="ppaction://hlinkshowjump?jump=previousslide"/>
          </p:cNvPr>
          <p:cNvSpPr/>
          <p:nvPr/>
        </p:nvSpPr>
        <p:spPr>
          <a:xfrm>
            <a:off x="6112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11755"/>
                </a:moveTo>
                <a:lnTo>
                  <a:pt x="17806" y="4748"/>
                </a:lnTo>
                <a:lnTo>
                  <a:pt x="17806" y="18761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36" name="AutoShape 6">
            <a:hlinkClick r:id="" action="ppaction://hlinkshowjump?jump=firstslide"/>
          </p:cNvPr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1. Начнём с повторения.(Разминка)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Итак,перед вами три колонки:</a:t>
            </a:r>
            <a:endParaRPr b="0" lang="en-US" sz="36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738180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Verdana"/>
              </a:rPr>
              <a:t>m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скорость             с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Verdana"/>
              </a:rPr>
              <a:t>t</a:t>
            </a:r>
            <a:r>
              <a:rPr b="1" lang="ru-RU" sz="44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ускорение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м/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ремя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Н     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а  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масса               м/с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V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сила                к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Укажи верный путь каждой букве(символу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Устно.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Line 4"/>
          <p:cNvSpPr/>
          <p:nvPr/>
        </p:nvSpPr>
        <p:spPr>
          <a:xfrm>
            <a:off x="1332000" y="1628640"/>
            <a:ext cx="1871640" cy="18716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0" name="Line 5"/>
          <p:cNvSpPr/>
          <p:nvPr/>
        </p:nvSpPr>
        <p:spPr>
          <a:xfrm>
            <a:off x="4572000" y="3573360"/>
            <a:ext cx="2160720" cy="6476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1" name="Line 6"/>
          <p:cNvSpPr/>
          <p:nvPr/>
        </p:nvSpPr>
        <p:spPr>
          <a:xfrm>
            <a:off x="971640" y="2205000"/>
            <a:ext cx="2232000" cy="71928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2" name="Line 7"/>
          <p:cNvSpPr/>
          <p:nvPr/>
        </p:nvSpPr>
        <p:spPr>
          <a:xfrm flipV="1">
            <a:off x="4643280" y="1628640"/>
            <a:ext cx="2089440" cy="12240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3" name="Line 8"/>
          <p:cNvSpPr/>
          <p:nvPr/>
        </p:nvSpPr>
        <p:spPr>
          <a:xfrm flipV="1">
            <a:off x="1116000" y="2276280"/>
            <a:ext cx="1800360" cy="122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4" name="Line 9"/>
          <p:cNvSpPr/>
          <p:nvPr/>
        </p:nvSpPr>
        <p:spPr>
          <a:xfrm>
            <a:off x="1042920" y="2708280"/>
            <a:ext cx="2449440" cy="1512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5" name="Line 10"/>
          <p:cNvSpPr/>
          <p:nvPr/>
        </p:nvSpPr>
        <p:spPr>
          <a:xfrm flipV="1">
            <a:off x="1258920" y="1700280"/>
            <a:ext cx="2017800" cy="2520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6" name="Line 11"/>
          <p:cNvSpPr/>
          <p:nvPr/>
        </p:nvSpPr>
        <p:spPr>
          <a:xfrm>
            <a:off x="5003640" y="1557360"/>
            <a:ext cx="1584360" cy="576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7" name="Line 12"/>
          <p:cNvSpPr/>
          <p:nvPr/>
        </p:nvSpPr>
        <p:spPr>
          <a:xfrm flipV="1">
            <a:off x="4572000" y="2924280"/>
            <a:ext cx="2160720" cy="1296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8" name="Line 13"/>
          <p:cNvSpPr/>
          <p:nvPr/>
        </p:nvSpPr>
        <p:spPr>
          <a:xfrm>
            <a:off x="5219640" y="2276640"/>
            <a:ext cx="1368360" cy="1296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9" name="AutoShape 14">
            <a:hlinkClick r:id="" action="ppaction://hlinkshowjump?jump=nextslide"/>
          </p:cNvPr>
          <p:cNvSpPr/>
          <p:nvPr/>
        </p:nvSpPr>
        <p:spPr>
          <a:xfrm>
            <a:off x="104292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50" name="AutoShape 15">
            <a:hlinkClick r:id="" action="ppaction://hlinkshowjump?jump=previousslide"/>
          </p:cNvPr>
          <p:cNvSpPr/>
          <p:nvPr/>
        </p:nvSpPr>
        <p:spPr>
          <a:xfrm>
            <a:off x="53964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11788"/>
                </a:moveTo>
                <a:lnTo>
                  <a:pt x="17806" y="4782"/>
                </a:lnTo>
                <a:lnTo>
                  <a:pt x="17806" y="1879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51" name="AutoShape 16">
            <a:hlinkClick r:id="" action="ppaction://hlinkshowjump?jump=firstslide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7800" cy="16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Как вы думаете, почему </a:t>
            </a:r>
            <a:br>
              <a:rPr sz="3600"/>
            </a:br>
            <a:r>
              <a:rPr b="1" lang="en-US" sz="3600" spc="-1" strike="noStrike">
                <a:solidFill>
                  <a:srgbClr val="33cc33"/>
                </a:solidFill>
                <a:latin typeface="Arial Unicode MS"/>
              </a:rPr>
              <a:t>m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и 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33cc33"/>
                </a:solidFill>
                <a:latin typeface="Arial Unicode MS"/>
              </a:rPr>
              <a:t>t</a:t>
            </a:r>
            <a:r>
              <a:rPr b="0" lang="en-US" sz="3600" spc="-1" strike="noStrike">
                <a:solidFill>
                  <a:srgbClr val="33cc33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выделены  зелёным цветом, а </a:t>
            </a:r>
            <a:r>
              <a:rPr b="1" lang="en-US" sz="3600" spc="-1" strike="noStrike">
                <a:solidFill>
                  <a:srgbClr val="ff3300"/>
                </a:solidFill>
                <a:latin typeface="Arial Unicode MS"/>
              </a:rPr>
              <a:t>F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,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 Unicode MS"/>
              </a:rPr>
              <a:t>V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 и </a:t>
            </a:r>
            <a:r>
              <a:rPr b="1" lang="ru-RU" sz="3600" spc="-1" strike="noStrike">
                <a:solidFill>
                  <a:srgbClr val="ff3300"/>
                </a:solidFill>
                <a:latin typeface="Arial Unicode MS"/>
              </a:rPr>
              <a:t>а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красным?</a:t>
            </a:r>
            <a:endParaRPr b="0" lang="en-US" sz="36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следние имеют ,а первые нет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rinda"/>
              </a:rPr>
              <a:t>Н А П Р А В Л Е Н И Е 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rinda"/>
              </a:rPr>
              <a:t>Физические величины , имеющ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rinda"/>
              </a:rPr>
              <a:t>направление называются…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Vrinda"/>
              </a:rPr>
              <a:t>Векторным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rinda"/>
              </a:rPr>
              <a:t>Не имеющие направления…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Vrinda"/>
              </a:rPr>
              <a:t>Скалярным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Rectangle 4"/>
          <p:cNvSpPr/>
          <p:nvPr/>
        </p:nvSpPr>
        <p:spPr>
          <a:xfrm>
            <a:off x="5148360" y="981000"/>
            <a:ext cx="10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Wide Latin"/>
              </a:rPr>
              <a:t>        </a:t>
            </a: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55" name="AutoShape 5">
            <a:hlinkClick r:id="" action="ppaction://hlinkshowjump?jump=nextslide"/>
          </p:cNvPr>
          <p:cNvSpPr/>
          <p:nvPr/>
        </p:nvSpPr>
        <p:spPr>
          <a:xfrm>
            <a:off x="104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56" name="AutoShape 6">
            <a:hlinkClick r:id="" action="ppaction://hlinkshowjump?jump=firstslide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57" name="AutoShape 7">
            <a:hlinkClick r:id="" action="ppaction://hlinkshowjump?jump=previousslide"/>
          </p:cNvPr>
          <p:cNvSpPr/>
          <p:nvPr/>
        </p:nvSpPr>
        <p:spPr>
          <a:xfrm>
            <a:off x="53964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11788"/>
                </a:moveTo>
                <a:lnTo>
                  <a:pt x="17806" y="4782"/>
                </a:lnTo>
                <a:lnTo>
                  <a:pt x="17806" y="1879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0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" dur="5000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0"/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7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Unicode MS"/>
              </a:rPr>
              <a:t>Мы знаем, что </a:t>
            </a:r>
            <a:r>
              <a:rPr b="0" lang="ru-RU" sz="4000" spc="-1" strike="noStrike">
                <a:solidFill>
                  <a:srgbClr val="ffff00"/>
                </a:solidFill>
                <a:latin typeface="Arial Unicode MS"/>
              </a:rPr>
              <a:t>причиной изменения скорости</a:t>
            </a:r>
            <a:r>
              <a:rPr b="0" lang="ru-RU" sz="4000" spc="-1" strike="noStrike">
                <a:solidFill>
                  <a:srgbClr val="ccecff"/>
                </a:solidFill>
                <a:latin typeface="Arial Unicode MS"/>
              </a:rPr>
              <a:t> тела является</a:t>
            </a:r>
            <a:endParaRPr b="0" lang="en-US" sz="40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28760" y="1714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действие других тел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Какую же силу нужно  приложить к телу, чтобы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за время </a:t>
            </a:r>
            <a:r>
              <a:rPr b="0" lang="de-LU" sz="4000" spc="-1" strike="noStrike">
                <a:solidFill>
                  <a:srgbClr val="00b050"/>
                </a:solidFill>
                <a:latin typeface="Verdana"/>
              </a:rPr>
              <a:t>t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увеличить его скорость от 0 до некоторого             значения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de-LU" sz="4000" spc="-1" strike="noStrike">
                <a:solidFill>
                  <a:srgbClr val="ff0066"/>
                </a:solidFill>
                <a:latin typeface="Verdana"/>
              </a:rPr>
              <a:t>V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0" y="62150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10800" y="6922"/>
                </a:moveTo>
                <a:lnTo>
                  <a:pt x="13376" y="9533"/>
                </a:lnTo>
                <a:lnTo>
                  <a:pt x="13376" y="7792"/>
                </a:lnTo>
                <a:lnTo>
                  <a:pt x="15152" y="7792"/>
                </a:lnTo>
                <a:lnTo>
                  <a:pt x="15152" y="11308"/>
                </a:lnTo>
                <a:lnTo>
                  <a:pt x="17763" y="13885"/>
                </a:lnTo>
                <a:lnTo>
                  <a:pt x="16109" y="13885"/>
                </a:lnTo>
                <a:lnTo>
                  <a:pt x="16109" y="21074"/>
                </a:lnTo>
                <a:lnTo>
                  <a:pt x="5491" y="21074"/>
                </a:lnTo>
                <a:lnTo>
                  <a:pt x="5491" y="13885"/>
                </a:lnTo>
                <a:lnTo>
                  <a:pt x="3837" y="13885"/>
                </a:lnTo>
                <a:close/>
              </a:path>
              <a:path fill="darkenLess" w="21600" h="27769">
                <a:moveTo>
                  <a:pt x="13376" y="9533"/>
                </a:moveTo>
                <a:lnTo>
                  <a:pt x="13376" y="7792"/>
                </a:lnTo>
                <a:lnTo>
                  <a:pt x="15152" y="7792"/>
                </a:lnTo>
                <a:lnTo>
                  <a:pt x="15152" y="11308"/>
                </a:lnTo>
                <a:close/>
              </a:path>
              <a:path fill="darkenLess" w="21600" h="27769">
                <a:moveTo>
                  <a:pt x="9877" y="17383"/>
                </a:moveTo>
                <a:lnTo>
                  <a:pt x="11723" y="17383"/>
                </a:lnTo>
                <a:lnTo>
                  <a:pt x="11723" y="21074"/>
                </a:lnTo>
                <a:lnTo>
                  <a:pt x="16109" y="21074"/>
                </a:lnTo>
                <a:lnTo>
                  <a:pt x="16109" y="13885"/>
                </a:lnTo>
                <a:lnTo>
                  <a:pt x="5491" y="13885"/>
                </a:lnTo>
                <a:lnTo>
                  <a:pt x="5491" y="21074"/>
                </a:lnTo>
                <a:lnTo>
                  <a:pt x="9877" y="21074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61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500040" y="62150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3794" y="13885"/>
                </a:moveTo>
                <a:lnTo>
                  <a:pt x="17806" y="6878"/>
                </a:lnTo>
                <a:lnTo>
                  <a:pt x="17806" y="2089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6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000080" y="62150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3794" y="6878"/>
                </a:moveTo>
                <a:lnTo>
                  <a:pt x="17806" y="13885"/>
                </a:lnTo>
                <a:lnTo>
                  <a:pt x="3794" y="2089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</a:rPr>
              <a:t>По 2-му закону Ньютон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Unicode MS"/>
              </a:rPr>
              <a:t>сила равна произведению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Unicode MS"/>
              </a:rPr>
              <a:t>массы тела на ускорение;</a:t>
            </a:r>
            <a:endParaRPr b="0" lang="en-US" sz="40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4800" spc="-1" strike="noStrike">
                <a:solidFill>
                  <a:srgbClr val="c6371a"/>
                </a:solidFill>
                <a:latin typeface="Verdana"/>
              </a:rPr>
              <a:t>F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4800" spc="-1" strike="noStrike">
                <a:solidFill>
                  <a:srgbClr val="33cc33"/>
                </a:solidFill>
                <a:latin typeface="Verdana"/>
              </a:rPr>
              <a:t>m∙</a:t>
            </a:r>
            <a:r>
              <a:rPr b="0" lang="en-US" sz="4800" spc="-1" strike="noStrike">
                <a:solidFill>
                  <a:srgbClr val="c6371a"/>
                </a:solidFill>
                <a:latin typeface="Verdana"/>
              </a:rPr>
              <a:t>a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.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ускорение тела равн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4800" spc="-1" strike="noStrike">
                <a:solidFill>
                  <a:srgbClr val="c6371a"/>
                </a:solidFill>
                <a:latin typeface="Verdana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4800" spc="-1" strike="noStrike">
                <a:solidFill>
                  <a:srgbClr val="c6371a"/>
                </a:solidFill>
                <a:latin typeface="Verdana"/>
              </a:rPr>
              <a:t>V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4800" spc="-1" strike="noStrike">
                <a:solidFill>
                  <a:srgbClr val="33cc33"/>
                </a:solidFill>
                <a:latin typeface="Verdana"/>
              </a:rPr>
              <a:t>t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.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одставив в формулу (1) вместо </a:t>
            </a:r>
            <a:r>
              <a:rPr b="0" lang="en-US" sz="4800" spc="-1" strike="noStrike">
                <a:solidFill>
                  <a:srgbClr val="c6371a"/>
                </a:solidFill>
                <a:latin typeface="Verdana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выражение</a:t>
            </a:r>
            <a:r>
              <a:rPr b="0" lang="ru-RU" sz="4000" spc="-1" strike="noStrike">
                <a:solidFill>
                  <a:srgbClr val="c6371a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c6371a"/>
                </a:solidFill>
                <a:latin typeface="Verdana"/>
              </a:rPr>
              <a:t>V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t</a:t>
            </a: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,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получим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6371a"/>
                </a:solidFill>
                <a:latin typeface="Verdana"/>
              </a:rPr>
              <a:t>       </a:t>
            </a:r>
            <a:r>
              <a:rPr b="0" lang="en-US" sz="4800" spc="-1" strike="noStrike">
                <a:solidFill>
                  <a:srgbClr val="c6371a"/>
                </a:solidFill>
                <a:latin typeface="Verdana"/>
              </a:rPr>
              <a:t>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m∙</a:t>
            </a:r>
            <a:r>
              <a:rPr b="0" lang="en-US" sz="4000" spc="-1" strike="noStrike">
                <a:solidFill>
                  <a:srgbClr val="c6371a"/>
                </a:solidFill>
                <a:latin typeface="Verdana"/>
              </a:rPr>
              <a:t>V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t</a:t>
            </a: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4800" spc="-1" strike="noStrike" u="sng">
                <a:solidFill>
                  <a:srgbClr val="c6371a"/>
                </a:solidFill>
                <a:uFillTx/>
                <a:latin typeface="Verdana"/>
              </a:rPr>
              <a:t>F∙</a:t>
            </a:r>
            <a:r>
              <a:rPr b="0" lang="en-US" sz="4800" spc="-1" strike="noStrike" u="sng">
                <a:solidFill>
                  <a:srgbClr val="33cc33"/>
                </a:solidFill>
                <a:uFillTx/>
                <a:latin typeface="Verdana"/>
              </a:rPr>
              <a:t>t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=</a:t>
            </a:r>
            <a:r>
              <a:rPr b="0" lang="en-US" sz="4800" spc="-1" strike="noStrike" u="sng">
                <a:solidFill>
                  <a:srgbClr val="33cc33"/>
                </a:solidFill>
                <a:uFillTx/>
                <a:latin typeface="Verdana"/>
              </a:rPr>
              <a:t>m∙</a:t>
            </a:r>
            <a:r>
              <a:rPr b="0" lang="en-US" sz="4800" spc="-1" strike="noStrike" u="sng">
                <a:solidFill>
                  <a:srgbClr val="c6371a"/>
                </a:solidFill>
                <a:uFillTx/>
                <a:latin typeface="Verdana"/>
              </a:rPr>
              <a:t>V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5" name="Line 4"/>
          <p:cNvSpPr/>
          <p:nvPr/>
        </p:nvSpPr>
        <p:spPr>
          <a:xfrm>
            <a:off x="4067280" y="5950080"/>
            <a:ext cx="57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66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67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64296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68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128592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3794"/>
                </a:moveTo>
                <a:lnTo>
                  <a:pt x="20891" y="10800"/>
                </a:lnTo>
                <a:lnTo>
                  <a:pt x="6878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69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36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Итак, мы получили выражение:</a:t>
            </a:r>
            <a:br>
              <a:rPr sz="3600"/>
            </a:br>
            <a:r>
              <a:rPr b="0" lang="en-US" sz="3600" spc="-1" strike="noStrike">
                <a:solidFill>
                  <a:srgbClr val="c6371a"/>
                </a:solidFill>
                <a:latin typeface="Arial Unicode MS"/>
              </a:rPr>
              <a:t>F</a:t>
            </a:r>
            <a:r>
              <a:rPr b="0" lang="en-US" sz="3600" spc="-1" strike="noStrike">
                <a:solidFill>
                  <a:srgbClr val="c6371a"/>
                </a:solidFill>
                <a:latin typeface="Arial Unicode MS"/>
                <a:ea typeface="Arial Unicode MS"/>
              </a:rPr>
              <a:t>⋅</a:t>
            </a:r>
            <a:r>
              <a:rPr b="0" lang="en-US" sz="3600" spc="-1" strike="noStrike">
                <a:solidFill>
                  <a:srgbClr val="33cc33"/>
                </a:solidFill>
                <a:latin typeface="Arial Unicode MS"/>
              </a:rPr>
              <a:t>t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=</a:t>
            </a:r>
            <a:r>
              <a:rPr b="0" lang="en-US" sz="3600" spc="-1" strike="noStrike">
                <a:solidFill>
                  <a:srgbClr val="33cc33"/>
                </a:solidFill>
                <a:latin typeface="Arial Unicode MS"/>
              </a:rPr>
              <a:t>m</a:t>
            </a:r>
            <a:r>
              <a:rPr b="0" lang="en-US" sz="3600" spc="-1" strike="noStrike">
                <a:solidFill>
                  <a:srgbClr val="33cc33"/>
                </a:solidFill>
                <a:latin typeface="Arial Unicode MS"/>
                <a:ea typeface="Arial Unicode MS"/>
              </a:rPr>
              <a:t>⋅</a:t>
            </a:r>
            <a:r>
              <a:rPr b="0" lang="en-US" sz="3600" spc="-1" strike="noStrike">
                <a:solidFill>
                  <a:srgbClr val="c6371a"/>
                </a:solidFill>
                <a:latin typeface="Arial Unicode MS"/>
              </a:rPr>
              <a:t>V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В правой части данного выражения стоит произведение 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 Unicode MS"/>
              </a:rPr>
              <a:t>m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на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 </a:t>
            </a:r>
            <a:r>
              <a:rPr b="0" lang="en-US" sz="3600" spc="-1" strike="noStrike">
                <a:solidFill>
                  <a:srgbClr val="c6371a"/>
                </a:solidFill>
                <a:latin typeface="Arial Unicode MS"/>
              </a:rPr>
              <a:t>V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. </a:t>
            </a:r>
            <a:endParaRPr b="0" lang="en-US" sz="36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42920" y="3286080"/>
            <a:ext cx="86248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значим это произведение                           буквой   </a:t>
            </a:r>
            <a:r>
              <a:rPr b="0" lang="en-US" sz="3200" spc="-1" strike="noStrike">
                <a:solidFill>
                  <a:srgbClr val="c6371a"/>
                </a:solidFill>
                <a:latin typeface="Verdana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физическая величина называется      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импульсом тел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2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0" y="6286680"/>
            <a:ext cx="714240" cy="57132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73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1424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5147" y="10800"/>
                </a:moveTo>
                <a:lnTo>
                  <a:pt x="19160" y="3794"/>
                </a:lnTo>
                <a:lnTo>
                  <a:pt x="19160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74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1357200" y="6286680"/>
            <a:ext cx="571680" cy="57132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302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c6371a"/>
                </a:solidFill>
                <a:uFillTx/>
                <a:latin typeface="Arial Unicode MS"/>
              </a:rPr>
              <a:t>Импульс тела</a:t>
            </a:r>
            <a:r>
              <a:rPr b="0" lang="ru-RU" sz="4800" spc="-1" strike="noStrike">
                <a:solidFill>
                  <a:srgbClr val="ccecff"/>
                </a:solidFill>
                <a:latin typeface="Arial Unicode MS"/>
              </a:rPr>
              <a:t> – векторная величина, равная произведению массы 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 Unicode MS"/>
              </a:rPr>
              <a:t>тела на его скорость. </a:t>
            </a:r>
            <a:endParaRPr b="0" lang="en-US" sz="48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187280" y="3357360"/>
            <a:ext cx="658512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a2525"/>
                </a:solidFill>
                <a:uFillTx/>
                <a:latin typeface="Verdana"/>
              </a:rPr>
              <a:t>P= m∙V</a:t>
            </a:r>
            <a:r>
              <a:rPr b="0" lang="ru-RU" sz="5400" spc="-1" strike="noStrike" u="sng">
                <a:solidFill>
                  <a:srgbClr val="ba2525"/>
                </a:solidFill>
                <a:uFillTx/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Verdana"/>
              </a:rPr>
              <a:t>Направление вектора импульса совпадает с направлением скорости тела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.(см.рис.17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7" name="AutoShape 4">
            <a:hlinkClick r:id="" action="ppaction://hlinkshowjump?jump=previousslide"/>
          </p:cNvPr>
          <p:cNvSpPr/>
          <p:nvPr/>
        </p:nvSpPr>
        <p:spPr>
          <a:xfrm>
            <a:off x="68436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10800"/>
                </a:moveTo>
                <a:lnTo>
                  <a:pt x="18302" y="3794"/>
                </a:lnTo>
                <a:lnTo>
                  <a:pt x="1830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78" name="AutoShape 5">
            <a:hlinkClick r:id="" action="ppaction://hlinkshowjump?jump=nextslide"/>
          </p:cNvPr>
          <p:cNvSpPr/>
          <p:nvPr/>
        </p:nvSpPr>
        <p:spPr>
          <a:xfrm>
            <a:off x="1258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79" name="AutoShape 6">
            <a:hlinkClick r:id="" action="ppaction://hlinkshowjump?jump=firstslide"/>
          </p:cNvPr>
          <p:cNvSpPr/>
          <p:nvPr/>
        </p:nvSpPr>
        <p:spPr>
          <a:xfrm>
            <a:off x="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13452" y="3837"/>
                </a:moveTo>
                <a:lnTo>
                  <a:pt x="16029" y="6448"/>
                </a:lnTo>
                <a:lnTo>
                  <a:pt x="16029" y="4707"/>
                </a:lnTo>
                <a:lnTo>
                  <a:pt x="17804" y="4707"/>
                </a:lnTo>
                <a:lnTo>
                  <a:pt x="17804" y="8224"/>
                </a:lnTo>
                <a:lnTo>
                  <a:pt x="20415" y="10800"/>
                </a:lnTo>
                <a:lnTo>
                  <a:pt x="18762" y="10800"/>
                </a:lnTo>
                <a:lnTo>
                  <a:pt x="18762" y="17989"/>
                </a:lnTo>
                <a:lnTo>
                  <a:pt x="8143" y="17989"/>
                </a:lnTo>
                <a:lnTo>
                  <a:pt x="8143" y="10800"/>
                </a:lnTo>
                <a:lnTo>
                  <a:pt x="6489" y="10800"/>
                </a:lnTo>
                <a:close/>
              </a:path>
              <a:path fill="darkenLess" w="26905" h="21600">
                <a:moveTo>
                  <a:pt x="16029" y="6448"/>
                </a:moveTo>
                <a:lnTo>
                  <a:pt x="16029" y="4707"/>
                </a:lnTo>
                <a:lnTo>
                  <a:pt x="17804" y="4707"/>
                </a:lnTo>
                <a:lnTo>
                  <a:pt x="17804" y="8224"/>
                </a:lnTo>
                <a:close/>
              </a:path>
              <a:path fill="darkenLess" w="26905" h="21600">
                <a:moveTo>
                  <a:pt x="12530" y="14299"/>
                </a:moveTo>
                <a:lnTo>
                  <a:pt x="14375" y="14299"/>
                </a:lnTo>
                <a:lnTo>
                  <a:pt x="14375" y="17989"/>
                </a:lnTo>
                <a:lnTo>
                  <a:pt x="18762" y="17989"/>
                </a:lnTo>
                <a:lnTo>
                  <a:pt x="18762" y="10800"/>
                </a:lnTo>
                <a:lnTo>
                  <a:pt x="8143" y="10800"/>
                </a:lnTo>
                <a:lnTo>
                  <a:pt x="8143" y="17989"/>
                </a:lnTo>
                <a:lnTo>
                  <a:pt x="12530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4:15:17Z</dcterms:created>
  <dc:creator>comp</dc:creator>
  <dc:description/>
  <dc:language>en-US</dc:language>
  <cp:lastModifiedBy>User</cp:lastModifiedBy>
  <dcterms:modified xsi:type="dcterms:W3CDTF">2015-10-10T10:50:17Z</dcterms:modified>
  <cp:revision>100</cp:revision>
  <dc:subject/>
  <dc:title>Импульс тела. Закон сохранения импульса.</dc:title>
</cp:coreProperties>
</file>