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breeze.wav" ContentType="audio/x-wav"/>
  <Override PartName="/ppt/media/cashreg.wav" ContentType="audio/x-wav"/>
  <Override PartName="/ppt/media/applause.wav" ContentType="audio/x-wav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push.wav" ContentType="audio/x-wav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8E3-BC12-402D-A87A-02A6D9FF3A3F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3AB-CFC9-456E-8080-EA1874509CC4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i="1" lang="en-US" sz="12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375-B723-462E-8645-D4C24193E0AA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i="1" lang="en-US" sz="12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7F8-60F1-4BF1-9FAA-9191A84C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CA8-D367-4CA1-95BA-DEE78EA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11B3F-D503-458D-B0E2-EDFF5E79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A92B-14AF-46CD-9CBD-924F3A1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4CC8-6D48-49F8-8C69-88C3DF5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AD545-DAAC-462E-8C4B-1620256B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6E5C4-0B81-4979-970F-55B47F1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AB132-C5A5-4B8B-8AE4-944793A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44FD8-AC08-4111-A7A5-F7F580F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81150-F11F-458D-B252-BDCC104D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D7EAF-22C7-4951-8581-48ED32E0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027D3-E257-4817-BD84-466B2D9A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7AC-414A-4E13-9A74-2784206F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4936D-E568-423F-B212-D4C6F1AB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AD1E4-3B13-4363-A8F2-1A66889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66C26-4844-4EEC-8335-97D8192B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8FED9-8780-4509-BEC4-003BED11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0B8D-6090-4D2E-BAF1-7FD6240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27A32-A6E7-47FE-8863-697A500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3BF6A-C071-42CE-A08D-B37AE73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F725A-F177-44B0-B958-832E795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FD375-BB6D-46A9-A500-E1241987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90C58-5AF3-4CD4-8502-E87BA740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115-2372-4928-9CF9-E41E281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6F132-85B5-4E09-90CC-368CB6A1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84EC-7B79-42A7-B226-02C8BEAB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25B5-A9BE-49CA-BAA4-F32A15CA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1DACE-33BC-4993-8798-7D178633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4CF5A-AA5A-42DE-B84E-F8BBC39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B1C0D-E42D-4320-82C8-FF8A2F2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B2419-FE72-42C2-8D35-BB4C4C8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BC4DC-67A7-4219-B955-714E723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2AAB-AB82-44BE-9FB9-CDBCD0D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B927D-BFB3-43E8-836B-7CA8761C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964-D528-4874-BC3E-007B1D98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EC9B-8A29-4F24-84A5-EC01AD0D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38D4-FF25-4D8E-A93E-D0D58AB6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2C20-132F-4BAF-A288-801AD95F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5607B-2D0F-43B6-892F-4A42B19F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BFFD1-60F3-48DF-B77A-D4C89B8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9200D-56ED-4D65-9120-AE46F53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38F07-342A-43CD-BD79-5CAEB4A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E907E-2CEF-40E9-9258-ED2C9DB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AEB21-C8B5-4FF4-B18C-388D549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E634-EAFB-4D7C-9F60-B6A27B6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9EA4-8F4E-4C43-970B-22A3648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C4575-1A14-4B4E-B69A-86B50A5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5144-12FF-4EC6-A69A-597ACC9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F614D-0F1C-4AA6-9FA0-E91F996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2326-3012-4191-9D4E-5E4362D9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25F6-4134-45B1-BCF7-0E3863F4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47DF4-2AA3-4BA7-9876-86C4D609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EB9E3-BFEA-44FC-84AA-D9E4FA9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F6BCD-708F-45BD-9D67-C2D17DA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53384-9533-4F4E-9CD6-0226A175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89FBA-FCB3-471B-8958-4ABB794A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519-04CA-4709-B5BE-7EA29D6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3F668-38F0-4725-9339-991B18A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74D9E-1505-48DF-B502-C811793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C526D-5DA9-4729-817F-8953755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82C52-2876-48F1-8559-8DB3CF2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1ECAE-BE6A-4A8C-83F9-16D3B2A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F5782-D0C0-4B15-B960-132C24F9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01187-D154-4289-B07B-CFB9174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A9BB-7EBE-46F3-B55D-BF302945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420-9320-4318-95D5-10CA6D2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F7CD-3C77-488B-8FE0-53C8C90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6474-F0DE-4B6A-8CC5-43E673D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295-BC02-4C36-8D6B-96081940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F68-C8EB-46C4-A81B-11E8F5C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543-F0BD-460E-B473-AC8305F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838-0622-4B46-A7F8-DD02D1CF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4E15-E285-4296-87A4-15FB0EAB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B5E7-6B11-49AC-855C-647BD762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7CE9-108B-438F-9AA2-4D756CA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E537-9B4D-424E-ACAA-521DD74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6BEB-D860-4DE5-913B-4EA5E00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C5AE-89CF-4C41-8936-11DCE3C9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0B6D-F655-409C-9B3B-464FC91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1E0-D2AC-4604-9E71-10176EF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2803-BBDE-48F7-A236-9F00DD8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1D41-E50B-4859-8820-06F92E2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081A-1DB2-4FF8-B89A-6B1ED0A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AFDC-BA07-4C13-B3AF-2A892F6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3D18-1DFF-4B28-A7AC-17051FD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B53D-D6B5-404B-92BA-0AEAC52C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C265-DFD8-46D5-BC8A-5D5A3140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4E1F-8EE8-401E-B858-A63AF22A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BABE-BA15-452B-807C-0C6F13E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C05E-9E9E-4888-B502-8146A50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AD4-0D77-434E-B0F5-CB53636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A80C-FBAB-4ED7-899B-489EDE9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78C4-4673-4D94-A502-6BACA5A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069D-9883-423D-8D59-B4FBFC05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F97F-6F84-4C19-82E3-2C91A5F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CD62-9BC8-4BF1-ADFD-36B5F4A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687E-D112-4699-823F-6DC5157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B7C6-1C95-41EF-A785-C0C60BE2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D8E5-945D-4345-91BC-9695CE2D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767D-4CC6-4853-AB17-B30FB180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B56A-07DA-481F-BA0B-15191847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C50-B012-4D4D-8032-0EC93871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5954-99A6-4374-8FDA-E24AD21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D69D-54CB-4688-AF37-19812739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C977-E2B3-4A12-BAD8-BC3916E0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F75BE-8577-494B-8162-C330524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7170-5550-4659-BD0F-25C242D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F860-D120-4E5C-94E6-02F2E93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CB31A-9F0F-47AA-B66B-BAE51F4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CA2E-DB94-42B6-95EA-BD2A849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F203-A54B-400A-9EF2-A7E6FDE4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087E-D7FF-43F6-82D2-8E611CC9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832-D47E-48D8-92BE-09B12B7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6B1B-AFDF-40A8-A156-43CF101D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6FA6-C459-4A31-B5E3-5256AF49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468D-FB61-4334-A2C8-028C64A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F0631-87AD-41DD-B29D-708C34A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70DC-97D5-4463-B09E-1102543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0373-DE9D-46F4-AE96-BB1CA07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DFB8-7C7A-47F2-9F0B-6B7BCEF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11E5-F2A4-45B5-BAAE-9559547F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C361-6FC0-42E0-A73B-59D6A33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C819-0AF2-4DFB-A69C-910F277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76D-1EA3-4D85-930E-AB6E46B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ABC0-5366-47DC-BCA9-5D96E12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7225-1FF2-46A3-989B-2B1FDF8B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724C-1E8A-4CF6-8257-7C2407F3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8D156-B695-456B-A48C-4BBB3E38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F49E3-84BB-4855-AFEB-FFB2F699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28254-3FBE-418B-84C6-77B8F8BC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226B-0208-4AC7-A3B9-2D036CD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6C07-8A22-41E7-A3E4-5764FBD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E0E6-A5CE-48A5-B8E0-8841382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E7A1B-D7BE-49F4-9BD2-CEF2620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4E6-7748-4C06-952B-8BE8B2D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C5DB-5A12-45D9-970D-3ECE96C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79E8-26C6-4CE7-A8E2-41E1FAE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28A7-93F1-4CD1-8416-AA8FAE43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9582-58F5-4F0A-AD4A-810F5E92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F24B-D399-463F-99B4-A3DA7FA4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E0474-C857-4ECC-A678-C61D4D2B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6B20-58E3-4B59-B64F-DC7A079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973D-29FB-4EAB-8C9E-CDF5145F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CE24-A32C-4F8C-8D8C-D6918EC8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08FE-2929-4550-97B6-FF605D7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FA4-8B0C-4371-949A-2358471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B969-D914-4A5E-89C3-9569FAF8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C9F3-D338-400B-9778-37BC673A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9E5D-07E2-4928-BFA0-A418D5E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AF30-9A48-4BAF-9B87-896BFE5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222FD-3DA1-48FA-8CE6-28CFFB19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DB5A-0E34-4E0F-A558-C9571F4C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5ADB-D3C3-4A8E-93CC-274B3D61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43FB-BA08-47A1-A624-513CD20E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F2937-5535-4247-9470-FC5F2EF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D8937-5FBC-4ED0-BFC5-B266B9E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16A2-9130-4BA4-B871-9BF95A8790C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0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0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1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2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E5E-D986-471E-AF66-A5C1D396912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8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8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7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8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79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79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79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6890-F67F-42C5-8D1E-DE89E3C74E3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6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6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6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7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7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8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8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8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89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9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414C-B825-4398-BCF1-9CD26F12117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3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3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3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94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4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5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5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6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96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6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6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7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7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7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EA50-8537-4FE5-BB46-BC24C19BD12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EFD-0062-4659-BEB4-4A62FCB9423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D4A4-669C-492A-BAE7-3519B460CB7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684-282E-458E-A2FB-1579608682E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1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1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3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4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4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4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34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078-E621-4716-A9C8-2AEB8D3BD2B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3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3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3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F96-6D52-49AF-A3DC-C1E1F6A3C7D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7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7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7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8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48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8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49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49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0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0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0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7A4-2F51-4A83-8E40-A6F74231995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4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5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6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6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6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7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57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7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7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58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58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7586-B88F-40CA-93A3-9D947085A89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6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6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grpSp>
          <p:nvGrpSpPr>
            <p:cNvPr id="6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  <p:sp>
            <p:nvSpPr>
              <p:cNvPr id="6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800" spc="-1" strike="noStrike" u="sng">
                  <a:solidFill>
                    <a:srgbClr val="0000ff"/>
                  </a:solidFill>
                  <a:uFillTx/>
                  <a:latin typeface="Wide Latin"/>
                </a:endParaRPr>
              </a:p>
            </p:txBody>
          </p:sp>
        </p:grpSp>
        <p:sp>
          <p:nvSpPr>
            <p:cNvPr id="6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  <p:sp>
          <p:nvSpPr>
            <p:cNvPr id="6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800" spc="-1" strike="noStrike" u="sng">
                <a:solidFill>
                  <a:srgbClr val="0000ff"/>
                </a:solidFill>
                <a:uFillTx/>
                <a:latin typeface="Wide Lati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E0DF-4754-48D8-ADA4-1D9F148056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6371a"/>
                </a:solidFill>
                <a:latin typeface="Arial Unicode MS"/>
              </a:rPr>
              <a:t>Ф и з и к а-8</a:t>
            </a:r>
            <a:endParaRPr b="0" lang="en-US" sz="9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Гришина Е.М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В(С)ОУ ЦО № 1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3" name="Picture 4" descr="j0217698"/>
          <p:cNvPicPr/>
          <p:nvPr/>
        </p:nvPicPr>
        <p:blipFill>
          <a:blip r:embed="rId1"/>
          <a:stretch/>
        </p:blipFill>
        <p:spPr>
          <a:xfrm>
            <a:off x="0" y="3357720"/>
            <a:ext cx="52927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3280" y="1989000"/>
            <a:ext cx="8640720" cy="31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И 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81" name="AutoShape 3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2" name="AutoShape 4">
            <a:hlinkClick r:id="" action="ppaction://hlinkshowjump?jump=nextslide"/>
          </p:cNvPr>
          <p:cNvSpPr/>
          <p:nvPr/>
        </p:nvSpPr>
        <p:spPr>
          <a:xfrm>
            <a:off x="1116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3" name="AutoShape 5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0" y="0"/>
            <a:ext cx="8964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60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slow">
    <p:comb dir="horz"/>
    <p:sndAc>
      <p:stSnd>
        <p:snd r:embed="rId1" name="breeze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От какого слова возникл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слово </a:t>
            </a:r>
            <a:r>
              <a:rPr b="0" lang="ru-RU" sz="4400" spc="-1" strike="noStrike">
                <a:solidFill>
                  <a:srgbClr val="ff0066"/>
                </a:solidFill>
                <a:latin typeface="Arial Unicode MS"/>
              </a:rPr>
              <a:t>импульс</a:t>
            </a: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radley Hand ITC"/>
              </a:rPr>
              <a:t>От лат. 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mpulsus-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Bradley Hand ITC"/>
              </a:rPr>
              <a:t>толчок</a:t>
            </a:r>
            <a:r>
              <a:rPr b="0" lang="ru-RU" sz="3200" spc="-1" strike="noStrike">
                <a:solidFill>
                  <a:srgbClr val="ffff00"/>
                </a:solidFill>
                <a:latin typeface="Bradley Hand ITC"/>
              </a:rPr>
              <a:t> к чему-либо, пробуждение, стремление, быстрый скач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8" name="Управляющая кнопка: назад 13">
            <a:hlinkClick r:id="" action="ppaction://hlinkshowjump?jump=previousslide"/>
          </p:cNvPr>
          <p:cNvSpPr/>
          <p:nvPr/>
        </p:nvSpPr>
        <p:spPr>
          <a:xfrm flipH="1">
            <a:off x="107100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89" name="Управляющая кнопка: далее 14">
            <a:hlinkClick r:id="" action="ppaction://hlinkshowjump?jump=nextslide"/>
          </p:cNvPr>
          <p:cNvSpPr/>
          <p:nvPr/>
        </p:nvSpPr>
        <p:spPr>
          <a:xfrm flipH="1">
            <a:off x="570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5332"/>
                </a:moveTo>
                <a:lnTo>
                  <a:pt x="17806" y="12338"/>
                </a:lnTo>
                <a:lnTo>
                  <a:pt x="3794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В каких единицах измеряются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импульс тела и импульс силы в СИ?</a:t>
            </a:r>
            <a:endParaRPr b="0" lang="en-US" sz="32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=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m·V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m[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                   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V[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/с</a:t>
            </a:r>
            <a:r>
              <a:rPr b="0" lang="de-LU" sz="3200" spc="-1" strike="noStrike">
                <a:solidFill>
                  <a:srgbClr val="ffffff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Verdana"/>
              </a:rPr>
              <a:t>[кг·м/с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de-LU" sz="3200" spc="-1" strike="noStrike" u="sng">
                <a:solidFill>
                  <a:srgbClr val="ffffff"/>
                </a:solidFill>
                <a:uFillTx/>
                <a:latin typeface="Verdana"/>
              </a:rPr>
              <a:t>F·t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de-LU" sz="3200" spc="-1" strike="noStrike" u="sng">
                <a:solidFill>
                  <a:srgbClr val="ffc000"/>
                </a:solidFill>
                <a:uFillTx/>
                <a:latin typeface="Verdana"/>
              </a:rPr>
              <a:t>[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Verdana"/>
              </a:rPr>
              <a:t>Н·с</a:t>
            </a:r>
            <a:r>
              <a:rPr b="0" lang="de-LU" sz="3200" spc="-1" strike="noStrike" u="sng">
                <a:solidFill>
                  <a:srgbClr val="ffc000"/>
                </a:solidFill>
                <a:uFillTx/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92" name="Прямая со стрелкой 4"/>
          <p:cNvCxnSpPr/>
          <p:nvPr/>
        </p:nvCxnSpPr>
        <p:spPr>
          <a:xfrm flipH="1">
            <a:off x="1785240" y="2214720"/>
            <a:ext cx="150084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3" name="Прямая со стрелкой 8"/>
          <p:cNvCxnSpPr/>
          <p:nvPr/>
        </p:nvCxnSpPr>
        <p:spPr>
          <a:xfrm>
            <a:off x="4000680" y="2142720"/>
            <a:ext cx="1786320" cy="7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94" name="Прямая со стрелкой 10"/>
          <p:cNvCxnSpPr/>
          <p:nvPr/>
        </p:nvCxnSpPr>
        <p:spPr>
          <a:xfrm>
            <a:off x="2786040" y="2071440"/>
            <a:ext cx="929520" cy="1500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95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96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64296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10800"/>
                </a:moveTo>
                <a:lnTo>
                  <a:pt x="19160" y="3794"/>
                </a:lnTo>
                <a:lnTo>
                  <a:pt x="1916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97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1285920" y="628668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67760" cy="257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66"/>
                </a:solidFill>
                <a:uFillTx/>
                <a:latin typeface="Arial Unicode MS"/>
              </a:rPr>
              <a:t>Задачка:</a:t>
            </a:r>
            <a:br>
              <a:rPr sz="32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Корова массой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200кг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стоит и жуёт жвачку,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около неё летает муха (она маленькая –её не видно)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массой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0,0001кг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со скоростью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5м/с.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Чему равны импульсы коровы и мухи ?</a:t>
            </a: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79280" y="275436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6371a"/>
                </a:solidFill>
                <a:uFillTx/>
                <a:latin typeface="Verdana"/>
              </a:rPr>
              <a:t>Варианты ответ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1.Коровы-700кг∙м/с; мухи-0,5кг∙м/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2.Коровы-0кг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∙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м/с; мухи-0,0005кг∙м/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Коровы-700кг∙м/с; мухи-0кг∙м/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(Правильный ответ под №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0" name="Picture 4" descr="j0149627"/>
          <p:cNvPicPr/>
          <p:nvPr/>
        </p:nvPicPr>
        <p:blipFill>
          <a:blip r:embed="rId1"/>
          <a:stretch/>
        </p:blipFill>
        <p:spPr>
          <a:xfrm>
            <a:off x="6610320" y="505764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101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57168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07172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5332"/>
                </a:moveTo>
                <a:lnTo>
                  <a:pt x="17806" y="12338"/>
                </a:lnTo>
                <a:lnTo>
                  <a:pt x="3794" y="19345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indefinite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28760" y="-500040"/>
            <a:ext cx="8229600" cy="7143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66ff33"/>
                </a:solidFill>
                <a:latin typeface="Arial Unicode MS"/>
              </a:rPr>
              <a:t>Делаем вывод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Если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скорость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тела равна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нулю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,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то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даже при такой большой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массе как у коровы,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импульс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её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равен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нулю</a:t>
            </a:r>
            <a:r>
              <a:rPr b="0" lang="ru-RU" sz="3600" spc="-1" strike="noStrike">
                <a:solidFill>
                  <a:srgbClr val="ff0066"/>
                </a:solidFill>
                <a:latin typeface="Arial Unicode MS"/>
              </a:rPr>
              <a:t>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Unicode MS"/>
              </a:rPr>
              <a:t>Если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 </a:t>
            </a:r>
            <a:r>
              <a:rPr b="0" lang="de-L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V=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0 ⇨Р</a:t>
            </a:r>
            <a:r>
              <a:rPr b="0" lang="de-L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 =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 Unicode MS"/>
              </a:rPr>
              <a:t>0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 rot="10800000">
            <a:off x="457200" y="32144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0" y="63579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57168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0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107172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Unicode MS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 Unicode MS"/>
              </a:rPr>
              <a:t>Отгадайте слова-ответы и вы узнаете, кто впервые ввёл понятие </a:t>
            </a:r>
            <a:r>
              <a:rPr b="0" lang="ru-RU" sz="2400" spc="-1" strike="noStrike">
                <a:solidFill>
                  <a:srgbClr val="c6371a"/>
                </a:solidFill>
                <a:latin typeface="Arial Unicode MS"/>
              </a:rPr>
              <a:t>«импульс».</a:t>
            </a:r>
            <a:r>
              <a:rPr b="0" lang="ru-RU" sz="2400" spc="-1" strike="noStrike">
                <a:solidFill>
                  <a:srgbClr val="ccecff"/>
                </a:solidFill>
                <a:latin typeface="Arial Unicode MS"/>
              </a:rPr>
              <a:t> </a:t>
            </a:r>
            <a:br>
              <a:rPr sz="2400"/>
            </a:b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                                                                                                                                                        </a:t>
            </a: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6372360" y="1773360"/>
            <a:ext cx="194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1" name="Text Box 4"/>
          <p:cNvSpPr/>
          <p:nvPr/>
        </p:nvSpPr>
        <p:spPr>
          <a:xfrm>
            <a:off x="324000" y="10717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ибор для измерения силы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Любой предмет в физике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Больше грамма в 1000 раз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4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Мера инертности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5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Течёт не кончается, никогда не возвращается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6.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еликий физик, автор 3-х законов.</a:t>
            </a: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pic>
        <p:nvPicPr>
          <p:cNvPr id="1112" name="Picture 6" descr="j0299125"/>
          <p:cNvPicPr/>
          <p:nvPr/>
        </p:nvPicPr>
        <p:blipFill>
          <a:blip r:embed="rId1"/>
          <a:stretch/>
        </p:blipFill>
        <p:spPr>
          <a:xfrm>
            <a:off x="6929280" y="1143000"/>
            <a:ext cx="2071800" cy="2000160"/>
          </a:xfrm>
          <a:prstGeom prst="rect">
            <a:avLst/>
          </a:prstGeom>
          <a:ln w="0">
            <a:noFill/>
          </a:ln>
        </p:spPr>
      </p:pic>
      <p:sp>
        <p:nvSpPr>
          <p:cNvPr id="1113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14392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4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15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764388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643040" y="4286160"/>
          <a:ext cx="6072120" cy="428760"/>
        </p:xfrm>
        <a:graphic>
          <a:graphicData uri="http://schemas.openxmlformats.org/drawingml/2006/table">
            <a:tbl>
              <a:tblPr/>
              <a:tblGrid>
                <a:gridCol w="608040"/>
                <a:gridCol w="577800"/>
                <a:gridCol w="636480"/>
                <a:gridCol w="606600"/>
                <a:gridCol w="608040"/>
                <a:gridCol w="606240"/>
                <a:gridCol w="608040"/>
                <a:gridCol w="606600"/>
                <a:gridCol w="608040"/>
                <a:gridCol w="60624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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д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и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1071720" y="4714920"/>
          <a:ext cx="2357280" cy="428760"/>
        </p:xfrm>
        <a:graphic>
          <a:graphicData uri="http://schemas.openxmlformats.org/drawingml/2006/table">
            <a:tbl>
              <a:tblPr/>
              <a:tblGrid>
                <a:gridCol w="588960"/>
                <a:gridCol w="588960"/>
                <a:gridCol w="590400"/>
                <a:gridCol w="5889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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8" name=""/>
          <p:cNvGraphicFramePr/>
          <p:nvPr/>
        </p:nvGraphicFramePr>
        <p:xfrm>
          <a:off x="1643040" y="5143680"/>
          <a:ext cx="5715000" cy="3650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5040"/>
                <a:gridCol w="635040"/>
                <a:gridCol w="634680"/>
                <a:gridCol w="635040"/>
                <a:gridCol w="635040"/>
                <a:gridCol w="635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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и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г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1000080" y="5500800"/>
          <a:ext cx="3214800" cy="428400"/>
        </p:xfrm>
        <a:graphic>
          <a:graphicData uri="http://schemas.openxmlformats.org/drawingml/2006/table">
            <a:tbl>
              <a:tblPr/>
              <a:tblGrid>
                <a:gridCol w="642960"/>
                <a:gridCol w="642960"/>
                <a:gridCol w="642960"/>
                <a:gridCol w="642960"/>
                <a:gridCol w="642960"/>
              </a:tblGrid>
              <a:tr h="4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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а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0" name=""/>
          <p:cNvGraphicFramePr/>
          <p:nvPr/>
        </p:nvGraphicFramePr>
        <p:xfrm>
          <a:off x="1000080" y="5929200"/>
          <a:ext cx="3214800" cy="436680"/>
        </p:xfrm>
        <a:graphic>
          <a:graphicData uri="http://schemas.openxmlformats.org/drawingml/2006/table">
            <a:tbl>
              <a:tblPr/>
              <a:tblGrid>
                <a:gridCol w="642960"/>
                <a:gridCol w="642960"/>
                <a:gridCol w="642960"/>
                <a:gridCol w="642960"/>
                <a:gridCol w="642960"/>
              </a:tblGrid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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р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е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м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я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0" y="6357960"/>
          <a:ext cx="3571920" cy="500040"/>
        </p:xfrm>
        <a:graphic>
          <a:graphicData uri="http://schemas.openxmlformats.org/drawingml/2006/table">
            <a:tbl>
              <a:tblPr/>
              <a:tblGrid>
                <a:gridCol w="520560"/>
                <a:gridCol w="479520"/>
                <a:gridCol w="642960"/>
                <a:gridCol w="642960"/>
                <a:gridCol w="642960"/>
                <a:gridCol w="642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r>
                        <a:rPr b="0" lang="ru-RU" sz="10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ь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ю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о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н</a:t>
                      </a:r>
                      <a:endParaRPr b="0" i="1" lang="en-US" sz="1800" spc="-1" strike="noStrike" u="sng">
                        <a:solidFill>
                          <a:srgbClr val="0000ff"/>
                        </a:solidFill>
                        <a:uFillTx/>
                        <a:latin typeface="Wide Lati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1857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Французский учёный </a:t>
            </a:r>
            <a:r>
              <a:rPr b="0" lang="ru-RU" sz="2800" spc="-1" strike="noStrike">
                <a:solidFill>
                  <a:srgbClr val="66ff33"/>
                </a:solidFill>
                <a:latin typeface="Arial Unicode MS"/>
              </a:rPr>
              <a:t>Рене Декарт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(1596-1650) называл эту величину не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мпульсом</a:t>
            </a: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, а количеством движения </a:t>
            </a:r>
            <a:r>
              <a:rPr b="0" lang="ru-RU" sz="2800" spc="-1" strike="noStrike">
                <a:solidFill>
                  <a:srgbClr val="00b050"/>
                </a:solidFill>
                <a:latin typeface="Arial Unicode MS"/>
              </a:rPr>
              <a:t>«…если одно тело приводит в движение другое, то теряет столько своего движения, сколько его сообщает»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Этими словами Декарт впервые сформулировал  закон сохранения импульса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Запишите в тетради: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Unicode MS"/>
              </a:rPr>
              <a:t>При взаимодействии двух тел их общий</a:t>
            </a: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Unicode MS"/>
              </a:rPr>
              <a:t>импульс сохраняется.</a:t>
            </a: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опыт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 Unicode MS"/>
            </a:endParaRPr>
          </a:p>
        </p:txBody>
      </p:sp>
      <p:pic>
        <p:nvPicPr>
          <p:cNvPr id="1123" name="Picture 3" descr="j0212957"/>
          <p:cNvPicPr/>
          <p:nvPr/>
        </p:nvPicPr>
        <p:blipFill>
          <a:blip r:embed="rId1"/>
          <a:stretch/>
        </p:blipFill>
        <p:spPr>
          <a:xfrm>
            <a:off x="4896000" y="4429080"/>
            <a:ext cx="4248000" cy="2309760"/>
          </a:xfrm>
          <a:prstGeom prst="rect">
            <a:avLst/>
          </a:prstGeom>
          <a:ln w="0">
            <a:noFill/>
          </a:ln>
        </p:spPr>
      </p:pic>
      <p:sp>
        <p:nvSpPr>
          <p:cNvPr id="1124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2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000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12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-5.55556E-006 4.44444E-006 C -0.00869 -0.00162 -0.01146 -0.00486 -0.0191 -0.00811 C -0.05296 -0.02223 -0.00973 0.00208 -0.04653 -0.0176 C -0.05383 -0.02153 -0.06042 -0.02755 -0.06789 -0.03033 C -0.07639 -0.03334 -0.08542 -0.03334 -0.0941 -0.03496 C -0.13646 -0.05463 -0.17917 -0.07037 -0.22153 -0.08889 C -0.22935 -0.09236 -0.23646 -0.09861 -0.24428 -0.10162 C -0.26563 -0.10996 -0.29254 -0.1088 -0.31442 -0.11111 C -0.33108 -0.11065 -0.34792 -0.11204 -0.36442 -0.10973 C -0.36667 -0.10949 -0.36719 -0.10486 -0.3691 -0.10324 C -0.37483 -0.09838 -0.38108 -0.09468 -0.38699 -0.09051 C -0.38889 -0.08912 -0.38994 -0.08611 -0.39167 -0.08426 C -0.39758 -0.07824 -0.40539 -0.07385 -0.41077 -0.06667 C -0.42153 -0.05232 -0.43178 -0.03912 -0.44653 -0.03195 C -0.45209 -0.01991 -0.46355 -0.01459 -0.47032 -0.00324 C -0.4816 0.01551 -0.48837 0.03379 -0.49289 0.05694 C -0.49202 0.11898 -0.49237 0.18102 -0.49046 0.24282 C -0.49028 0.24583 -0.48803 0.24791 -0.48699 0.25069 C -0.48421 0.2574 -0.48143 0.26435 -0.47865 0.27129 C -0.47587 0.27824 -0.46806 0.27939 -0.46442 0.28564 C -0.45626 0.30023 -0.45018 0.31713 -0.43942 0.32847 C -0.429 0.35092 -0.39567 0.3625 -0.37744 0.36666 C -0.34844 0.36551 -0.31945 0.36643 -0.29046 0.36342 C -0.28455 0.36273 -0.27935 0.3581 -0.27379 0.35555 C -0.25469 0.34722 -0.23594 0.3375 -0.21667 0.33009 C -0.20851 0.3206 -0.20122 0.31273 -0.19167 0.30625 C -0.18594 0.29398 -0.19393 0.30902 -0.18455 0.29838 C -0.18299 0.29676 -0.18247 0.29398 -0.18108 0.29189 C -0.17466 0.2824 -0.16806 0.27477 -0.16077 0.26666 C -0.15643 0.25509 -0.13768 0.23634 -0.12744 0.23333 C -0.1231 0.22176 -0.11337 0.22014 -0.10608 0.2125 C -0.10296 0.20926 -0.10053 0.20509 -0.09775 0.20139 C -0.0915 0.19305 -0.08178 0.18796 -0.07501 0.18078 C -0.0665 0.17176 -0.05643 0.15347 -0.05001 0.1412 C -0.04688 0.1287 -0.05139 0.14375 -0.04532 0.13333 C -0.04445 0.13194 -0.0448 0.12986 -0.0441 0.12847 C -0.03681 0.11365 -0.02501 0.10092 -0.01546 0.08889 C -0.01216 0.07963 -0.00678 0.0706 -0.00122 0.06342 C -0.00087 0.0618 -5.55556E-006 0.05856 -5.55556E-006 0.05856 L -5.55556E-006 4.44444E-006 Z">
                                      <p:cBhvr>
                                        <p:cTn id="338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Это было в школьном  коридоре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я стоял и смотрел рассписани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Сева ,как трус, от девчонок  бежал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ю увидеть он не успел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И на него налетел-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Петя в движение пришёл 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А Сева-в объятья девчонок попал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Куда девался импульс Севы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Ведь скоростью он обладал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0" y="442908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Если предположить,что массы мальчиков примерно одинаковы,а Сева бежал со скоростью 2 м/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(и остановился),то Петя в движение пришё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о скоростью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м/с Вот и применили закон сохранения импуль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9144000" cy="722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злёт ракет, передвижение кальмаров и медуз-всё это связано с импульсом тела! Но об этом мы будем говорить на следующем уро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ff33"/>
                </a:solidFill>
                <a:uFillTx/>
                <a:latin typeface="Verdana"/>
              </a:rPr>
              <a:t>Д/З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стр.28-30.Устно ответить на вопросы 1-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1" name="Picture 4" descr="j0215086"/>
          <p:cNvPicPr/>
          <p:nvPr/>
        </p:nvPicPr>
        <p:blipFill>
          <a:blip r:embed="rId1"/>
          <a:stretch/>
        </p:blipFill>
        <p:spPr>
          <a:xfrm>
            <a:off x="7715160" y="4621320"/>
            <a:ext cx="14288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571400" y="856800"/>
            <a:ext cx="6669000" cy="27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Bradley Hand ITC"/>
              </a:rPr>
              <a:t>Тема урока:</a:t>
            </a:r>
            <a:br>
              <a:rPr sz="4000"/>
            </a:b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Bradley Hand ITC"/>
              </a:rPr>
              <a:t>«Импульс тела.Закон сохранения импульса.</a:t>
            </a: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Bradley Hand ITC"/>
              </a:rPr>
              <a:t>»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25" name="Oval 3"/>
          <p:cNvSpPr/>
          <p:nvPr/>
        </p:nvSpPr>
        <p:spPr>
          <a:xfrm>
            <a:off x="755640" y="2852640"/>
            <a:ext cx="1512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6" name="Oval 4"/>
          <p:cNvSpPr/>
          <p:nvPr/>
        </p:nvSpPr>
        <p:spPr>
          <a:xfrm>
            <a:off x="3786120" y="4429080"/>
            <a:ext cx="1440000" cy="14400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7" name="Oval 5"/>
          <p:cNvSpPr/>
          <p:nvPr/>
        </p:nvSpPr>
        <p:spPr>
          <a:xfrm>
            <a:off x="2843280" y="5084640"/>
            <a:ext cx="649080" cy="576360"/>
          </a:xfrm>
          <a:prstGeom prst="ellipse">
            <a:avLst/>
          </a:prstGeom>
          <a:solidFill>
            <a:srgbClr val="0b4677"/>
          </a:solidFill>
          <a:ln w="9360">
            <a:solidFill>
              <a:srgbClr val="250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8" name="Oval 6"/>
          <p:cNvSpPr/>
          <p:nvPr/>
        </p:nvSpPr>
        <p:spPr>
          <a:xfrm>
            <a:off x="6300720" y="4221000"/>
            <a:ext cx="2519280" cy="2376720"/>
          </a:xfrm>
          <a:prstGeom prst="ellipse">
            <a:avLst/>
          </a:prstGeom>
          <a:solidFill>
            <a:srgbClr val="b5c610"/>
          </a:solidFill>
          <a:ln w="9360">
            <a:solidFill>
              <a:srgbClr val="b5c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29" name="AutoShape 7">
            <a:hlinkClick r:id="" action="ppaction://hlinkshowjump?jump=previousslide"/>
          </p:cNvPr>
          <p:cNvSpPr/>
          <p:nvPr/>
        </p:nvSpPr>
        <p:spPr>
          <a:xfrm>
            <a:off x="6843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0" name="AutoShape 8">
            <a:hlinkClick r:id="" action="ppaction://hlinkshowjump?jump=first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3452" y="3837"/>
                </a:moveTo>
                <a:lnTo>
                  <a:pt x="16029" y="6448"/>
                </a:ln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lnTo>
                  <a:pt x="20415" y="10800"/>
                </a:lnTo>
                <a:lnTo>
                  <a:pt x="18762" y="10800"/>
                </a:lnTo>
                <a:lnTo>
                  <a:pt x="18762" y="17989"/>
                </a:lnTo>
                <a:lnTo>
                  <a:pt x="8143" y="17989"/>
                </a:lnTo>
                <a:lnTo>
                  <a:pt x="8143" y="10800"/>
                </a:lnTo>
                <a:lnTo>
                  <a:pt x="6489" y="10800"/>
                </a:lnTo>
                <a:close/>
              </a:path>
              <a:path fill="darkenLess" w="26905" h="21600">
                <a:moveTo>
                  <a:pt x="16029" y="6448"/>
                </a:move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close/>
              </a:path>
              <a:path fill="darkenLess" w="26905" h="21600">
                <a:moveTo>
                  <a:pt x="12530" y="14299"/>
                </a:moveTo>
                <a:lnTo>
                  <a:pt x="14375" y="14299"/>
                </a:lnTo>
                <a:lnTo>
                  <a:pt x="14375" y="17989"/>
                </a:lnTo>
                <a:lnTo>
                  <a:pt x="18762" y="17989"/>
                </a:lnTo>
                <a:lnTo>
                  <a:pt x="18762" y="10800"/>
                </a:lnTo>
                <a:lnTo>
                  <a:pt x="8143" y="10800"/>
                </a:lnTo>
                <a:lnTo>
                  <a:pt x="8143" y="17989"/>
                </a:lnTo>
                <a:lnTo>
                  <a:pt x="1253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1" name="AutoShape 9">
            <a:hlinkClick r:id="" action="ppaction://hlinkshowjump?jump=nextslide"/>
          </p:cNvPr>
          <p:cNvSpPr/>
          <p:nvPr/>
        </p:nvSpPr>
        <p:spPr>
          <a:xfrm>
            <a:off x="1258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2474 C -0.16094 -0.01873 -0.18438 -0.20532 -0.1849 -0.17249 C -0.18507 -0.13989 -0.14271 0.11537 -0.10903 0.17225 C -0.07535 0.22959 -0.02535 0.17017 0.01666 0.16994 C 0.0585 0.16994 0.1217 0.20832 0.14253 0.16994 C 0.16336 0.13179 0.14253 0.00346 0.14253 -0.06012 C 0.14253 -0.12324 0.1842 -0.2148 0.14253 -0.20995 C 0.10121 -0.20486 -0.05174 -0.03099 -0.10625 -0.02474 Z">
                                      <p:cBhvr>
                                        <p:cTn id="18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7307 C -0.01718 -0.1096 -0.15607 -0.17804 -0.16666 -0.15538 C -0.17725 -0.13203 -0.09114 0.05387 -0.06336 0.06751 C -0.03559 0.08115 0.01719 -0.03584 -3.88889E-006 -0.07307 Z">
                                      <p:cBhvr>
                                        <p:cTn id="20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139 C -0.03577 -0.00739 -0.1349 0.15885 -0.11875 0.20116 C -0.10261 0.24347 0.07725 0.28833 0.09705 0.2548 C 0.11666 0.22151 0.03611 0.01041 2.22222E-006 0.00139 Z">
                                      <p:cBhvr>
                                        <p:cTn id="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7.51445E-007 C -0.00242 0.0215 -0.00138 0.03214 -0.01266 0.04647 C -0.01527 0.05711 -0.0203 0.0652 -0.02534 0.07399 C -0.02586 0.07607 -0.02621 0.07838 -0.0269 0.08046 C -0.02829 0.08393 -0.03037 0.08716 -0.03159 0.09063 C -0.03506 0.10242 -0.0361 0.11537 -0.0427 0.12485 C -0.04201 0.14497 -0.04114 0.18104 -0.03957 0.203 C -0.03923 0.20786 -0.03871 0.21294 -0.03801 0.2178 C -0.03766 0.21988 -0.03645 0.22404 -0.03645 0.22404 L 0.08577 0.2178 L 0.04445 -0.49457 L 5.55556E-006 7.51445E-007 Z">
                                      <p:cBhvr>
                                        <p:cTn id="24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Arial Unicode MS"/>
              </a:rPr>
              <a:t>Ход урока.</a:t>
            </a:r>
            <a:endParaRPr b="0" lang="en-US" sz="44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Сопутствующее повторение.(Разминка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Изучение нового материала.(Вывод формул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пульса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Закрепление.(Решение задачи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Кроссворд.(Минута отдых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Закон сохранения импуль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Примеры проявления закона сохранения импуль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Самостоятельная рабо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Домашнее зад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AutoShape 4">
            <a:hlinkClick r:id="" action="ppaction://hlinkshowjump?jump=nextslide"/>
          </p:cNvPr>
          <p:cNvSpPr/>
          <p:nvPr/>
        </p:nvSpPr>
        <p:spPr>
          <a:xfrm>
            <a:off x="1116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5" name="AutoShape 5">
            <a:hlinkClick r:id="" action="ppaction://hlinkshowjump?jump=previousslide"/>
          </p:cNvPr>
          <p:cNvSpPr/>
          <p:nvPr/>
        </p:nvSpPr>
        <p:spPr>
          <a:xfrm>
            <a:off x="6112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11755"/>
                </a:moveTo>
                <a:lnTo>
                  <a:pt x="17806" y="4748"/>
                </a:lnTo>
                <a:lnTo>
                  <a:pt x="17806" y="1876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36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1. Начнём с повторения.(Разминка)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так,перед вами три колонки: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73818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корость             с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1" lang="ru-RU" sz="4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скорение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/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ремя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Н   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а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асса               м/с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V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ила                к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Укажи верный путь каждой букве(символу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Устно.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332000" y="1628640"/>
            <a:ext cx="1871640" cy="1871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0" name="Line 5"/>
          <p:cNvSpPr/>
          <p:nvPr/>
        </p:nvSpPr>
        <p:spPr>
          <a:xfrm>
            <a:off x="4572000" y="3573360"/>
            <a:ext cx="2160720" cy="647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1" name="Line 6"/>
          <p:cNvSpPr/>
          <p:nvPr/>
        </p:nvSpPr>
        <p:spPr>
          <a:xfrm>
            <a:off x="971640" y="2205000"/>
            <a:ext cx="2232000" cy="719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2" name="Line 7"/>
          <p:cNvSpPr/>
          <p:nvPr/>
        </p:nvSpPr>
        <p:spPr>
          <a:xfrm flipV="1">
            <a:off x="4643280" y="1628640"/>
            <a:ext cx="2089440" cy="12240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3" name="Line 8"/>
          <p:cNvSpPr/>
          <p:nvPr/>
        </p:nvSpPr>
        <p:spPr>
          <a:xfrm flipV="1">
            <a:off x="1116000" y="2276280"/>
            <a:ext cx="1800360" cy="122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4" name="Line 9"/>
          <p:cNvSpPr/>
          <p:nvPr/>
        </p:nvSpPr>
        <p:spPr>
          <a:xfrm>
            <a:off x="1042920" y="2708280"/>
            <a:ext cx="2449440" cy="1512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5" name="Line 10"/>
          <p:cNvSpPr/>
          <p:nvPr/>
        </p:nvSpPr>
        <p:spPr>
          <a:xfrm flipV="1">
            <a:off x="1258920" y="1700280"/>
            <a:ext cx="2017800" cy="2520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6" name="Line 11"/>
          <p:cNvSpPr/>
          <p:nvPr/>
        </p:nvSpPr>
        <p:spPr>
          <a:xfrm>
            <a:off x="5003640" y="1557360"/>
            <a:ext cx="1584360" cy="576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7" name="Line 12"/>
          <p:cNvSpPr/>
          <p:nvPr/>
        </p:nvSpPr>
        <p:spPr>
          <a:xfrm flipV="1">
            <a:off x="4572000" y="2924280"/>
            <a:ext cx="2160720" cy="1296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8" name="Line 13"/>
          <p:cNvSpPr/>
          <p:nvPr/>
        </p:nvSpPr>
        <p:spPr>
          <a:xfrm>
            <a:off x="5219640" y="2276640"/>
            <a:ext cx="1368360" cy="1296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49" name="AutoShape 14">
            <a:hlinkClick r:id="" action="ppaction://hlinkshowjump?jump=nextslide"/>
          </p:cNvPr>
          <p:cNvSpPr/>
          <p:nvPr/>
        </p:nvSpPr>
        <p:spPr>
          <a:xfrm>
            <a:off x="104292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0" name="AutoShape 15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1" name="AutoShape 1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Как вы думаете, почему 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 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33cc33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выделены  зелёным цветом, а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F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,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 и </a:t>
            </a:r>
            <a:r>
              <a:rPr b="1" lang="ru-RU" sz="3600" spc="-1" strike="noStrike">
                <a:solidFill>
                  <a:srgbClr val="ff3300"/>
                </a:solidFill>
                <a:latin typeface="Arial Unicode MS"/>
              </a:rPr>
              <a:t>а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красным?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следние имеют ,а первые не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rinda"/>
              </a:rPr>
              <a:t>Н А П Р А В Л Е Н И Е 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Физические величины , имеющ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направление называются…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Vrinda"/>
              </a:rPr>
              <a:t>Векторны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rinda"/>
              </a:rPr>
              <a:t>Не имеющие направления…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Vrinda"/>
              </a:rPr>
              <a:t>Скалярны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5148360" y="981000"/>
            <a:ext cx="10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Wide Latin"/>
              </a:rPr>
              <a:t>        </a:t>
            </a: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5" name="AutoShape 5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6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57" name="AutoShape 7">
            <a:hlinkClick r:id="" action="ppaction://hlinkshowjump?jump=previousslide"/>
          </p:cNvPr>
          <p:cNvSpPr/>
          <p:nvPr/>
        </p:nvSpPr>
        <p:spPr>
          <a:xfrm>
            <a:off x="53964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Мы знаем, что </a:t>
            </a:r>
            <a:r>
              <a:rPr b="0" lang="ru-RU" sz="4000" spc="-1" strike="noStrike">
                <a:solidFill>
                  <a:srgbClr val="ffff00"/>
                </a:solidFill>
                <a:latin typeface="Arial Unicode MS"/>
              </a:rPr>
              <a:t>причиной изменения скорости</a:t>
            </a:r>
            <a:r>
              <a:rPr b="0" lang="ru-RU" sz="4000" spc="-1" strike="noStrike">
                <a:solidFill>
                  <a:srgbClr val="ccecff"/>
                </a:solidFill>
                <a:latin typeface="Arial Unicode MS"/>
              </a:rPr>
              <a:t> тела является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2876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действие других те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акую же силу нужно  приложить к телу, чтобы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а время </a:t>
            </a:r>
            <a:r>
              <a:rPr b="0" lang="de-LU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величить его скорость от 0 до некоторого             значения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de-LU" sz="4000" spc="-1" strike="noStrike">
                <a:solidFill>
                  <a:srgbClr val="ff0066"/>
                </a:solidFill>
                <a:latin typeface="Verdana"/>
              </a:rPr>
              <a:t>V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10800" y="6922"/>
                </a:moveTo>
                <a:lnTo>
                  <a:pt x="13376" y="9533"/>
                </a:lnTo>
                <a:lnTo>
                  <a:pt x="13376" y="7792"/>
                </a:lnTo>
                <a:lnTo>
                  <a:pt x="15152" y="7792"/>
                </a:lnTo>
                <a:lnTo>
                  <a:pt x="15152" y="11308"/>
                </a:lnTo>
                <a:lnTo>
                  <a:pt x="17763" y="13885"/>
                </a:lnTo>
                <a:lnTo>
                  <a:pt x="16109" y="13885"/>
                </a:lnTo>
                <a:lnTo>
                  <a:pt x="16109" y="21074"/>
                </a:lnTo>
                <a:lnTo>
                  <a:pt x="5491" y="21074"/>
                </a:lnTo>
                <a:lnTo>
                  <a:pt x="5491" y="13885"/>
                </a:lnTo>
                <a:lnTo>
                  <a:pt x="3837" y="13885"/>
                </a:lnTo>
                <a:close/>
              </a:path>
              <a:path fill="darkenLess" w="21600" h="27769">
                <a:moveTo>
                  <a:pt x="13376" y="9533"/>
                </a:moveTo>
                <a:lnTo>
                  <a:pt x="13376" y="7792"/>
                </a:lnTo>
                <a:lnTo>
                  <a:pt x="15152" y="7792"/>
                </a:lnTo>
                <a:lnTo>
                  <a:pt x="15152" y="11308"/>
                </a:lnTo>
                <a:close/>
              </a:path>
              <a:path fill="darkenLess" w="21600" h="27769">
                <a:moveTo>
                  <a:pt x="9877" y="17383"/>
                </a:moveTo>
                <a:lnTo>
                  <a:pt x="11723" y="17383"/>
                </a:lnTo>
                <a:lnTo>
                  <a:pt x="11723" y="21074"/>
                </a:lnTo>
                <a:lnTo>
                  <a:pt x="16109" y="21074"/>
                </a:lnTo>
                <a:lnTo>
                  <a:pt x="16109" y="13885"/>
                </a:lnTo>
                <a:lnTo>
                  <a:pt x="5491" y="13885"/>
                </a:lnTo>
                <a:lnTo>
                  <a:pt x="5491" y="21074"/>
                </a:lnTo>
                <a:lnTo>
                  <a:pt x="9877" y="21074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0004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3885"/>
                </a:moveTo>
                <a:lnTo>
                  <a:pt x="17806" y="6878"/>
                </a:lnTo>
                <a:lnTo>
                  <a:pt x="17806" y="208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6878"/>
                </a:moveTo>
                <a:lnTo>
                  <a:pt x="17806" y="13885"/>
                </a:lnTo>
                <a:lnTo>
                  <a:pt x="3794" y="208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По 2-му закону Ньютон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сила равна произведению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Unicode MS"/>
              </a:rPr>
              <a:t>массы тела на ускорение;</a:t>
            </a:r>
            <a:endParaRPr b="0" lang="en-US" sz="40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F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800" spc="-1" strike="noStrike">
                <a:solidFill>
                  <a:srgbClr val="33cc33"/>
                </a:solidFill>
                <a:latin typeface="Verdana"/>
              </a:rPr>
              <a:t>m∙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скорение тела равн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8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дставив в формулу (1) вместо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выражение</a:t>
            </a:r>
            <a:r>
              <a:rPr b="0" lang="ru-RU" sz="4000" spc="-1" strike="noStrike">
                <a:solidFill>
                  <a:srgbClr val="c6371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получим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6371a"/>
                </a:solidFill>
                <a:latin typeface="Verdana"/>
              </a:rPr>
              <a:t>       </a:t>
            </a:r>
            <a:r>
              <a:rPr b="0" lang="en-US" sz="4800" spc="-1" strike="noStrike">
                <a:solidFill>
                  <a:srgbClr val="c6371a"/>
                </a:solidFill>
                <a:latin typeface="Verdana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m∙</a:t>
            </a:r>
            <a:r>
              <a:rPr b="0" lang="en-US" sz="4000" spc="-1" strike="noStrike">
                <a:solidFill>
                  <a:srgbClr val="c6371a"/>
                </a:solidFill>
                <a:latin typeface="Verdana"/>
              </a:rPr>
              <a:t>V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t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4800" spc="-1" strike="noStrike" u="sng">
                <a:solidFill>
                  <a:srgbClr val="c6371a"/>
                </a:solidFill>
                <a:uFillTx/>
                <a:latin typeface="Verdana"/>
              </a:rPr>
              <a:t>F∙</a:t>
            </a:r>
            <a:r>
              <a:rPr b="0" lang="en-US" sz="4800" spc="-1" strike="noStrike" u="sng">
                <a:solidFill>
                  <a:srgbClr val="33cc33"/>
                </a:solidFill>
                <a:uFillTx/>
                <a:latin typeface="Verdana"/>
              </a:rPr>
              <a:t>t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=</a:t>
            </a:r>
            <a:r>
              <a:rPr b="0" lang="en-US" sz="4800" spc="-1" strike="noStrike" u="sng">
                <a:solidFill>
                  <a:srgbClr val="33cc33"/>
                </a:solidFill>
                <a:uFillTx/>
                <a:latin typeface="Verdana"/>
              </a:rPr>
              <a:t>m∙</a:t>
            </a:r>
            <a:r>
              <a:rPr b="0" lang="en-US" sz="4800" spc="-1" strike="noStrike" u="sng">
                <a:solidFill>
                  <a:srgbClr val="c6371a"/>
                </a:solidFill>
                <a:uFillTx/>
                <a:latin typeface="Verdana"/>
              </a:rPr>
              <a:t>V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Line 4"/>
          <p:cNvSpPr/>
          <p:nvPr/>
        </p:nvSpPr>
        <p:spPr>
          <a:xfrm>
            <a:off x="4067280" y="595008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6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6429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28592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69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Итак, мы получили выражение:</a:t>
            </a:r>
            <a:br>
              <a:rPr sz="3600"/>
            </a:b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F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  <a:ea typeface="Arial Unicode MS"/>
              </a:rPr>
              <a:t>⋅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=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33cc33"/>
                </a:solidFill>
                <a:latin typeface="Arial Unicode MS"/>
                <a:ea typeface="Arial Unicode MS"/>
              </a:rPr>
              <a:t>⋅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В правой части данного выражения стоит произведение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на</a:t>
            </a: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c6371a"/>
                </a:solidFill>
                <a:latin typeface="Arial Unicode MS"/>
              </a:rPr>
              <a:t>V</a:t>
            </a:r>
            <a:r>
              <a:rPr b="0" lang="ru-RU" sz="3600" spc="-1" strike="noStrike">
                <a:solidFill>
                  <a:srgbClr val="ccecff"/>
                </a:solidFill>
                <a:latin typeface="Arial Unicode MS"/>
              </a:rPr>
              <a:t>. </a:t>
            </a:r>
            <a:endParaRPr b="0" lang="en-US" sz="36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2920" y="3286080"/>
            <a:ext cx="8624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значим это произведение                           буквой   </a:t>
            </a:r>
            <a:r>
              <a:rPr b="0" lang="en-US" sz="3200" spc="-1" strike="noStrike">
                <a:solidFill>
                  <a:srgbClr val="c6371a"/>
                </a:solidFill>
                <a:latin typeface="Verdan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физическая величина называется    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импульсом те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0" y="628668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142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10800"/>
                </a:moveTo>
                <a:lnTo>
                  <a:pt x="19160" y="3794"/>
                </a:lnTo>
                <a:lnTo>
                  <a:pt x="1916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357200" y="628668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6371a"/>
                </a:solidFill>
                <a:uFillTx/>
                <a:latin typeface="Arial Unicode MS"/>
              </a:rPr>
              <a:t>Импульс тела</a:t>
            </a:r>
            <a:r>
              <a:rPr b="0" lang="ru-RU" sz="4800" spc="-1" strike="noStrike">
                <a:solidFill>
                  <a:srgbClr val="ccecff"/>
                </a:solidFill>
                <a:latin typeface="Arial Unicode MS"/>
              </a:rPr>
              <a:t> – векторная величина, равная произведению массы 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 Unicode MS"/>
              </a:rPr>
              <a:t>тела на его скорость. </a:t>
            </a:r>
            <a:endParaRPr b="0" lang="en-US" sz="4800" spc="-1" strike="noStrike">
              <a:solidFill>
                <a:srgbClr val="ccecff"/>
              </a:solidFill>
              <a:latin typeface="Arial Unicode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187280" y="3357360"/>
            <a:ext cx="658512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a2525"/>
                </a:solidFill>
                <a:uFillTx/>
                <a:latin typeface="Verdana"/>
              </a:rPr>
              <a:t>P= m∙V</a:t>
            </a:r>
            <a:r>
              <a:rPr b="0" lang="ru-RU" sz="5400" spc="-1" strike="noStrike" u="sng">
                <a:solidFill>
                  <a:srgbClr val="ba2525"/>
                </a:solidFill>
                <a:uFillTx/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Направление вектора импульса совпадает с направлением скорости тела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(см.рис.17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AutoShape 4">
            <a:hlinkClick r:id="" action="ppaction://hlinkshowjump?jump=previousslide"/>
          </p:cNvPr>
          <p:cNvSpPr/>
          <p:nvPr/>
        </p:nvSpPr>
        <p:spPr>
          <a:xfrm>
            <a:off x="6843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8" name="AutoShape 5">
            <a:hlinkClick r:id="" action="ppaction://hlinkshowjump?jump=nextslide"/>
          </p:cNvPr>
          <p:cNvSpPr/>
          <p:nvPr/>
        </p:nvSpPr>
        <p:spPr>
          <a:xfrm>
            <a:off x="1258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  <p:sp>
        <p:nvSpPr>
          <p:cNvPr id="1079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3452" y="3837"/>
                </a:moveTo>
                <a:lnTo>
                  <a:pt x="16029" y="6448"/>
                </a:ln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lnTo>
                  <a:pt x="20415" y="10800"/>
                </a:lnTo>
                <a:lnTo>
                  <a:pt x="18762" y="10800"/>
                </a:lnTo>
                <a:lnTo>
                  <a:pt x="18762" y="17989"/>
                </a:lnTo>
                <a:lnTo>
                  <a:pt x="8143" y="17989"/>
                </a:lnTo>
                <a:lnTo>
                  <a:pt x="8143" y="10800"/>
                </a:lnTo>
                <a:lnTo>
                  <a:pt x="6489" y="10800"/>
                </a:lnTo>
                <a:close/>
              </a:path>
              <a:path fill="darkenLess" w="26905" h="21600">
                <a:moveTo>
                  <a:pt x="16029" y="6448"/>
                </a:move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close/>
              </a:path>
              <a:path fill="darkenLess" w="26905" h="21600">
                <a:moveTo>
                  <a:pt x="12530" y="14299"/>
                </a:moveTo>
                <a:lnTo>
                  <a:pt x="14375" y="14299"/>
                </a:lnTo>
                <a:lnTo>
                  <a:pt x="14375" y="17989"/>
                </a:lnTo>
                <a:lnTo>
                  <a:pt x="18762" y="17989"/>
                </a:lnTo>
                <a:lnTo>
                  <a:pt x="18762" y="10800"/>
                </a:lnTo>
                <a:lnTo>
                  <a:pt x="8143" y="10800"/>
                </a:lnTo>
                <a:lnTo>
                  <a:pt x="8143" y="17989"/>
                </a:lnTo>
                <a:lnTo>
                  <a:pt x="1253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ff"/>
              </a:solidFill>
              <a:uFillTx/>
              <a:latin typeface="Wide Lati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4:15:17Z</dcterms:created>
  <dc:creator>comp</dc:creator>
  <dc:description/>
  <dc:language>en-US</dc:language>
  <cp:lastModifiedBy>User</cp:lastModifiedBy>
  <dcterms:modified xsi:type="dcterms:W3CDTF">2015-10-10T10:50:17Z</dcterms:modified>
  <cp:revision>100</cp:revision>
  <dc:subject/>
  <dc:title>Импульс тела. Закон сохранения импульса.</dc:title>
</cp:coreProperties>
</file>