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AEB-7510-4BFD-ACE0-C9B57D92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A30-FC65-4CA2-961D-412F1FCE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485E-C5A6-4F81-9922-5D58EF83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C9F-E571-4B21-8B25-CE68155B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BC7-2695-4F92-9D96-5A5377C6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E61-4B68-470C-8B11-64C356AA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F86-55BB-4C3C-A20E-217DF6E2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8BF7-C276-4248-8AFD-B3F5DEB9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49A-C3CD-46C9-BACC-82663C04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B666-E905-4521-8921-61EC59BA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45B-8EBB-4E80-9031-D15A8A34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5E31-0B50-4AB9-A220-758ADF6C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ACF5-4E54-4B4E-8F04-44EFD52E3D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ru.wikipedi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adikal.ua/data/upload/4efc3/fb1a9/fb156897c7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500040" y="21420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МАОУ Краснопутьская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029120" y="4334040"/>
            <a:ext cx="529272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Проект выполнили:</a:t>
            </a: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обучающиеся 3 «В» класса </a:t>
            </a: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Монахова Алевти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2"/>
          <p:cNvSpPr txBox="1"/>
          <p:nvPr/>
        </p:nvSpPr>
        <p:spPr>
          <a:xfrm>
            <a:off x="1214280" y="1357200"/>
            <a:ext cx="69296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Газированная вода -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вред или польза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2928960" y="857160"/>
            <a:ext cx="3143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7375e"/>
                </a:solidFill>
                <a:uFillTx/>
                <a:latin typeface="Calibri"/>
              </a:rPr>
              <a:t>Внеурочный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2857680" y="5786280"/>
            <a:ext cx="38574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Bookman Old Style"/>
              </a:rPr>
              <a:t>2015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714760" y="2428920"/>
            <a:ext cx="6286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Bookman Old Style"/>
              </a:rPr>
              <a:t>«Человек рождается здоровым, а многие болезни к нему приходят через рот с пищ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Bookman Old Style"/>
              </a:rPr>
              <a:t>Гипп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IMG_0606"/>
          <p:cNvPicPr/>
          <p:nvPr/>
        </p:nvPicPr>
        <p:blipFill>
          <a:blip r:embed="rId1"/>
          <a:stretch/>
        </p:blipFill>
        <p:spPr>
          <a:xfrm>
            <a:off x="250920" y="3573360"/>
            <a:ext cx="3565440" cy="295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1763640" y="101520"/>
            <a:ext cx="507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504d"/>
                </a:solidFill>
                <a:latin typeface="Bookman Old Style"/>
              </a:rPr>
              <a:t>Опыт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0253f"/>
                </a:solidFill>
                <a:latin typeface="Bookman Old Style"/>
              </a:rPr>
              <a:t>Проба с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накип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на чайн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Documents and Settings\User\Рабочий стол\Опыты Маша\P1010169.JPG"/>
          <p:cNvPicPr/>
          <p:nvPr/>
        </p:nvPicPr>
        <p:blipFill>
          <a:blip r:embed="rId1"/>
          <a:stretch/>
        </p:blipFill>
        <p:spPr>
          <a:xfrm>
            <a:off x="1187280" y="1566720"/>
            <a:ext cx="2664000" cy="208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User\Рабочий стол\Опыты Маша\P1010172.JPG"/>
          <p:cNvPicPr/>
          <p:nvPr/>
        </p:nvPicPr>
        <p:blipFill>
          <a:blip r:embed="rId2"/>
          <a:stretch/>
        </p:blipFill>
        <p:spPr>
          <a:xfrm>
            <a:off x="5003640" y="1584360"/>
            <a:ext cx="2786400" cy="2070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1"/>
          <p:cNvSpPr/>
          <p:nvPr/>
        </p:nvSpPr>
        <p:spPr>
          <a:xfrm>
            <a:off x="892080" y="4235400"/>
            <a:ext cx="699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БЛЮД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Накипь исчезла, чайник стал совершенно чис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892080" y="5220000"/>
            <a:ext cx="75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95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газированная вода «Фанта» удаляет накипь и можно предположить, что она имеет кислую сре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2844720" y="-28440"/>
            <a:ext cx="35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Bookman Old Style"/>
              </a:rPr>
              <a:t>Опыт №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0253f"/>
                </a:solidFill>
                <a:latin typeface="Bookman Old Style"/>
              </a:rPr>
              <a:t>Проба с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яичной скорлуп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2"/>
          <p:cNvSpPr txBox="1"/>
          <p:nvPr/>
        </p:nvSpPr>
        <p:spPr>
          <a:xfrm>
            <a:off x="4214880" y="4143240"/>
            <a:ext cx="4643280" cy="23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Picture 9" descr="IMG_0608"/>
          <p:cNvPicPr/>
          <p:nvPr/>
        </p:nvPicPr>
        <p:blipFill>
          <a:blip r:embed="rId1"/>
          <a:stretch/>
        </p:blipFill>
        <p:spPr>
          <a:xfrm>
            <a:off x="304920" y="236520"/>
            <a:ext cx="2016000" cy="151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IMG_0609"/>
          <p:cNvPicPr/>
          <p:nvPr/>
        </p:nvPicPr>
        <p:blipFill>
          <a:blip r:embed="rId2"/>
          <a:stretch/>
        </p:blipFill>
        <p:spPr>
          <a:xfrm>
            <a:off x="6140520" y="3481560"/>
            <a:ext cx="2370240" cy="1776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IMG_0612"/>
          <p:cNvPicPr/>
          <p:nvPr/>
        </p:nvPicPr>
        <p:blipFill>
          <a:blip r:embed="rId3"/>
          <a:stretch/>
        </p:blipFill>
        <p:spPr>
          <a:xfrm>
            <a:off x="3139920" y="348156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IMG_0611"/>
          <p:cNvPicPr/>
          <p:nvPr/>
        </p:nvPicPr>
        <p:blipFill>
          <a:blip r:embed="rId4"/>
          <a:stretch/>
        </p:blipFill>
        <p:spPr>
          <a:xfrm>
            <a:off x="289080" y="3481560"/>
            <a:ext cx="2382840" cy="16286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4"/>
          <p:cNvSpPr/>
          <p:nvPr/>
        </p:nvSpPr>
        <p:spPr>
          <a:xfrm>
            <a:off x="179280" y="1855800"/>
            <a:ext cx="41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ЕНИЯ ( через сутки 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179280" y="2230560"/>
            <a:ext cx="28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«Пепси-Коле приняла тёмно-коричневую окраску и стала вязкой и мяг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3139920" y="2254320"/>
            <a:ext cx="29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«Фанте» не изменила цвет, но стала тоже вязкой и мяг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6140520" y="223056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скорлупа в минеральной воде совсем не измени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198360" y="5288040"/>
            <a:ext cx="867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ВЫВОД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«Пепси-кола» содержит красители, которые окрашивают яичную скорлупу;  «Фанта», «Пепси-кола» хорошо растворяют неорганические вещества в яичной  скорлу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250920" y="-14400"/>
            <a:ext cx="6985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Bookman Old Style"/>
              </a:rPr>
              <a:t>Приложение 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Bookman Old Style"/>
              </a:rPr>
              <a:t>Результаты анкет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Bookman Old Style"/>
              </a:rPr>
              <a:t>обучающихся 3 «В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250920" y="1484280"/>
            <a:ext cx="4071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ьете ли вы газированную вод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одержимое 4"/>
          <p:cNvSpPr/>
          <p:nvPr/>
        </p:nvSpPr>
        <p:spPr>
          <a:xfrm>
            <a:off x="3995640" y="1484280"/>
            <a:ext cx="4900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Воду какой марки вы больше всего люби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Диаграмма 13"/>
          <p:cNvGraphicFramePr/>
          <p:nvPr/>
        </p:nvGraphicFramePr>
        <p:xfrm>
          <a:off x="-663480" y="2585880"/>
          <a:ext cx="5457600" cy="416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Диаграмма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63480" y="2585880"/>
                    <a:ext cx="5457600" cy="41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Диаграмма 17"/>
          <p:cNvGraphicFramePr/>
          <p:nvPr/>
        </p:nvGraphicFramePr>
        <p:xfrm>
          <a:off x="3225960" y="2585880"/>
          <a:ext cx="6197400" cy="4165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3" name="Диаграмма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25960" y="2585880"/>
                    <a:ext cx="6197400" cy="41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4643280" y="142920"/>
            <a:ext cx="4357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Bookman Old Style"/>
              </a:rPr>
              <a:t>Приложение 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Bookman Old Style"/>
              </a:rPr>
              <a:t>Результаты анкет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Bookman Old Style"/>
              </a:rPr>
              <a:t>родителей обучаю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Bookman Old Style"/>
              </a:rPr>
              <a:t>3 «В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держимое 4"/>
          <p:cNvSpPr/>
          <p:nvPr/>
        </p:nvSpPr>
        <p:spPr>
          <a:xfrm>
            <a:off x="534960" y="1514520"/>
            <a:ext cx="8217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Знаете ли вы какие-либо заболевания, вызываемые газированной водой, если да, то ка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Диаграмма 7"/>
          <p:cNvGraphicFramePr/>
          <p:nvPr/>
        </p:nvGraphicFramePr>
        <p:xfrm>
          <a:off x="1281240" y="2514600"/>
          <a:ext cx="619740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Диаграмма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1240" y="2514600"/>
                    <a:ext cx="61974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одзаголовок 2"/>
          <p:cNvSpPr/>
          <p:nvPr/>
        </p:nvSpPr>
        <p:spPr>
          <a:xfrm>
            <a:off x="2571840" y="0"/>
            <a:ext cx="38574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urier New"/>
                <a:ea typeface="Courier New"/>
              </a:rPr>
              <a:t>Выв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928800" y="857160"/>
            <a:ext cx="80150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alibri"/>
              </a:rPr>
              <a:t>Сладкие газированные напитки не утоляют жажду, хотя мы покупаем их именно для эт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Химический состав напитков оказывает губительное действие на здоровье: разрушаются зубы, становятся хрупкими кости,  может возникнуть ожирение, аллергия, заболевания желудка, кофеиновая зависимость по типу наркотичес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alibri"/>
              </a:rPr>
              <a:t>Для утоления жажды лучше использовать морсы, минеральную воду, очищенную питьевую воду. </a:t>
            </a:r>
            <a:r>
              <a:rPr b="1" i="1" lang="ru-RU" sz="28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57120" y="571680"/>
            <a:ext cx="8229600" cy="714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исок источников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vodainf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ru.wikipedia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blogozdorovie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борник статей «Искусственная пищ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учно – методический журнал «Классный руководитель», № 4, 2004 г., ст. «Как сохранить здоровье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285840" y="21420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Методический паспорт проекта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142920" y="928800"/>
            <a:ext cx="8858160" cy="46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Тема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0253f"/>
                </a:solidFill>
                <a:latin typeface="Arial"/>
                <a:ea typeface="Arial"/>
              </a:rPr>
              <a:t>Газированная вода – вред или польз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робл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ом, что газированные безалкогольные напитки отрицательно влияют на здоровье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Гипотеза исследовательской работы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йствительно ли газированные напитки оказывают отрицательное воздействие на здоровье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Цель исследовательской работы: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казательство отрицательного влияния газированных напитков на организм человека через исследование и опыты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179280" y="620640"/>
            <a:ext cx="878688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Задачи:</a:t>
            </a: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вести литературный обзор по теоретическим вопросам темы               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ить популярность газированной воды различных производителей среди обучающихся и родителей 3«В»  класса на основе социологического опро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казать отрицательное влияние   газированных напитков на организм человека через исследование и опы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Время работы над проектом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1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Режим работы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внеур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Мотивация к позна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личный интерес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газировка.jpg"/>
          <p:cNvPicPr/>
          <p:nvPr/>
        </p:nvPicPr>
        <p:blipFill>
          <a:blip r:embed="rId1"/>
          <a:stretch/>
        </p:blipFill>
        <p:spPr>
          <a:xfrm>
            <a:off x="4211640" y="4005360"/>
            <a:ext cx="4681440" cy="266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00000"/>
                </a:solidFill>
                <a:uFillTx/>
                <a:latin typeface="Calibri"/>
              </a:rPr>
              <a:t>Работа над проекто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п: организацион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рали тему, определили цели и задачи, составили план раб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п: поисково-исследователь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учали литературу, делали фотографии, проводили опыты и социологический опрос обучающихся и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п: создание продукта проект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презентации о пользе и вреде газированной во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п: предъявление проекта и его проду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priestley22.jpg (10052 bytes)"/>
          <p:cNvPicPr/>
          <p:nvPr/>
        </p:nvPicPr>
        <p:blipFill>
          <a:blip r:embed="rId1"/>
          <a:stretch/>
        </p:blipFill>
        <p:spPr>
          <a:xfrm>
            <a:off x="5580000" y="1325520"/>
            <a:ext cx="2357640" cy="33577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395280" y="1325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Создатель газированной воды – Джозеф Прист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5580000" y="4210200"/>
            <a:ext cx="3564000" cy="26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России первыми ста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Байк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Бурати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Тарху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509760" y="465300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1042920" y="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Самые популярные марки газированной 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127080" y="4030560"/>
            <a:ext cx="4572000" cy="26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0253f"/>
                </a:solidFill>
                <a:latin typeface="Arial"/>
              </a:rPr>
              <a:t>Первыми марками газировки, выпущенной в Америке, ста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Кока-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Фа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Спрай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DSCI0404"/>
          <p:cNvPicPr/>
          <p:nvPr/>
        </p:nvPicPr>
        <p:blipFill>
          <a:blip r:embed="rId1"/>
          <a:stretch/>
        </p:blipFill>
        <p:spPr>
          <a:xfrm>
            <a:off x="1038240" y="1378080"/>
            <a:ext cx="2454120" cy="265248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  <p:pic>
        <p:nvPicPr>
          <p:cNvPr id="61" name="i-main-pic" descr="Картинка 3 из 7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1413000"/>
            <a:ext cx="3167280" cy="266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203640" y="1699920"/>
            <a:ext cx="56433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0253f"/>
                </a:solidFill>
                <a:latin typeface="Arial"/>
                <a:ea typeface="Arial"/>
              </a:rPr>
              <a:t>Сам по себе углекислый газ не вреден, но он вызывает отрыжку, вздутие живота, газы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0253f"/>
                </a:solidFill>
                <a:latin typeface="Arial"/>
                <a:ea typeface="Arial"/>
              </a:rPr>
              <a:t> </a:t>
            </a:r>
            <a:r>
              <a:rPr b="1" lang="ru-RU" sz="1700" spc="-1" strike="noStrike">
                <a:solidFill>
                  <a:srgbClr val="10253f"/>
                </a:solidFill>
                <a:latin typeface="Arial"/>
                <a:ea typeface="Arial"/>
              </a:rPr>
              <a:t>Может вызвать  ожирение у детей и взрослых, сахарный диабет и атеросклероз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0253f"/>
                </a:solidFill>
                <a:latin typeface="Arial"/>
                <a:ea typeface="Arial"/>
              </a:rPr>
              <a:t>Дают нагрузку на печень, приводят к различным аллергическим реакциям – от насморка и сыпи до бронхиальной астмы, разрушают эмаль зуб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0253f"/>
                </a:solidFill>
                <a:latin typeface="Arial"/>
                <a:ea typeface="Arial"/>
              </a:rPr>
              <a:t>Вызывает возбуждение нервной системы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0253f"/>
                </a:solidFill>
                <a:latin typeface="Arial"/>
                <a:ea typeface="Arial"/>
              </a:rPr>
              <a:t>Основными консервантами являются лимонная или ортофосфорная кислота, а также бензонат натрия (Е211). Они приводят к раздражению слизистой оболочки желудка, что вызывает гастриты и язву. Кислота вымывает кальций из костей, а бензонат натрия может повредить ДНК человек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8400" y="1714680"/>
            <a:ext cx="28573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Углекислый г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Красители и ароматиз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Кофе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Консерван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284360" y="1125360"/>
            <a:ext cx="404172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alibri"/>
              </a:rPr>
              <a:t>Влияние на здоровье челове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2920" y="1142640"/>
            <a:ext cx="3214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alibri"/>
              </a:rPr>
              <a:t>Состав газированной вод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одзаголовок 2"/>
          <p:cNvSpPr/>
          <p:nvPr/>
        </p:nvSpPr>
        <p:spPr>
          <a:xfrm>
            <a:off x="357120" y="214200"/>
            <a:ext cx="850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Состав газированной во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и влияние ее на здоровье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одзаголовок 2"/>
          <p:cNvSpPr/>
          <p:nvPr/>
        </p:nvSpPr>
        <p:spPr>
          <a:xfrm>
            <a:off x="1571760" y="0"/>
            <a:ext cx="5572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Практиче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749680" y="376200"/>
            <a:ext cx="32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Bookman Old Style"/>
              </a:rPr>
              <a:t>Опыт №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0253f"/>
                </a:solidFill>
                <a:latin typeface="Bookman Old Style"/>
              </a:rPr>
              <a:t>Проба с ме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611280" y="509292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ВЫВОД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газированная вода всех видов содержит ионы водорода, что способствует выделению  углекислого г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8"/>
          <p:cNvSpPr/>
          <p:nvPr/>
        </p:nvSpPr>
        <p:spPr>
          <a:xfrm>
            <a:off x="611280" y="3914640"/>
            <a:ext cx="792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95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БЛЮДЕНИЯ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обенно бурно протекала реакция в пробах: «Лимонад» , «Пепси-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IMG_0778"/>
          <p:cNvPicPr/>
          <p:nvPr/>
        </p:nvPicPr>
        <p:blipFill>
          <a:blip r:embed="rId1"/>
          <a:stretch/>
        </p:blipFill>
        <p:spPr>
          <a:xfrm>
            <a:off x="539640" y="1359000"/>
            <a:ext cx="1990800" cy="243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IMG_0780"/>
          <p:cNvPicPr/>
          <p:nvPr/>
        </p:nvPicPr>
        <p:blipFill>
          <a:blip r:embed="rId2"/>
          <a:stretch/>
        </p:blipFill>
        <p:spPr>
          <a:xfrm>
            <a:off x="5572080" y="135720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IMG_0779"/>
          <p:cNvPicPr/>
          <p:nvPr/>
        </p:nvPicPr>
        <p:blipFill>
          <a:blip r:embed="rId3"/>
          <a:stretch/>
        </p:blipFill>
        <p:spPr>
          <a:xfrm>
            <a:off x="3108240" y="1384200"/>
            <a:ext cx="2022480" cy="240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8000" y="-6876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ntium Book Basic"/>
              </a:rPr>
              <a:t>Опыт №2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ntium Book Basic"/>
              </a:rPr>
              <a:t>Проба с монет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IMG_0773"/>
          <p:cNvPicPr/>
          <p:nvPr/>
        </p:nvPicPr>
        <p:blipFill>
          <a:blip r:embed="rId1"/>
          <a:stretch/>
        </p:blipFill>
        <p:spPr>
          <a:xfrm>
            <a:off x="237960" y="1095480"/>
            <a:ext cx="2735280" cy="1614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IMG_0774"/>
          <p:cNvPicPr/>
          <p:nvPr/>
        </p:nvPicPr>
        <p:blipFill>
          <a:blip r:embed="rId2"/>
          <a:stretch/>
        </p:blipFill>
        <p:spPr>
          <a:xfrm>
            <a:off x="3203640" y="1087560"/>
            <a:ext cx="2597040" cy="1947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IMG_0775"/>
          <p:cNvPicPr/>
          <p:nvPr/>
        </p:nvPicPr>
        <p:blipFill>
          <a:blip r:embed="rId3"/>
          <a:stretch/>
        </p:blipFill>
        <p:spPr>
          <a:xfrm>
            <a:off x="6012000" y="1074600"/>
            <a:ext cx="2842920" cy="1960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IMG_0777"/>
          <p:cNvPicPr/>
          <p:nvPr/>
        </p:nvPicPr>
        <p:blipFill>
          <a:blip r:embed="rId4"/>
          <a:stretch/>
        </p:blipFill>
        <p:spPr>
          <a:xfrm>
            <a:off x="237960" y="3357720"/>
            <a:ext cx="2205360" cy="29397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"/>
          <p:cNvSpPr/>
          <p:nvPr/>
        </p:nvSpPr>
        <p:spPr>
          <a:xfrm>
            <a:off x="2862360" y="3692520"/>
            <a:ext cx="56880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ЛЮДЕНИ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шли сутки: Мы вынули  монету из  «Пепси-Колы», хорошо вытерли салфеткой. На салфетке осталась ржавч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2862360" y="5013360"/>
            <a:ext cx="502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в состав газированной воды входит вещество, способствующее очищению металла от ржав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6:58:32Z</dcterms:created>
  <dc:creator>User</dc:creator>
  <dc:description/>
  <dc:language>en-US</dc:language>
  <cp:lastModifiedBy>я</cp:lastModifiedBy>
  <dcterms:modified xsi:type="dcterms:W3CDTF">2015-10-10T16:18:04Z</dcterms:modified>
  <cp:revision>145</cp:revision>
  <dc:subject/>
  <dc:title>Слайд 1</dc:title>
</cp:coreProperties>
</file>