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3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501-F7A1-4830-9BCE-ABFDFC3D3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CA2A-E018-42A0-937A-214D32638F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885-4BA4-4595-B088-19B044DC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8C3-9255-43C7-ACBD-551C79A5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AC0-7F65-4382-B314-253502A7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43F-C92D-4179-90E7-2517508B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846-3385-45E6-A574-50350F14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B9B-0B4B-432F-B980-02DA2D2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FA68-D29D-4BC0-BA73-2DEB3FC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93CD-FF08-4AD4-AEC0-B9871455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DB64-6D99-487B-84A6-29859291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FBF4-4FA1-492D-B1D5-AC89C0BE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CDC5-05D0-4E77-8532-1C5EE96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697-73CD-46E1-B3DD-72C4FD5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6B3-3922-409F-88F4-2CBF81C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4BC2-C6B5-4F4B-8419-438DD69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A81-0BFF-4E8A-87AE-381B0AEE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F18-A792-414F-BD88-83A175B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F3E-0B84-4CC6-BB9F-A3FA25E8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734-033E-4259-B0C5-9299992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A87-46C5-4B3F-8812-52DA45B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754-C477-49B2-BDED-24A8CCA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9F2-4DB9-4C53-B3AD-5B2F6741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09C-1B96-4C0F-B149-2E64DDEE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25F-1B8B-4F74-AE5B-5579495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64D-0C03-4DF3-AE61-0240F50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760A-AF73-4022-BD2D-CD40B4436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AA3-7971-41C3-8691-357315E43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Литературное чтение</a:t>
            </a:r>
            <a:br>
              <a:rPr sz="6600"/>
            </a:b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4 «В»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Monotype Corsiva"/>
              </a:rPr>
              <a:t>УМК «Школа 2100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 rot="21571200">
            <a:off x="1618920" y="463860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ереход  Вер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МОУ СОШ № 9 г.Нады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2015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E:\Документы школа и фильмы\Мои рисунки\Рисунок 2.png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f6228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632720" cy="43275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1547640" y="2708280"/>
            <a:ext cx="538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Сочинение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Мой любимый детский писатель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6473880" y="4516560"/>
            <a:ext cx="2670120" cy="234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G:\урок 22.09\урок\к презентации\0_68520_875ca22_XL.png"/>
          <p:cNvPicPr/>
          <p:nvPr/>
        </p:nvPicPr>
        <p:blipFill>
          <a:blip r:embed="rId3"/>
          <a:stretch/>
        </p:blipFill>
        <p:spPr>
          <a:xfrm>
            <a:off x="250920" y="333360"/>
            <a:ext cx="2438280" cy="170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G:\урок 22.09\урок\к презентации\img0.jpg"/>
          <p:cNvPicPr/>
          <p:nvPr/>
        </p:nvPicPr>
        <p:blipFill>
          <a:blip r:embed="rId1"/>
          <a:stretch/>
        </p:blipFill>
        <p:spPr>
          <a:xfrm>
            <a:off x="1692360" y="1268280"/>
            <a:ext cx="7003800" cy="5254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1116000" y="189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«Впечатление произвело…»;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- «Запало в душу…»;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- «Был поражен…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6"/>
          <p:cNvSpPr/>
          <p:nvPr/>
        </p:nvSpPr>
        <p:spPr>
          <a:xfrm>
            <a:off x="-1510200" y="404640"/>
            <a:ext cx="1227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Monotype Corsiva"/>
              </a:rPr>
              <a:t>Не унывай и пом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огда будет тяжело, бери книгу и 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ниги – друзья, которые не умираю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е предают и не бросаю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G:\урок 22.09\урок\к презентации\105437059_school25061.jpg"/>
          <p:cNvPicPr/>
          <p:nvPr/>
        </p:nvPicPr>
        <p:blipFill>
          <a:blip r:embed="rId1"/>
          <a:stretch/>
        </p:blipFill>
        <p:spPr>
          <a:xfrm>
            <a:off x="3132000" y="3284640"/>
            <a:ext cx="333396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000010306"/>
          <p:cNvPicPr/>
          <p:nvPr/>
        </p:nvPicPr>
        <p:blipFill>
          <a:blip r:embed="rId1"/>
          <a:stretch/>
        </p:blipFill>
        <p:spPr>
          <a:xfrm rot="20608200">
            <a:off x="336600" y="215640"/>
            <a:ext cx="1905120" cy="263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54000006386"/>
          <p:cNvPicPr/>
          <p:nvPr/>
        </p:nvPicPr>
        <p:blipFill>
          <a:blip r:embed="rId2"/>
          <a:stretch/>
        </p:blipFill>
        <p:spPr>
          <a:xfrm>
            <a:off x="2627280" y="620640"/>
            <a:ext cx="187344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01215094"/>
          <p:cNvPicPr/>
          <p:nvPr/>
        </p:nvPicPr>
        <p:blipFill>
          <a:blip r:embed="rId3"/>
          <a:stretch/>
        </p:blipFill>
        <p:spPr>
          <a:xfrm>
            <a:off x="4788000" y="620640"/>
            <a:ext cx="1628640" cy="223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000394453"/>
          <p:cNvPicPr/>
          <p:nvPr/>
        </p:nvPicPr>
        <p:blipFill>
          <a:blip r:embed="rId4"/>
          <a:stretch/>
        </p:blipFill>
        <p:spPr>
          <a:xfrm rot="920400">
            <a:off x="6927840" y="461880"/>
            <a:ext cx="1889280" cy="272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fo322_09_10"/>
          <p:cNvPicPr/>
          <p:nvPr/>
        </p:nvPicPr>
        <p:blipFill>
          <a:blip r:embed="rId5"/>
          <a:stretch/>
        </p:blipFill>
        <p:spPr>
          <a:xfrm rot="21039000">
            <a:off x="6602040" y="3501720"/>
            <a:ext cx="2035080" cy="299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1000531891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4572000" y="3789360"/>
            <a:ext cx="1728720" cy="2532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ol203_16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2700360" y="3789360"/>
            <a:ext cx="1727280" cy="251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ak292_25_07"/>
          <p:cNvPicPr/>
          <p:nvPr/>
        </p:nvPicPr>
        <p:blipFill>
          <a:blip r:embed="rId8">
            <a:lum bright="-12000"/>
          </a:blip>
          <a:stretch/>
        </p:blipFill>
        <p:spPr>
          <a:xfrm rot="514800">
            <a:off x="455760" y="3409560"/>
            <a:ext cx="18986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5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7755120" cy="145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G:\урок 22.09\урок\к презентации\kniga.gif"/>
          <p:cNvPicPr/>
          <p:nvPr/>
        </p:nvPicPr>
        <p:blipFill>
          <a:blip r:embed="rId2"/>
          <a:stretch/>
        </p:blipFill>
        <p:spPr>
          <a:xfrm>
            <a:off x="1763640" y="1916280"/>
            <a:ext cx="5842080" cy="438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5" descr="CGB195"/>
          <p:cNvPicPr/>
          <p:nvPr/>
        </p:nvPicPr>
        <p:blipFill>
          <a:blip r:embed="rId3"/>
          <a:stretch/>
        </p:blipFill>
        <p:spPr>
          <a:xfrm>
            <a:off x="468360" y="2060640"/>
            <a:ext cx="1447920" cy="1446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CGA395"/>
          <p:cNvPicPr/>
          <p:nvPr/>
        </p:nvPicPr>
        <p:blipFill>
          <a:blip r:embed="rId4"/>
          <a:stretch/>
        </p:blipFill>
        <p:spPr>
          <a:xfrm>
            <a:off x="7315200" y="4797360"/>
            <a:ext cx="1828800" cy="179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s3"/>
          <p:cNvPicPr/>
          <p:nvPr/>
        </p:nvPicPr>
        <p:blipFill>
          <a:blip r:embed="rId5"/>
          <a:stretch/>
        </p:blipFill>
        <p:spPr>
          <a:xfrm>
            <a:off x="6300720" y="2060640"/>
            <a:ext cx="2619360" cy="22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138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f6228"/>
                </a:solidFill>
                <a:latin typeface="Monotype Corsiva"/>
              </a:rPr>
              <a:t>Творческая мастерская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G:\урок 22.09\урок\к презентации\11019_html_m50c6c1e0.jpg"/>
          <p:cNvPicPr/>
          <p:nvPr/>
        </p:nvPicPr>
        <p:blipFill>
          <a:blip r:embed="rId1"/>
          <a:stretch/>
        </p:blipFill>
        <p:spPr>
          <a:xfrm>
            <a:off x="6622920" y="260280"/>
            <a:ext cx="241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1042920" y="2276640"/>
            <a:ext cx="81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умственная гимнасти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ключ для развития мышлени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свобода деятельности и мыс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Люба\Desktop\040915094408.jpg"/>
          <p:cNvPicPr/>
          <p:nvPr/>
        </p:nvPicPr>
        <p:blipFill>
          <a:blip r:embed="rId1"/>
          <a:stretch/>
        </p:blipFill>
        <p:spPr>
          <a:xfrm>
            <a:off x="826920" y="404640"/>
            <a:ext cx="2376720" cy="295308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68360" y="2781360"/>
            <a:ext cx="302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гния Бар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Люба\Desktop\Мориц.jpg"/>
          <p:cNvPicPr/>
          <p:nvPr/>
        </p:nvPicPr>
        <p:blipFill>
          <a:blip r:embed="rId2"/>
          <a:stretch/>
        </p:blipFill>
        <p:spPr>
          <a:xfrm>
            <a:off x="3492360" y="404640"/>
            <a:ext cx="2519640" cy="287676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3492360" y="2637000"/>
            <a:ext cx="266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Юнна Мори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Люба\Desktop\Носов.jpg"/>
          <p:cNvPicPr/>
          <p:nvPr/>
        </p:nvPicPr>
        <p:blipFill>
          <a:blip r:embed="rId3"/>
          <a:stretch/>
        </p:blipFill>
        <p:spPr>
          <a:xfrm>
            <a:off x="6286680" y="404640"/>
            <a:ext cx="2462040" cy="295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6172560" y="2781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иколай 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C:\Users\Люба\Desktop\Сапгир.jpg"/>
          <p:cNvPicPr/>
          <p:nvPr/>
        </p:nvPicPr>
        <p:blipFill>
          <a:blip r:embed="rId4"/>
          <a:stretch/>
        </p:blipFill>
        <p:spPr>
          <a:xfrm>
            <a:off x="395280" y="3716280"/>
            <a:ext cx="3081240" cy="2737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545400" y="364500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енрих Сапг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Люба\Desktop\Хармс.jpg"/>
          <p:cNvPicPr/>
          <p:nvPr/>
        </p:nvPicPr>
        <p:blipFill>
          <a:blip r:embed="rId5"/>
          <a:stretch/>
        </p:blipFill>
        <p:spPr>
          <a:xfrm>
            <a:off x="3851280" y="3716280"/>
            <a:ext cx="1944720" cy="276552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3492360" y="5516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Даниил Хар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Люба\Desktop\михалков с.jpeg"/>
          <p:cNvPicPr/>
          <p:nvPr/>
        </p:nvPicPr>
        <p:blipFill>
          <a:blip r:embed="rId6"/>
          <a:stretch/>
        </p:blipFill>
        <p:spPr>
          <a:xfrm>
            <a:off x="6084720" y="3860640"/>
            <a:ext cx="266256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5830920" y="5950080"/>
            <a:ext cx="3313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ергей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900000" y="0"/>
            <a:ext cx="799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Monotype Corsiva"/>
              </a:rPr>
              <a:t>Тема урока: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Детская литерату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1\Desktop\урок 22.09\95a5c04398fbb8c536a3361b35eb7fee.jpg"/>
          <p:cNvPicPr/>
          <p:nvPr/>
        </p:nvPicPr>
        <p:blipFill>
          <a:blip r:embed="rId1"/>
          <a:stretch/>
        </p:blipFill>
        <p:spPr>
          <a:xfrm>
            <a:off x="4788000" y="3573360"/>
            <a:ext cx="399708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G:\урок 22.09\урок\к презентации\55d28479e0f88.jpg"/>
          <p:cNvPicPr/>
          <p:nvPr/>
        </p:nvPicPr>
        <p:blipFill>
          <a:blip r:embed="rId2"/>
          <a:stretch/>
        </p:blipFill>
        <p:spPr>
          <a:xfrm>
            <a:off x="1042920" y="2637000"/>
            <a:ext cx="3597480" cy="2697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G:\урок 22.09\урок\к презентации\f2023b911b20e689d25dd21050a7f155.jpeg"/>
          <p:cNvPicPr/>
          <p:nvPr/>
        </p:nvPicPr>
        <p:blipFill>
          <a:blip r:embed="rId1"/>
          <a:stretch/>
        </p:blipFill>
        <p:spPr>
          <a:xfrm>
            <a:off x="6875640" y="4508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567000" y="404640"/>
            <a:ext cx="57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Цели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55640" y="2133720"/>
            <a:ext cx="748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Узнать: что такое детская литерату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аучиться: отличать детскую литературу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от взросл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1\Desktop\урок 22.09\image1.png"/>
          <p:cNvPicPr/>
          <p:nvPr/>
        </p:nvPicPr>
        <p:blipFill>
          <a:blip r:embed="rId2"/>
          <a:stretch/>
        </p:blipFill>
        <p:spPr>
          <a:xfrm>
            <a:off x="7380360" y="115920"/>
            <a:ext cx="1552680" cy="31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User\Desktop\САЙТ\202.ht1.gif"/>
          <p:cNvPicPr/>
          <p:nvPr/>
        </p:nvPicPr>
        <p:blipFill>
          <a:blip r:embed="rId1"/>
          <a:stretch/>
        </p:blipFill>
        <p:spPr>
          <a:xfrm>
            <a:off x="6875640" y="5013360"/>
            <a:ext cx="2016000" cy="16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50920" y="260280"/>
          <a:ext cx="8640720" cy="70164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7280"/>
                <a:gridCol w="1728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Те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Сюж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Геро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Язы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Жан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Прямоугольник 6"/>
          <p:cNvSpPr/>
          <p:nvPr/>
        </p:nvSpPr>
        <p:spPr>
          <a:xfrm>
            <a:off x="25092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979640" y="981000"/>
            <a:ext cx="165564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3635280" y="981000"/>
            <a:ext cx="180036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543564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716436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79280" y="1484280"/>
            <a:ext cx="16383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еловек  и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 и  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утешествия , при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908000" y="3645000"/>
            <a:ext cx="18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пряженно-динам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нимате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влек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гадочно-та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5364000" y="765000"/>
            <a:ext cx="172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стой, доступный для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ркий, выраз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втор разговаривает с читателем «на рав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7"/>
          <p:cNvSpPr/>
          <p:nvPr/>
        </p:nvSpPr>
        <p:spPr>
          <a:xfrm>
            <a:off x="7093080" y="1197000"/>
            <a:ext cx="172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в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энте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172360" y="659772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3794"/>
                </a:moveTo>
                <a:lnTo>
                  <a:pt x="36885" y="10800"/>
                </a:lnTo>
                <a:lnTo>
                  <a:pt x="2287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9"/>
          <p:cNvSpPr/>
          <p:nvPr/>
        </p:nvSpPr>
        <p:spPr>
          <a:xfrm>
            <a:off x="41040" y="2349360"/>
            <a:ext cx="16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Любовь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0"/>
          <p:cNvSpPr/>
          <p:nvPr/>
        </p:nvSpPr>
        <p:spPr>
          <a:xfrm>
            <a:off x="179280" y="515772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ед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амопожер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1"/>
          <p:cNvSpPr/>
          <p:nvPr/>
        </p:nvSpPr>
        <p:spPr>
          <a:xfrm>
            <a:off x="1979640" y="1052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исутствуют сцены жестокости и зл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3635280" y="5589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еловек, отверженный общ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3"/>
          <p:cNvSpPr/>
          <p:nvPr/>
        </p:nvSpPr>
        <p:spPr>
          <a:xfrm>
            <a:off x="3635280" y="1125360"/>
            <a:ext cx="18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ложны для понимания и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4"/>
          <p:cNvSpPr/>
          <p:nvPr/>
        </p:nvSpPr>
        <p:spPr>
          <a:xfrm>
            <a:off x="5364000" y="3141720"/>
            <a:ext cx="20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ного научных терминов, непонятных вы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5"/>
          <p:cNvSpPr/>
          <p:nvPr/>
        </p:nvSpPr>
        <p:spPr>
          <a:xfrm>
            <a:off x="6975720" y="2276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о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6"/>
          <p:cNvSpPr/>
          <p:nvPr/>
        </p:nvSpPr>
        <p:spPr>
          <a:xfrm>
            <a:off x="7033680" y="43657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че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8"/>
          <p:cNvSpPr/>
          <p:nvPr/>
        </p:nvSpPr>
        <p:spPr>
          <a:xfrm>
            <a:off x="3564000" y="2205000"/>
            <a:ext cx="187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рстники ч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ркие, запоминающиеся обр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есёлые, близкие по характеру чита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364000" y="565776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ложные предложения и трудные речевые обо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1908000" y="2421000"/>
            <a:ext cx="18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ложный, требующий логических умозаклю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611280" y="836640"/>
            <a:ext cx="84247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Monotype Corsiva"/>
              </a:rPr>
              <a:t>Детская литература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— это часть общей литературы, которая обладает всеми присущими  ей свойствами, н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риентирована на интересы детей , и отличается художественными приёмами , соответствующими возраст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684360" y="341280"/>
            <a:ext cx="806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звращались из леса, где они провели ______ день. Путь домой лежал через _______ хуторок, что расположился в долине, за несколько километров от села.      _____ дети едва дошли до хуторка. Они _____ в крайнюю хату попросить воды. Из хаты вышла женщина, за ней выбежал маленький ______ Женщина  ______ из колодца воду, _____ ведро на стол посреди двора, а сама пошла в хату. Дети ______ воды, ____ на траве. Где и силы взя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и отошли на километр от хуторка, Марийка _____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дь мы не  _____ женщину за воду.  Ее глаза стали трев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тановились. В самом деле, они забыли 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же… – сказал Роман, – это  _____ беда. Женщина уже и забыла, наверное. Разве стоит возвращаться из-за такой мело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– сказала Марийка. – Ну разве тебе _____ самому перед собой, Ром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 усмехнулся. Видно, что ему не было _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как хотите, – сказала Марийка, – а я _____ и  ________ женщ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 Ну, скажи, почему это нужно обязательно сделать? – спросил Роман… – Ведь мы так уст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мы _____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вернулась и пошла к хуторку. За ней пошли все. Роман постоял с минутку на дороге и, вздохнув, пошел вместе со вс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быть _____ … – подумал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24000" y="807120"/>
            <a:ext cx="8820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звращались из леса, где они прове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нь. Путь домой лежал через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больш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торок, что расположился в долине, за несколько километров от села.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ш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едва дошли до хуторка. Он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лянул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айнюю хату попросить воды. Из хаты вышла женщина, за ней выбежал маленьки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ьчи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щи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лодца воду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в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ро на стол посреди двора, а сама пошла в хату. Де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лис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ы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охну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раве. Где и силы взя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и отошли на километр от хуторка, Марий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дь м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благодарил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у за воду. – Ее глаза стали трев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тановились. В самом деле, они забы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лагодар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же… – сказал Роман, – эт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больш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а. Женщина уже и забыла, наверное. Разве стоит возвращаться из-за такой мело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– сказала Марийка. – Ну разве теб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ыд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у перед собой, Ром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усмехнулся. Видно, что ему не был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ыдн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как хотите, – сказала Марийка, – а 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ус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лагодар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 Ну, скажи, почему это нужно обязательно сделать? – спросил Роман… – Ведь мы так уст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м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д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вернулась и пошла к хуторку. За ней пошли все. Роман постоял с минутку на дороге и, вздохнув, пошел вместе со вс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быть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– подумал он.                        (В.А.Сухомли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рудно быть челове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0:41:35Z</dcterms:created>
  <dc:creator>Санька</dc:creator>
  <dc:description/>
  <dc:language>en-US</dc:language>
  <cp:lastModifiedBy>RePack by Diakov</cp:lastModifiedBy>
  <dcterms:modified xsi:type="dcterms:W3CDTF">2015-09-24T20:08:37Z</dcterms:modified>
  <cp:revision>143</cp:revision>
  <dc:subject/>
  <dc:title>Слайд 1</dc:title>
</cp:coreProperties>
</file>