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26F-C62C-4D0C-9CA5-87239FBB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CF3-B57D-462E-AB4C-889AB2A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1A4-23E8-4918-89DB-F8C2A468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F1F-2A75-4B59-8610-A0FA6470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BC2E-0B47-49F1-AA7F-7E3A23F9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BB31-8415-4A60-AEA4-F8BE4D84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F6E5-532C-4374-B974-68B3F10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2040-9213-41B8-B7C4-E69DEFD2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4490-CDAB-4749-B9C7-7EFA80B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A195-7C62-4D06-B9F4-44DCB45F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9DD-81E0-4492-BD55-1DE9ED5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220-3729-4D30-81C3-925057C8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B425-55E8-4575-BE10-0286AC1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F210-22AA-4ACB-8E86-B4EAD82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0DA0-A53F-4FAE-96A0-C214AA1B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9519-64C7-4CB7-84D7-A878CA7C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7A7E-9414-4E1D-97CC-8A961E6F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089-9505-4BA0-B65A-DEBAB37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D8E-49B9-4FEA-A204-2D077B5E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D4A-0A21-48E2-97FE-C0D00FF4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F55-33FC-4FEA-8CC5-416616B6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468-CEBC-4B0A-93E4-3779AEC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9EC-283C-4869-BBC3-A8B6BD7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AA1-4DB1-4BB2-B5B7-4AF89566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4433-1577-4E5E-BDFA-176D8A25DC5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DEB-4150-4175-B765-5FBBF8D7DBF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4440" y="2708280"/>
            <a:ext cx="807084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енная итоговая аттестация за курс основного общего образования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5-2016 учебном году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2" descr="F:\Новая папка\thXFZLM252.jpg"/>
          <p:cNvPicPr/>
          <p:nvPr/>
        </p:nvPicPr>
        <p:blipFill>
          <a:blip r:embed="rId1"/>
          <a:stretch/>
        </p:blipFill>
        <p:spPr>
          <a:xfrm>
            <a:off x="6443640" y="115920"/>
            <a:ext cx="2616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УСТРОЙСТВА НА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нейка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ЯЗЫ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рфографический словарь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нейка и непрограммируемый калькулятор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М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программируемый калькулятор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нейка, непрограммируемый калькулятор, транспортир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нейка, непрограммируемый калькулятор, карандаш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2" name="Picture 2" descr="C:\Users\User\Desktop\Новая папка\thVZ80NLSK.jpg"/>
          <p:cNvPicPr/>
          <p:nvPr/>
        </p:nvPicPr>
        <p:blipFill>
          <a:blip r:embed="rId1"/>
          <a:stretch/>
        </p:blipFill>
        <p:spPr>
          <a:xfrm>
            <a:off x="1189080" y="5059440"/>
            <a:ext cx="1942920" cy="127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User\Desktop\Новая папка\th852V2SMC.jpg"/>
          <p:cNvPicPr/>
          <p:nvPr/>
        </p:nvPicPr>
        <p:blipFill>
          <a:blip r:embed="rId2"/>
          <a:stretch/>
        </p:blipFill>
        <p:spPr>
          <a:xfrm>
            <a:off x="6473880" y="4653000"/>
            <a:ext cx="1914480" cy="184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User\Desktop\Новая папка\thQR4B4A0K.jpg"/>
          <p:cNvPicPr/>
          <p:nvPr/>
        </p:nvPicPr>
        <p:blipFill>
          <a:blip r:embed="rId3"/>
          <a:stretch/>
        </p:blipFill>
        <p:spPr>
          <a:xfrm>
            <a:off x="3708360" y="4653000"/>
            <a:ext cx="2016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ЦЕДУРА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364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  -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П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тверждаются приказом регионального уровня)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начала экзамена –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:00 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емя местное)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экзаменов от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асов до 3 часов 55 минут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7" name="Picture 2" descr="C:\Users\User\Desktop\Новая папка\thJWOVL1WW.jpg"/>
          <p:cNvPicPr/>
          <p:nvPr/>
        </p:nvPicPr>
        <p:blipFill>
          <a:blip r:embed="rId1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Palatino Linotype"/>
              </a:rPr>
              <a:t>Продолжительность 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атематика, русский язык, литература -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 часа 55 минут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Физика, обществознание, история, биология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-  3 часа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еография, химия -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2 часа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нформатика и ИКТ-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2 часа 30 минут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ностранные языки –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часа 10 минут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 К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требованиям санитарно-эпидемиологических правил и нормативов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еобходимого оборудования и  технических средств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Э оборудуются стационарными или переносными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ллоискателя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ми видеонаблюдения, средствами подавления сигналов подвижной связ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удитории оборудуются средствами видеонаблюдения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ГЭ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редств видеонаблюдения, неисправное состояние или отключение указанных средств во время проведения экзамена, равно как и отсутствие видеозаписи экзамена является основанием для остановки экзамена в ППЭ, аннулирования результатов ГИА и основанием для повторной сдачи экзамена –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 хранения видеозаписи составляет 3 го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енные наблюдател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052280"/>
            <a:ext cx="885672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еспечения прав участников ОГЭ существует система общественного контрол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ми наблюдателями могут быть представит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 массовой информаци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ьских комитетов О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х объединений и организаци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ов законодательной влас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ица не могут быть общественными наблюдателями в ППЭ, если там сдают экзамен их родственники или выпускники ОУ, которое они представляют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МСЯ ЗАПРЕЩАЕТСЯ !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ть с мест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живатьс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иваться любыми материалами и предметам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щаться по ППЭ во время экзамена без сопровождения организатор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и себе средства связи, электронно-вычислительную технику, фото, аудио и видеоаппаратуру, справочные материалы, письменные заметки и иные средства хранения и передачи информац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2" descr="C:\Users\User\Desktop\Новая папка\th00GVYMB5.jpg"/>
          <p:cNvPicPr/>
          <p:nvPr/>
        </p:nvPicPr>
        <p:blipFill>
          <a:blip r:embed="rId1"/>
          <a:stretch/>
        </p:blipFill>
        <p:spPr>
          <a:xfrm>
            <a:off x="5651640" y="836640"/>
            <a:ext cx="2943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5520" y="407880"/>
            <a:ext cx="826128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РЕЩАЕТСЯ !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341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ть, разглашать и фотографировать КИМ или их част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правочными материалами       (кроме тех, которые указаны в тексте КИМ)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и себе и использовать корректирующую жидкость, карандаш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нарушении требований и отказе их выполнять, организаторы вправе удалить Вас с экзамен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шкале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арифметическое отметок за год и за экзамен выставляется в аттестат по учебному предмету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1492200"/>
            <a:ext cx="8642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результатами ОГЭ мож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местителя директора по УР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согласия с результатами ОГЭ можно подат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Ю в течение 2-х рабочих дне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его официального объявления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каждого участника ОГЭ занося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ую информационную систему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9280" y="1125000"/>
            <a:ext cx="8856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нарушении процедуры проведения ГИА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ется в ППЭ, не выходя за его пределы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несогласии с выставленными баллам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ется не позднее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ух рабочих дней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ъявления результатов экзамена непосредственно в ОУ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пелляции утверждаются протоколами и доводятся до сведения обратившихся. Учащиеся могут присутствовать на заседании КК вместе с родителями (законными представителями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и по вопросам содержания и структуры заданий по учебным предметам, а также по вопросам, связанным с нарушениями обучающимися требований Порядка проведения ГИА и неправильным оформлением работ 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РИНИМАЮТСЯ!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95280" y="1197000"/>
          <a:ext cx="8497800" cy="483408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1001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ege.edu.ru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ициальный информационный портал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fipi.ru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институт педагогических измерений: Открытый банк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shuege.r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я для подготовки к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5 ege.ru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йт для подготовки к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4ege.ru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ЕГЭ портал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www.ege.ru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к ЕГЭ и О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3"/>
          <p:cNvSpPr/>
          <p:nvPr/>
        </p:nvSpPr>
        <p:spPr>
          <a:xfrm>
            <a:off x="324000" y="333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АЙТЫ ПО ПОДГОТОВКЕ К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НО К СДАЧЕ ГИА ДОПУСКАЮТСЯ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557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получившие на ГИА неудовлетворительный результат по одному из обязательных предметов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на экзамены по уважительным причинам (подтверждение документами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выполнение экзаменационной работы по уважительным причинам (подтверждение документами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шению конфликтной комиссии по апелляции о нарушении порядка проведения экзамен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alatino Linotype"/>
              </a:rPr>
              <a:t>Пересдача ОГ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981000"/>
            <a:ext cx="9036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довлетворительные результаты более чем по одному обязательному учебному предмету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бо получившим повторно неудовлетворительный результат по одному из этих предметов в резервные дни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право пройти ГИА по соответствующим учебным предметам в дополнительные сроки 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получения аттестата об основном общем образовани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 результат ГИА по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МУ ЯЗЫКУ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иже минимального (не ниже оценки «удовлетворительно»)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048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ументы по результатам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989000"/>
            <a:ext cx="820728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ТЕСТАТ об основном общем образовании (обычный и с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личие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8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8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правка об обучении в образовательном учреждении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3" name="Picture 2" descr="F:\Новая папка\7TQTAQCA69P578CA43DSD9CAG28D3OCAHEO83MCAV9S8LXCA2FT8QHCAE9Q0NYCAYCIWGRCANMW36UCAGU9MHOCAZX3LLSCAMDVL7LCAUD2L4UCAWG0MCLCAJ1I8PECARP9CIECAK8RIUYCAURYZQBCA70WL7W.jpg"/>
          <p:cNvPicPr/>
          <p:nvPr/>
        </p:nvPicPr>
        <p:blipFill>
          <a:blip r:embed="rId1"/>
          <a:stretch/>
        </p:blipFill>
        <p:spPr>
          <a:xfrm>
            <a:off x="6588000" y="15228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едеральный уровень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273-Ф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Ф» о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12.2012 г.(ст. 53,19,30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РФ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.12.2013 г. № 1394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проведения государственной итоговой аттестации по образовательным программам основного общего образования» с изменениями в 2014 и 2015 годы.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РФ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.06.2013 г. № 491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аккредитации граждан в качестве общественных наблюдателей при проведении ГИА 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 Правительства РФ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1.08.2013 г. № 75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информационной системе обеспечения проведения государственной итоговой аттестации обучающихся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ЕННАЯ ИТОГОВАЯ АТТЕСТАЦИЯ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: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0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язательные экзамены: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язык, математик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замены по выбору по предметам: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аются на добровольной основе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ы и победител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ительного этапа всероссийской олимпиады школьников и участники международных олимпиад в сборной команды России освобождаются от ГИА по данному предмету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Ы   ГИА в 9 классе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557360"/>
          <a:ext cx="8496360" cy="4664160"/>
        </p:xfrm>
        <a:graphic>
          <a:graphicData uri="http://schemas.openxmlformats.org/drawingml/2006/table">
            <a:tbl>
              <a:tblPr/>
              <a:tblGrid>
                <a:gridCol w="4680000"/>
                <a:gridCol w="38163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ЯВЛЕНИЕ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25360"/>
            <a:ext cx="8435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подается д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ар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у (указывается количество и выбор экзаменов)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перечень предмет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лишь с разрешения Г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(для этого оформляется новое заявление которое подается непосредственно в ГЭК с указанием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ких причи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е позднее чем за две недели до начала экзамен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меющие академической задолженн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 полном объеме выполнившие учебный план (имеющи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ые отметки по всем учебным предмета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плана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ниже удовлетворительн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ГИА оформляется протоколом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ого совета школы не позднее 25 мая 2015 г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с ограниченными возможностями здоровья и дети – инвалид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 необходимый пакет документов ( рекомендации психолого-медико-педагогической комиссии; документы, подтверждающие факт установления инвалидности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ИССИ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907920"/>
            <a:ext cx="8856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Э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экзаменационная комисс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осуществляет организацию ГИА, централизованную проверку работ, определяет минимальное количество баллов, осуществляет методическое обеспечение, формирует единую информационную систему, утверждает протоколы экзаменов др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омисс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ый уро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) – проверка заданий с развернутым ответо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ная комисс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ассмотрение апелляций по процедуре проведения экзаменов и о несогласии с выставленными баллами  и оценками ОГЭ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ЕСЯ ДОЛЖНЫ ИМЕТЬ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0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пилляр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лев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ь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Нина Николаевна</cp:lastModifiedBy>
  <cp:lastPrinted>2015-09-25T13:18:13Z</cp:lastPrinted>
  <dcterms:modified xsi:type="dcterms:W3CDTF">2015-10-09T17:20:51Z</dcterms:modified>
  <cp:revision>88</cp:revision>
  <dc:subject/>
  <dc:title>ЕГЭ 2014 г.</dc:title>
</cp:coreProperties>
</file>