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7F5-9871-48FA-8C0C-32521769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E34-A35A-462D-9042-967917BF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854-334D-4DE2-8A09-68EA44AE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555-E5FB-435B-A4A9-86BB5575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E561-6C04-4CE2-8471-E01DD1A7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4AAD-B260-462A-A794-BDBF74BD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5FA2-59F9-4E01-93BB-3FAC1190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2C30-606D-44E8-9B2D-171ED451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98B6-A72C-4D7C-BBEE-F7BFF9CF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6FF4-0A63-4441-BD6A-95BA4B6C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B4DD-4EAD-4D3F-BDFB-E253AA54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7D2-C54E-4BF2-825E-8E37F1B2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5ECD-75FB-43A3-82B7-1AC931F8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C26C-C9AA-4377-B7F9-7ACDD405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A50D-1A1E-4187-B2AB-43C378F1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D60B-7E35-44C6-8688-04236DD6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3C68-0218-489C-B33C-57193DC9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72E-7F29-4249-9DE9-F5A06E26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B4C-1B9B-4E1A-84AA-0663C752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BFA-4C6B-48AE-AFE5-A0CEDC0B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674-B861-4A32-A1A5-14890CF4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0D3-3BDC-4F91-AA9D-ACEB92C3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568-F5B4-468F-AA36-155B131D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6900-4BE6-4A90-B746-0F8DA857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FD4B-3FE4-4988-8C5D-19BCCC31E86C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F727-8BFA-4AA2-AD67-4BA0ECC9BABE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4440" y="2708280"/>
            <a:ext cx="8070840" cy="31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сударственная итоговая аттестация за курс основного общего образования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2015-2016 учебном году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0" name="Picture 2" descr="F:\Новая папка\thXFZLM252.jpg"/>
          <p:cNvPicPr/>
          <p:nvPr/>
        </p:nvPicPr>
        <p:blipFill>
          <a:blip r:embed="rId1"/>
          <a:stretch/>
        </p:blipFill>
        <p:spPr>
          <a:xfrm>
            <a:off x="6443640" y="115920"/>
            <a:ext cx="26161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2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УСТРОЙСТВА НА ГИА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560" y="162828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МАТ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нейка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ИЙ ЯЗЫ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рфографический словарь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З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нейка и непрограммируемый калькулятор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g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М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епрограммируемый калькулятор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ОГРАФ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нейка, непрограммируемый калькулятор, транспортир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ОЛОГ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инейка, непрограммируемый калькулятор, карандаш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2" name="Picture 2" descr="C:\Users\User\Desktop\Новая папка\thVZ80NLSK.jpg"/>
          <p:cNvPicPr/>
          <p:nvPr/>
        </p:nvPicPr>
        <p:blipFill>
          <a:blip r:embed="rId1"/>
          <a:stretch/>
        </p:blipFill>
        <p:spPr>
          <a:xfrm>
            <a:off x="1189080" y="5059440"/>
            <a:ext cx="1942920" cy="127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User\Desktop\Новая папка\th852V2SMC.jpg"/>
          <p:cNvPicPr/>
          <p:nvPr/>
        </p:nvPicPr>
        <p:blipFill>
          <a:blip r:embed="rId2"/>
          <a:stretch/>
        </p:blipFill>
        <p:spPr>
          <a:xfrm>
            <a:off x="6473880" y="4653000"/>
            <a:ext cx="1914480" cy="1841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User\Desktop\Новая папка\thQR4B4A0K.jpg"/>
          <p:cNvPicPr/>
          <p:nvPr/>
        </p:nvPicPr>
        <p:blipFill>
          <a:blip r:embed="rId3"/>
          <a:stretch/>
        </p:blipFill>
        <p:spPr>
          <a:xfrm>
            <a:off x="3708360" y="4653000"/>
            <a:ext cx="2016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ЦЕДУРА ОГ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3640" y="1052640"/>
            <a:ext cx="8569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  -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ПЭ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тверждаются приказом регионального уровня)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начала экзамена –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:00 ч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емя местное)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экзаменов от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часов до 3 часов 55 минут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7" name="Picture 2" descr="C:\Users\User\Desktop\Новая папка\thJWOVL1WW.jpg"/>
          <p:cNvPicPr/>
          <p:nvPr/>
        </p:nvPicPr>
        <p:blipFill>
          <a:blip r:embed="rId1"/>
          <a:stretch/>
        </p:blipFill>
        <p:spPr>
          <a:xfrm>
            <a:off x="4716360" y="4005360"/>
            <a:ext cx="410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Palatino Linotype"/>
              </a:rPr>
              <a:t>Продолжительность ОГЭ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13000"/>
            <a:ext cx="868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атематика, русский язык, литература -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3 часа 55 минут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Физика, обществознание, история, биология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-  3 часа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География, химия -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2 часа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Информатика и ИКТ-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2 часа 30 минут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Иностранные языки –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2 часа 10 минут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БОВАНИЯ К ПП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требованиям санитарно-эпидемиологических правил и нормативов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необходимого оборудования и  технических средств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ПЭ оборудуются стационарными или переносными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ллоискателя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едствами видеонаблюдения, средствами подавления сигналов подвижной связ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удитории оборудуются средствами видеонаблюдения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ГЭ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средств видеонаблюдения, неисправное состояние или отключение указанных средств во время проведения экзамена, равно как и отсутствие видеозаписи экзамена является основанием для остановки экзамена в ППЭ, аннулирования результатов ГИА и основанием для повторной сдачи экзамена –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ок хранения видеозаписи составляет 3 го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ственные наблюдатели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052280"/>
            <a:ext cx="885672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еспечения прав участников ОГЭ существует система общественного контрол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ми наблюдателями могут быть представите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ств массовой информаци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дительских комитетов ОУ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ых объединений и организаций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ов законодательной власт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лица не могут быть общественными наблюдателями в ППЭ, если там сдают экзамен их родственники или выпускники ОУ, которое они представляют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ЩИМСЯ ЗАПРЕЩАЕТСЯ !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560" y="126792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ть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ать с мест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аживатьс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иваться любыми материалами и предметам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щаться по ППЭ во время экзамена без сопровождения организатор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при себе средства связи, электронно-вычислительную технику, фото, аудио и видеоаппаратуру, справочные материалы, письменные заметки и иные средства хранения и передачи информаци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6" name="Picture 2" descr="C:\Users\User\Desktop\Новая папка\th00GVYMB5.jpg"/>
          <p:cNvPicPr/>
          <p:nvPr/>
        </p:nvPicPr>
        <p:blipFill>
          <a:blip r:embed="rId1"/>
          <a:stretch/>
        </p:blipFill>
        <p:spPr>
          <a:xfrm>
            <a:off x="5651640" y="836640"/>
            <a:ext cx="2943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5520" y="407880"/>
            <a:ext cx="826128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РЕЩАЕТСЯ !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341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вать, разглашать и фотографировать КИМ или их част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справочными материалами       (кроме тех, которые указаны в тексте КИМ)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при себе и использовать корректирующую жидкость, карандаш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нарушении требований и отказе их выполнять, организаторы вправе удалить Вас с экзамен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571680" indent="-45720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Ы ОГ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в первичных баллах (сумма баллов за правильно выполненные задания экзаменационной работы)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ая работа оценивается по пятибалльной шкале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е арифметическое отметок за год и за экзамен выставляется в аттестат по учебному предмету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Ы ОГ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920" y="1492200"/>
            <a:ext cx="8642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ься с результатами ОГЭ можн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заместителя директора по УР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несогласия с результатами ОГЭ можно подать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ПЕЛЛЯЦИЮ в течение 2-х рабочих дней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его официального объявления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каждого участника ОГЭ заносятся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ую информационную систему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ПЕЛЛЯЦИИ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79280" y="1125000"/>
            <a:ext cx="8856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ляция о нарушении процедуры проведения ГИА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ается в ППЭ, не выходя за его пределы)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ляция о несогласии с выставленными баллам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ется не позднее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ух рабочих дней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бъявления результатов экзамена непосредственно в ОУ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апелляции утверждаются протоколами и доводятся до сведения обратившихся. Учащиеся могут присутствовать на заседании КК вместе с родителями (законными представителями)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пелляции по вопросам содержания и структуры заданий по учебным предметам, а также по вопросам, связанным с нарушениями обучающимися требований Порядка проведения ГИА и неправильным оформлением работ 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ПРИНИМАЮТСЯ!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95280" y="1197000"/>
          <a:ext cx="8497800" cy="483408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110016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ttp://ege.edu.ru/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фициальный информационный портал ЕГ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ttp://fipi.ru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й институт педагогических измерений: Открытый банк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eshuege.r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я для подготовки к ЕГ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ttp://5 ege.ru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йт для подготовки к ЕГ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ttp://4ege.ru/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ЕГЭ портал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ttp://www.ege.ru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ка к ЕГЭ и ОГ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3"/>
          <p:cNvSpPr/>
          <p:nvPr/>
        </p:nvSpPr>
        <p:spPr>
          <a:xfrm>
            <a:off x="324000" y="33300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АЙТЫ ПО ПОДГОТОВКЕ К ГИ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62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ТОРНО К СДАЧЕ ГИА ДОПУСКАЮТСЯ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1557360"/>
            <a:ext cx="8856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, получившие на ГИА неудовлетворительный результат по одному из обязательных предметов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ившиеся на экзамены по уважительным причинам (подтверждение документами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ершившие выполнение экзаменационной работы по уважительным причинам (подтверждение документами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шению конфликтной комиссии по апелляции о нарушении порядка проведения экзамен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Palatino Linotype"/>
              </a:rPr>
              <a:t>Пересдача ОГ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00" y="981000"/>
            <a:ext cx="9036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мся, не прошедшим ГИА или получившим на ГИА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довлетворительные результаты более чем по одному обязательному учебному предмету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бо получившим повторно неудовлетворительный результат по одному из этих предметов в резервные дни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право пройти ГИА по соответствующим учебным предметам в дополнительные сроки 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нее 1 сентябр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его год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075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учение аттестат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1915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получения аттестата об основном общем образовании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 результат ГИА по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МУ ЯЗЫКУ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иже минимального (не ниже оценки «удовлетворительно»).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04836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ументы по результатам ГИ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1989000"/>
            <a:ext cx="8207280" cy="46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ТТЕСТАТ об основном общем образовании (обычный и с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личием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82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82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Справка об обучении в образовательном учреждении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3" name="Picture 2" descr="F:\Новая папка\7TQTAQCA69P578CA43DSD9CAG28D3OCAHEO83MCAV9S8LXCA2FT8QHCAE9Q0NYCAYCIWGRCANMW36UCAGU9MHOCAZX3LLSCAMDVL7LCAUD2L4UCAWG0MCLCAJ1I8PECARP9CIECAK8RIUYCAURYZQBCA70WL7W.jpg"/>
          <p:cNvPicPr/>
          <p:nvPr/>
        </p:nvPicPr>
        <p:blipFill>
          <a:blip r:embed="rId1"/>
          <a:stretch/>
        </p:blipFill>
        <p:spPr>
          <a:xfrm>
            <a:off x="6588000" y="15228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5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нормативно- правовые документ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92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Федеральный уровень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47560" indent="-4111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273-ФЗ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РФ» о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.12.2012 г.(ст. 53,19,30)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547560" indent="-411120" algn="just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образования РФ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.12.2013 г. № 1394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проведения государственной итоговой аттестации по образовательным программам основного общего образования» с изменениями в 2014 и 2015 годы.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547560" indent="-4111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образования РФ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.06.2013 г. № 491 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орядка аккредитации граждан в качестве общественных наблюдателей при проведении ГИА »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547560" indent="-4111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 Правительства РФ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1.08.2013 г. № 75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федеральной информационной системе обеспечения проведения государственной итоговой аттестации обучающихся»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5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СУДАРСТВЕННАЯ ИТОГОВАЯ АТТЕСТАЦИЯ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 КЛАСС (за курс основного общего образования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: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ной государственный экзамен (задания стандартизированной формы КИМ)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В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ый выпускной экзамен (письменная и устная форма: тексты, темы, задания, билеты) – </a:t>
            </a:r>
            <a:r>
              <a:rPr b="0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щадящий режи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язательные экзамены: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ий язык, математика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замены по выбору по предметам: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даются на добровольной основе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еры и победител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лючительного этапа всероссийской олимпиады школьников и участники международных олимпиад в сборной команды России освобождаются от ГИА по данному предмету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Ы   ГИА в 9 классе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557360"/>
          <a:ext cx="8496360" cy="4664160"/>
        </p:xfrm>
        <a:graphic>
          <a:graphicData uri="http://schemas.openxmlformats.org/drawingml/2006/table">
            <a:tbl>
              <a:tblPr/>
              <a:tblGrid>
                <a:gridCol w="4680000"/>
                <a:gridCol w="381636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3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обязательные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 выбору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ществозн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нформатика и И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ностранные язы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2" descr="F:\Новая папка\Копия%20gia_jpg[1].jpg"/>
          <p:cNvPicPr/>
          <p:nvPr/>
        </p:nvPicPr>
        <p:blipFill>
          <a:blip r:embed="rId1"/>
          <a:stretch/>
        </p:blipFill>
        <p:spPr>
          <a:xfrm>
            <a:off x="684360" y="3860640"/>
            <a:ext cx="32400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ЯВЛЕНИЕ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125360"/>
            <a:ext cx="84358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подается до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мар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у (указывается количество и выбор экзаменов)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перечень предмето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лишь с разрешения ГЭ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(для этого оформляется новое заявление которое подается непосредственно в ГЭК с указанием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ких причи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е позднее чем за две недели до начала экзаменов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УСК К ГИА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560" y="1052280"/>
            <a:ext cx="8785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допускаются обучающиеся,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имеющие академической задолженн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 полном объеме выполнившие учебный план (имеющие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ые отметки по всем учебным предметам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го плана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ниже удовлетворительно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 к ГИА оформляется протоколом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ического совета школы не позднее 25 мая 2015 г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с ограниченными возможностями здоровья и дети – инвалид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 необходимый пакет документов ( рекомендации психолого-медико-педагогической комиссии; документы, подтверждающие факт установления инвалидности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ИССИИ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9280" y="907920"/>
            <a:ext cx="88567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Э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экзаменационная комисс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урове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осуществляет организацию ГИА, централизованную проверку работ, определяет минимальное количество баллов, осуществляет методическое обеспечение, формирует единую информационную систему, утверждает протоколы экзаменов др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комисс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гиональный уров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ь) – проверка заданий с развернутым ответо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ная комисс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гиональный урове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рассмотрение апелляций по процедуре проведения экзаменов и о несогласии с выставленными баллами  и оценками ОГЭ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ЩИЕСЯ ДОЛЖНЫ ИМЕТЬ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7" name="Picture 3" descr="C:\Users\User\Desktop\Новая папка\th2D48H6KP.jpg"/>
          <p:cNvPicPr/>
          <p:nvPr/>
        </p:nvPicPr>
        <p:blipFill>
          <a:blip r:embed="rId1"/>
          <a:stretch/>
        </p:blipFill>
        <p:spPr>
          <a:xfrm>
            <a:off x="5076720" y="1916280"/>
            <a:ext cx="2735280" cy="280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Users\User\Desktop\Новая папка\th7FUY4ZVY.jpg"/>
          <p:cNvPicPr/>
          <p:nvPr/>
        </p:nvPicPr>
        <p:blipFill>
          <a:blip r:embed="rId2"/>
          <a:stretch/>
        </p:blipFill>
        <p:spPr>
          <a:xfrm>
            <a:off x="395280" y="2023920"/>
            <a:ext cx="4202280" cy="3025800"/>
          </a:xfrm>
          <a:prstGeom prst="rect">
            <a:avLst/>
          </a:prstGeom>
          <a:ln w="0">
            <a:noFill/>
          </a:ln>
        </p:spPr>
      </p:pic>
      <p:sp>
        <p:nvSpPr>
          <p:cNvPr id="109" name="Скругленный прямоугольник 6"/>
          <p:cNvSpPr/>
          <p:nvPr/>
        </p:nvSpPr>
        <p:spPr>
          <a:xfrm>
            <a:off x="6156360" y="4076640"/>
            <a:ext cx="2519280" cy="22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чка черного цв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пилляр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елев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ь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06:19:56Z</dcterms:created>
  <dc:creator>User</dc:creator>
  <dc:description/>
  <dc:language>en-US</dc:language>
  <cp:lastModifiedBy>Нина Николаевна</cp:lastModifiedBy>
  <cp:lastPrinted>2015-09-25T13:18:13Z</cp:lastPrinted>
  <dcterms:modified xsi:type="dcterms:W3CDTF">2015-10-09T17:20:51Z</dcterms:modified>
  <cp:revision>88</cp:revision>
  <dc:subject/>
  <dc:title>ЕГЭ 2014 г.</dc:title>
</cp:coreProperties>
</file>