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C8E-8218-46D2-B0F8-DC8CFF82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81A-D804-4DCB-8E70-0FF60E75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A8A-A17F-4E5C-97BA-70407A2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0D-406F-4F48-967D-93FAED7E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599E-FB95-49AD-B15B-B4AA1EB2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AD70-D88E-48EF-9D03-4474E9A3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3BA6-7F4F-4350-A49F-624BC55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32064-D7B0-48D8-9747-00EC854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70AC8-9403-49ED-B01D-7F0CFEF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58CD0-66D3-4268-BA24-F1EC4F64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974C5-4140-466C-9F10-430244E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669-D77A-4FD1-856B-2745339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81A6F-4C21-411C-8606-8971134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19252-EFA2-48F7-A414-2BDE8CA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4279F-BE98-4D26-B66D-41B0280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539B-E3D9-4729-A21B-0E19E6E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FDBB-0128-4F87-B7F5-2CE60B51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6ED-FA73-44A5-B547-42962343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653-F2D2-43FF-AFFD-1A6AEB5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5E2-9D25-4E33-A878-0B39354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EA9-251D-4938-A26C-089D3301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435-7E48-4896-92EA-B856E90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0C3-5553-4EBC-B6C9-F3BF20CB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6D2-9FAB-4227-B24F-D7CC562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2E3-6702-4A85-9996-5AD863F22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3DA-7AA1-4DA8-8BD7-3E5B5787EB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730080" y="404640"/>
            <a:ext cx="787428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930-CD98-4222-930D-4120F1A32A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Организация прогулок для      детей раннего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озраста в условиях Крайнего Сев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EB1-31BE-4CD6-972C-DC97EDCA1C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C:\Users\gig\Desktop\Рисунок3.jpg"/>
          <p:cNvPicPr/>
          <p:nvPr/>
        </p:nvPicPr>
        <p:blipFill>
          <a:blip r:embed="rId1"/>
          <a:stretch/>
        </p:blipFill>
        <p:spPr>
          <a:xfrm>
            <a:off x="309600" y="692280"/>
            <a:ext cx="8524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4D8-D999-4C8C-8C9A-E45E6FCA82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C:\Users\gig\Desktop\Рисунок1.jpg"/>
          <p:cNvPicPr/>
          <p:nvPr/>
        </p:nvPicPr>
        <p:blipFill>
          <a:blip r:embed="rId1"/>
          <a:stretch/>
        </p:blipFill>
        <p:spPr>
          <a:xfrm>
            <a:off x="674640" y="476280"/>
            <a:ext cx="779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E1A-15AB-42DE-B770-2A5727C536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638280" y="476280"/>
            <a:ext cx="8067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956-C8E7-4F05-BE7D-519F88D59E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C:\Users\gig\Desktop\Рисунок3.jpg"/>
          <p:cNvPicPr/>
          <p:nvPr/>
        </p:nvPicPr>
        <p:blipFill>
          <a:blip r:embed="rId1"/>
          <a:stretch/>
        </p:blipFill>
        <p:spPr>
          <a:xfrm>
            <a:off x="512640" y="549360"/>
            <a:ext cx="82202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F54-E73F-4FF2-96D9-6720A38E65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одическая работа по организации и планированию оформления участка для прогулок в зимний период осуществлялась в 3 этапа: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 этап – подготовительны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I этап – практический</a:t>
            </a:r>
            <a:br>
              <a:rPr sz="2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II этап – аналитический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918-4475-4BEF-BBEF-41ECAA607A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 этап – подготовительный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первую очередь провели анализ имеющихся условий по организации и проведению прогулок, интересов, потребностей и запросов родителей и воспита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43E-0E4F-4930-B4AD-5852697290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I этап – практический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то реализация работы педагогами ДОУ совместно с родителями в соответствии с планом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 оформлении территории детского сада большое значение придаём безопасности, целесообразности, красочности, а также эстетичности построек. Ярко украшенный участок сам по себе вызывает у детей устойчивый, положительный, эмоциональный настрой, желание идти на прогулку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94C-FA88-46A2-8A57-75ADB9487E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II этап – аналитический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воды и рекомендации оперативного и тематического контроля способствуют профессиональному росту педагогов, качественному проведению прогул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F8F-0805-4955-AB1C-61D55F5E60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71640" y="1413000"/>
            <a:ext cx="751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ажность зимних прогулок для детей раннего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EB6-F755-45A5-8457-446CB9697E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16360" y="549360"/>
          <a:ext cx="2950920" cy="792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изиче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1557360"/>
          <a:ext cx="2843280" cy="1008000"/>
        </p:xfrm>
        <a:graphic>
          <a:graphicData uri="http://schemas.openxmlformats.org/drawingml/2006/table">
            <a:tbl>
              <a:tblPr/>
              <a:tblGrid>
                <a:gridCol w="28432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здоров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79280" y="4292640"/>
          <a:ext cx="2664000" cy="137160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зновательно-рече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32000" y="4292640"/>
          <a:ext cx="2808360" cy="9446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удожественно-эстетическ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940360" y="1628640"/>
          <a:ext cx="3095640" cy="115272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сихиче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227640" y="4149720"/>
          <a:ext cx="2592360" cy="100800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-личност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492360" y="2492280"/>
          <a:ext cx="2087640" cy="100656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Дет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71"/>
          <p:cNvSpPr/>
          <p:nvPr/>
        </p:nvSpPr>
        <p:spPr>
          <a:xfrm>
            <a:off x="0" y="610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3564000" y="2637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14"/>
          <p:cNvSpPr/>
          <p:nvPr/>
        </p:nvSpPr>
        <p:spPr>
          <a:xfrm flipH="1">
            <a:off x="2268360" y="3284640"/>
            <a:ext cx="1224000" cy="10080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15"/>
          <p:cNvSpPr/>
          <p:nvPr/>
        </p:nvSpPr>
        <p:spPr>
          <a:xfrm>
            <a:off x="4500720" y="3500280"/>
            <a:ext cx="0" cy="792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18"/>
          <p:cNvSpPr/>
          <p:nvPr/>
        </p:nvSpPr>
        <p:spPr>
          <a:xfrm>
            <a:off x="2195640" y="2565360"/>
            <a:ext cx="1296720" cy="2160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4500720" y="1628640"/>
            <a:ext cx="0" cy="8636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0"/>
          <p:cNvSpPr/>
          <p:nvPr/>
        </p:nvSpPr>
        <p:spPr>
          <a:xfrm flipV="1">
            <a:off x="5580000" y="2781360"/>
            <a:ext cx="1224000" cy="28728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5580000" y="3429000"/>
            <a:ext cx="1224000" cy="7207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5AA5-4769-42ED-8657-398677937C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ел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ить представления детей об окружающем ми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ивать любовь к природе родного кра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ь бережно относиться к животным, птица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чувство общности детей и навыки сотрудничеств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реплять здоровье дете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4EA-BFDA-4EB0-8DA4-53EA821677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гулки на свежем воздухе имеют большое значение для правильного физического развития ребенка, удовлетворяют его потребность в движени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8" descr="C:\Users\gig\Desktop\Рисунок1.jpg"/>
          <p:cNvPicPr/>
          <p:nvPr/>
        </p:nvPicPr>
        <p:blipFill>
          <a:blip r:embed="rId1"/>
          <a:stretch/>
        </p:blipFill>
        <p:spPr>
          <a:xfrm>
            <a:off x="588960" y="2060640"/>
            <a:ext cx="3902040" cy="3968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gig\Desktop\Рисунок2.jpg"/>
          <p:cNvPicPr/>
          <p:nvPr/>
        </p:nvPicPr>
        <p:blipFill>
          <a:blip r:embed="rId2"/>
          <a:stretch/>
        </p:blipFill>
        <p:spPr>
          <a:xfrm>
            <a:off x="4716360" y="2030400"/>
            <a:ext cx="3902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EB52-1D6F-42A8-90A7-EC48B3BBD4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и повышают общий тонус нервной системы и способствуют психическому развити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C:\Users\gig\Desktop\Рисунок3.jpg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CDD-86D4-43F4-B930-CF7D00A60F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 время прогулок снежные постройки используются не только для игр и развлечений, но также для наблюдений за природой, организации трудовой деятельности, индивидуальной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Users\gig\Desktop\Рисунок4.jpg"/>
          <p:cNvPicPr/>
          <p:nvPr/>
        </p:nvPicPr>
        <p:blipFill>
          <a:blip r:embed="rId1"/>
          <a:stretch/>
        </p:blipFill>
        <p:spPr>
          <a:xfrm>
            <a:off x="681120" y="2492280"/>
            <a:ext cx="77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E70A-9FF5-4DBF-8BB2-05FC6858B6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уляя на своём участке, дети в игровой форме упражняются в количественном и порядковом счете, сравнивают постройки по размерам, цветам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C:\Users\gig\Desktop\Рисунок5.jpg"/>
          <p:cNvPicPr/>
          <p:nvPr/>
        </p:nvPicPr>
        <p:blipFill>
          <a:blip r:embed="rId1"/>
          <a:stretch/>
        </p:blipFill>
        <p:spPr>
          <a:xfrm>
            <a:off x="539640" y="2060640"/>
            <a:ext cx="8163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2B4-6229-44B3-BB46-71FC40F936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:\Users\gig\Desktop\Рисунок6.jpg"/>
          <p:cNvPicPr/>
          <p:nvPr/>
        </p:nvPicPr>
        <p:blipFill>
          <a:blip r:embed="rId1"/>
          <a:stretch/>
        </p:blipFill>
        <p:spPr>
          <a:xfrm>
            <a:off x="542880" y="260280"/>
            <a:ext cx="8456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887-E0C9-4C25-B6AA-38BF6137BE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нежные постройки способствуют повышению двигательной активности детей, укреплению их здоровья, познавательному развитию, формированию дружеских взаимоотношений, трудовых умений и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C:\Users\gig\Desktop\Рисунок7.jpg"/>
          <p:cNvPicPr/>
          <p:nvPr/>
        </p:nvPicPr>
        <p:blipFill>
          <a:blip r:embed="rId1"/>
          <a:stretch/>
        </p:blipFill>
        <p:spPr>
          <a:xfrm>
            <a:off x="468360" y="2619360"/>
            <a:ext cx="8064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75F-C8F8-4778-82DB-F45E149806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 самое главное ежедневно создают хорошее настроение у детей и взрослых, дарят им заряд бодрости, много незабываемых впечатлений и приятных мо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C:\Users\gig\Desktop\Рисунок8.jpg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E391-3434-4741-8D79-A0C66E2315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пользование снежных построек для всестороннего развития ребенка.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агодаря совместным усилиям педагогов, сотрудников, воспитанник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одителей снежные постройки появились на игровых  площадках детского сада. Учитывая приоритетное направление деятельности ДОУ интеллектуально-художественное и экологическое воспитание и развитие детей, при оформлении построек предпочтение было отдано представителям животного мир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23122011894"/>
          <p:cNvPicPr/>
          <p:nvPr/>
        </p:nvPicPr>
        <p:blipFill>
          <a:blip r:embed="rId1"/>
          <a:stretch/>
        </p:blipFill>
        <p:spPr>
          <a:xfrm>
            <a:off x="2916360" y="3573360"/>
            <a:ext cx="43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gig\Desktop\Рисунок2.jpg"/>
          <p:cNvPicPr/>
          <p:nvPr/>
        </p:nvPicPr>
        <p:blipFill>
          <a:blip r:embed="rId1"/>
          <a:stretch/>
        </p:blipFill>
        <p:spPr>
          <a:xfrm>
            <a:off x="579600" y="476280"/>
            <a:ext cx="7887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Users\gig\Desktop\Рисунок3.jpg"/>
          <p:cNvPicPr/>
          <p:nvPr/>
        </p:nvPicPr>
        <p:blipFill>
          <a:blip r:embed="rId1"/>
          <a:stretch/>
        </p:blipFill>
        <p:spPr>
          <a:xfrm>
            <a:off x="826920" y="333360"/>
            <a:ext cx="775512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78C-B503-466D-AA96-8E1B90A628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жнейшей задачей является сохранение 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репление здоровья детей. Пребывание детей на свежем воздухе имеет большое значение для физического развития. Прогулка является первым и наиболее доступным средством закаливания детского организма. Она способствует повышению его выносливости и устойчивости к неблагоприятным воздействиям внешней среды, особенно к простудным заболеваниям.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ким образом, правильно организованные и продуманные прогулки помогают осуществлять задачи всестороннего развития детей.</a:t>
            </a: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8938-9E02-4B27-BF95-92A32EEE3A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прогулках, во время наблюдений, игр, индивидуальных бесед воспитанники пополняют и углубляют свои знания о животном мире: где живут те или иные животные, чем питаются, как приспосабливаются к условиям обитани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3122011897"/>
          <p:cNvPicPr/>
          <p:nvPr/>
        </p:nvPicPr>
        <p:blipFill>
          <a:blip r:embed="rId1"/>
          <a:stretch/>
        </p:blipFill>
        <p:spPr>
          <a:xfrm>
            <a:off x="684360" y="18900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3122011897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C:\Users\gig\Desktop\Рисунок6.jpg"/>
          <p:cNvPicPr/>
          <p:nvPr/>
        </p:nvPicPr>
        <p:blipFill>
          <a:blip r:embed="rId1"/>
          <a:stretch/>
        </p:blipFill>
        <p:spPr>
          <a:xfrm>
            <a:off x="539640" y="484200"/>
            <a:ext cx="789804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Взаимодействие с семьями воспитанников во время работы по подготовке прогулочных участков в зимне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9F96-CAA6-4C7E-8BB9-F812A83D3B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становление партнерских отношений с семь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E39-2F42-4DDD-A2F7-B083756B83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C:\Users\gig\Desktop\Рисунок7.jpg"/>
          <p:cNvPicPr/>
          <p:nvPr/>
        </p:nvPicPr>
        <p:blipFill>
          <a:blip r:embed="rId1"/>
          <a:stretch/>
        </p:blipFill>
        <p:spPr>
          <a:xfrm>
            <a:off x="826920" y="1844640"/>
            <a:ext cx="73202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gig\Desktop\Рисунок8.jpg"/>
          <p:cNvPicPr/>
          <p:nvPr/>
        </p:nvPicPr>
        <p:blipFill>
          <a:blip r:embed="rId1"/>
          <a:stretch/>
        </p:blipFill>
        <p:spPr>
          <a:xfrm>
            <a:off x="806400" y="1000080"/>
            <a:ext cx="7294680" cy="5021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Информирование родителей о ценности прогулок с детьми в зимнее врем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BEC-E72A-4492-A7B8-ADC9E06567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Users\gig\Desktop\Рисунок9.jpg"/>
          <p:cNvPicPr/>
          <p:nvPr/>
        </p:nvPicPr>
        <p:blipFill>
          <a:blip r:embed="rId1"/>
          <a:stretch/>
        </p:blipFill>
        <p:spPr>
          <a:xfrm>
            <a:off x="971640" y="1125360"/>
            <a:ext cx="7269120" cy="4751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Формирование ценностных ориентаций у воспитанников о труде родителей, взросл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D1D-8E8D-4878-8E01-560AEBBC5C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F134-E1DC-4CBF-BB01-FAD6D14494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ехнологии создания снежных постро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ствовать физическому, интеллектуальному и эстетическому развитию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относительно легкими в изготовлении и достаточно крепки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овать требованиям безопасности и возрасту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овать интересам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5BF-F096-4EA8-B001-366F4A7C47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атериалы и оборудование для приготовления "снежного теста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лект теплых и плотных резиновых перчаток для "скульптора"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инкованные ведра объемом 10–12 литров (при достаточно низких температурах пластмасса лопается, а эмаль дает трещин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па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лопат для детей – помощ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D03-AD0E-41DA-BED5-9CA1745941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крашение снежных пос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крашать снежные постройки можно различными способам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м тканевой аппликаци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ноцветных льдино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рашив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395280" y="260280"/>
            <a:ext cx="833760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AF1-9344-44B5-A8F6-D748927BBC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07800"/>
            <a:ext cx="8077320" cy="13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ные части прогулки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. Наблюдение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 Трудовая деятельность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 Игровая деятельность (п/и, м/и, и/ср.акт.)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Индивидуальная работа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5. Самостоятельная деятельность детей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6. Художественно-изобразительная деятельность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7. Ориентировка в пространстве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DB2-B8B2-46DF-A89B-76C0F70D56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ехнология украшения тканевой аппликацией такова: заготовку смачивают водой и, не отжимая, прикладывают к постройке. Затем поверх тонким слоем, выходя за периметр детали, наносят "снежное тесто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C:\Users\gig\Desktop\Рисунок10.jpg"/>
          <p:cNvPicPr/>
          <p:nvPr/>
        </p:nvPicPr>
        <p:blipFill>
          <a:blip r:embed="rId1"/>
          <a:stretch/>
        </p:blipFill>
        <p:spPr>
          <a:xfrm>
            <a:off x="684360" y="1773360"/>
            <a:ext cx="796428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77F1-0D84-44E6-88E3-665FD1D501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азноцветн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льдинк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971640" y="1413000"/>
            <a:ext cx="7451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64F2-A436-46EC-8911-4F253E70AF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иболее привлекательными для дошкольников являются окрашенные в яркие цвета постройки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раска фигур проводится в два этапа. Краска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гуашевая или акварельная) разводится в воде, при необходимости процеживается через сито, чтобы не было комочков, и при помощи пульверизаторов наносится на постройку. Для получения необходимой насыщенности цвета покраску производят в 2–3 приема.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C:\Users\gig\Desktop\Рисунок3.jpg"/>
          <p:cNvPicPr/>
          <p:nvPr/>
        </p:nvPicPr>
        <p:blipFill>
          <a:blip r:embed="rId1"/>
          <a:stretch/>
        </p:blipFill>
        <p:spPr>
          <a:xfrm>
            <a:off x="1042920" y="2924280"/>
            <a:ext cx="7416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EE6-AD11-43B6-B238-D88DCF0B18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заключении провожу итоговый анализа работы ДОУ в зимний период. Цель данного анализа – подведение итогов деятельности и оценка результатов работы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гулка является надежным средством укрепления здоровья и профилактики утомления. Пребывание на свежем воздухе положительно влияет на обмен веществ, способствует повышению аппетита. Пребывание детей на свежем воздухе имеет большое значение для физического развития. Прогулка является первым и наиболее доступным средством закаливания детского организма.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гулки на свежем воздухе имеют большое значение для правильного физического развития ребенка, удовлетворяют его потребность в движении. Они повышают общий тонус нервной системы и способствуют психическому развитию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684360" y="476280"/>
            <a:ext cx="7929360" cy="514332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CC8-D6A0-4373-BB82-BF74191AE9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блюдение, что мы сюда включаем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блюдение за природой, за фигурками на участк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удовая деятельность. Планируется  уход за снежными постройками на участке (уборка снега с фигурок);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бор игры зависит от времени года, погоды, температуры воздуха, от предшествующего проводимого занятия, от состояния детей, их желаний, от времени проведения прогулок;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видуальная работа направлена не только на совершенствование физических качеств, но и на развитие психических процессов, закрепление материал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стоятельная деятельность детей. Для ее организации необходимо создать условия: атрибуты, выносной материал, орудия труда для трудовой деятельност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удожественно-изобразительная деятельность. Это любимое занятие детей на прогулке, им очень нравится рисовать палочками на снегу линий, кружочков, а также разные формочки животных, птиц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риентировка в пространстве. Это прогулка по участку детского сада, особенно когда на территории много интересных, ярких фигу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22A-9900-4E97-B9E9-1791499DDD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 условиях Крайнего Севера температура воздуха не всегда позволяет организовать прогулки для малышей с достаточной продолжительностью по времени, поэтому необходим особый подход к оформлению прогулочных участков в зимнее время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есь коллектив нашего детского сада «Белочка» п. Пуровск совместно с родителями трудился над оформлением территории. В результате воплощения творческих идей все уголки территории оживали в образе птиц, персонажей сказок, домашних и диких животных и в образе символа года –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684360" y="2852640"/>
            <a:ext cx="80866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0606-D933-4400-AE29-36A88CA777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C:\Users\gig\Desktop\Рисунок1.jpg"/>
          <p:cNvPicPr/>
          <p:nvPr/>
        </p:nvPicPr>
        <p:blipFill>
          <a:blip r:embed="rId1"/>
          <a:stretch/>
        </p:blipFill>
        <p:spPr>
          <a:xfrm>
            <a:off x="642960" y="620640"/>
            <a:ext cx="77644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95DB-6D57-4055-9A39-3D355EB92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652320" y="836640"/>
            <a:ext cx="76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5:37:10Z</dcterms:created>
  <dc:creator>User</dc:creator>
  <dc:description/>
  <dc:language>en-US</dc:language>
  <cp:lastModifiedBy>gig</cp:lastModifiedBy>
  <dcterms:modified xsi:type="dcterms:W3CDTF">2015-10-10T06:22:46Z</dcterms:modified>
  <cp:revision>35</cp:revision>
  <dc:subject/>
  <dc:title>Организация прогулок для детей раннего дошкольного возраста в условиях Крайнего Севера</dc:title>
</cp:coreProperties>
</file>