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7D85-D1A1-4BE2-85E9-0BAE812E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6A2-DB61-4210-9472-C5B9A961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3BDA-6F85-429F-95B6-89A35022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592A-1762-4CEF-9CDF-D7BB8AB8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07ADC-EE66-4A3D-943C-C64E35B6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6453A-EB02-4CEF-8468-E29BDE52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050B8-7A3B-46E4-8679-17C87AD9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8816B-8E2A-4C15-8498-12798EA1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E8D76-D58F-45DE-9787-61ADAA1E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852A1-D970-42A3-A8C0-7C3A5EA8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C968F-B544-45ED-B3CA-7D61E383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E384-720F-4DEF-9579-27CA7416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9A061-4871-46B4-9F20-F89D792A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B5969-2249-418A-8FB1-972C5CDA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B2DF7-A2A3-4B3E-910B-DBC32F76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4202D-A72B-473D-8BAE-82EB482D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1D374-097A-4FE5-8B7C-5D2983CF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43F3-E8B6-4BDF-9EB9-D14F6EF9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9AF4-5C2B-4C7F-B5C3-089191E5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3204-0FCE-4393-93A2-D2A8A1FA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06D1-41DB-479C-B8AC-6C301796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1874-6DC8-4F1A-869F-BBB7B312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8D62-2416-4B51-AF02-D606FCB2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BE9-024E-4C76-BAFD-7DD514EF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D8D5-D388-4204-8152-43885191BD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63CF-5E0D-44B0-BAC7-7278888CF7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C:\Users\gig\Desktop\Рисунок1.jpg"/>
          <p:cNvPicPr/>
          <p:nvPr/>
        </p:nvPicPr>
        <p:blipFill>
          <a:blip r:embed="rId1"/>
          <a:stretch/>
        </p:blipFill>
        <p:spPr>
          <a:xfrm>
            <a:off x="730080" y="404640"/>
            <a:ext cx="7874280" cy="5904000"/>
          </a:xfrm>
          <a:prstGeom prst="rect">
            <a:avLst/>
          </a:prstGeom>
          <a:ln w="0">
            <a:noFill/>
          </a:ln>
        </p:spPr>
      </p:pic>
      <p:sp>
        <p:nvSpPr>
          <p:cNvPr id="8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E6D4-1C35-4CAA-AC9B-900B981D0CD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Организация прогулок для      детей раннего</a:t>
            </a: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возраста в условиях Крайнего Север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917F-ED3A-4D58-96AB-F45B9134866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C:\Users\gig\Desktop\Рисунок3.jpg"/>
          <p:cNvPicPr/>
          <p:nvPr/>
        </p:nvPicPr>
        <p:blipFill>
          <a:blip r:embed="rId1"/>
          <a:stretch/>
        </p:blipFill>
        <p:spPr>
          <a:xfrm>
            <a:off x="309600" y="692280"/>
            <a:ext cx="85248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C7E0-4035-4895-B83D-3FD89A61084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C:\Users\gig\Desktop\Рисунок1.jpg"/>
          <p:cNvPicPr/>
          <p:nvPr/>
        </p:nvPicPr>
        <p:blipFill>
          <a:blip r:embed="rId1"/>
          <a:stretch/>
        </p:blipFill>
        <p:spPr>
          <a:xfrm>
            <a:off x="674640" y="476280"/>
            <a:ext cx="7794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B891-E0C9-4FDF-8A42-354403D1434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C:\Users\gig\Desktop\Рисунок2.jpg"/>
          <p:cNvPicPr/>
          <p:nvPr/>
        </p:nvPicPr>
        <p:blipFill>
          <a:blip r:embed="rId1"/>
          <a:stretch/>
        </p:blipFill>
        <p:spPr>
          <a:xfrm>
            <a:off x="638280" y="476280"/>
            <a:ext cx="8067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3132-E58C-4342-9F22-ACFE75A841B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C:\Users\gig\Desktop\Рисунок3.jpg"/>
          <p:cNvPicPr/>
          <p:nvPr/>
        </p:nvPicPr>
        <p:blipFill>
          <a:blip r:embed="rId1"/>
          <a:stretch/>
        </p:blipFill>
        <p:spPr>
          <a:xfrm>
            <a:off x="512640" y="549360"/>
            <a:ext cx="82202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320D-2F6A-4BCD-A62A-A466383D94C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етодическая работа по организации и планированию оформления участка для прогулок в зимний период осуществлялась в 3 этапа:</a:t>
            </a: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I этап – подготовительный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II этап – практический</a:t>
            </a:r>
            <a:br>
              <a:rPr sz="20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III этап – аналитический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B15F-5D39-43A5-A88C-A1EC20711C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I этап – подготовительный</a:t>
            </a: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первую очередь провели анализ имеющихся условий по организации и проведению прогулок, интересов, потребностей и запросов родителей и воспитате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96BD-D086-4820-9BF8-25EF42E809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II этап – практический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то реализация работы педагогами ДОУ совместно с родителями в соответствии с планом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 оформлении территории детского сада большое значение придаём безопасности, целесообразности, красочности, а также эстетичности построек. Ярко украшенный участок сам по себе вызывает у детей устойчивый, положительный, эмоциональный настрой, желание идти на прогулку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91ED-0DFD-46E2-AC91-46C85FF9CE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III этап – аналитический</a:t>
            </a: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воды и рекомендации оперативного и тематического контроля способствуют профессиональному росту педагогов, качественному проведению прогуло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D496-5CFA-402B-9831-A0F5615B1FF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971640" y="1413000"/>
            <a:ext cx="751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Важность зимних прогулок для детей раннего дошкольного возрас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0F69-2D48-41E9-83AE-2B606DCC787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916360" y="549360"/>
          <a:ext cx="2950920" cy="792000"/>
        </p:xfrm>
        <a:graphic>
          <a:graphicData uri="http://schemas.openxmlformats.org/drawingml/2006/table">
            <a:tbl>
              <a:tblPr/>
              <a:tblGrid>
                <a:gridCol w="295092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Физическ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0" y="1557360"/>
          <a:ext cx="2843280" cy="1008000"/>
        </p:xfrm>
        <a:graphic>
          <a:graphicData uri="http://schemas.openxmlformats.org/drawingml/2006/table">
            <a:tbl>
              <a:tblPr/>
              <a:tblGrid>
                <a:gridCol w="284328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здоров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79280" y="4292640"/>
          <a:ext cx="2664000" cy="1371600"/>
        </p:xfrm>
        <a:graphic>
          <a:graphicData uri="http://schemas.openxmlformats.org/drawingml/2006/table">
            <a:tbl>
              <a:tblPr/>
              <a:tblGrid>
                <a:gridCol w="266400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Позновательно-речев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132000" y="4292640"/>
          <a:ext cx="2808360" cy="94464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944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Художественно-эстетическо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940360" y="1628640"/>
          <a:ext cx="3095640" cy="115272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11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Психическ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227640" y="4149720"/>
          <a:ext cx="2592360" cy="100800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Социально-личност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492360" y="2492280"/>
          <a:ext cx="2087640" cy="100656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Дет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71"/>
          <p:cNvSpPr/>
          <p:nvPr/>
        </p:nvSpPr>
        <p:spPr>
          <a:xfrm>
            <a:off x="0" y="610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72"/>
          <p:cNvSpPr/>
          <p:nvPr/>
        </p:nvSpPr>
        <p:spPr>
          <a:xfrm>
            <a:off x="3564000" y="263700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114"/>
          <p:cNvSpPr/>
          <p:nvPr/>
        </p:nvSpPr>
        <p:spPr>
          <a:xfrm flipH="1">
            <a:off x="2268360" y="3284640"/>
            <a:ext cx="1224000" cy="100800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115"/>
          <p:cNvSpPr/>
          <p:nvPr/>
        </p:nvSpPr>
        <p:spPr>
          <a:xfrm>
            <a:off x="4500720" y="3500280"/>
            <a:ext cx="0" cy="79236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118"/>
          <p:cNvSpPr/>
          <p:nvPr/>
        </p:nvSpPr>
        <p:spPr>
          <a:xfrm>
            <a:off x="2195640" y="2565360"/>
            <a:ext cx="1296720" cy="21600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119"/>
          <p:cNvSpPr/>
          <p:nvPr/>
        </p:nvSpPr>
        <p:spPr>
          <a:xfrm>
            <a:off x="4500720" y="1628640"/>
            <a:ext cx="0" cy="8636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ine 120"/>
          <p:cNvSpPr/>
          <p:nvPr/>
        </p:nvSpPr>
        <p:spPr>
          <a:xfrm flipV="1">
            <a:off x="5580000" y="2781360"/>
            <a:ext cx="1224000" cy="28728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121"/>
          <p:cNvSpPr/>
          <p:nvPr/>
        </p:nvSpPr>
        <p:spPr>
          <a:xfrm>
            <a:off x="5580000" y="3429000"/>
            <a:ext cx="1224000" cy="72072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F394-80D7-4027-991E-FA414914CC7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Цели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ширить представления детей об окружающем мире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вивать любовь к природе родного края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ь бережно относиться к животным, птицам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вать чувство общности детей и навыки сотрудничества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креплять здоровье детей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DF6F-1C8F-4678-A556-4854D890F59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рогулки на свежем воздухе имеют большое значение для правильного физического развития ребенка, удовлетворяют его потребность в движении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8" descr="C:\Users\gig\Desktop\Рисунок1.jpg"/>
          <p:cNvPicPr/>
          <p:nvPr/>
        </p:nvPicPr>
        <p:blipFill>
          <a:blip r:embed="rId1"/>
          <a:stretch/>
        </p:blipFill>
        <p:spPr>
          <a:xfrm>
            <a:off x="588960" y="2060640"/>
            <a:ext cx="3902040" cy="3968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:\Users\gig\Desktop\Рисунок2.jpg"/>
          <p:cNvPicPr/>
          <p:nvPr/>
        </p:nvPicPr>
        <p:blipFill>
          <a:blip r:embed="rId2"/>
          <a:stretch/>
        </p:blipFill>
        <p:spPr>
          <a:xfrm>
            <a:off x="4716360" y="2030400"/>
            <a:ext cx="39020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7E9E-9537-422D-AEDB-A5E120B801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ни повышают общий тонус нервной системы и способствуют психическому развитию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358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6" descr="C:\Users\gig\Desktop\Рисунок3.jpg"/>
          <p:cNvPicPr/>
          <p:nvPr/>
        </p:nvPicPr>
        <p:blipFill>
          <a:blip r:embed="rId1"/>
          <a:stretch/>
        </p:blipFill>
        <p:spPr>
          <a:xfrm>
            <a:off x="468360" y="1557360"/>
            <a:ext cx="842472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E15E-E1CB-4E00-8330-78DCE59FFA4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о время прогулок снежные постройки используются не только для игр и развлечений, но также для наблюдений за природой, организации трудовой деятельности, индивидуальной раб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5" descr="C:\Users\gig\Desktop\Рисунок4.jpg"/>
          <p:cNvPicPr/>
          <p:nvPr/>
        </p:nvPicPr>
        <p:blipFill>
          <a:blip r:embed="rId1"/>
          <a:stretch/>
        </p:blipFill>
        <p:spPr>
          <a:xfrm>
            <a:off x="681120" y="2492280"/>
            <a:ext cx="77072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A4AE-2B6A-4961-B153-1FC9BC178A8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Гуляя на своём участке, дети в игровой форме упражняются в количественном и порядковом счете, сравнивают постройки по размерам, цветам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C:\Users\gig\Desktop\Рисунок5.jpg"/>
          <p:cNvPicPr/>
          <p:nvPr/>
        </p:nvPicPr>
        <p:blipFill>
          <a:blip r:embed="rId1"/>
          <a:stretch/>
        </p:blipFill>
        <p:spPr>
          <a:xfrm>
            <a:off x="539640" y="2060640"/>
            <a:ext cx="816300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1C01-D81B-4721-AC85-AB30320DF45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C:\Users\gig\Desktop\Рисунок6.jpg"/>
          <p:cNvPicPr/>
          <p:nvPr/>
        </p:nvPicPr>
        <p:blipFill>
          <a:blip r:embed="rId1"/>
          <a:stretch/>
        </p:blipFill>
        <p:spPr>
          <a:xfrm>
            <a:off x="542880" y="260280"/>
            <a:ext cx="84567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44A3-F678-489D-8559-9D46D14254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нежные постройки способствуют повышению двигательной активности детей, укреплению их здоровья, познавательному развитию, формированию дружеских взаимоотношений, трудовых умений и навы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5" descr="C:\Users\gig\Desktop\Рисунок7.jpg"/>
          <p:cNvPicPr/>
          <p:nvPr/>
        </p:nvPicPr>
        <p:blipFill>
          <a:blip r:embed="rId1"/>
          <a:stretch/>
        </p:blipFill>
        <p:spPr>
          <a:xfrm>
            <a:off x="468360" y="2619360"/>
            <a:ext cx="80643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0AB6-92D6-4A82-9CBE-DBF9121F5C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А самое главное ежедневно создают хорошее настроение у детей и взрослых, дарят им заряд бодрости, много незабываемых впечатлений и приятных момен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6" descr="C:\Users\gig\Desktop\Рисунок8.jpg"/>
          <p:cNvPicPr/>
          <p:nvPr/>
        </p:nvPicPr>
        <p:blipFill>
          <a:blip r:embed="rId1"/>
          <a:stretch/>
        </p:blipFill>
        <p:spPr>
          <a:xfrm>
            <a:off x="468360" y="1916280"/>
            <a:ext cx="820728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B33B-566C-4D6A-82F1-00CE7CE56E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спользование снежных построек для всестороннего развития ребенка.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лагодаря совместным усилиям педагогов, сотрудников, воспитаннико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родителей снежные постройки появились на игровых  площадках детского сада. Учитывая приоритетное направление деятельности ДОУ интеллектуально-художественное и экологическое воспитание и развитие детей, при оформлении построек предпочтение было отдано представителям животного мира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6" descr="23122011894"/>
          <p:cNvPicPr/>
          <p:nvPr/>
        </p:nvPicPr>
        <p:blipFill>
          <a:blip r:embed="rId1"/>
          <a:stretch/>
        </p:blipFill>
        <p:spPr>
          <a:xfrm>
            <a:off x="2916360" y="3573360"/>
            <a:ext cx="4319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C:\Users\gig\Desktop\Рисунок2.jpg"/>
          <p:cNvPicPr/>
          <p:nvPr/>
        </p:nvPicPr>
        <p:blipFill>
          <a:blip r:embed="rId1"/>
          <a:stretch/>
        </p:blipFill>
        <p:spPr>
          <a:xfrm>
            <a:off x="579600" y="476280"/>
            <a:ext cx="78879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C:\Users\gig\Desktop\Рисунок3.jpg"/>
          <p:cNvPicPr/>
          <p:nvPr/>
        </p:nvPicPr>
        <p:blipFill>
          <a:blip r:embed="rId1"/>
          <a:stretch/>
        </p:blipFill>
        <p:spPr>
          <a:xfrm>
            <a:off x="826920" y="333360"/>
            <a:ext cx="775512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3300-5BC9-452C-AA51-2B16B77D37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ажнейшей задачей является сохранение и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крепление здоровья детей. Пребывание детей на свежем воздухе имеет большое значение для физического развития. Прогулка является первым и наиболее доступным средством закаливания детского организма. Она способствует повышению его выносливости и устойчивости к неблагоприятным воздействиям внешней среды, особенно к простудным заболеваниям.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аким образом, правильно организованные и продуманные прогулки помогают осуществлять задачи всестороннего развития детей.</a:t>
            </a:r>
            <a:br>
              <a:rPr sz="24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8689-7B70-40C2-8319-B9574EA2D0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 прогулках, во время наблюдений, игр, индивидуальных бесед воспитанники пополняют и углубляют свои знания о животном мире: где живут те или иные животные, чем питаются, как приспосабливаются к условиям обитания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23122011897"/>
          <p:cNvPicPr/>
          <p:nvPr/>
        </p:nvPicPr>
        <p:blipFill>
          <a:blip r:embed="rId1"/>
          <a:stretch/>
        </p:blipFill>
        <p:spPr>
          <a:xfrm>
            <a:off x="684360" y="18900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23122011897"/>
          <p:cNvPicPr/>
          <p:nvPr/>
        </p:nvPicPr>
        <p:blipFill>
          <a:blip r:embed="rId1"/>
          <a:stretch/>
        </p:blipFill>
        <p:spPr>
          <a:xfrm>
            <a:off x="900000" y="476280"/>
            <a:ext cx="7272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C:\Users\gig\Desktop\Рисунок6.jpg"/>
          <p:cNvPicPr/>
          <p:nvPr/>
        </p:nvPicPr>
        <p:blipFill>
          <a:blip r:embed="rId1"/>
          <a:stretch/>
        </p:blipFill>
        <p:spPr>
          <a:xfrm>
            <a:off x="539640" y="484200"/>
            <a:ext cx="7898040" cy="56167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Взаимодействие с семьями воспитанников во время работы по подготовке прогулочных участков в зимнее врем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170B-59CF-4E4A-97C8-B591CFDF752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Установление партнерских отношений с семь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F54C-47E1-4AA7-8ABB-2672ABE3312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5" descr="C:\Users\gig\Desktop\Рисунок7.jpg"/>
          <p:cNvPicPr/>
          <p:nvPr/>
        </p:nvPicPr>
        <p:blipFill>
          <a:blip r:embed="rId1"/>
          <a:stretch/>
        </p:blipFill>
        <p:spPr>
          <a:xfrm>
            <a:off x="826920" y="1844640"/>
            <a:ext cx="732024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C:\Users\gig\Desktop\Рисунок8.jpg"/>
          <p:cNvPicPr/>
          <p:nvPr/>
        </p:nvPicPr>
        <p:blipFill>
          <a:blip r:embed="rId1"/>
          <a:stretch/>
        </p:blipFill>
        <p:spPr>
          <a:xfrm>
            <a:off x="806400" y="1000080"/>
            <a:ext cx="7294680" cy="50212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Информирование родителей о ценности прогулок с детьми в зимнее врем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6B45-A30D-4CD4-8FA5-476C03EBB6B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C:\Users\gig\Desktop\Рисунок9.jpg"/>
          <p:cNvPicPr/>
          <p:nvPr/>
        </p:nvPicPr>
        <p:blipFill>
          <a:blip r:embed="rId1"/>
          <a:stretch/>
        </p:blipFill>
        <p:spPr>
          <a:xfrm>
            <a:off x="971640" y="1125360"/>
            <a:ext cx="7269120" cy="4751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760" y="291600"/>
            <a:ext cx="82296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Формирование ценностных ориентаций у воспитанников о труде родителей, взрослы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A2E8-2CFB-4C81-8B13-B865CE7ADC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50C1-FDFB-4A49-83ED-606B60DC296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Технологии создания снежных построе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собствовать физическому, интеллектуальному и эстетическому развитию дет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ыть относительно легкими в изготовлении и достаточно крепки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ответствовать требованиям безопасности и возрасту дет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ответствовать интересам де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3CB4-8C9E-42CC-B9AF-4FCB6D5DCA5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Материалы и оборудование для приготовления "снежного теста"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плект теплых и плотных резиновых перчаток для "скульптора"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цинкованные ведра объемом 10–12 литров (при достаточно низких температурах пластмасса лопается, а эмаль дает трещины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опаты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колько лопат для детей – помощник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C362-0F2C-4C58-9DDB-BF51020B00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Украшение снежных постро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крашать снежные постройки можно различными способам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спользованием тканевой аппликаци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ноцветных льдинок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крашива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C:\Users\gig\Desktop\Рисунок2.jpg"/>
          <p:cNvPicPr/>
          <p:nvPr/>
        </p:nvPicPr>
        <p:blipFill>
          <a:blip r:embed="rId1"/>
          <a:stretch/>
        </p:blipFill>
        <p:spPr>
          <a:xfrm>
            <a:off x="395280" y="260280"/>
            <a:ext cx="8337600" cy="5040360"/>
          </a:xfrm>
          <a:prstGeom prst="rect">
            <a:avLst/>
          </a:prstGeom>
          <a:ln w="0">
            <a:noFill/>
          </a:ln>
        </p:spPr>
      </p:pic>
      <p:sp>
        <p:nvSpPr>
          <p:cNvPr id="9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D912-8199-43A1-99C3-0476724B9DE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307800"/>
            <a:ext cx="8077320" cy="13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оставные части прогулки: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1. Наблюдение;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2. Трудовая деятельность;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3. Игровая деятельность (п/и, м/и, и/ср.акт.);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4. Индивидуальная работа;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5. Самостоятельная деятельность детей;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6. Художественно-изобразительная деятельность;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7. Ориентировка в пространстве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B5ED-CB73-408A-B734-1FD5B233FD9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Технология украшения тканевой аппликацией такова: заготовку смачивают водой и, не отжимая, прикладывают к постройке. Затем поверх тонким слоем, выходя за периметр детали, наносят "снежное тесто"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5" descr="C:\Users\gig\Desktop\Рисунок10.jpg"/>
          <p:cNvPicPr/>
          <p:nvPr/>
        </p:nvPicPr>
        <p:blipFill>
          <a:blip r:embed="rId1"/>
          <a:stretch/>
        </p:blipFill>
        <p:spPr>
          <a:xfrm>
            <a:off x="684360" y="1773360"/>
            <a:ext cx="796428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2BAE-CB30-4172-A799-AFA8C9B6BA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азноцветны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льдинк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5" descr="C:\Users\gig\Desktop\Рисунок1.jpg"/>
          <p:cNvPicPr/>
          <p:nvPr/>
        </p:nvPicPr>
        <p:blipFill>
          <a:blip r:embed="rId1"/>
          <a:stretch/>
        </p:blipFill>
        <p:spPr>
          <a:xfrm>
            <a:off x="971640" y="1413000"/>
            <a:ext cx="745164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6F1C-49C6-4ECB-9653-5E19D0C761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иболее привлекательными для дошкольников являются окрашенные в яркие цвета постройки.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краска фигур проводится в два этапа. Краска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(гуашевая или акварельная) разводится в воде, при необходимости процеживается через сито, чтобы не было комочков, и при помощи пульверизаторов наносится на постройку. Для получения необходимой насыщенности цвета покраску производят в 2–3 приема.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5" descr="C:\Users\gig\Desktop\Рисунок3.jpg"/>
          <p:cNvPicPr/>
          <p:nvPr/>
        </p:nvPicPr>
        <p:blipFill>
          <a:blip r:embed="rId1"/>
          <a:stretch/>
        </p:blipFill>
        <p:spPr>
          <a:xfrm>
            <a:off x="1042920" y="2924280"/>
            <a:ext cx="7416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88FE-B5FF-4395-8450-CF0D5596EB7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заключении провожу итоговый анализа работы ДОУ в зимний период. Цель данного анализа – подведение итогов деятельности и оценка результатов работы.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гулка является надежным средством укрепления здоровья и профилактики утомления. Пребывание на свежем воздухе положительно влияет на обмен веществ, способствует повышению аппетита. Пребывание детей на свежем воздухе имеет большое значение для физического развития. Прогулка является первым и наиболее доступным средством закаливания детского организма.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гулки на свежем воздухе имеют большое значение для правильного физического развития ребенка, удовлетворяют его потребность в движении. Они повышают общий тонус нервной системы и способствуют психическому развитию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:\Users\gig\Desktop\Рисунок1.jpg"/>
          <p:cNvPicPr/>
          <p:nvPr/>
        </p:nvPicPr>
        <p:blipFill>
          <a:blip r:embed="rId1"/>
          <a:stretch/>
        </p:blipFill>
        <p:spPr>
          <a:xfrm>
            <a:off x="684360" y="476280"/>
            <a:ext cx="7929360" cy="5143320"/>
          </a:xfrm>
          <a:prstGeom prst="rect">
            <a:avLst/>
          </a:prstGeom>
          <a:ln w="0">
            <a:noFill/>
          </a:ln>
        </p:spPr>
      </p:pic>
      <p:sp>
        <p:nvSpPr>
          <p:cNvPr id="9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A90F-F64B-4D90-A365-D4DA2F8914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-762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блюдение, что мы сюда включаем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блюдение за природой, за фигурками на участк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рудовая деятельность. Планируется  уход за снежными постройками на участке (уборка снега с фигурок);</a:t>
            </a: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ыбор игры зависит от времени года, погоды, температуры воздуха, от предшествующего проводимого занятия, от состояния детей, их желаний, от времени проведения прогулок;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дивидуальная работа направлена не только на совершенствование физических качеств, но и на развитие психических процессов, закрепление материала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амостоятельная деятельность детей. Для ее организации необходимо создать условия: атрибуты, выносной материал, орудия труда для трудовой деятельности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Художественно-изобразительная деятельность. Это любимое занятие детей на прогулке, им очень нравится рисовать палочками на снегу линий, кружочков, а также разные формочки животных, птиц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риентировка в пространстве. Это прогулка по участку детского сада, особенно когда на территории много интересных, ярких фигуро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C360-0BDC-4F56-99ED-79C9C23B58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В условиях Крайнего Севера температура воздуха не всегда позволяет организовать прогулки для малышей с достаточной продолжительностью по времени, поэтому необходим особый подход к оформлению прогулочных участков в зимнее время.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Весь коллектив нашего детского сада «Белочка» п. Пуровск совместно с родителями трудился над оформлением территории. В результате воплощения творческих идей все уголки территории оживали в образе птиц, персонажей сказок, домашних и диких животных и в образе символа года – драко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C:\Users\gig\Desktop\Рисунок1.jpg"/>
          <p:cNvPicPr/>
          <p:nvPr/>
        </p:nvPicPr>
        <p:blipFill>
          <a:blip r:embed="rId1"/>
          <a:stretch/>
        </p:blipFill>
        <p:spPr>
          <a:xfrm>
            <a:off x="684360" y="2852640"/>
            <a:ext cx="80866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BADE-934B-40E2-A676-FE28EF9962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C:\Users\gig\Desktop\Рисунок1.jpg"/>
          <p:cNvPicPr/>
          <p:nvPr/>
        </p:nvPicPr>
        <p:blipFill>
          <a:blip r:embed="rId1"/>
          <a:stretch/>
        </p:blipFill>
        <p:spPr>
          <a:xfrm>
            <a:off x="642960" y="620640"/>
            <a:ext cx="77644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167B-06B5-4C0B-84BA-0BAF090BE6F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C:\Users\gig\Desktop\Рисунок2.jpg"/>
          <p:cNvPicPr/>
          <p:nvPr/>
        </p:nvPicPr>
        <p:blipFill>
          <a:blip r:embed="rId1"/>
          <a:stretch/>
        </p:blipFill>
        <p:spPr>
          <a:xfrm>
            <a:off x="652320" y="836640"/>
            <a:ext cx="7632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5:37:10Z</dcterms:created>
  <dc:creator>User</dc:creator>
  <dc:description/>
  <dc:language>en-US</dc:language>
  <cp:lastModifiedBy>gig</cp:lastModifiedBy>
  <dcterms:modified xsi:type="dcterms:W3CDTF">2015-10-10T06:22:46Z</dcterms:modified>
  <cp:revision>35</cp:revision>
  <dc:subject/>
  <dc:title>Организация прогулок для детей раннего дошкольного возраста в условиях Крайнего Севера</dc:title>
</cp:coreProperties>
</file>