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FC6-58AF-4950-B044-E0BC5BA3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A87-CCA9-4AE6-BA9C-C8C4BD84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904-99F4-4AD3-A123-0FD5D18D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DCA-2E9E-46B9-B171-DF790A61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C4D0-4A30-48A9-9277-A142682D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FE38-B5FC-40CE-B6E4-65BAB131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9804-230A-4452-92B9-6FB147CA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88D7-9027-4B48-BA92-EB331F43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8CBC-9750-4E12-BD8F-6E7E5B75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C358-6F4E-4999-8E39-AA3BB1CF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3506-7AF6-4DA3-8B42-3D960037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2E4-CA92-476B-ACAF-5343C610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B92C-3C4F-4308-84F7-E3C5787F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2A71-702B-4C0A-9DE1-9561BA72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8634-5AA1-4445-A342-A254661C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9454-D9D1-4DE8-B0BC-9E7017C8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B6A4-3DF2-45C0-9C20-5765D782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965-6820-4DBD-89FE-E7C9B4E4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CA7-C58B-4841-8CAA-F24FA7F1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F52-4189-4A79-A8BB-1C056BBC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356-6B82-4731-9DB1-78B063D2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6CE-5EC5-4D4E-BD82-D21F7D23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CB5-6463-456F-A8AE-7717A953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CC6-24E1-4692-80F7-13575DE7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E0DE-16C0-4498-AF80-0333C0476F0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0202-5021-45E9-8336-5F6599F9ACA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6960" y="712800"/>
            <a:ext cx="8229600" cy="144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042920" y="1989000"/>
            <a:ext cx="7058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ители ПФР принимают активное участие в работе межправительственных и межведомственных комиссий и других органов в области социального обеспечения и пенсионного страхования с иностранными государства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нд в рамках своей компетенции устанавливает связи и развивает партнерские отношения с представительствами международных организаций в Российской Федерации, дипломатическими представительствами иностранных государств в Российской Федерации по вопросам социального обеспечения и пенсионного страх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1547640" y="1413000"/>
            <a:ext cx="6390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ФР является организатором международных конференций и семинаров с участием представителей иностранных государств на территории Российской Федерации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02/ Москва – Международная конференция МАСО для актуариев и статистиков системы социального обесп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05/ Москва – Международная конференция МАСО по информационным и коммуникационным технология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07/ Москва – соорганизатор Всемирного форума социального обеспечения МАС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10/ Светлогорск - 19-я Балтийская конференция по вопросам социального обеспечения на тему "Траектория развития пенсионных систем: выполнение государственных обязательств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11/ Москва - Международный семинар "Основные тенденции развития пенсионных систем в современном мире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трудники Фонда также представляет Россию на аналогичных мероприятиях за рубеж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928800" y="260280"/>
            <a:ext cx="71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онный фонд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2" descr="img_20052.jpg"/>
          <p:cNvPicPr/>
          <p:nvPr/>
        </p:nvPicPr>
        <p:blipFill>
          <a:blip r:embed="rId1"/>
          <a:stretch/>
        </p:blipFill>
        <p:spPr>
          <a:xfrm>
            <a:off x="3143160" y="4600440"/>
            <a:ext cx="2214720" cy="1971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1000080" y="571680"/>
            <a:ext cx="7286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онный фонд Российской Федерации (ПФР) - один из наиболее значимых социальных институтов страны. Это крупнейшая федеральная система оказания государственных услуг в области социального обеспечения в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ФР был образован 22 декабря 1990 года Постановлением Верховного Совета РСФСР №442-1 «Об организации Пенсионного фонда РСФСР» для государственного управления финансами пенсионного обеспечения, которые было необходимо выделить в самостоятельный внебюджетный фонд. С созданием Пенсионного фонда в России появился принципиально новый механизм финансирования и выплаты пенсий и пособий. Средства для финансирования выплаты пенсий стали формироваться за счет поступления обязательных страховых взносов работодателей и гражд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олучение от плательщиков страховых взносов, необходимых для финансирования выплат государственных пенс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рганизацию банка данных по плательщикам страховых взносов в Пенсионный фонд РФ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дивидуальный учет поступающих в Пенсионный фонд РФ от работающих граждан обязательных страховых взносов, имея в виду в дальнейшем увеличение размеров государственных пенсий за счет вносимых гражданами средст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рганизация работы по взысканию с работодателей и граждан, виновных в причинение вреда здоровью работников и других граждан, сумм государственных пенсий по инвалидности вследствие трудового увечья, профессионального заболевания или по случаю потери кормильц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роведение научно-исследовательской работы в области государственного пенсионного страхов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государственное и международное сотрудничество РФ по вопросам, относящимся к компетенции Пенсионного фон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трахование взносов работодателе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траховых взносов граждан, занимающихся индивидуальной трудовой деятельностью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траховых взносов других категорий работающих гражда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их семьям социальных пенсий, пособий на детей в возрасте старше полутора лет, на индексацию этих пенсий и пособий, а также на предоставление льгот в части пенсии, пособий и компенсации гражданам, пострадавшим от чернобыльской катастрофы, на расходы по доставке и пересылке пенсий и пособ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редств, возмещаемых пенсионному фонду РФ Государственным фондом занятости населения РФ в связи с назначением досрочных пенсий безработн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редств, взыскиваемых с работодателей и граждан в результате предъявления регрессных требов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добровольных взносов физических и юридических лиц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доходов от капитализации средств фонд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других поступл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выплату государственных пенсий, в то числе гражданам, выезжающим за пределы РФ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выплату пособий по уходу за ребёнком в возрасте старше полутора лет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оказание органам социальной защиты населения материальной помощи престарелым и нетрудоспособным гражданам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финансовое и материально- техническое обеспечение текущей деятельности фонда и его органов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финансирование других статей в соответствии с законом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удовая пенс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это гарантированная ежемесячная денежная выплата в целях компенсации гражданам заработной платы или иного дохода, для обеспечения граждан по достижении ими определенного законом возраста, а также в случае потери трудоспособности, потери кормиль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установлены следующие виды трудовых пенсий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трудовая пенсия по старости (по возрасту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трудовая пенсия по инвалид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трудовая пенсия по случаю потери кормиль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ые пенсии по старости и инвалидности состоят из следующих частей: базовой, страховой и накопительн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трудовую пенсию по старости имею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жчины, достигшие возраста 60 лет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енщины, достигшие возраста 55 л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22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 возрасту и инвалид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и потере кормиль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а выслугу лет, военнослужащи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ыплату пособий на детей в возрасте от полутора до шести ле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диноким матеря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лицам, пострадавшим на Чернобыльской АЭС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для оказания материальной помощи престарелым и инвалид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969840" y="334800"/>
            <a:ext cx="7772400" cy="7923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108000" y="15825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Международная ассоциация социального обеспечения (МАСО)/ International Social Security Association (IS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08000" y="2349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Международная ассоциация пенсионных и социальных фондов (МАПСФ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108000" y="3059280"/>
            <a:ext cx="63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 Международные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108000" y="3429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 Балтийская конференция по вопросам социального обесп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179280" y="907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ФР установил и развивает партнерские отношения со многими зарубежными организациями социального обеспечения и пенсионного страхования, наиболее плодотворно - с европейскими государствами, прежде всего с ФРГ и Республикой Польш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1547640" y="2357280"/>
            <a:ext cx="72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 дня основания ПФР в соответствии с ежегодно заключаемым Протоколом осуществляет масштабное сотрудничество с Федеральным ведомством пенсионного страхования Германии (ДРБ/ Deutsche Rentenversicherung Bund - DRB) по основным направлениям деятельности организ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6" descr=""/>
          <p:cNvPicPr/>
          <p:nvPr/>
        </p:nvPicPr>
        <p:blipFill>
          <a:blip r:embed="rId2"/>
          <a:stretch/>
        </p:blipFill>
        <p:spPr>
          <a:xfrm>
            <a:off x="150840" y="2604960"/>
            <a:ext cx="1270080" cy="4572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7"/>
          <p:cNvSpPr/>
          <p:nvPr/>
        </p:nvSpPr>
        <p:spPr>
          <a:xfrm>
            <a:off x="1584360" y="346248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ечение последних двух лет Фонд реализует плодотворные деловые контакты с Учреждением социального страхования Польши (Zakład Ubezpieczeń Społecznych – ZUS). Достигнута договоренность о подписании Меморандума о сотрудничестве в 2011 год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8" descr=""/>
          <p:cNvPicPr/>
          <p:nvPr/>
        </p:nvPicPr>
        <p:blipFill>
          <a:blip r:embed="rId3"/>
          <a:stretch/>
        </p:blipFill>
        <p:spPr>
          <a:xfrm>
            <a:off x="316080" y="3462480"/>
            <a:ext cx="939600" cy="5634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0"/>
          <p:cNvSpPr/>
          <p:nvPr/>
        </p:nvSpPr>
        <p:spPr>
          <a:xfrm>
            <a:off x="1619280" y="447516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В 2010 году Пенсионный фонд Российской Федерации приступил к разработке проекта Протокола о сотрудничестве между Фондом и Пенсионным агентством Швеции, учрежденным 1 января 2010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11" descr=""/>
          <p:cNvPicPr/>
          <p:nvPr/>
        </p:nvPicPr>
        <p:blipFill>
          <a:blip r:embed="rId4"/>
          <a:stretch/>
        </p:blipFill>
        <p:spPr>
          <a:xfrm>
            <a:off x="277920" y="4654440"/>
            <a:ext cx="1269720" cy="55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07:01:21Z</dcterms:created>
  <dc:creator>Куванова</dc:creator>
  <dc:description/>
  <dc:language>en-US</dc:language>
  <cp:lastModifiedBy>И. В. Красильникова</cp:lastModifiedBy>
  <dcterms:modified xsi:type="dcterms:W3CDTF">2015-10-09T18:41:04Z</dcterms:modified>
  <cp:revision>7</cp:revision>
  <dc:subject/>
  <dc:title>Пенсионный фонд Российской Федерации в сфере международного сотрудничества</dc:title>
</cp:coreProperties>
</file>