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711-A05B-457A-8D86-FA551E9E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0EC-1D58-4F8D-86AD-4CC71D4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058-4425-469C-9163-4D5E5E61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F07-1B00-4F68-8794-AABAA0A0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CEC-29B2-437A-8BDE-C6E7779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726-3A17-4EA3-AE26-ED79FDDC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AA6-A107-4B7B-9381-7E686AE5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FF0-47BB-4770-9D02-0F6D75A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901-ADFD-49FD-A38D-CFDD4BA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23A-94A8-4D9D-8230-293A01B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1F6-7681-400E-B2C3-F1FBEA7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4EA-04D7-4ED1-8666-E6538C3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A21-8B7F-4652-ABBE-CC0006C44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phorisme.ru/by-authors/suvorov/?q=517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 ШАРАПОВ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Й ВЕТЕРАН, ЖИВУЩИЙ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ичук Павел Варлам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ина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сты фрон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ученик 8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енко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ществоз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ынова Елена Вяче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ИРНОЕ  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Павла перевели в войсковую часть 57367 наводчиком артиллерийской установки, а позднее старшиной батарее, где он прослужил до 26 октября 1950 года и был уволен в зап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России сын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сегда достойно ей слу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, что честно голову сло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, что до сих пор остались жи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ты встретишь этих ветера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ых сражений Матушки- Ру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гляди на их святые л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дни войны былой их расспро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живут их старческие л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метнутся брови, оживут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ы услышишь дивные расс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нях прошедших ратного тр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08660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военная жизнь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00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службы Павел работал заведующим Крученской избы- читальни, инструктором Лопасненского райкома ВЛКСМ, а  потом его стали звать Павел Варламович, так как он стал работать учителем физической культуры и производственных мастерских в Шараповск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опия (2) Фото Мартыновой 7"/>
          <p:cNvPicPr/>
          <p:nvPr/>
        </p:nvPicPr>
        <p:blipFill>
          <a:blip r:embed="rId1"/>
          <a:stretch/>
        </p:blipFill>
        <p:spPr>
          <a:xfrm>
            <a:off x="3505320" y="13716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Фото Мартыновой 7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опия Фото Мартыновой 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1 году его избрали председателем Шараповского сельского совета и он трудился в этой должности 1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Фото Мартыновой 8"/>
          <p:cNvPicPr/>
          <p:nvPr/>
        </p:nvPicPr>
        <p:blipFill>
          <a:blip r:embed="rId1"/>
          <a:stretch/>
        </p:blipFill>
        <p:spPr>
          <a:xfrm>
            <a:off x="380880" y="457200"/>
            <a:ext cx="4191120" cy="56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Фото Мартыновой 21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1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Фото Мартыновой 2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762120"/>
            <a:ext cx="4040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и полномочий председателя шараповского сельского совета Павел Варламович был переведен на должность директора Шараповского Дома культуры, где и проработал  15 лет до ухода на заслуженный отд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Копия (2) Фото Мартыновой 6"/>
          <p:cNvPicPr/>
          <p:nvPr/>
        </p:nvPicPr>
        <p:blipFill>
          <a:blip r:embed="rId1"/>
          <a:stretch/>
        </p:blipFill>
        <p:spPr>
          <a:xfrm>
            <a:off x="4645080" y="685800"/>
            <a:ext cx="40417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опия Фото Мартыновой 11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страна как никакая другая имеет множество героев, к сожалению с каждым годом их остается все меньше. Вот и в нашем селе Шарапово ветеранов  было семь человек, а к 2014 году остался только один – Даличук Павел Варламович. Память о ветеранах стирается, молодое поколение все меньше и меньше знает о них. Поэтому в своей работе я поставил следующ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Варламович был частым гостем в нашей школе, он охотно рассказывал ребятам о тяжелых солдатских буд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Копия Фото Мартыновой 10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Фото Мартыновой 10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Копия (2) Фото Мартыновой 11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 последние годы Павел Варламович  не мог посещать нашу школу, но всегда с нетерпением ждал встреч с 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:\музей\DSC03553.JPG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Война закончена лишь тогда, когда похоронен последний солда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уворо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подробности жизни и службы ветерана Великой Отечественной войны Даличук Павла Варлам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учить историю жизни ветерана В.О.В. Даличук Павла Варламо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ививать любовь и уважение к истории своей «малой Роди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Воспитывать уважение к героям и участникам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Несчастна та страна, которая нуждается в героях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тольд Брех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И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В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ЛАМ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926-2014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Фото Мартыновой 5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ЧУК  ПАВЕЛ  ВАРЛАМОВИ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11 июня 1926 года в поселке Рождественно, Подольского района Московской области. Закончил 7 классов. Когда началась война ему только исполнилось 15 лет, а так, как  на фронт он пойти не мог, устроился на Лопасненский регенератный завод слесар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 лет Лопасненский Военный революционный комиссариат зачислил его в 199-й армейский запасной стрелковый полк. Там Павел Варламович приобретал  специальность «орудийный номер 37 мм пушек зенитной артиллерии» вплоть до января 4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января до апреля 1945 года Павел Варламович был зачислен в 158 армейский запасной стрелковый полк 1-го Дальневосточного фронта- курса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же с апреля Павел служил наводчиком 37 миллиметровой пушки зенитной установки в 553 стрелковом полку и принимал непосредственное участие в боевых действиях за что был награжден  «Медалью за победу над Япон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Фото Мартыновой 4"/>
          <p:cNvPicPr/>
          <p:nvPr/>
        </p:nvPicPr>
        <p:blipFill>
          <a:blip r:embed="rId1"/>
          <a:stretch/>
        </p:blipFill>
        <p:spPr>
          <a:xfrm>
            <a:off x="228600" y="6858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Фото Мартыновой 15"/>
          <p:cNvPicPr/>
          <p:nvPr/>
        </p:nvPicPr>
        <p:blipFill>
          <a:blip r:embed="rId1"/>
          <a:stretch/>
        </p:blipFill>
        <p:spPr>
          <a:xfrm>
            <a:off x="152280" y="228600"/>
            <a:ext cx="87678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Admin</cp:lastModifiedBy>
  <dcterms:modified xsi:type="dcterms:W3CDTF">2015-10-09T09:11:5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