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0F6-E9E0-4CC1-9FF5-65624921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D00-E157-48AF-900D-12F60084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58B-AAF2-4D0D-A32A-E2990B3E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B52-B1FB-4CBC-A23A-260CBA17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B20E-8F47-4DE6-92FA-5C423490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8F9-8608-4FD0-9C16-CE2CE33C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652A-E318-49A8-A299-BD1216D0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CCE8-46C7-41F2-85B6-A735334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4D4-6BF7-4946-8B16-4C58A45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5A1-B6A9-4D0E-A55B-6DC029A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DBB6-909E-480D-B244-9221A9E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7E5-DBA5-405D-A530-B4E3422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3DE9-8381-4AC6-8EBC-5066C3D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57BF-7457-473D-9709-8207F07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3FE-B350-450C-AA1A-94D41A76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FEF1-1960-4B88-8707-3A05D40B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8177-73AB-4314-98B2-13E527AC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B2F-7B73-44F3-B8DF-5448481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B25-4FAC-4BFD-83E1-26D1FBF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2D4-5680-43CE-9CBE-89193F7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72F-8064-40BF-BEDB-6EFA19F4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8BD-0D43-44E1-9A58-10D4DE0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914-F79D-44FF-8395-E7CB53D1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FF8-C5B9-4AEC-BDAF-A86DA8F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ccff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173-F76C-41D9-8339-1137D1A2F5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ccff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9B2-491B-410F-9D00-64DEC69EECA6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7;&#1089;&#1099;&#1083;&#1082;&#1080;/Alphabet.ppt" TargetMode="External"/><Relationship Id="rId2" Type="http://schemas.openxmlformats.org/officeDocument/2006/relationships/hyperlink" Target="file:///&#1057;&#1089;&#1099;&#1083;&#1082;&#1080;/01%20(Welcome).avi" TargetMode="External"/><Relationship Id="rId3" Type="http://schemas.openxmlformats.org/officeDocument/2006/relationships/hyperlink" Target="file:///&#1057;&#1089;&#1099;&#1083;&#1082;&#1080;/&#1056;&#1077;&#1095;&#1077;&#1074;&#1099;&#1077;%20&#1090;&#1088;&#1077;&#1085;&#1072;&#1078;&#1077;&#1088;&#1099;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06760" y="293400"/>
            <a:ext cx="6215040" cy="39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Использование образовательных возможностей Информационно-Коммуникативных Технологий на уроках английского языка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52600" y="4895640"/>
            <a:ext cx="489600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 Antiqua"/>
              </a:rPr>
              <a:t>Учитель английского язы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 Antiqua"/>
              </a:rPr>
              <a:t>Пятак Мария Петр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Book Antiqua"/>
              </a:rPr>
              <a:t>МОУ «Тимоновская СОШ с УИОП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Book Antiqua"/>
              </a:rPr>
              <a:t>г. Солнечногорск-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AutoShape 16"/>
          <p:cNvSpPr/>
          <p:nvPr/>
        </p:nvSpPr>
        <p:spPr>
          <a:xfrm>
            <a:off x="395280" y="333360"/>
            <a:ext cx="2158920" cy="2879640"/>
          </a:xfrm>
          <a:prstGeom prst="foldedCorner">
            <a:avLst>
              <a:gd name="adj" fmla="val 1977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237960" y="1368360"/>
            <a:ext cx="86378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к-презентация по тем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Greetings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”.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14200" y="4572000"/>
            <a:ext cx="869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униципа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Тимоновская средняя общеобразовательная школ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 углубленным изучением отдельных предметов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. Солнечногорск-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Учитель английского языка: Пятак Мария Петро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179280" y="3333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Arial Black"/>
              </a:rPr>
              <a:t> 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Цели урока:</a:t>
            </a: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</a:t>
            </a:r>
            <a:r>
              <a:rPr b="1" i="1" lang="ru-RU" sz="2400" spc="-1" strike="noStrike">
                <a:solidFill>
                  <a:srgbClr val="cc6600"/>
                </a:solidFill>
                <a:latin typeface="Arial"/>
              </a:rPr>
              <a:t>-  социокультурный аспект: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знакомство и употребление формул речевого этикета в конкретных ситуациях общения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 </a:t>
            </a:r>
            <a:r>
              <a:rPr b="1" i="1" lang="ru-RU" sz="2400" spc="-1" strike="noStrike">
                <a:solidFill>
                  <a:srgbClr val="996600"/>
                </a:solidFill>
                <a:latin typeface="Arial"/>
              </a:rPr>
              <a:t>- развивающий аспект: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развитие языковых способностей – чувство языка, развитие способностей к речемыслительной деятельности – перефразирование, соотнесение, оценка, развитие догадки по аналогии с родным языком и по контексту, развитие способности к логическому изложению, развитие внимания, памяти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 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- воспитательный аспект: 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ирование потребности и способности понимать образ жизни за рубежом, воспитание познавательных потребностей;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    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-  учебный аспект: 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ирование лексических навыков говорени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57320" y="608040"/>
            <a:ext cx="88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Задачи урока: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990000"/>
                </a:solidFill>
                <a:latin typeface="Arial"/>
              </a:rPr>
              <a:t>Учебны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формирование и развитие коммуникативных умений учащихся на основе языковых, лингвострановедческих и социокультурных знаний, навыков: умения воспринимать на слух и понимать небольшие сообщения.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Развивающи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развитие языковых, интеллектуальных и познавательных способностей, готовности к коммуникации, интеллектуальное развитие учащихся, формирование логического мышления.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Воспитательный аспект:</a:t>
            </a:r>
            <a:r>
              <a:rPr b="1" i="1" lang="ru-RU" sz="2200" spc="-1" strike="noStrike">
                <a:solidFill>
                  <a:srgbClr val="0000cc"/>
                </a:solidFill>
                <a:latin typeface="Arial"/>
              </a:rPr>
              <a:t> формирование уважения и интереса к культуре и народу страны изучаемого языка; 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Arial"/>
                <a:ea typeface="Arial"/>
              </a:rPr>
              <a:t>воспитание интереса к учению и формирование познавательной активности; пробуждать творческие начала личности, стимулировать стремление к ТСО: мультимедийный проектор, компьютер, экран, мультимедийная программа.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50920" y="1557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ечевые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ункции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asking for/giving information, finding out about meaning, comparing.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ащение урока: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мультимедийная программа, ТСО, раздаточный материа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апы урока: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Организационный момент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Сообщение темы и цели урок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Фонетическая зарядка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Работа над темой урока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Работа в парах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Подведение итогов урок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Домашнее задание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4040" y="817560"/>
            <a:ext cx="856944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онные и коммуникационные технологии (ИКТ) на уроках английского языка – веление време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00320" y="2577600"/>
            <a:ext cx="66088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Главная задача современной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школы – это раскрытие способностей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каждого ученика, воспитание личности,       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готовой к жизни в высокотехнологич-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ном, конкурентном мире.</a:t>
            </a:r>
            <a:br>
              <a:rPr sz="2400"/>
            </a:b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Д. Медведев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presik"/>
          <p:cNvPicPr/>
          <p:nvPr/>
        </p:nvPicPr>
        <p:blipFill>
          <a:blip r:embed="rId1"/>
          <a:stretch/>
        </p:blipFill>
        <p:spPr>
          <a:xfrm>
            <a:off x="388800" y="2589120"/>
            <a:ext cx="175284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71360" y="2801880"/>
            <a:ext cx="8847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Широкое развитие информационных и коммуникационных технологий (ИКТ) и их проникновение во все сферы жизни общества является глобальной тенденцией мирового развития последнего десятилет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Рисунок 11" descr="pict_comp"/>
          <p:cNvPicPr/>
          <p:nvPr/>
        </p:nvPicPr>
        <p:blipFill>
          <a:blip r:embed="rId1"/>
          <a:stretch/>
        </p:blipFill>
        <p:spPr>
          <a:xfrm>
            <a:off x="285840" y="1725480"/>
            <a:ext cx="32004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324000" y="476280"/>
            <a:ext cx="864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овые и, по-видимому, безграничные возможности создания средств изобразительной наглядности представляются мультимедийными технологиями. В настоящее время компьютер является наиболее совершенным техническим средством обучения, поскольку позволяет соединить в рамках одной системы функции нескольких устройств – телевизора, аудио- и видеомагнитофона, универсального считывающего и воспроизводящего устройства, пишущей машинки, мольберта, чертежной доски – используемых обычно в учебном процессе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250920" y="33336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Такая многофункциональность компьютера при работе с источниками разного типа (или его мультимедийные свойства) позволяет создавать и воспроизводить программные продукты, основной характерной чертой которых с точки зрения обучающих технологий является интерактивная наглядность – эффект погружения в обучающую программную среду и взаимодействия с ней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179280" y="196524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Кроме того, виртуальное присутствие пользователя в программной обучающей среде мобилизует все основные каналы восприятия новой информации – визуальный, слуховой и моторный, начинающие работать параллельно и согласованно. Воспринятая таким образом информация эффективнее поддается обработке, надежнее хранится в памяти и быстрее из нее извлекаетс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5de050a9f3521f1e224842bf44b90705"/>
          <p:cNvPicPr/>
          <p:nvPr/>
        </p:nvPicPr>
        <p:blipFill>
          <a:blip r:embed="rId1"/>
          <a:stretch/>
        </p:blipFill>
        <p:spPr>
          <a:xfrm>
            <a:off x="291960" y="293760"/>
            <a:ext cx="1584360" cy="1531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179280" y="229248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Целью обучения  на основе использования ИКТ является  формирование умений ставить проблемы, искать их рациональные решения, ориентироваться в растущем потоке информации. Компьютер при этом рассматривается как помощник, соучастник мыслительного процесса. Другими словами, школьник должен понять, что компьютер является «партнером» в его учебной деятельност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5" descr="computerr"/>
          <p:cNvPicPr/>
          <p:nvPr/>
        </p:nvPicPr>
        <p:blipFill>
          <a:blip r:embed="rId1"/>
          <a:stretch/>
        </p:blipFill>
        <p:spPr>
          <a:xfrm>
            <a:off x="311040" y="247680"/>
            <a:ext cx="253224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6200" y="6516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спользование ИКТ позволяет: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7120" y="949320"/>
            <a:ext cx="84297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эффективность и качество образования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ориентироваться на современные цели обучения: формирование языковой, речевой, социокультурной, учебно-познавательной коммуникативных компетенций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реализовать основные научно-методические принципы: коммуникативности, наглядности, индивидуализаци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мотивацию, обеспечить резкий рост интереса учащихся к предмету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использовать взаимосвязанное обучение различным видам деятельности: аудированию, говорению, письму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сделать уроки эмоциональными и запоминающимися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реализовать индивидуальный подход,  способствовать преодолению страха ошибки, самоутверждению учащихся, раскрытию их возможностей и способностей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увеличить пространство для развития творческой и познавательной активности, реализации лучших личностных качеств учащихся во внеурочной работе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повысить самостоятельность учащихся в усвоении языкового материала,  ответственность в учебе, развивать системное мышление, умение анализировать, сопоставлять и обобщать факты;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изменить характер взаимодействия учителя и ученика, избежать субъективности оценки.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250920" y="333360"/>
            <a:ext cx="87138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Компьютерные программы включают многообразные, яркие,  увлекательные упражнения,  интерактивные игры, видеоролики,  анимацию, имеют звуковое сопровождение. Программы направлены на развитие всех видов речевой деятельности: аудирования, чтения, формирования  и закрепления навыков монологической и диалогической речи.  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Все компьютерные программы и учебные материалы  при использовании на уроке выводятся на экран с помощью медиапроектора, что делает работу с ними очень увлекательной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Вашему вниманию предлагается фрагмент урока по теме: «Приветствие» с использованием одной из компьютерных программ.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32:55Z</dcterms:created>
  <dc:creator>1</dc:creator>
  <dc:description/>
  <dc:language>en-US</dc:language>
  <cp:lastModifiedBy>Admin</cp:lastModifiedBy>
  <dcterms:modified xsi:type="dcterms:W3CDTF">2015-10-03T13:33:33Z</dcterms:modified>
  <cp:revision>140</cp:revision>
  <dc:subject/>
  <dc:title>PowerPoint Presentation</dc:title>
</cp:coreProperties>
</file>