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464-0F85-4C5B-B7E4-DAC7979F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93A3-A7E6-454C-B427-78DAB056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049A-3BE7-405B-8ADB-41B0A263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997-5797-49E7-B228-18B7992A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16F6-AA27-41E4-9068-F2CFACA9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B8D4-81B1-4CA3-91B0-FEF65604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DBFA-3782-4BDB-B8D0-81DF5D04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CB8A-A848-4BDC-B5AC-8C60A5AF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8598-41D4-4575-A964-7CC02E6B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7BA8-7465-4115-B136-5B8EDD2D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0784-BA4F-41A4-AE07-2D64DC69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1CC-7E7F-4341-82A2-19E26421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218A-6FB6-44C7-B59F-93AAAE34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4590-D5C7-413A-B8CD-4D85DBF7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067C-67AD-4085-9702-6264FD47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A93A-5665-471A-81AA-B33BE21B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66D9-9C71-4542-8D44-779613A6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069B5-B331-434A-98EA-D8F2740F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89B0C-DCFF-4494-B413-FB79EB97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01969-745E-4510-8195-74F7DE65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B3247-09EA-4D21-A725-5B61876B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3AF57-E0E8-450D-8DAF-7BBBA508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0852-A4D7-434D-8EB8-F57FC830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69E8A-3C42-4008-98A1-EA7186C4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B0C86-877A-41FC-AC7B-F88D0366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1D5B5-5E42-492D-B988-6060EC8C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B5D43-B06B-4666-AD10-5641EB8F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7AECD-49A6-4CBA-BD6A-3C38FBAB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1DAA0-7273-4821-9DD4-A68596D4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582D4-C665-4A15-A2D9-B88C9414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9B2B-E09F-4CF3-9683-40359F02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D3AE-9491-41AA-A6BC-C89D213C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58DD-10CA-46A7-90F5-625A1807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EF7-CF4B-402C-85FD-82EBDC62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147-0F0B-47B2-A0C4-E9779A3D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17EE-0DE4-4D86-AEA1-118F1D92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96AC-00E0-41FD-9E08-24D16397C3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383D-C4AA-408B-81F3-536BA259F4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9.jpeg"/>
          <p:cNvPicPr/>
          <p:nvPr/>
        </p:nvPicPr>
        <p:blipFill>
          <a:blip r:embed="rId3"/>
          <a:stretch/>
        </p:blipFill>
        <p:spPr>
          <a:xfrm>
            <a:off x="7858080" y="5214960"/>
            <a:ext cx="811080" cy="988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567C-A207-4017-97D4-9B749FEA75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Calibri"/>
              </a:rPr>
              <a:t>Литературное чтение: особенности практического курса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124000" y="4653000"/>
            <a:ext cx="48960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Учитель начальных классов МБОУ СОШ №1 г.Чадана: Монгуш Светлана Экер-ооло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7030a0"/>
                </a:solidFill>
                <a:latin typeface="Calibri"/>
              </a:rPr>
              <a:t>В качестве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Писате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Кри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Художника-иллюстрат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Чте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Акт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Интонац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Весел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Грус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Удивитель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Читать голосом Лисы,Гнома, Великана и других сказочных герое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С 1 класса учатся пересказу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Пересказать кратко и подроб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Искать в тексте ответ на поставленный вопрос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Проводить выборочное чт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Выделять главные мысли в прочитанн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Интеграция урока чтения с урокам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Окружающий ми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Музы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Рис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рудовое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Русского язы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Матема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6:13:40Z</dcterms:created>
  <dc:creator>Admin</dc:creator>
  <dc:description/>
  <dc:language>en-US</dc:language>
  <cp:lastModifiedBy>Пользователь</cp:lastModifiedBy>
  <dcterms:modified xsi:type="dcterms:W3CDTF">2015-10-10T11:26:16Z</dcterms:modified>
  <cp:revision>7</cp:revision>
  <dc:subject/>
  <dc:title>Слайд 1</dc:title>
</cp:coreProperties>
</file>