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99D-6BE7-47CA-8B35-CCF9A857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48E-F709-4B25-97B2-383707B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72A-3B50-4C78-8C68-5B60EA1C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22F-BA73-479C-AA3B-D0E78EA1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9174-37E2-4A3B-9A58-57541A28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9122-69B2-488F-8990-CE115E0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619-436C-439F-A369-5CE5957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39C9-3523-482C-BC27-875A6AE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A71-59CE-4335-946F-47C4841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80BC-2174-47BA-968B-DE59A96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C844-91AD-4997-AB55-93CFD4A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5ED-81BB-423A-AB3B-2F94A4E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4D12-4224-4EDE-8B05-25FDEA27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D25-9C1C-419E-8279-A94719E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21B-8A82-4633-8DDB-CFDDD866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FD75-6C92-4681-813E-1E1973C1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ABB-74FB-49D4-AB94-B273964E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E587-7112-46CE-8CB6-92EEB503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E271-B471-4F8F-A5AF-E4EC0E4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CD14-3FB3-4445-94DF-55B2302D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4EA1-423A-4B09-859F-878BE463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CEAD-0B9C-43E2-8F89-6BD9E4E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9FF-72F3-4B8F-9E58-15EA6B73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A50E-7D4B-45E8-9EA0-B273D83B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12C2-A65A-4EF2-B86F-B5A016E5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2A58-D993-43DB-961F-0B95184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93FB-558E-4CEC-9CE7-1E503AA6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5B89-D7D6-4DAC-8972-45077535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2E1D-E1D0-4D05-A178-1F2B7668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BB68-2D08-4066-9E36-79C3EDDB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647-0088-4130-9FB4-0503EE9F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F80-58D5-4615-B32C-FDBD075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23C-8D93-4534-A375-6B914A0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599-F679-4D08-B961-A09EC7E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E29-818D-47EB-B78B-FE2BDD4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248-ACE2-4D6D-8178-182B780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734-DBB7-46BD-AF08-62D1A032C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7FC7-D499-4B7C-9742-40C4DB575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9.jpeg"/>
          <p:cNvPicPr/>
          <p:nvPr/>
        </p:nvPicPr>
        <p:blipFill>
          <a:blip r:embed="rId3"/>
          <a:stretch/>
        </p:blipFill>
        <p:spPr>
          <a:xfrm>
            <a:off x="7858080" y="5214960"/>
            <a:ext cx="811080" cy="98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31B8-B9F6-42B5-9397-AF62DB1E3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alibri"/>
              </a:rPr>
              <a:t>Литературное чтение: особенности практического курс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24000" y="4653000"/>
            <a:ext cx="48960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читель начальных классов МБОУ СОШ №1 г.Чадана: Монгуш Светлана Экер-оол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0a0"/>
                </a:solidFill>
                <a:latin typeface="Calibri"/>
              </a:rPr>
              <a:t>В качестве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ис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ри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Художника-иллюстра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е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Ак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нтон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ес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Гр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дивитель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Читать голосом Лисы,Гнома, Великана и других сказочных геро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С 1 класса учатся пересказ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ересказать кратко и подроб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кать в тексте ответ на поставленный вопро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роводить выборочное чт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ыделять главные мысли в прочитанн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нтеграция урока чтения с урока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Му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ис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рудовое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ус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Мате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13:40Z</dcterms:created>
  <dc:creator>Admin</dc:creator>
  <dc:description/>
  <dc:language>en-US</dc:language>
  <cp:lastModifiedBy>Пользователь</cp:lastModifiedBy>
  <dcterms:modified xsi:type="dcterms:W3CDTF">2015-10-10T11:26:16Z</dcterms:modified>
  <cp:revision>7</cp:revision>
  <dc:subject/>
  <dc:title>Слайд 1</dc:title>
</cp:coreProperties>
</file>