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wmf" ContentType="image/x-wmf"/>
  <Override PartName="/ppt/media/image7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CA23-5BF8-486E-A99C-EDDA218E45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AF5D-4E21-4AEF-A263-171ADBF41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текст в рамках любого предмета, мы строим работу с текстом в три этапа: до чтения, во время чтения и после чтения. У каждого этапа работы с текстом своя задача, соответственно разные действия читателя и использование разных видов ч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360-3CB9-464F-9890-2C01BCEE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99D-DB8C-4D31-BBC4-AB36BDA8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1D3-B095-4591-9D1D-0F9FF201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2E7-AEEA-4384-83CB-E39BD8D5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E7CB-A6BF-44D4-B49E-ED4C742A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2786-004E-4A0C-AE1C-AF78BEC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CBC3-7637-41FB-9EC5-A1D6D18A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DF4D-745B-44BD-B4BB-E6EC7EAB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82A1-B6FF-4EFB-93EE-45762011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2CCF-C76D-467C-B24A-761000B4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1C5D-2F32-4254-A79E-200EE78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468-600C-46ED-A34C-7EBE87F8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D3FA-054F-46D0-B5AF-E85A2462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297F-C898-42FE-A71D-44F7B48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603A-14A6-4BB6-8846-66E9D015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6296-5F2E-4BD0-9FC2-F1FD9FB6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E40F-3917-47C4-BE3A-99F20B8E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E5C9-C5AC-4C39-B451-0786E4DA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10CE-F471-4036-B406-EA2A7BE6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0A5F-D636-4AC0-AB8D-EB08A94B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9C757-A423-4FF5-8ECF-2280D31E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8B3B-CAFD-4843-A8DC-50089B04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75E-E255-42E7-8667-DFEA5E0E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B282-1E95-4FEF-ACDB-98FE35B5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6779-4E39-4060-A434-ED2A20B5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28FB-956F-40A6-9C32-8B4CA7D6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581D-F3AC-49C4-AEB0-4E795F07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F998-CE87-4E7C-A7C3-E2CDEACB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5CD5-555E-4C8D-AD81-EBB88E43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D1E5B-3403-4CD5-B962-58B44F70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6BABD-1547-4768-8ACA-CE5EB841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5FF98-C5DF-4939-BD5D-EF73FB41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E67B5-6C4A-46A8-A505-6284874B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29B-90C3-415D-B5E7-D9C7C3D1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BED26-992F-4CEC-B9BE-ACDC17F6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C1B30-8F02-4968-B32E-345B7902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E3CE2-C4F0-43E0-A1A7-8FEDAD85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34E2-6BD1-4E58-88E1-2A8785EF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C06EB-2EB6-4CBA-B3FF-4EF7A35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66CD-D2CA-44DC-B2B7-E511A8E4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C7D1-26D1-4528-9C10-312ED785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381E0-735A-494D-9A69-71DA3E7D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356D9-7934-4059-A966-498792B5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8988D-3A41-4213-AE35-A4A829C0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D09-E6CB-4BF3-B910-8C467341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FBC1-6D1C-4FA0-B568-8883379D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605CE-A900-4EB6-B954-8BE2B686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93F2B-0C0C-4E84-8488-B1FA3224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7E9CC-2D03-4C91-970A-F14616D2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B1839-A702-40C9-8A43-863D2FE7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90CC3-B408-48E2-BC56-069F41EA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5366D-36E2-4468-84FA-F56F5E35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0BF2-97B4-47AB-8CCE-1F606CAA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8559-9C7E-452E-9504-40C43F01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AF26-2B20-437A-AC35-E8748CD2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56B-B61D-4AF7-A109-00819CC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D791E-EF3E-452E-B784-2348ABC2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F9A-8DAC-43E6-A465-DA43710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3A8-4C26-4BD9-B0F2-D60F24D2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40F-2E69-404F-A1D0-E7B2556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44AF-7C83-44D5-A869-0FF7C6BB12AF}" type="slidenum">
              <a:rPr b="0" lang="en-US" sz="1000" spc="-1" strike="noStrike">
                <a:solidFill>
                  <a:srgbClr val="90999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FE18-90F9-4988-9821-130D01BFD3A9}" type="slidenum">
              <a:rPr b="0" lang="en-US" sz="1000" spc="-1" strike="noStrike">
                <a:solidFill>
                  <a:srgbClr val="90999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E1DB-97C3-4678-9E09-751A22FAB3C3}" type="slidenum">
              <a:rPr b="0" lang="en-US" sz="1000" spc="-1" strike="noStrike">
                <a:solidFill>
                  <a:srgbClr val="90999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AE8-496B-4FE9-84DB-2F173A8E3309}" type="slidenum">
              <a:rPr b="0" lang="en-US" sz="1000" spc="-1" strike="noStrike">
                <a:solidFill>
                  <a:srgbClr val="90999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EF4B-5203-4818-A737-0BE634CA258D}" type="slidenum">
              <a:rPr b="0" lang="en-US" sz="1000" spc="-1" strike="noStrike">
                <a:solidFill>
                  <a:srgbClr val="90999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83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12d1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9f2539"/>
                </a:solidFill>
                <a:latin typeface="Verdana"/>
              </a:rPr>
              <a:t>Технология продуктивного чтения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Заголовок 1"/>
          <p:cNvSpPr/>
          <p:nvPr/>
        </p:nvSpPr>
        <p:spPr>
          <a:xfrm>
            <a:off x="3429000" y="1676520"/>
            <a:ext cx="50529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ть – это еще ничего не значит;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читать и как понимать – вот в чем глав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4" descr="iCAXA37W2.jpg"/>
          <p:cNvPicPr/>
          <p:nvPr/>
        </p:nvPicPr>
        <p:blipFill>
          <a:blip r:embed="rId1"/>
          <a:stretch/>
        </p:blipFill>
        <p:spPr>
          <a:xfrm>
            <a:off x="533520" y="2057400"/>
            <a:ext cx="3227400" cy="4181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"/>
          <p:cNvSpPr/>
          <p:nvPr/>
        </p:nvSpPr>
        <p:spPr>
          <a:xfrm>
            <a:off x="4343400" y="533412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88272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технологии 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читательской компетенции школьн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иалог был содержательным и полноценным, читателю необходимо по ходу чтения совершать разнообразную работу: находить в тексте прямые и скрытые авторские вопросы, задавать свои вопросы, обдумывать предположения о дальнейшем содержании текста, проверять, совпадают ли они с замыслом автора включать воображ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04920" y="121896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79920" indent="398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блемный вопрос к тексту в целом. Ответы дете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9920" indent="398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седа. Понимание авторского замыс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9920" indent="398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сказ о писателе (беседа о писателе углубит понимание прочитанного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9920" indent="398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вторное обращение к заглавию и иллюстрации. Беседа о смысле заглавия, о его связи с темой, мыслью авто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9920" indent="398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олнение творческих зад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0" y="57168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5" descr="iCAK2IMUZ.jpg"/>
          <p:cNvPicPr/>
          <p:nvPr/>
        </p:nvPicPr>
        <p:blipFill>
          <a:blip r:embed="rId1"/>
          <a:stretch/>
        </p:blipFill>
        <p:spPr>
          <a:xfrm>
            <a:off x="6324480" y="4495680"/>
            <a:ext cx="2438640" cy="2362320"/>
          </a:xfrm>
          <a:prstGeom prst="rect">
            <a:avLst/>
          </a:prstGeom>
          <a:ln w="0">
            <a:noFill/>
          </a:ln>
        </p:spPr>
      </p:pic>
      <p:sp>
        <p:nvSpPr>
          <p:cNvPr id="274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1C9C-69D2-46B2-97F1-E0E2382CF513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7045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ое задание предполагает самостоятельность ребенка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13840" y="1935000"/>
            <a:ext cx="8643960" cy="277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88920" indent="-6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ставь план (самостоятельно, в парах, в групп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920" indent="-6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« Проиллюстрируй…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920" indent="-6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« Сочини…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920" indent="-6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« Придумай…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920" indent="-64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труктурная модель текс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B5DC-240B-4C13-BE79-FC373EF812A6}" type="slidenum"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503280" y="529920"/>
            <a:ext cx="8183520" cy="91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дель-опис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Овал 3"/>
          <p:cNvSpPr/>
          <p:nvPr/>
        </p:nvSpPr>
        <p:spPr>
          <a:xfrm>
            <a:off x="533520" y="1752480"/>
            <a:ext cx="1676160" cy="1447920"/>
          </a:xfrm>
          <a:prstGeom prst="ellipse">
            <a:avLst/>
          </a:prstGeom>
          <a:gradFill rotWithShape="0">
            <a:gsLst>
              <a:gs pos="0">
                <a:srgbClr val="ff8a77"/>
              </a:gs>
              <a:gs pos="100000">
                <a:srgbClr val="ffc7be"/>
              </a:gs>
            </a:gsLst>
            <a:lin ang="16200000"/>
          </a:gradFill>
          <a:ln w="9360">
            <a:solidFill>
              <a:srgbClr val="f34e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4"/>
          <p:cNvSpPr/>
          <p:nvPr/>
        </p:nvSpPr>
        <p:spPr>
          <a:xfrm>
            <a:off x="6858000" y="1905120"/>
            <a:ext cx="1676520" cy="1447560"/>
          </a:xfrm>
          <a:prstGeom prst="ellipse">
            <a:avLst/>
          </a:prstGeom>
          <a:gradFill rotWithShape="0">
            <a:gsLst>
              <a:gs pos="0">
                <a:srgbClr val="ff8a77"/>
              </a:gs>
              <a:gs pos="100000">
                <a:srgbClr val="ffc7be"/>
              </a:gs>
            </a:gsLst>
            <a:lin ang="16200000"/>
          </a:gradFill>
          <a:ln w="9360">
            <a:solidFill>
              <a:srgbClr val="f34e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5"/>
          <p:cNvSpPr/>
          <p:nvPr/>
        </p:nvSpPr>
        <p:spPr>
          <a:xfrm>
            <a:off x="2971800" y="2743200"/>
            <a:ext cx="121932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ит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6"/>
          <p:cNvSpPr/>
          <p:nvPr/>
        </p:nvSpPr>
        <p:spPr>
          <a:xfrm>
            <a:off x="4648320" y="2743200"/>
            <a:ext cx="144756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уп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7"/>
          <p:cNvSpPr/>
          <p:nvPr/>
        </p:nvSpPr>
        <p:spPr>
          <a:xfrm>
            <a:off x="2286000" y="3657600"/>
            <a:ext cx="144792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сё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8"/>
          <p:cNvSpPr/>
          <p:nvPr/>
        </p:nvSpPr>
        <p:spPr>
          <a:xfrm>
            <a:off x="5334120" y="3657600"/>
            <a:ext cx="182880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9"/>
          <p:cNvSpPr/>
          <p:nvPr/>
        </p:nvSpPr>
        <p:spPr>
          <a:xfrm>
            <a:off x="2362320" y="4495680"/>
            <a:ext cx="121896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вост подн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0"/>
          <p:cNvSpPr/>
          <p:nvPr/>
        </p:nvSpPr>
        <p:spPr>
          <a:xfrm>
            <a:off x="5715000" y="4572000"/>
            <a:ext cx="1219320" cy="53352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вост опущ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1"/>
          <p:cNvSpPr/>
          <p:nvPr/>
        </p:nvSpPr>
        <p:spPr>
          <a:xfrm>
            <a:off x="3276720" y="1905120"/>
            <a:ext cx="1143000" cy="60948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б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2"/>
          <p:cNvSpPr/>
          <p:nvPr/>
        </p:nvSpPr>
        <p:spPr>
          <a:xfrm>
            <a:off x="4724280" y="1905120"/>
            <a:ext cx="1600200" cy="60948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3"/>
          <p:cNvSpPr/>
          <p:nvPr/>
        </p:nvSpPr>
        <p:spPr>
          <a:xfrm>
            <a:off x="990720" y="5334120"/>
            <a:ext cx="1752480" cy="60948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6477120" y="5334120"/>
            <a:ext cx="1676160" cy="609480"/>
          </a:xfrm>
          <a:prstGeom prst="rect">
            <a:avLst/>
          </a:prstGeom>
          <a:gradFill rotWithShape="0">
            <a:gsLst>
              <a:gs pos="0">
                <a:srgbClr val="ffb977"/>
              </a:gs>
              <a:gs pos="100000">
                <a:srgbClr val="ffdfbe"/>
              </a:gs>
            </a:gsLst>
            <a:lin ang="16200000"/>
          </a:gradFill>
          <a:ln w="9360">
            <a:solidFill>
              <a:srgbClr val="f3912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 стрелкой 16"/>
          <p:cNvCxnSpPr>
            <a:stCxn id="279" idx="6"/>
          </p:cNvCxnSpPr>
          <p:nvPr/>
        </p:nvCxnSpPr>
        <p:spPr>
          <a:xfrm flipV="1">
            <a:off x="2209680" y="2285280"/>
            <a:ext cx="915120" cy="191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2" name="Прямая со стрелкой 18"/>
          <p:cNvCxnSpPr/>
          <p:nvPr/>
        </p:nvCxnSpPr>
        <p:spPr>
          <a:xfrm>
            <a:off x="2209680" y="2742840"/>
            <a:ext cx="610560" cy="3056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1599840" y="3200400"/>
            <a:ext cx="610200" cy="4579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4" name="Прямая со стрелкой 22"/>
          <p:cNvCxnSpPr>
            <a:stCxn id="279" idx="4"/>
          </p:cNvCxnSpPr>
          <p:nvPr/>
        </p:nvCxnSpPr>
        <p:spPr>
          <a:xfrm>
            <a:off x="1370520" y="3200400"/>
            <a:ext cx="762840" cy="14486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5" name="Прямая со стрелкой 24"/>
          <p:cNvCxnSpPr/>
          <p:nvPr/>
        </p:nvCxnSpPr>
        <p:spPr>
          <a:xfrm flipH="1">
            <a:off x="1141200" y="3277800"/>
            <a:ext cx="3600" cy="19818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6" name="Прямая со стрелкой 26"/>
          <p:cNvCxnSpPr>
            <a:stCxn id="280" idx="1"/>
          </p:cNvCxnSpPr>
          <p:nvPr/>
        </p:nvCxnSpPr>
        <p:spPr>
          <a:xfrm flipH="1">
            <a:off x="6400440" y="2117880"/>
            <a:ext cx="704160" cy="165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7" name="Прямая со стрелкой 28"/>
          <p:cNvCxnSpPr/>
          <p:nvPr/>
        </p:nvCxnSpPr>
        <p:spPr>
          <a:xfrm flipH="1">
            <a:off x="6171480" y="2742120"/>
            <a:ext cx="686520" cy="2293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8" name="Прямая со стрелкой 30"/>
          <p:cNvCxnSpPr>
            <a:stCxn id="280" idx="3"/>
          </p:cNvCxnSpPr>
          <p:nvPr/>
        </p:nvCxnSpPr>
        <p:spPr>
          <a:xfrm flipH="1">
            <a:off x="6781680" y="3139920"/>
            <a:ext cx="322920" cy="442080"/>
          </a:xfrm>
          <a:prstGeom prst="straightConnector1">
            <a:avLst/>
          </a:prstGeom>
          <a:ln w="9360">
            <a:solidFill>
              <a:srgbClr val="435e40"/>
            </a:solidFill>
            <a:miter/>
            <a:tailEnd len="med" type="arrow" w="med"/>
          </a:ln>
        </p:spPr>
      </p:cxnSp>
      <p:cxnSp>
        <p:nvCxnSpPr>
          <p:cNvPr id="299" name="Прямая со стрелкой 32"/>
          <p:cNvCxnSpPr>
            <a:stCxn id="280" idx="4"/>
          </p:cNvCxnSpPr>
          <p:nvPr/>
        </p:nvCxnSpPr>
        <p:spPr>
          <a:xfrm flipH="1">
            <a:off x="7009560" y="3352680"/>
            <a:ext cx="686520" cy="13723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00" name="Прямая со стрелкой 34"/>
          <p:cNvCxnSpPr/>
          <p:nvPr/>
        </p:nvCxnSpPr>
        <p:spPr>
          <a:xfrm>
            <a:off x="7924680" y="3352680"/>
            <a:ext cx="76680" cy="19058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a283e"/>
                </a:solidFill>
                <a:latin typeface="Arial"/>
              </a:rPr>
              <a:t>УУД</a:t>
            </a:r>
            <a:endParaRPr b="1" lang="en-US" sz="4400" spc="-1" strike="noStrike">
              <a:solidFill>
                <a:srgbClr val="f0735d"/>
              </a:solidFill>
              <a:latin typeface="Verdan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143000"/>
          <a:ext cx="8183520" cy="4849920"/>
        </p:xfrm>
        <a:graphic>
          <a:graphicData uri="http://schemas.openxmlformats.org/drawingml/2006/table">
            <a:tbl>
              <a:tblPr/>
              <a:tblGrid>
                <a:gridCol w="2727360"/>
                <a:gridCol w="2728800"/>
                <a:gridCol w="272736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время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ределять и формировать цель деятельности на уроке с помощью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ся высказывать свое предположение на основе работы с иллюстрацией учебн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формлять свои мысли в устной и письменной фор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шать и понимать речь друг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моционально «проживать» текст, выражать свои эмо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иентироваться в учебни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 читать и пересказывать тек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лать выводы в результате совместной работы класса и учи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лать выводы в результате совместной работы класса и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ся работать в паре, группе; выполнять различные ро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диалоге с учителем вырабатывать критерии оценки и определять степень успешности своей работы и работы других в соответствии с этими критериями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стоинства технологии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56760" y="157176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ма самостоятельно вне уро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осообразна и доступ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развитие личности читател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умение прогнозировать результаты чт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достижению понимания на уровне смыс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Рисунок 3" descr="iCAX1LDXG.jpg"/>
          <p:cNvPicPr/>
          <p:nvPr/>
        </p:nvPicPr>
        <p:blipFill>
          <a:blip r:embed="rId1"/>
          <a:stretch/>
        </p:blipFill>
        <p:spPr>
          <a:xfrm>
            <a:off x="3000240" y="4500720"/>
            <a:ext cx="3135600" cy="2100240"/>
          </a:xfrm>
          <a:prstGeom prst="rect">
            <a:avLst/>
          </a:prstGeom>
          <a:ln w="0">
            <a:noFill/>
          </a:ln>
        </p:spPr>
      </p:pic>
      <p:sp>
        <p:nvSpPr>
          <p:cNvPr id="306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C0B8-9965-4E67-8261-F8B533BBB69C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C:\Documents and Settings\Loner\Мои документы\Загрузки\61591160_014.gif"/>
          <p:cNvPicPr/>
          <p:nvPr/>
        </p:nvPicPr>
        <p:blipFill>
          <a:blip r:embed="rId1"/>
          <a:stretch/>
        </p:blipFill>
        <p:spPr>
          <a:xfrm>
            <a:off x="914400" y="1447920"/>
            <a:ext cx="7462800" cy="4622760"/>
          </a:xfrm>
          <a:prstGeom prst="rect">
            <a:avLst/>
          </a:prstGeom>
          <a:ln w="0">
            <a:noFill/>
          </a:ln>
        </p:spPr>
      </p:pic>
      <p:sp>
        <p:nvSpPr>
          <p:cNvPr id="308" name="TextBox 4"/>
          <p:cNvSpPr/>
          <p:nvPr/>
        </p:nvSpPr>
        <p:spPr>
          <a:xfrm>
            <a:off x="762120" y="6094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12d1c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F040-1D0E-4D50-BBBA-355314D9A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"/>
          <p:cNvGrpSpPr/>
          <p:nvPr/>
        </p:nvGrpSpPr>
        <p:grpSpPr>
          <a:xfrm>
            <a:off x="3637080" y="3357720"/>
            <a:ext cx="3095280" cy="2592000"/>
            <a:chOff x="3637080" y="3357720"/>
            <a:chExt cx="3095280" cy="2592000"/>
          </a:xfrm>
        </p:grpSpPr>
        <p:pic>
          <p:nvPicPr>
            <p:cNvPr id="234" name="Picture 3" descr=""/>
            <p:cNvPicPr/>
            <p:nvPr/>
          </p:nvPicPr>
          <p:blipFill>
            <a:blip r:embed="rId1"/>
            <a:stretch/>
          </p:blipFill>
          <p:spPr>
            <a:xfrm>
              <a:off x="3637080" y="3402720"/>
              <a:ext cx="3060000" cy="24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4"/>
            <p:cNvSpPr/>
            <p:nvPr/>
          </p:nvSpPr>
          <p:spPr>
            <a:xfrm>
              <a:off x="5532480" y="3357720"/>
              <a:ext cx="1199880" cy="25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AutoShape 5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, концептуал. вопрос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авторского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чтение (в т.ч. диалог с автором, вычитывание подтекста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осхищение чтения, создание мотива для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0" y="-100080"/>
            <a:ext cx="9144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продуктивного  чтения </a:t>
            </a:r>
            <a:br>
              <a:rPr sz="32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Цель: . В начальной школе необходимо заложить основы формирования грамотного читателя, у которого есть стойкая привычка к чтению, знающего книги , умеющего их самостоятельно выбирать.</a:t>
            </a:r>
            <a:br>
              <a:rPr sz="2000"/>
            </a:b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Этапы работы с любым тексто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slide-rea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 работа с текстом до чтения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5840" y="3357360"/>
            <a:ext cx="5124240" cy="2509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480" indent="442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точнение по ключевым словам своих предположений о теме произведения, героях, развитии действ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i.jpg"/>
          <p:cNvPicPr/>
          <p:nvPr/>
        </p:nvPicPr>
        <p:blipFill>
          <a:blip r:embed="rId1"/>
          <a:stretch/>
        </p:blipFill>
        <p:spPr>
          <a:xfrm>
            <a:off x="5286240" y="3000240"/>
            <a:ext cx="3583080" cy="25718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4"/>
          <p:cNvSpPr/>
          <p:nvPr/>
        </p:nvSpPr>
        <p:spPr>
          <a:xfrm>
            <a:off x="533520" y="15238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5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Предположения о героях, теме, содержании по фамилии автора, заглавию, иллюст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2304-B168-4975-A7A4-AFFCDE921470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-360" y="14479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5000"/>
          </a:bodyPr>
          <a:p>
            <a:pPr marL="57600" indent="287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те иллюстраци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600" indent="287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о чем пойдет речь в рассказе с таким названи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600" indent="287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угадывания дете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600" indent="287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600" indent="287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ем текст, проверим наши предполож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3F3E-ABBC-42E9-AE63-C196073FA326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200400" cy="2727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250" name="Picture 8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3200400" cy="29192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483048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елка, волк, хотел съесть, отчего веселы, мы добры.</a:t>
            </a:r>
            <a:br>
              <a:rPr sz="2500"/>
            </a:b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1228680" y="533520"/>
            <a:ext cx="62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.Н.Толстой «Белка и вол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503280" y="529920"/>
            <a:ext cx="8183520" cy="541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Белка и волк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Белка прыгала с ветки на ветку и упала прямо на сонного волка. Волк вскочил и хотел её съесть. Белка стала просить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- Пусти ме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Волк сказал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- Хорошо, я пущу тебя, только ты скажи мне, отчего вы, белки, так веселы. Мне всегда скучно, а на вас смотришь, вы  там вверху всё играете и прыга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Белка сказал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- Пусти меня прежде на дерево, а оттуда тебе скажу, а то боюсь теб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Волк пустил, а белка ушла на дерево и оттуда сказал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12d1c"/>
                </a:solidFill>
                <a:latin typeface="Verdana"/>
              </a:rPr>
              <a:t>- Тебе оттого скучно, что ты зол. Тебе злость сердце жжёт. А мы веселы оттого, что мы добры и никому зла не дела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304776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6120" indent="519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заглавливание част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0" y="57168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работа с текстом во время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5" descr="2.jpg"/>
          <p:cNvPicPr/>
          <p:nvPr/>
        </p:nvPicPr>
        <p:blipFill>
          <a:blip r:embed="rId1"/>
          <a:stretch/>
        </p:blipFill>
        <p:spPr>
          <a:xfrm>
            <a:off x="5486400" y="3048120"/>
            <a:ext cx="3200400" cy="295416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428760" y="121428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амостоятельное чтение с целью проверки своих предпо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380880" y="1905120"/>
            <a:ext cx="800100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тение вслух по предложениям или небольшим абзацам с комментариями. По ходу чтения учитель задает уточняющие вопросы на 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E1AC-8F97-4C70-82A8-F4A6E042D7E6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609480" y="35812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еречитывание текста медленное, вдумчи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"/>
          <p:cNvSpPr/>
          <p:nvPr/>
        </p:nvSpPr>
        <p:spPr>
          <a:xfrm>
            <a:off x="685800" y="44197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Обобщение прочитанного. Постановка к тексту обобщающих во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693000" y="556272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иалог с ав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1835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Белка стала просить:</a:t>
            </a:r>
            <a:br>
              <a:rPr sz="1800"/>
            </a:b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- Пусти меня.</a:t>
            </a:r>
            <a:br>
              <a:rPr sz="1800"/>
            </a:b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  Волк сказал:</a:t>
            </a:r>
            <a:br>
              <a:rPr sz="1800"/>
            </a:b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- Хорошо, я пущу тебя, только ты скажи мне, отчего вы, белки, так веселы. Мне всегда скучно, а на вас смотришь, вы  там вверху всё играете и прыгаете.</a:t>
            </a:r>
            <a:br>
              <a:rPr sz="1800"/>
            </a:b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  Белка сказала:</a:t>
            </a:r>
            <a:br>
              <a:rPr sz="1800"/>
            </a:br>
            <a:r>
              <a:rPr b="0" lang="ru-RU" sz="1800" spc="-1" strike="noStrike">
                <a:solidFill>
                  <a:srgbClr val="712d1c"/>
                </a:solidFill>
                <a:latin typeface="Verdana"/>
              </a:rPr>
              <a:t>- Пусти меня прежде на дерево, а оттуда тебе скажу, а то боюсь тебя.</a:t>
            </a: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3280" y="530280"/>
            <a:ext cx="8183520" cy="106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712d1c"/>
                </a:solidFill>
                <a:latin typeface="Verdana"/>
              </a:rPr>
              <a:t>Белка прыгала с ветки на ветку и упала прямо на сонного волка. Волк вскочил и хотел её съе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457200" y="47242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2d1c"/>
                </a:solidFill>
                <a:latin typeface="Verdana"/>
              </a:rPr>
              <a:t>Волк пустил, а белка ушла на дерево и оттуда сказ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2d1c"/>
                </a:solidFill>
                <a:latin typeface="Verdana"/>
              </a:rPr>
              <a:t>- Тебе оттого скучно, что ты зол. Тебе злость сердце жжёт. А мы веселы оттого, что мы добры и никому зла не дел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 с автором- это естественная беседа через текст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13840" y="1935000"/>
            <a:ext cx="8472600" cy="378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прием комментированного чт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звучивают текст дети, а комментирует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ветствуются также и детские сужд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мментарий должен быть кратким и динамичны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омментарий не должен превращаться в бес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омментируем в том месте, где это действительно нуж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442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BF5A-7FC6-4670-A499-1B27E66F500E}" type="slidenum">
              <a:rPr b="1" lang="ru-RU" sz="2800" spc="-1" strike="noStrike">
                <a:solidFill>
                  <a:srgbClr val="90999e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User</cp:lastModifiedBy>
  <dcterms:modified xsi:type="dcterms:W3CDTF">2015-10-06T11:44:04Z</dcterms:modified>
  <cp:revision>130</cp:revision>
  <dc:subject/>
  <dc:title>Слайд 1</dc:title>
</cp:coreProperties>
</file>