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wmf" ContentType="image/x-wmf"/>
  <Override PartName="/ppt/media/image7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D913-4D98-4419-B288-831F0AC229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B0C1-B5E7-47C6-AE40-17F39F3CAE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я текст в рамках любого предмета, мы строим работу с текстом в три этапа: до чтения, во время чтения и после чтения. У каждого этапа работы с текстом своя задача, соответственно разные действия читателя и использование разных видов ч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29F-247F-4345-A095-36E2C5C9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B55-DF7D-401C-BDD4-2DDDF187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95A-528C-4E32-ACF4-EDCF55B6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EB1-5D09-4954-B2DD-F163C02A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BF74-71C5-425C-80D1-5248614E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2578-8D63-4F01-A518-79C092F3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43C4-3854-4296-94AC-AE81D794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354F-3158-462B-8DC3-65DA5BAE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4D08-AFF1-451D-A750-E3667E65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7D1C-52F5-4EE5-A242-BEA10478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D530-3FFC-4EE9-BEC4-9C15927B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86B-8716-440E-AF3B-4F6D2897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C215-8615-4A46-B28D-F8BE3729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FBD3-488E-47B7-8050-3C90792D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558C-041D-4857-9281-3E7FF71B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2945-FF64-4CC5-AC5C-2E2AE80C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714D-3451-4898-991E-4CD41E0C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6A7E9-E03E-4A6E-936D-F0BAC4FE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B3B3-5AA0-4967-B09E-E9F4A4BA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D1CF-9807-4596-AA40-B81ED6FB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9F7C5-46E6-4BD2-92C7-15A3B294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CD63F-3884-4827-AC63-503BC657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EE0-1873-4AA7-AE83-127962CC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FE825-4BA9-41BA-84A4-5130CB8C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4A6A7-D85F-4F47-BD19-7BE65EF6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56B5-D3F1-4B9C-8791-85A2CC61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AD7AF-44F8-4439-91C2-955A060F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DC21A-E549-4579-85F3-9D797F3A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0719-4126-4E87-9DBB-819D5EC4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B22E-3719-4EC1-A7F4-8504964A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111F8-BD40-45A5-8966-07C98CCD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ECDE-303C-4EA5-8280-FECFFB0A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AEA35-4630-4EC5-8A66-96D93DA9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4C6-7472-4B10-8639-B397D819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DE157-C9D5-40EC-859F-7EFF5C7F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FC14E-FBE3-404A-8054-54E2134B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EC31C-307F-4F12-86B9-EB122FFE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BB491-D9B1-48EF-8010-F07B9212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268D8-145C-41A5-87CD-A80D0D59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5EAC0-2A76-4029-89BA-D543B3FD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A57A6-52E4-49B7-B097-E7F7433C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9DBA9-870B-4AD1-9E87-286C50B2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F19D6-D94C-4BE2-B85A-F7EAC482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B2EDD-44E4-4A3E-BD00-3C931535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16D-2D53-4A5F-9857-B43A08A8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E951B-F15B-48CE-A651-61BC2F93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50243-6CEB-4E87-84AC-B52D5E16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FF841-5517-4CC7-BD13-164E4D0B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77C34-6637-4690-8636-FEC692AB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4D6E3-E8E9-44F2-BE6C-D0F8BF8D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70AAE-2801-4594-B315-AC6552E7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540EF-A659-4280-8398-C0403B64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F2953-11E0-4572-AD59-87C7BC88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9D240-69AC-482B-94DF-02B2DF52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DD4AD-FA45-4AC2-A2B7-6F7FBBAF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FD4-36C9-4972-B7D4-090CF6FC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416C4-5FAD-4764-9528-5DC76E1C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EF2-1EF2-4F9D-B76E-3171708D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BE4-A270-40CE-A4BD-622346D6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10B-D561-43BA-BEE4-3BB11A0E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8D99-6290-4547-95B4-52B6447E9935}" type="slidenum">
              <a:rPr b="0" lang="en-US" sz="1000" spc="-1" strike="noStrike">
                <a:solidFill>
                  <a:srgbClr val="90999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F2F1-602A-4A69-BBBA-AD9663A770EF}" type="slidenum">
              <a:rPr b="0" lang="en-US" sz="1000" spc="-1" strike="noStrike">
                <a:solidFill>
                  <a:srgbClr val="90999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3178-9F54-46E5-8B56-B6CF820EFA91}" type="slidenum">
              <a:rPr b="0" lang="en-US" sz="1000" spc="-1" strike="noStrike">
                <a:solidFill>
                  <a:srgbClr val="90999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DD38-744C-4C36-B638-1302BF41FB99}" type="slidenum">
              <a:rPr b="0" lang="en-US" sz="1000" spc="-1" strike="noStrike">
                <a:solidFill>
                  <a:srgbClr val="90999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E704-1D3D-4747-A480-F18A83D4A39E}" type="slidenum">
              <a:rPr b="0" lang="en-US" sz="1000" spc="-1" strike="noStrike">
                <a:solidFill>
                  <a:srgbClr val="90999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835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12d1c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9f2539"/>
                </a:solidFill>
                <a:latin typeface="Verdana"/>
              </a:rPr>
              <a:t>Технология продуктивного чтения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8" name="Заголовок 1"/>
          <p:cNvSpPr/>
          <p:nvPr/>
        </p:nvSpPr>
        <p:spPr>
          <a:xfrm>
            <a:off x="3429000" y="1676520"/>
            <a:ext cx="505296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ть – это еще ничего не значит;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читать и как понимать – вот в чем главное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4" descr="iCAXA37W2.jpg"/>
          <p:cNvPicPr/>
          <p:nvPr/>
        </p:nvPicPr>
        <p:blipFill>
          <a:blip r:embed="rId1"/>
          <a:stretch/>
        </p:blipFill>
        <p:spPr>
          <a:xfrm>
            <a:off x="533520" y="2057400"/>
            <a:ext cx="3227400" cy="4181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4"/>
          <p:cNvSpPr/>
          <p:nvPr/>
        </p:nvSpPr>
        <p:spPr>
          <a:xfrm>
            <a:off x="4343400" y="533412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.Уш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88272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технологии :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читательской компетенции школьн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диалог был содержательным и полноценным, читателю необходимо по ходу чтения совершать разнообразную работу: находить в тексте прямые и скрытые авторские вопросы, задавать свои вопросы, обдумывать предположения о дальнейшем содержании текста, проверять, совпадают ли они с замыслом автора включать воображе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04920" y="1218960"/>
            <a:ext cx="8229600" cy="370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0000"/>
          </a:bodyPr>
          <a:p>
            <a:pPr marL="79920" indent="398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облемный вопрос к тексту в целом. Ответы дете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9920" indent="398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еседа. Понимание авторского замыс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9920" indent="398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ссказ о писателе (беседа о писателе углубит понимание прочитанного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9920" indent="398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вторное обращение к заглавию и иллюстрации. Беседа о смысле заглавия, о его связи с темой, мыслью авто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9920" indent="398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олнение творческих зад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Заголовок 1"/>
          <p:cNvSpPr/>
          <p:nvPr/>
        </p:nvSpPr>
        <p:spPr>
          <a:xfrm>
            <a:off x="0" y="57168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-работа с текстом после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Рисунок 5" descr="iCAK2IMUZ.jpg"/>
          <p:cNvPicPr/>
          <p:nvPr/>
        </p:nvPicPr>
        <p:blipFill>
          <a:blip r:embed="rId1"/>
          <a:stretch/>
        </p:blipFill>
        <p:spPr>
          <a:xfrm>
            <a:off x="6324480" y="4495680"/>
            <a:ext cx="2438640" cy="2362320"/>
          </a:xfrm>
          <a:prstGeom prst="rect">
            <a:avLst/>
          </a:prstGeom>
          <a:ln w="0">
            <a:noFill/>
          </a:ln>
        </p:spPr>
      </p:pic>
      <p:sp>
        <p:nvSpPr>
          <p:cNvPr id="274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236D-B2DE-4F80-8AC8-D16A97C3892D}" type="slidenum">
              <a:rPr b="1" lang="ru-RU" sz="2800" spc="-1" strike="noStrike">
                <a:solidFill>
                  <a:srgbClr val="90999e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7045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еское задание предполагает самостоятельность ребенка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13840" y="1935000"/>
            <a:ext cx="8643960" cy="2779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88920" indent="-6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ставь план (самостоятельно, в парах, в групп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920" indent="-6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« Проиллюстрируй…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920" indent="-6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« Сочини…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920" indent="-6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« Придумай…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920" indent="-6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труктурная модель текс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F0E6-2A94-48EC-8728-A314126EC806}" type="slidenum"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503280" y="529920"/>
            <a:ext cx="8183520" cy="91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дель-описа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Овал 3"/>
          <p:cNvSpPr/>
          <p:nvPr/>
        </p:nvSpPr>
        <p:spPr>
          <a:xfrm>
            <a:off x="533520" y="1752480"/>
            <a:ext cx="1676160" cy="1447920"/>
          </a:xfrm>
          <a:prstGeom prst="ellipse">
            <a:avLst/>
          </a:prstGeom>
          <a:gradFill rotWithShape="0">
            <a:gsLst>
              <a:gs pos="0">
                <a:srgbClr val="ff8a77"/>
              </a:gs>
              <a:gs pos="100000">
                <a:srgbClr val="ffc7be"/>
              </a:gs>
            </a:gsLst>
            <a:lin ang="16200000"/>
          </a:gradFill>
          <a:ln w="9360">
            <a:solidFill>
              <a:srgbClr val="f34e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4"/>
          <p:cNvSpPr/>
          <p:nvPr/>
        </p:nvSpPr>
        <p:spPr>
          <a:xfrm>
            <a:off x="6858000" y="1905120"/>
            <a:ext cx="1676520" cy="1447560"/>
          </a:xfrm>
          <a:prstGeom prst="ellipse">
            <a:avLst/>
          </a:prstGeom>
          <a:gradFill rotWithShape="0">
            <a:gsLst>
              <a:gs pos="0">
                <a:srgbClr val="ff8a77"/>
              </a:gs>
              <a:gs pos="100000">
                <a:srgbClr val="ffc7be"/>
              </a:gs>
            </a:gsLst>
            <a:lin ang="16200000"/>
          </a:gradFill>
          <a:ln w="9360">
            <a:solidFill>
              <a:srgbClr val="f34e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5"/>
          <p:cNvSpPr/>
          <p:nvPr/>
        </p:nvSpPr>
        <p:spPr>
          <a:xfrm>
            <a:off x="2971800" y="2743200"/>
            <a:ext cx="1219320" cy="53352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ит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6"/>
          <p:cNvSpPr/>
          <p:nvPr/>
        </p:nvSpPr>
        <p:spPr>
          <a:xfrm>
            <a:off x="4648320" y="2743200"/>
            <a:ext cx="1447560" cy="53352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уп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7"/>
          <p:cNvSpPr/>
          <p:nvPr/>
        </p:nvSpPr>
        <p:spPr>
          <a:xfrm>
            <a:off x="2286000" y="3657600"/>
            <a:ext cx="1447920" cy="53352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сё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8"/>
          <p:cNvSpPr/>
          <p:nvPr/>
        </p:nvSpPr>
        <p:spPr>
          <a:xfrm>
            <a:off x="5334120" y="3657600"/>
            <a:ext cx="1828800" cy="53352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9"/>
          <p:cNvSpPr/>
          <p:nvPr/>
        </p:nvSpPr>
        <p:spPr>
          <a:xfrm>
            <a:off x="2362320" y="4495680"/>
            <a:ext cx="1218960" cy="53352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вост подн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0"/>
          <p:cNvSpPr/>
          <p:nvPr/>
        </p:nvSpPr>
        <p:spPr>
          <a:xfrm>
            <a:off x="5715000" y="4572000"/>
            <a:ext cx="1219320" cy="53352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вост опущ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1"/>
          <p:cNvSpPr/>
          <p:nvPr/>
        </p:nvSpPr>
        <p:spPr>
          <a:xfrm>
            <a:off x="3276720" y="1905120"/>
            <a:ext cx="1143000" cy="60948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б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2"/>
          <p:cNvSpPr/>
          <p:nvPr/>
        </p:nvSpPr>
        <p:spPr>
          <a:xfrm>
            <a:off x="4724280" y="1905120"/>
            <a:ext cx="1600200" cy="60948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3"/>
          <p:cNvSpPr/>
          <p:nvPr/>
        </p:nvSpPr>
        <p:spPr>
          <a:xfrm>
            <a:off x="990720" y="5334120"/>
            <a:ext cx="1752480" cy="60948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лень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6477120" y="5334120"/>
            <a:ext cx="1676160" cy="60948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Прямая со стрелкой 16"/>
          <p:cNvCxnSpPr>
            <a:stCxn id="279" idx="6"/>
          </p:cNvCxnSpPr>
          <p:nvPr/>
        </p:nvCxnSpPr>
        <p:spPr>
          <a:xfrm flipV="1">
            <a:off x="2209680" y="2285280"/>
            <a:ext cx="915120" cy="191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92" name="Прямая со стрелкой 18"/>
          <p:cNvCxnSpPr/>
          <p:nvPr/>
        </p:nvCxnSpPr>
        <p:spPr>
          <a:xfrm>
            <a:off x="2209680" y="2742840"/>
            <a:ext cx="610560" cy="3056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1599840" y="3200400"/>
            <a:ext cx="610200" cy="45792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94" name="Прямая со стрелкой 22"/>
          <p:cNvCxnSpPr>
            <a:stCxn id="279" idx="4"/>
          </p:cNvCxnSpPr>
          <p:nvPr/>
        </p:nvCxnSpPr>
        <p:spPr>
          <a:xfrm>
            <a:off x="1370520" y="3200400"/>
            <a:ext cx="762840" cy="14486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95" name="Прямая со стрелкой 24"/>
          <p:cNvCxnSpPr/>
          <p:nvPr/>
        </p:nvCxnSpPr>
        <p:spPr>
          <a:xfrm flipH="1">
            <a:off x="1141200" y="3277800"/>
            <a:ext cx="3600" cy="198180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96" name="Прямая со стрелкой 26"/>
          <p:cNvCxnSpPr>
            <a:stCxn id="280" idx="1"/>
          </p:cNvCxnSpPr>
          <p:nvPr/>
        </p:nvCxnSpPr>
        <p:spPr>
          <a:xfrm flipH="1">
            <a:off x="6400440" y="2117880"/>
            <a:ext cx="704160" cy="165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97" name="Прямая со стрелкой 28"/>
          <p:cNvCxnSpPr/>
          <p:nvPr/>
        </p:nvCxnSpPr>
        <p:spPr>
          <a:xfrm flipH="1">
            <a:off x="6171480" y="2742120"/>
            <a:ext cx="686520" cy="22932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98" name="Прямая со стрелкой 30"/>
          <p:cNvCxnSpPr>
            <a:stCxn id="280" idx="3"/>
          </p:cNvCxnSpPr>
          <p:nvPr/>
        </p:nvCxnSpPr>
        <p:spPr>
          <a:xfrm flipH="1">
            <a:off x="6781680" y="3139920"/>
            <a:ext cx="322920" cy="442080"/>
          </a:xfrm>
          <a:prstGeom prst="straightConnector1">
            <a:avLst/>
          </a:prstGeom>
          <a:ln w="9360">
            <a:solidFill>
              <a:srgbClr val="435e40"/>
            </a:solidFill>
            <a:miter/>
            <a:tailEnd len="med" type="arrow" w="med"/>
          </a:ln>
        </p:spPr>
      </p:cxnSp>
      <p:cxnSp>
        <p:nvCxnSpPr>
          <p:cNvPr id="299" name="Прямая со стрелкой 32"/>
          <p:cNvCxnSpPr>
            <a:stCxn id="280" idx="4"/>
          </p:cNvCxnSpPr>
          <p:nvPr/>
        </p:nvCxnSpPr>
        <p:spPr>
          <a:xfrm flipH="1">
            <a:off x="7009560" y="3352680"/>
            <a:ext cx="686520" cy="137232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300" name="Прямая со стрелкой 34"/>
          <p:cNvCxnSpPr/>
          <p:nvPr/>
        </p:nvCxnSpPr>
        <p:spPr>
          <a:xfrm>
            <a:off x="7924680" y="3352680"/>
            <a:ext cx="76680" cy="19058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a283e"/>
                </a:solidFill>
                <a:latin typeface="Arial"/>
              </a:rPr>
              <a:t>УУД</a:t>
            </a:r>
            <a:endParaRPr b="1" lang="en-US" sz="4400" spc="-1" strike="noStrike">
              <a:solidFill>
                <a:srgbClr val="f0735d"/>
              </a:solidFill>
              <a:latin typeface="Verdan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57200" y="1143000"/>
          <a:ext cx="8183520" cy="4849920"/>
        </p:xfrm>
        <a:graphic>
          <a:graphicData uri="http://schemas.openxmlformats.org/drawingml/2006/table">
            <a:tbl>
              <a:tblPr/>
              <a:tblGrid>
                <a:gridCol w="2727360"/>
                <a:gridCol w="2728800"/>
                <a:gridCol w="2727360"/>
              </a:tblGrid>
              <a:tr h="533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 время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ределять и формировать цель деятельности на уроке с помощью учител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ься высказывать свое предположение на основе работы с иллюстрацией учебн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ходить ответы на вопросы в тексте, иллюстрац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формлять свои мысли в устной и письменной фор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шать и понимать речь други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моционально «проживать» текст, выражать свои эмоц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имать эмоции других людей, сочувствовать, сопережива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сказывать свое отношение к героям прочитанных произведений, к их поступ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иентироваться в учебни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ходить ответы на вопросы в тексте, иллюстрац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 читать и пересказывать текс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лать выводы в результате совместной работы класса и учите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имать эмоции других людей, сочувствовать, сопережива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сказывать свое отношение к героям прочитанных произведений, к их поступ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лать выводы в результате совместной работы класса и учител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ься работать в паре, группе; выполнять различные ро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диалоге с учителем вырабатывать критерии оценки и определять степень успешности своей работы и работы других в соответствии с этими критериями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стоинства технологии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56760" y="1571760"/>
            <a:ext cx="8286840" cy="3286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ма самостоятельно вне уро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осообразна и доступ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а на развитие личности читател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умение прогнозировать результаты чте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достижению понимания на уровне смыс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Рисунок 3" descr="iCAX1LDXG.jpg"/>
          <p:cNvPicPr/>
          <p:nvPr/>
        </p:nvPicPr>
        <p:blipFill>
          <a:blip r:embed="rId1"/>
          <a:stretch/>
        </p:blipFill>
        <p:spPr>
          <a:xfrm>
            <a:off x="3000240" y="4500720"/>
            <a:ext cx="3135600" cy="2100240"/>
          </a:xfrm>
          <a:prstGeom prst="rect">
            <a:avLst/>
          </a:prstGeom>
          <a:ln w="0">
            <a:noFill/>
          </a:ln>
        </p:spPr>
      </p:pic>
      <p:sp>
        <p:nvSpPr>
          <p:cNvPr id="306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967C-2375-4FC5-AF82-051079006CD0}" type="slidenum">
              <a:rPr b="1" lang="ru-RU" sz="2800" spc="-1" strike="noStrike">
                <a:solidFill>
                  <a:srgbClr val="90999e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C:\Documents and Settings\Loner\Мои документы\Загрузки\61591160_014.gif"/>
          <p:cNvPicPr/>
          <p:nvPr/>
        </p:nvPicPr>
        <p:blipFill>
          <a:blip r:embed="rId1"/>
          <a:stretch/>
        </p:blipFill>
        <p:spPr>
          <a:xfrm>
            <a:off x="914400" y="1447920"/>
            <a:ext cx="7462800" cy="4622760"/>
          </a:xfrm>
          <a:prstGeom prst="rect">
            <a:avLst/>
          </a:prstGeom>
          <a:ln w="0">
            <a:noFill/>
          </a:ln>
        </p:spPr>
      </p:pic>
      <p:sp>
        <p:nvSpPr>
          <p:cNvPr id="308" name="TextBox 4"/>
          <p:cNvSpPr/>
          <p:nvPr/>
        </p:nvSpPr>
        <p:spPr>
          <a:xfrm>
            <a:off x="762120" y="6094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12d1c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634D-DF24-4D0E-90CA-5673DDCAC8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"/>
          <p:cNvGrpSpPr/>
          <p:nvPr/>
        </p:nvGrpSpPr>
        <p:grpSpPr>
          <a:xfrm>
            <a:off x="3637080" y="3357720"/>
            <a:ext cx="3095280" cy="2592000"/>
            <a:chOff x="3637080" y="3357720"/>
            <a:chExt cx="3095280" cy="2592000"/>
          </a:xfrm>
        </p:grpSpPr>
        <p:pic>
          <p:nvPicPr>
            <p:cNvPr id="234" name="Picture 3" descr=""/>
            <p:cNvPicPr/>
            <p:nvPr/>
          </p:nvPicPr>
          <p:blipFill>
            <a:blip r:embed="rId1"/>
            <a:stretch/>
          </p:blipFill>
          <p:spPr>
            <a:xfrm>
              <a:off x="3637080" y="3402720"/>
              <a:ext cx="3060000" cy="246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4"/>
            <p:cNvSpPr/>
            <p:nvPr/>
          </p:nvSpPr>
          <p:spPr>
            <a:xfrm>
              <a:off x="5532480" y="3357720"/>
              <a:ext cx="1199880" cy="25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AutoShape 5"/>
          <p:cNvSpPr/>
          <p:nvPr/>
        </p:nvSpPr>
        <p:spPr>
          <a:xfrm>
            <a:off x="2340000" y="2205000"/>
            <a:ext cx="4645080" cy="4500720"/>
          </a:xfrm>
          <a:custGeom>
            <a:avLst/>
            <a:gdLst>
              <a:gd name="textAreaLeft" fmla="*/ 680040 w 4645080"/>
              <a:gd name="textAreaRight" fmla="*/ 3965040 w 4645080"/>
              <a:gd name="textAreaTop" fmla="*/ 658800 h 4500720"/>
              <a:gd name="textAreaBottom" fmla="*/ 3841920 h 450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09" y="10800"/>
                </a:moveTo>
                <a:cubicBezTo>
                  <a:pt x="1609" y="15876"/>
                  <a:pt x="5724" y="19991"/>
                  <a:pt x="10800" y="19991"/>
                </a:cubicBezTo>
                <a:cubicBezTo>
                  <a:pt x="15876" y="19991"/>
                  <a:pt x="19991" y="15876"/>
                  <a:pt x="19991" y="10800"/>
                </a:cubicBezTo>
                <a:cubicBezTo>
                  <a:pt x="19991" y="5724"/>
                  <a:pt x="15876" y="1609"/>
                  <a:pt x="10800" y="1609"/>
                </a:cubicBezTo>
                <a:cubicBezTo>
                  <a:pt x="5724" y="1609"/>
                  <a:pt x="1609" y="5724"/>
                  <a:pt x="1609" y="10800"/>
                </a:cubicBez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4932360" y="4221000"/>
            <a:ext cx="4032360" cy="2160720"/>
          </a:xfrm>
          <a:custGeom>
            <a:avLst/>
            <a:gdLst>
              <a:gd name="textAreaLeft" fmla="*/ 588240 w 4032360"/>
              <a:gd name="textAreaRight" fmla="*/ 3444120 w 4032360"/>
              <a:gd name="textAreaTop" fmla="*/ 0 h 2160720"/>
              <a:gd name="textAreaBottom" fmla="*/ 1890720 h 216072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e5f2ff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осле чтения текст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рефлексивное чтение, концептуал. вопросы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е авторского смысла, корректировка своей интерпре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179280" y="4149720"/>
            <a:ext cx="4176720" cy="2232000"/>
          </a:xfrm>
          <a:custGeom>
            <a:avLst/>
            <a:gdLst>
              <a:gd name="textAreaLeft" fmla="*/ 609480 w 4176720"/>
              <a:gd name="textAreaRight" fmla="*/ 3567240 w 4176720"/>
              <a:gd name="textAreaTop" fmla="*/ 0 h 2232000"/>
              <a:gd name="textAreaBottom" fmla="*/ 1953000 h 2232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dff9ec"/>
              </a:gs>
              <a:gs pos="100000">
                <a:srgbClr val="00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Во время чтения текс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ющее чтение (в т.ч. диалог с автором, вычитывание подтекста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ация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124000" y="1844640"/>
            <a:ext cx="5112000" cy="2016000"/>
          </a:xfrm>
          <a:custGeom>
            <a:avLst/>
            <a:gdLst>
              <a:gd name="textAreaLeft" fmla="*/ 745920 w 5112000"/>
              <a:gd name="textAreaRight" fmla="*/ 4366080 w 5112000"/>
              <a:gd name="textAreaTop" fmla="*/ 0 h 2016000"/>
              <a:gd name="textAreaBottom" fmla="*/ 1764000 h 2016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9ec"/>
              </a:gs>
              <a:gs pos="100000">
                <a:srgbClr val="ff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чтения текс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овое чт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осхищение чтения, создание мотива для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0" y="-100080"/>
            <a:ext cx="9144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продуктивного  чтения </a:t>
            </a:r>
            <a:br>
              <a:rPr sz="32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Цель: . В начальной школе необходимо заложить основы формирования грамотного читателя, у которого есть стойкая привычка к чтению, знающего книги , умеющего их самостоятельно выбирать.</a:t>
            </a:r>
            <a:br>
              <a:rPr sz="2000"/>
            </a:b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Этапы работы с любым тексто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slide-rea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- работа с текстом до чтения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85840" y="3357360"/>
            <a:ext cx="5124240" cy="2509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480" indent="442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точнение по ключевым словам своих предположений о теме произведения, героях, развитии действ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i.jpg"/>
          <p:cNvPicPr/>
          <p:nvPr/>
        </p:nvPicPr>
        <p:blipFill>
          <a:blip r:embed="rId1"/>
          <a:stretch/>
        </p:blipFill>
        <p:spPr>
          <a:xfrm>
            <a:off x="5286240" y="3000240"/>
            <a:ext cx="3583080" cy="257184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4"/>
          <p:cNvSpPr/>
          <p:nvPr/>
        </p:nvSpPr>
        <p:spPr>
          <a:xfrm>
            <a:off x="533520" y="152388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5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.Предположения о героях, теме, содержании по фамилии автора, заглавию, иллюстра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3AE0-C514-4BD0-B9CE-DB44992299C9}" type="slidenum">
              <a:rPr b="1" lang="ru-RU" sz="2800" spc="-1" strike="noStrike">
                <a:solidFill>
                  <a:srgbClr val="90999e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-360" y="14479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5000"/>
          </a:bodyPr>
          <a:p>
            <a:pPr marL="57600" indent="287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те иллюстраци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600" indent="287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, о чем пойдет речь в рассказе с таким названи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600" indent="287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дугадывания дете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600" indent="287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600" indent="287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ем текст, проверим наши предполож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5EDA-6829-4551-B510-44381480763A}" type="slidenum">
              <a:rPr b="1" lang="ru-RU" sz="2800" spc="-1" strike="noStrike">
                <a:solidFill>
                  <a:srgbClr val="90999e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3200400" cy="27273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250" name="Picture 8" descr=""/>
          <p:cNvPicPr/>
          <p:nvPr/>
        </p:nvPicPr>
        <p:blipFill>
          <a:blip r:embed="rId2"/>
          <a:stretch/>
        </p:blipFill>
        <p:spPr>
          <a:xfrm>
            <a:off x="5638680" y="3733920"/>
            <a:ext cx="3200400" cy="29192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483048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елка, волк, хотел съесть, отчего веселы, мы добры.</a:t>
            </a:r>
            <a:br>
              <a:rPr sz="2500"/>
            </a:br>
            <a:endParaRPr b="1" lang="en-US" sz="2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1228680" y="533520"/>
            <a:ext cx="62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.Н.Толстой «Белка и волк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503280" y="529920"/>
            <a:ext cx="8183520" cy="541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Белка и волк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  </a:t>
            </a: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Белка прыгала с ветки на ветку и упала прямо на сонного волка. Волк вскочил и хотел её съесть. Белка стала просить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- Пусти ме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  </a:t>
            </a: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Волк сказал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- Хорошо, я пущу тебя, только ты скажи мне, отчего вы, белки, так веселы. Мне всегда скучно, а на вас смотришь, вы  там вверху всё играете и прыга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  </a:t>
            </a: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Белка сказал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- Пусти меня прежде на дерево, а оттуда тебе скажу, а то боюсь теб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  </a:t>
            </a: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Волк пустил, а белка ушла на дерево и оттуда сказал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- Тебе оттого скучно, что ты зол. Тебе злость сердце жжёт. А мы веселы оттого, что мы добры и никому зла не дела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304776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6120" indent="5198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заглавливание част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0" y="57168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-работа с текстом во время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5" descr="2.jpg"/>
          <p:cNvPicPr/>
          <p:nvPr/>
        </p:nvPicPr>
        <p:blipFill>
          <a:blip r:embed="rId1"/>
          <a:stretch/>
        </p:blipFill>
        <p:spPr>
          <a:xfrm>
            <a:off x="5486400" y="3048120"/>
            <a:ext cx="3200400" cy="295416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428760" y="1214280"/>
            <a:ext cx="810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52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амостоятельное чтение с целью проверки своих предпо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380880" y="1905120"/>
            <a:ext cx="800100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52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Чтение вслух по предложениям или небольшим абзацам с комментариями. По ходу чтения учитель задает уточняющие вопросы на по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449E-EAB8-4408-8EC1-12598BF677E5}" type="slidenum">
              <a:rPr b="1" lang="ru-RU" sz="2800" spc="-1" strike="noStrike">
                <a:solidFill>
                  <a:srgbClr val="90999e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609480" y="35812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еречитывание текста медленное, вдумчи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0"/>
          <p:cNvSpPr/>
          <p:nvPr/>
        </p:nvSpPr>
        <p:spPr>
          <a:xfrm>
            <a:off x="685800" y="44197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Обобщение прочитанного. Постановка к тексту обобщающих вопр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693000" y="556272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иалог с ав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18352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2d1c"/>
                </a:solidFill>
                <a:latin typeface="Verdana"/>
              </a:rPr>
              <a:t>Белка стала просить:</a:t>
            </a:r>
            <a:br>
              <a:rPr sz="1800"/>
            </a:br>
            <a:r>
              <a:rPr b="0" lang="ru-RU" sz="1800" spc="-1" strike="noStrike">
                <a:solidFill>
                  <a:srgbClr val="712d1c"/>
                </a:solidFill>
                <a:latin typeface="Verdana"/>
              </a:rPr>
              <a:t>- Пусти меня.</a:t>
            </a:r>
            <a:br>
              <a:rPr sz="1800"/>
            </a:br>
            <a:r>
              <a:rPr b="0" lang="ru-RU" sz="1800" spc="-1" strike="noStrike">
                <a:solidFill>
                  <a:srgbClr val="712d1c"/>
                </a:solidFill>
                <a:latin typeface="Verdana"/>
              </a:rPr>
              <a:t>  Волк сказал:</a:t>
            </a:r>
            <a:br>
              <a:rPr sz="1800"/>
            </a:br>
            <a:r>
              <a:rPr b="0" lang="ru-RU" sz="1800" spc="-1" strike="noStrike">
                <a:solidFill>
                  <a:srgbClr val="712d1c"/>
                </a:solidFill>
                <a:latin typeface="Verdana"/>
              </a:rPr>
              <a:t>- Хорошо, я пущу тебя, только ты скажи мне, отчего вы, белки, так веселы. Мне всегда скучно, а на вас смотришь, вы  там вверху всё играете и прыгаете.</a:t>
            </a:r>
            <a:br>
              <a:rPr sz="1800"/>
            </a:br>
            <a:r>
              <a:rPr b="0" lang="ru-RU" sz="1800" spc="-1" strike="noStrike">
                <a:solidFill>
                  <a:srgbClr val="712d1c"/>
                </a:solidFill>
                <a:latin typeface="Verdana"/>
              </a:rPr>
              <a:t>  Белка сказала:</a:t>
            </a:r>
            <a:br>
              <a:rPr sz="1800"/>
            </a:br>
            <a:r>
              <a:rPr b="0" lang="ru-RU" sz="1800" spc="-1" strike="noStrike">
                <a:solidFill>
                  <a:srgbClr val="712d1c"/>
                </a:solidFill>
                <a:latin typeface="Verdana"/>
              </a:rPr>
              <a:t>- Пусти меня прежде на дерево, а оттуда тебе скажу, а то боюсь тебя.</a:t>
            </a:r>
            <a:endParaRPr b="1" lang="en-US" sz="1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03280" y="530280"/>
            <a:ext cx="8183520" cy="1069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712d1c"/>
                </a:solidFill>
                <a:latin typeface="Verdana"/>
              </a:rPr>
              <a:t>Белка прыгала с ветки на ветку и упала прямо на сонного волка. Волк вскочил и хотел её съе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457200" y="47242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2d1c"/>
                </a:solidFill>
                <a:latin typeface="Verdana"/>
              </a:rPr>
              <a:t>Волк пустил, а белка ушла на дерево и оттуда сказ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2d1c"/>
                </a:solidFill>
                <a:latin typeface="Verdana"/>
              </a:rPr>
              <a:t>- Тебе оттого скучно, что ты зол. Тебе злость сердце жжёт. А мы веселы оттого, что мы добры и никому зла не дел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 с автором- это естественная беседа через текст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13840" y="1935000"/>
            <a:ext cx="8472600" cy="378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480" indent="442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прием комментированного чт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480" indent="442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звучивают текст дети, а комментирует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480" indent="442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ветствуются также и детские сужд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480" indent="442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мментарий должен быть кратким и динамичны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480" indent="442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омментарий не должен превращаться в бес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480" indent="442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омментируем в том месте, где это действительно нуж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480" indent="442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7DFA-9238-49DC-846F-43455025096A}" type="slidenum">
              <a:rPr b="1" lang="ru-RU" sz="2800" spc="-1" strike="noStrike">
                <a:solidFill>
                  <a:srgbClr val="90999e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User</cp:lastModifiedBy>
  <dcterms:modified xsi:type="dcterms:W3CDTF">2015-10-06T11:44:04Z</dcterms:modified>
  <cp:revision>130</cp:revision>
  <dc:subject/>
  <dc:title>Слайд 1</dc:title>
</cp:coreProperties>
</file>