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5C249-7EB0-4016-A1C4-348C08CB5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8A730-F7B5-40BB-AA37-6617C5EDC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5E178-B360-44EE-858A-F7BAA6D4A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EB7A0-BC09-4574-8E37-7CBA8E799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7CB25-AB5C-4EBE-A4DC-B360857DF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D811C-5747-4D31-85FD-31BEC226F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37C76-73E1-41A5-AE73-F86A82D32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8BCE3-5599-4D7F-8495-F57D755E8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E9050-C86D-41EA-B6D7-83B104FE2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84A30-3858-40AB-BA05-AE32D77CA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C348C-C464-45FD-A2B6-A3D71DA45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DD652-593A-4C83-8502-FE94B345A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7C96A-38B8-4088-A970-875B6903D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F7A51-07EF-4E7F-9E2E-DA4BF0839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FCF53-2F3D-41F6-8970-627A617A4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86477-8C40-4538-87A2-C03A34AE5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30AA2-5C7F-4995-AA05-EC0469C9F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AE38B-DEB5-4E19-BF25-679507DF8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D94D0-1B5E-4026-97E7-88A887FB0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BB1C9-1C9D-44AA-918C-0FDE32745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72313-9A77-4AF3-BFEC-D289153BB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EFDEB-B1E0-4B36-887C-08F97B6B2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D0C8E-FE83-477D-9BE8-AB772DE4D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1DBD-7894-48CD-94DA-263A027FC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2B58-F93A-4409-A797-CF43689E4B2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918E-0610-42BA-AFB8-FC93130D1BD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304560"/>
            <a:ext cx="72392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66"/>
                </a:solidFill>
                <a:latin typeface="Arial"/>
              </a:rPr>
              <a:t>МОУ « СОШ с. Усть- Курдюм Саратовского района Саратовской области»</a:t>
            </a:r>
            <a:br>
              <a:rPr sz="2000"/>
            </a:br>
            <a:br>
              <a:rPr sz="2000"/>
            </a:br>
            <a:endParaRPr b="0" lang="en-US" sz="2000" spc="-1" strike="noStrike">
              <a:solidFill>
                <a:srgbClr val="006666"/>
              </a:solidFill>
              <a:latin typeface="Arial"/>
            </a:endParaRPr>
          </a:p>
        </p:txBody>
      </p:sp>
      <p:sp>
        <p:nvSpPr>
          <p:cNvPr id="91" name="PlaceHolder 2"/>
          <p:cNvSpPr>
            <a:spLocks noGrp="1"/>
          </p:cNvSpPr>
          <p:nvPr>
            <p:ph type="subTitle"/>
          </p:nvPr>
        </p:nvSpPr>
        <p:spPr>
          <a:xfrm>
            <a:off x="1442520" y="1752120"/>
            <a:ext cx="7239240" cy="350532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Проектная работа </a:t>
            </a:r>
            <a:endParaRPr b="0" lang="en-US" sz="2900" spc="-1" strike="noStrike">
              <a:solidFill>
                <a:srgbClr val="000000"/>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Фитотерапия»</a:t>
            </a:r>
            <a:endParaRPr b="0" lang="en-US" sz="4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r>
              <a:rPr b="0" lang="ru-RU" sz="2000" spc="-1" strike="noStrike">
                <a:solidFill>
                  <a:srgbClr val="000000"/>
                </a:solidFill>
                <a:latin typeface="Verdana"/>
              </a:rPr>
              <a:t>Работу выполнила</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ученица  9 класса</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Потявина Дарья</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r>
              <a:rPr b="0" lang="ru-RU" sz="2000" spc="-1" strike="noStrike">
                <a:solidFill>
                  <a:srgbClr val="000000"/>
                </a:solidFill>
                <a:latin typeface="Verdana"/>
              </a:rPr>
              <a:t>Учитель биологии Горбунова В.В.</a:t>
            </a:r>
            <a:endParaRPr b="0" lang="en-US" sz="2000" spc="-1" strike="noStrike">
              <a:solidFill>
                <a:srgbClr val="000000"/>
              </a:solidFill>
              <a:latin typeface="Verdan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2015 год</a:t>
            </a:r>
            <a:endParaRPr b="0" lang="en-US" sz="20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азвитие народной медицины в России.</a:t>
            </a: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разностороннего изучения лекарственных трав и выявления высокоценных видов в составе флоры страны в 1931г. был организован Научно-исследовательский институт лекарственных и ароматических растений. До 1941г. большую работу по дикорастущим и культивируемым лекарственным растениям проводил Всесоюзный институт растениеводства (ВИР), организованный в 1922г.</a:t>
            </a:r>
            <a:endParaRPr b="0" lang="en-US" sz="20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результате систематической и планомерной работы отечественных ботаников, растениеводов, фармакогностиков, химиков и фармакологов лекарственный ассортимент пополнился рядом новых средств растительного происхождения. Современная отечественная медицина использует около 250 видов лекарственных растений. Кроме того, известно еще много других целебных трав, не пользующихся вниманием научной медицины в связи с их недостаточной изученностью</a:t>
            </a:r>
            <a:r>
              <a:rPr b="0" lang="ru-RU" sz="1800" spc="-1" strike="noStrike">
                <a:solidFill>
                  <a:srgbClr val="000000"/>
                </a:solidFill>
                <a:latin typeface="Verdana"/>
              </a:rPr>
              <a:t>.</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Книги о травах и их применении, написанные русскими учеными.</a:t>
            </a:r>
            <a:endParaRPr b="0" lang="en-US" sz="32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fontScale="94000"/>
          </a:bodyPr>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конце 18-начале 19в. взрос интерес к отечественным лекарственным растениям. Н.М. Амбодик-Максимович опубликовал свой многотомный труд «Врачебное веществословие» с описанием и красочными зарисовками многих лекарственных растений. Русский агроном и публицист А.Т. Болотов в  издаваемом им журнале «Экономический магазин» поместил около 500 статей о применении лекарственных растений.</a:t>
            </a:r>
            <a:endParaRPr b="0" lang="en-US" sz="2400" spc="-1" strike="noStrike">
              <a:solidFill>
                <a:srgbClr val="000000"/>
              </a:solidFill>
              <a:latin typeface="Verdan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1817г. издан в трех частях «Русский лечебный травник» И. Кашинского, содержащий перечень отечественных лекарственных растений, своими качествами заменяющих иноземные и употребляемых для лечения внутренних и наружных заболеваний. </a:t>
            </a:r>
            <a:endParaRPr b="0" lang="en-US" sz="2400" spc="-1" strike="noStrike">
              <a:solidFill>
                <a:srgbClr val="000000"/>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Книги о травах и их применении, написанные русскими учеными</a:t>
            </a:r>
            <a:endParaRPr b="0" lang="en-US" sz="32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Ценной книгой было изданное в 1888-1890гг. сочинение в двух томах профессора Московского университета В.А. Тихомирова «Руководство к изучению фармакогнезии».</a:t>
            </a:r>
            <a:endParaRPr b="0" lang="en-US" sz="2400" spc="-1" strike="noStrike">
              <a:solidFill>
                <a:srgbClr val="000000"/>
              </a:solidFill>
              <a:latin typeface="Verdana"/>
            </a:endParaRPr>
          </a:p>
          <a:p>
            <a:pPr marL="343080" indent="-343080" algn="just">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 потеряла своего значения до  сих пор книга профессора Военно-медицинской академии В.К. Варлиха «Русские лекарственные растения. Атлас и ботаническое описание».</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17" name="PlaceHolder 2"/>
          <p:cNvSpPr>
            <a:spLocks noGrp="1"/>
          </p:cNvSpPr>
          <p:nvPr>
            <p:ph/>
          </p:nvPr>
        </p:nvSpPr>
        <p:spPr>
          <a:xfrm>
            <a:off x="4343400" y="1752480"/>
            <a:ext cx="4340160" cy="51055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Times New Roman"/>
                <a:ea typeface="Times New Roman"/>
              </a:rPr>
              <a:t>Алоэ</a:t>
            </a:r>
            <a:r>
              <a:rPr b="0" lang="ru-RU" sz="1800" spc="-1" strike="noStrike" u="sng">
                <a:solidFill>
                  <a:srgbClr val="000000"/>
                </a:solidFill>
                <a:uFillTx/>
                <a:latin typeface="Times New Roman"/>
                <a:ea typeface="Times New Roman"/>
              </a:rPr>
              <a:t>.</a:t>
            </a:r>
            <a:r>
              <a:rPr b="0" lang="ru-RU" sz="1800" spc="-1" strike="noStrike">
                <a:solidFill>
                  <a:srgbClr val="000000"/>
                </a:solidFill>
                <a:latin typeface="Times New Roman"/>
                <a:ea typeface="Times New Roman"/>
              </a:rPr>
              <a:t> Для лечения используют сок листьев многолетнего растения. Обладает стимулирующими свойствами на весь организм. Используется как внутрь, так и наружно. </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личные препараты алоэ применяют при заболеваниях желудочно-кишечного тракта, для лечения гастритов, язвенной болезни желудка и двенадцатиперстной кишки, при бронхиальной астме, туберкулезе легких и гипохромной анемии. </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глазной практике алоэ используют при лечении блефарита, конъюктивита, кератита, помутнения стекловидного тела, прогрессирующей близорукости.</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оме того, для лечения ожогов, длительно незаживающих ран и язв, при лучевых поражениях кожии воспалительных заболеваний полости рт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8" name="Picture 11" descr="IMG_1469"/>
          <p:cNvPicPr/>
          <p:nvPr/>
        </p:nvPicPr>
        <p:blipFill>
          <a:blip r:embed="rId1"/>
          <a:stretch/>
        </p:blipFill>
        <p:spPr>
          <a:xfrm>
            <a:off x="228600" y="1905120"/>
            <a:ext cx="3809880" cy="4495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20" name="PlaceHolder 2"/>
          <p:cNvSpPr>
            <a:spLocks noGrp="1"/>
          </p:cNvSpPr>
          <p:nvPr>
            <p:ph/>
          </p:nvPr>
        </p:nvSpPr>
        <p:spPr>
          <a:xfrm>
            <a:off x="4343040" y="1600200"/>
            <a:ext cx="426708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Боярышник</a:t>
            </a:r>
            <a:r>
              <a:rPr b="0" lang="ru-RU" sz="2400" spc="-1" strike="noStrike">
                <a:solidFill>
                  <a:srgbClr val="000000"/>
                </a:solidFill>
                <a:latin typeface="Times New Roman"/>
                <a:ea typeface="Times New Roman"/>
              </a:rPr>
              <a:t>. Для лечения собирают плоды и цветки кустарника. Готовят настой, экстракт, настойки и отвары, в которых содержится тритерпеновые кислоты. Эти вещества оказывают положительное воздействие на улучшение, активизацию мозгового кровообращения, работу сердца.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1" name="Picture 7" descr="IMG_1468"/>
          <p:cNvPicPr/>
          <p:nvPr/>
        </p:nvPicPr>
        <p:blipFill>
          <a:blip r:embed="rId1"/>
          <a:stretch/>
        </p:blipFill>
        <p:spPr>
          <a:xfrm>
            <a:off x="304920" y="1752480"/>
            <a:ext cx="3882960" cy="423396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23" name="PlaceHolder 2"/>
          <p:cNvSpPr>
            <a:spLocks noGrp="1"/>
          </p:cNvSpPr>
          <p:nvPr>
            <p:ph/>
          </p:nvPr>
        </p:nvSpPr>
        <p:spPr>
          <a:xfrm>
            <a:off x="4038480" y="1600200"/>
            <a:ext cx="4572000" cy="50292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Валериана.</a:t>
            </a:r>
            <a:r>
              <a:rPr b="0" lang="ru-RU" sz="20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Чрезвычайно популярное в народе растение. Для приготовления лекарственных средств используют корень, корневища валерианы. Из них готовят насыщенный экстракт, из которого затем делают самые разные лекарства, в частности валидол, камфорно-валериановые капли валокормид. Препараты из нее исцеляют недуги сердца, а так же применяют как успокаивающие средство.</a:t>
            </a:r>
            <a:endParaRPr b="0"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4" name="Picture 7" descr="IMG_1470"/>
          <p:cNvPicPr/>
          <p:nvPr/>
        </p:nvPicPr>
        <p:blipFill>
          <a:blip r:embed="rId1"/>
          <a:stretch/>
        </p:blipFill>
        <p:spPr>
          <a:xfrm>
            <a:off x="304920" y="1828800"/>
            <a:ext cx="3317760" cy="434340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26" name="PlaceHolder 2"/>
          <p:cNvSpPr>
            <a:spLocks noGrp="1"/>
          </p:cNvSpPr>
          <p:nvPr>
            <p:ph/>
          </p:nvPr>
        </p:nvSpPr>
        <p:spPr>
          <a:xfrm>
            <a:off x="4495320" y="1676160"/>
            <a:ext cx="4343400" cy="4647960"/>
          </a:xfrm>
          <a:prstGeom prst="rect">
            <a:avLst/>
          </a:prstGeom>
          <a:noFill/>
          <a:ln w="0">
            <a:noFill/>
          </a:ln>
        </p:spPr>
        <p:txBody>
          <a:bodyPr anchor="t">
            <a:normAutofit fontScale="91000"/>
          </a:bodyPr>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Крапива (двудомная или жгучая).</a:t>
            </a:r>
            <a:r>
              <a:rPr b="0" lang="ru-RU" sz="2400" spc="-1" strike="noStrike">
                <a:solidFill>
                  <a:srgbClr val="000000"/>
                </a:solidFill>
                <a:latin typeface="Times New Roman"/>
                <a:ea typeface="Times New Roman"/>
              </a:rPr>
              <a:t> Очень популярная лечебная травка, богатая всевозможными витаминами, минеральными солями. Обладает вяжущим, сокогонным свойством. Используют при лечении недугов желчного пузыря, мочевыводящих путей. Крапива имеет в составе препарата аллохол. Ее также включают в состав витаминных сборов трав, а также желудочного, противогеиорроидального сборов</a:t>
            </a:r>
            <a:r>
              <a:rPr b="0" lang="ru-RU" sz="2000" spc="-1" strike="noStrike">
                <a:solidFill>
                  <a:srgbClr val="000000"/>
                </a:solidFill>
                <a:latin typeface="Times New Roman"/>
                <a:ea typeface="Times New Roman"/>
              </a:rPr>
              <a:t>.</a:t>
            </a:r>
            <a:endParaRPr b="0" lang="en-US" sz="2000" spc="-1" strike="noStrike">
              <a:solidFill>
                <a:srgbClr val="000000"/>
              </a:solidFill>
              <a:latin typeface="Verdana"/>
            </a:endParaRPr>
          </a:p>
        </p:txBody>
      </p:sp>
      <p:pic>
        <p:nvPicPr>
          <p:cNvPr id="127" name="Picture 9" descr="IMG_1471"/>
          <p:cNvPicPr/>
          <p:nvPr/>
        </p:nvPicPr>
        <p:blipFill>
          <a:blip r:embed="rId1"/>
          <a:stretch/>
        </p:blipFill>
        <p:spPr>
          <a:xfrm>
            <a:off x="304920" y="1676520"/>
            <a:ext cx="3809880" cy="457200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29" name="PlaceHolder 2"/>
          <p:cNvSpPr>
            <a:spLocks noGrp="1"/>
          </p:cNvSpPr>
          <p:nvPr>
            <p:ph/>
          </p:nvPr>
        </p:nvSpPr>
        <p:spPr>
          <a:xfrm>
            <a:off x="4495320" y="1828800"/>
            <a:ext cx="4187880" cy="44956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Ландыш майский.</a:t>
            </a:r>
            <a:r>
              <a:rPr b="0" lang="ru-RU" sz="2400" spc="-1" strike="noStrike">
                <a:solidFill>
                  <a:srgbClr val="000000"/>
                </a:solidFill>
                <a:latin typeface="Times New Roman"/>
                <a:ea typeface="Times New Roman"/>
              </a:rPr>
              <a:t> Для лечения использую экстракты, спиртовые настойки на основе травы, листьев ландыша. Главным образом растение применяют для лечения сердца. Готовят такие популярные препараты, как конвазид, коргликон, конваллотоксин и т.д. Очень популярны сердечные капли на основе ландыша, которыми лечат сердечные неврозы.</a:t>
            </a:r>
            <a:endParaRPr b="0" lang="en-US" sz="2400" spc="-1" strike="noStrike">
              <a:solidFill>
                <a:srgbClr val="000000"/>
              </a:solidFill>
              <a:latin typeface="Verdana"/>
            </a:endParaRPr>
          </a:p>
        </p:txBody>
      </p:sp>
      <p:pic>
        <p:nvPicPr>
          <p:cNvPr id="130" name="Picture 9" descr="IMG_1472"/>
          <p:cNvPicPr/>
          <p:nvPr/>
        </p:nvPicPr>
        <p:blipFill>
          <a:blip r:embed="rId1"/>
          <a:stretch/>
        </p:blipFill>
        <p:spPr>
          <a:xfrm>
            <a:off x="533520" y="2133720"/>
            <a:ext cx="3504960" cy="419076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32" name="PlaceHolder 2"/>
          <p:cNvSpPr>
            <a:spLocks noGrp="1"/>
          </p:cNvSpPr>
          <p:nvPr>
            <p:ph/>
          </p:nvPr>
        </p:nvSpPr>
        <p:spPr>
          <a:xfrm>
            <a:off x="4114440" y="1828800"/>
            <a:ext cx="4568760" cy="464832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Лопух (репейник).</a:t>
            </a:r>
            <a:r>
              <a:rPr b="0" lang="ru-RU" sz="2400" spc="-1" strike="noStrike">
                <a:solidFill>
                  <a:srgbClr val="000000"/>
                </a:solidFill>
                <a:latin typeface="Times New Roman"/>
                <a:ea typeface="Times New Roman"/>
              </a:rPr>
              <a:t> Из семян растения готовят масло, которое обладает ранозаживляющим действием. Из корня лопуха делают настои, отвары, которые потом применяют как целебное средство для лечения пищеварения, для исцеления мочевыводящих путей, мочевого пузыря</a:t>
            </a:r>
            <a:r>
              <a:rPr b="0" lang="ru-RU" sz="2100" spc="-1" strike="noStrike">
                <a:solidFill>
                  <a:srgbClr val="000000"/>
                </a:solidFill>
                <a:latin typeface="Verdana"/>
              </a:rPr>
              <a:t>. </a:t>
            </a:r>
            <a:endParaRPr b="0" lang="en-US" sz="2100" spc="-1" strike="noStrike">
              <a:solidFill>
                <a:srgbClr val="000000"/>
              </a:solidFill>
              <a:latin typeface="Verdana"/>
            </a:endParaRPr>
          </a:p>
        </p:txBody>
      </p:sp>
      <p:pic>
        <p:nvPicPr>
          <p:cNvPr id="133" name="Picture 7" descr="IMG_1473"/>
          <p:cNvPicPr/>
          <p:nvPr/>
        </p:nvPicPr>
        <p:blipFill>
          <a:blip r:embed="rId1"/>
          <a:stretch/>
        </p:blipFill>
        <p:spPr>
          <a:xfrm>
            <a:off x="304920" y="2133720"/>
            <a:ext cx="3492360" cy="394956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35" name="PlaceHolder 2"/>
          <p:cNvSpPr>
            <a:spLocks noGrp="1"/>
          </p:cNvSpPr>
          <p:nvPr>
            <p:ph/>
          </p:nvPr>
        </p:nvSpPr>
        <p:spPr>
          <a:xfrm>
            <a:off x="4495320" y="1752480"/>
            <a:ext cx="4187880" cy="41896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Пустырник.</a:t>
            </a:r>
            <a:r>
              <a:rPr b="0" lang="ru-RU" sz="2400" spc="-1" strike="noStrike">
                <a:solidFill>
                  <a:srgbClr val="000000"/>
                </a:solidFill>
                <a:latin typeface="Times New Roman"/>
                <a:ea typeface="Times New Roman"/>
              </a:rPr>
              <a:t> Для лечения вегетативно-сосудистой дистонии, а также качестве успокаивающего средства применят спиртовую настойку пустырника, свежевыжатый сок растения.</a:t>
            </a:r>
            <a:endParaRPr b="0" lang="en-US" sz="2400" spc="-1" strike="noStrike">
              <a:solidFill>
                <a:srgbClr val="000000"/>
              </a:solidFill>
              <a:latin typeface="Verdana"/>
            </a:endParaRPr>
          </a:p>
        </p:txBody>
      </p:sp>
      <p:pic>
        <p:nvPicPr>
          <p:cNvPr id="136" name="Picture 7" descr="IMG_1474"/>
          <p:cNvPicPr/>
          <p:nvPr/>
        </p:nvPicPr>
        <p:blipFill>
          <a:blip r:embed="rId1"/>
          <a:stretch/>
        </p:blipFill>
        <p:spPr>
          <a:xfrm>
            <a:off x="762120" y="1981080"/>
            <a:ext cx="3078000" cy="365760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837720"/>
            <a:ext cx="7310520" cy="77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66"/>
                </a:solidFill>
                <a:latin typeface="Arial"/>
              </a:rPr>
              <a:t>Фитотерапия (траволечение) – метод лечения различных заболеваний человека, основанный на использовании лекарственных растений и комплексных препаратов из них.</a:t>
            </a:r>
            <a:endParaRPr b="0" lang="en-US" sz="2400" spc="-1" strike="noStrike">
              <a:solidFill>
                <a:srgbClr val="006666"/>
              </a:solidFill>
              <a:latin typeface="Arial"/>
            </a:endParaRPr>
          </a:p>
        </p:txBody>
      </p:sp>
      <p:sp>
        <p:nvSpPr>
          <p:cNvPr id="93" name="PlaceHolder 2"/>
          <p:cNvSpPr>
            <a:spLocks noGrp="1"/>
          </p:cNvSpPr>
          <p:nvPr>
            <p:ph/>
          </p:nvPr>
        </p:nvSpPr>
        <p:spPr>
          <a:xfrm>
            <a:off x="4419720" y="1828440"/>
            <a:ext cx="4263840" cy="472428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2000" spc="-1" strike="noStrike">
                <a:solidFill>
                  <a:srgbClr val="000000"/>
                </a:solidFill>
                <a:latin typeface="Times New Roman"/>
                <a:ea typeface="Times New Roman"/>
              </a:rPr>
              <a:t>Методики переработки растений для получения «фитопрепаратов» ориентированы не на выделение действующего вещества, а на сохранение всего комплекса активных веществ растения в наиболее простых и приблеженных к естественным формам. В связи с этим фитотерапия рассматривается как часть нетрадиционной медицины, один из разделов натуропатии. В общепринятой медицине раздел, изучающий лечение природными веществами, включая растения и растительные экстракты, называется фармакогнозией.</a:t>
            </a:r>
            <a:endParaRPr b="0" lang="en-US" sz="2000" spc="-1" strike="noStrike">
              <a:solidFill>
                <a:srgbClr val="000000"/>
              </a:solidFill>
              <a:latin typeface="Verdana"/>
            </a:endParaRPr>
          </a:p>
        </p:txBody>
      </p:sp>
      <p:pic>
        <p:nvPicPr>
          <p:cNvPr id="94" name="Picture 5" descr="IMG_1466"/>
          <p:cNvPicPr/>
          <p:nvPr/>
        </p:nvPicPr>
        <p:blipFill>
          <a:blip r:embed="rId1"/>
          <a:stretch/>
        </p:blipFill>
        <p:spPr>
          <a:xfrm>
            <a:off x="457200" y="1828800"/>
            <a:ext cx="3579840" cy="441972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38" name="PlaceHolder 2"/>
          <p:cNvSpPr>
            <a:spLocks noGrp="1"/>
          </p:cNvSpPr>
          <p:nvPr>
            <p:ph/>
          </p:nvPr>
        </p:nvSpPr>
        <p:spPr>
          <a:xfrm>
            <a:off x="4495320" y="1752480"/>
            <a:ext cx="4187880" cy="4648320"/>
          </a:xfrm>
          <a:prstGeom prst="rect">
            <a:avLst/>
          </a:prstGeom>
          <a:noFill/>
          <a:ln w="0">
            <a:noFill/>
          </a:ln>
        </p:spPr>
        <p:txBody>
          <a:bodyPr anchor="t">
            <a:normAutofit fontScale="99000"/>
          </a:bodyPr>
          <a:p>
            <a:pPr marL="3394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Ромашка.</a:t>
            </a:r>
            <a:r>
              <a:rPr b="0" lang="ru-RU" sz="2400" spc="-1" strike="noStrike">
                <a:solidFill>
                  <a:srgbClr val="000000"/>
                </a:solidFill>
                <a:latin typeface="Times New Roman"/>
                <a:ea typeface="Times New Roman"/>
              </a:rPr>
              <a:t> Очень популярное растение применяется в качестве спазмолитика при лечении органов пищеварения. Кроме того растения поможет подлечить нервы, унять зубную боль и др. Лечебным сырьем являются листки. Их используют как внутренне, так и наружно, готовят настои, отвары для полоскания, также применяют в косметологии</a:t>
            </a:r>
            <a:r>
              <a:rPr b="0" lang="ru-RU" sz="1900" spc="-1" strike="noStrike">
                <a:solidFill>
                  <a:srgbClr val="000000"/>
                </a:solidFill>
                <a:latin typeface="Verdana"/>
              </a:rPr>
              <a:t>.  </a:t>
            </a:r>
            <a:endParaRPr b="0" lang="en-US" sz="1900" spc="-1" strike="noStrike">
              <a:solidFill>
                <a:srgbClr val="000000"/>
              </a:solidFill>
              <a:latin typeface="Verdana"/>
            </a:endParaRPr>
          </a:p>
        </p:txBody>
      </p:sp>
      <p:pic>
        <p:nvPicPr>
          <p:cNvPr id="139" name="Picture 9" descr="IMG_1475"/>
          <p:cNvPicPr/>
          <p:nvPr/>
        </p:nvPicPr>
        <p:blipFill>
          <a:blip r:embed="rId1"/>
          <a:stretch/>
        </p:blipFill>
        <p:spPr>
          <a:xfrm>
            <a:off x="152280" y="1828800"/>
            <a:ext cx="3843360" cy="426708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4.Противопоказания:</a:t>
            </a:r>
            <a:endParaRPr b="0" lang="en-US" sz="3600" spc="-1" strike="noStrike">
              <a:solidFill>
                <a:srgbClr val="006666"/>
              </a:solidFill>
              <a:latin typeface="Arial"/>
            </a:endParaRPr>
          </a:p>
        </p:txBody>
      </p:sp>
      <p:sp>
        <p:nvSpPr>
          <p:cNvPr id="141" name="PlaceHolder 2"/>
          <p:cNvSpPr>
            <a:spLocks noGrp="1"/>
          </p:cNvSpPr>
          <p:nvPr>
            <p:ph/>
          </p:nvPr>
        </p:nvSpPr>
        <p:spPr>
          <a:xfrm>
            <a:off x="1369800" y="1827000"/>
            <a:ext cx="7313400" cy="4725720"/>
          </a:xfrm>
          <a:prstGeom prst="rect">
            <a:avLst/>
          </a:prstGeom>
          <a:noFill/>
          <a:ln w="0">
            <a:noFill/>
          </a:ln>
        </p:spPr>
        <p:txBody>
          <a:bodyPr anchor="t">
            <a:normAutofit/>
          </a:bodyPr>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Алоэ.</a:t>
            </a:r>
            <a:r>
              <a:rPr b="0" lang="ru-RU" sz="2000" spc="-1" strike="noStrike">
                <a:solidFill>
                  <a:srgbClr val="000000"/>
                </a:solidFill>
                <a:latin typeface="Times New Roman"/>
                <a:ea typeface="Times New Roman"/>
              </a:rPr>
              <a:t> Противопоказан при заболеваниях печени, желчного пузыря, воспалении мочевого пузыря, гипертонии при тяжелых сердечнососудистых заболеваниях, а также во время беременности.</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Боярышник.</a:t>
            </a:r>
            <a:r>
              <a:rPr b="0" lang="ru-RU" sz="2000" spc="-1" strike="noStrike">
                <a:solidFill>
                  <a:srgbClr val="000000"/>
                </a:solidFill>
                <a:latin typeface="Times New Roman"/>
                <a:ea typeface="Times New Roman"/>
              </a:rPr>
              <a:t> Противопоказан при беременности и индивидуальной непереносимости. </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Валериана.</a:t>
            </a:r>
            <a:r>
              <a:rPr b="0" lang="ru-RU" sz="2000" spc="-1" strike="noStrike">
                <a:solidFill>
                  <a:srgbClr val="000000"/>
                </a:solidFill>
                <a:latin typeface="Times New Roman"/>
                <a:ea typeface="Times New Roman"/>
              </a:rPr>
              <a:t> Строго противопоказан  прием препаратов при гипертонии и энтероколите, также следует помнить, что не рекомендуется принимать валериану при угрозе инсульта или инфаркта, потому что она способствует повышению свертываемости крови.</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Крапива (двудомная или жгучая</a:t>
            </a:r>
            <a:r>
              <a:rPr b="0" lang="ru-RU" sz="2000" spc="-1" strike="noStrike">
                <a:solidFill>
                  <a:srgbClr val="000000"/>
                </a:solidFill>
                <a:latin typeface="Times New Roman"/>
                <a:ea typeface="Times New Roman"/>
              </a:rPr>
              <a:t>). Крапиву, да и все другие растения, повышающие свертываемость крови, людям с наклонностью к тромбозам употреблять следует в ограниченном количестве. Противопоказана крапива также при беременности и лицам, страдающим гипертонической болезнью.</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4.Противопоказания:</a:t>
            </a:r>
            <a:endParaRPr b="0" lang="en-US" sz="36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Ландыш майский.</a:t>
            </a:r>
            <a:r>
              <a:rPr b="0" lang="ru-RU" sz="2000" spc="-1" strike="noStrike">
                <a:solidFill>
                  <a:srgbClr val="000000"/>
                </a:solidFill>
                <a:latin typeface="Times New Roman"/>
                <a:ea typeface="Times New Roman"/>
              </a:rPr>
              <a:t> Противопоказан при острых болезнях печени и почек, миокарде в острой фазе, заболеваниях ЖКТ, эндокардите, резких органических изменениях сердца или сосудов, выраженном кардиосклерозе.</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Лопух (репейник).</a:t>
            </a:r>
            <a:r>
              <a:rPr b="0" lang="ru-RU" sz="2000" spc="-1" strike="noStrike">
                <a:solidFill>
                  <a:srgbClr val="000000"/>
                </a:solidFill>
                <a:latin typeface="Times New Roman"/>
                <a:ea typeface="Times New Roman"/>
              </a:rPr>
              <a:t> К противопоказаниям для применения лопуха относятся: беременность, период кормления грудью, колиты, индивидуальная непереносимость.</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Пустырник.</a:t>
            </a:r>
            <a:r>
              <a:rPr b="0" lang="ru-RU" sz="2000" spc="-1" strike="noStrike">
                <a:solidFill>
                  <a:srgbClr val="000000"/>
                </a:solidFill>
                <a:latin typeface="Times New Roman"/>
                <a:ea typeface="Times New Roman"/>
              </a:rPr>
              <a:t> Противопоказан при беременности, брадикардии, артериальной гипотензии.</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машка. Противопоказана при анацидном гастрите, склонности к диарее, индивидуальной непереносимости.  </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560" y="3805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5. Вывод:</a:t>
            </a:r>
            <a:endParaRPr b="0" lang="en-US" sz="3600" spc="-1" strike="noStrike">
              <a:solidFill>
                <a:srgbClr val="006666"/>
              </a:solidFill>
              <a:latin typeface="Arial"/>
            </a:endParaRPr>
          </a:p>
        </p:txBody>
      </p:sp>
      <p:sp>
        <p:nvSpPr>
          <p:cNvPr id="145" name="PlaceHolder 2"/>
          <p:cNvSpPr>
            <a:spLocks noGrp="1"/>
          </p:cNvSpPr>
          <p:nvPr>
            <p:ph/>
          </p:nvPr>
        </p:nvSpPr>
        <p:spPr>
          <a:xfrm>
            <a:off x="685800" y="1676160"/>
            <a:ext cx="7770960" cy="4190760"/>
          </a:xfrm>
          <a:prstGeom prst="rect">
            <a:avLst/>
          </a:prstGeom>
          <a:noFill/>
          <a:ln w="0">
            <a:noFill/>
          </a:ln>
        </p:spPr>
        <p:txBody>
          <a:bodyPr anchor="t">
            <a:normAutofit fontScale="92000"/>
          </a:bodyPr>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400" spc="-1" strike="noStrike">
                <a:solidFill>
                  <a:srgbClr val="000000"/>
                </a:solidFill>
                <a:latin typeface="Times New Roman"/>
                <a:ea typeface="Times New Roman"/>
              </a:rPr>
              <a:t>Несмотря на огромные достижения медицинской науки в связи с дальнейшим развитием фармацевтической химии, создавшей бесчисленное множество эффективных препаратов, интерес к «травам здоровья» не только не снижается, но еще больше возрастает. Люди все чаще обращаются к помощи лекарственных растений, к народным снадобьям – к экологически чистому натуральному сырью. Сложный комплекс веществ, дозированных в растении природой, благотворно действует на организм в целом, повышает его сопротивляемость, активизирует обмен веществ. Лекарственные растения ускоряют заживление ран, останавливают кровотечения, лечат больное сердце, возбуждают аппетит, повышают тонус жизни. Порой они помогают и тогда, когда медицинская наука оказывается бессильной. </a:t>
            </a:r>
            <a:endParaRPr b="0" lang="en-US" sz="24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Литература:</a:t>
            </a:r>
            <a:endParaRPr b="0" lang="en-US" sz="3600" spc="-1" strike="noStrike">
              <a:solidFill>
                <a:srgbClr val="006666"/>
              </a:solidFill>
              <a:latin typeface="Arial"/>
            </a:endParaRPr>
          </a:p>
        </p:txBody>
      </p:sp>
      <p:sp>
        <p:nvSpPr>
          <p:cNvPr id="147" name=""/>
          <p:cNvSpPr txBox="1"/>
          <p:nvPr/>
        </p:nvSpPr>
        <p:spPr>
          <a:xfrm>
            <a:off x="1369800" y="1827360"/>
            <a:ext cx="7313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s://ru.wikipedia.org/wiki/</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apeuticum.ru/phitoterapy</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ww.evalar.ru ›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ww.treskunov.ru/</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лан: </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стория фитотерапии. Траволечение в Древней Греции. Развитие народной медицины в России.</a:t>
            </a:r>
            <a:endParaRPr b="0" lang="en-US" sz="2800" spc="-1" strike="noStrike">
              <a:solidFill>
                <a:srgbClr val="000000"/>
              </a:solidFill>
              <a:latin typeface="Verdana"/>
            </a:endParaRPr>
          </a:p>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ниги о травах и их применении, написанные русскими учеными.</a:t>
            </a:r>
            <a:endParaRPr b="0" lang="en-US" sz="2800" spc="-1" strike="noStrike">
              <a:solidFill>
                <a:srgbClr val="000000"/>
              </a:solidFill>
              <a:latin typeface="Verdana"/>
            </a:endParaRPr>
          </a:p>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иды трав, способы применения при различных болезнях. </a:t>
            </a:r>
            <a:endParaRPr b="0" lang="en-US" sz="2800" spc="-1" strike="noStrike">
              <a:solidFill>
                <a:srgbClr val="000000"/>
              </a:solidFill>
              <a:latin typeface="Verdana"/>
            </a:endParaRPr>
          </a:p>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тивопоказания.</a:t>
            </a:r>
            <a:endParaRPr b="0" lang="en-US" sz="2800" spc="-1" strike="noStrike">
              <a:solidFill>
                <a:srgbClr val="000000"/>
              </a:solidFill>
              <a:latin typeface="Verdana"/>
            </a:endParaRPr>
          </a:p>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вод.</a:t>
            </a:r>
            <a:endParaRPr b="0" lang="en-US" sz="28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79280" y="437760"/>
            <a:ext cx="6499080" cy="94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1. История фитотерапии.</a:t>
            </a:r>
            <a:endParaRPr b="0" lang="en-US" sz="3600" spc="-1" strike="noStrike">
              <a:solidFill>
                <a:srgbClr val="006666"/>
              </a:solidFill>
              <a:latin typeface="Arial"/>
            </a:endParaRPr>
          </a:p>
        </p:txBody>
      </p:sp>
      <p:sp>
        <p:nvSpPr>
          <p:cNvPr id="98" name="PlaceHolder 2"/>
          <p:cNvSpPr>
            <a:spLocks noGrp="1"/>
          </p:cNvSpPr>
          <p:nvPr>
            <p:ph/>
          </p:nvPr>
        </p:nvSpPr>
        <p:spPr>
          <a:xfrm>
            <a:off x="685440" y="1828440"/>
            <a:ext cx="7488360" cy="42670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400" spc="-1" strike="noStrike">
                <a:solidFill>
                  <a:srgbClr val="000000"/>
                </a:solidFill>
                <a:latin typeface="Times New Roman"/>
                <a:ea typeface="Times New Roman"/>
              </a:rPr>
              <a:t>Первые доказательства использования трав в качестве лекарств были обнаружены в результате археологических раскопок на территории сегодняшнего Ирака, в городе Шумер. Лекари из Шумера уже тогда знали, что многие растения обладают целебными свойствами, и использовали их для приготовления всевозможных настоев и порошков. Для компрессов и припарок лекари собирали иголки хвойных деревьев, молодые листья ивы. Листья тщательно высушивали, затем мололи. Порошок из растений часто смешивали с измельченными минеральными веществами и порошками животного происхождения, разбавляли пивом и вином.</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Папирус Эберса»</a:t>
            </a:r>
            <a:endParaRPr b="0" lang="en-US" sz="3600" spc="-1" strike="noStrike">
              <a:solidFill>
                <a:srgbClr val="006666"/>
              </a:solidFill>
              <a:latin typeface="Arial"/>
            </a:endParaRPr>
          </a:p>
        </p:txBody>
      </p:sp>
      <p:sp>
        <p:nvSpPr>
          <p:cNvPr id="100" name="PlaceHolder 2"/>
          <p:cNvSpPr>
            <a:spLocks noGrp="1"/>
          </p:cNvSpPr>
          <p:nvPr>
            <p:ph/>
          </p:nvPr>
        </p:nvSpPr>
        <p:spPr>
          <a:xfrm>
            <a:off x="228240" y="1600200"/>
            <a:ext cx="4722840" cy="4573440"/>
          </a:xfrm>
          <a:prstGeom prst="rect">
            <a:avLst/>
          </a:prstGeom>
          <a:noFill/>
          <a:ln w="0">
            <a:noFill/>
          </a:ln>
        </p:spPr>
        <p:txBody>
          <a:bodyPr anchor="t">
            <a:normAutofit fontScale="95000"/>
          </a:bodyPr>
          <a:p>
            <a:pPr marL="325800" indent="-32580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1972 г. в одной из фиванских гробниц найден папирус, который был куплен и расшифрован немецким египтологом Георгом Эберсом. Папирус получил название «Папирус Эберса». Это своеобразная медицинская энциклопедия древних египтян, в которой приведены рецепты для лечения заболеваний дыхательных путей, уха, горла, печени, ожогов, глазных и кожных болезней. В состав рецептов входили в основном растения и минеральные вещества, такие, как сера, сажа, глина, селитра, продукты животного происхождения. Египетским врачам были известны алоэ, анис, мята, клещевина, морской лук и многие другие растения широко применимые и в настоящее время. </a:t>
            </a:r>
            <a:endParaRPr b="0" lang="en-US" sz="2000" spc="-1" strike="noStrike">
              <a:solidFill>
                <a:srgbClr val="000000"/>
              </a:solidFill>
              <a:latin typeface="Verdan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1" name="Picture 5" descr="IMG_1467"/>
          <p:cNvPicPr/>
          <p:nvPr/>
        </p:nvPicPr>
        <p:blipFill>
          <a:blip r:embed="rId1"/>
          <a:stretch/>
        </p:blipFill>
        <p:spPr>
          <a:xfrm>
            <a:off x="5029200" y="1981080"/>
            <a:ext cx="3886200" cy="350532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Траволечение в Древней Греции.</a:t>
            </a:r>
            <a:endParaRPr b="0" lang="en-US" sz="3200" spc="-1" strike="noStrike">
              <a:solidFill>
                <a:srgbClr val="006666"/>
              </a:solidFill>
              <a:latin typeface="Arial"/>
            </a:endParaRPr>
          </a:p>
        </p:txBody>
      </p:sp>
      <p:sp>
        <p:nvSpPr>
          <p:cNvPr id="103" name="PlaceHolder 2"/>
          <p:cNvSpPr>
            <a:spLocks noGrp="1"/>
          </p:cNvSpPr>
          <p:nvPr>
            <p:ph/>
          </p:nvPr>
        </p:nvSpPr>
        <p:spPr>
          <a:xfrm>
            <a:off x="609480" y="1827000"/>
            <a:ext cx="8074080" cy="4725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наменитый врач Древней Греции Гиппократ (460-377гг.до н.э.), считал, что лекарственное растение своим действием обязано определенному сочетанию всех его основных частей, а поэтому его следует употреблять в том виде, в каком его создала природа. В сочинениях Гиппократа описано 236 видов растений. Именно ему принадлежит емкое определение медицины: «Медицина есть искусство подражать целебному воздействию природы». </a:t>
            </a:r>
            <a:endParaRPr b="0" lang="en-US" sz="20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ревние греки, как и многие другие народы, связывали целебное действие некоторых растений с различного рода магическими представлениями. Согласно их верованиям, существовал бог Асклепий, ведавший лекарствами и травами. Столь же талантливы били его сыновья Подалейрий и Махаон и дочери Гигиея (здоровье), Иасо (лечение) и Панакия или Панацея (исцеление</a:t>
            </a:r>
            <a:r>
              <a:rPr b="0" lang="ru-RU" sz="1900" spc="-1" strike="noStrike">
                <a:solidFill>
                  <a:srgbClr val="000000"/>
                </a:solidFill>
                <a:latin typeface="Verdana"/>
              </a:rPr>
              <a:t>). </a:t>
            </a:r>
            <a:endParaRPr b="0" lang="en-US" sz="19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азвитие народной медицины в России.</a:t>
            </a:r>
            <a:endParaRPr b="0" lang="en-US" sz="3200" spc="-1" strike="noStrike">
              <a:solidFill>
                <a:srgbClr val="006666"/>
              </a:solidFill>
              <a:latin typeface="Arial"/>
            </a:endParaRPr>
          </a:p>
        </p:txBody>
      </p:sp>
      <p:sp>
        <p:nvSpPr>
          <p:cNvPr id="105" name="PlaceHolder 2"/>
          <p:cNvSpPr>
            <a:spLocks noGrp="1"/>
          </p:cNvSpPr>
          <p:nvPr>
            <p:ph/>
          </p:nvPr>
        </p:nvSpPr>
        <p:spPr>
          <a:xfrm>
            <a:off x="609480" y="1752480"/>
            <a:ext cx="8074080" cy="4724640"/>
          </a:xfrm>
          <a:prstGeom prst="rect">
            <a:avLst/>
          </a:prstGeom>
          <a:noFill/>
          <a:ln w="0">
            <a:noFill/>
          </a:ln>
        </p:spPr>
        <p:txBody>
          <a:bodyPr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Times New Roman"/>
                <a:ea typeface="Times New Roman"/>
              </a:rPr>
              <a:t>С введением христианства на Руси начинается преследование чародеев, ведунов, зелейников, якобы связанных с нечистой силой. При этом роль целителей от имени Бога берут на себя монахи. Монастырская медицина в это время – хранительница и накопительница медицинских познаний. Однако в истории русского народа сохранились сведения о том, что у знахарей лечились даже представители царской фамилии. Великая княжна Софья, супруга Ивана третьего , лечилась у знахарки от бесплодия. В домашней библиотеке Ивана Грозного имелись различные травники, руководства для составления целебных прописей. При нем в 1581г. Была открыта первая аптека, которой управляла специально созданная Аптекарская палата. В 1654г. в Москве появилась первая в России медицинская школа, в которой готовили аптекарей. Были созданы «аптекарские огороды» - сады, где разводили лекарственные растения</a:t>
            </a:r>
            <a:r>
              <a:rPr b="0" lang="ru-RU" sz="1900" spc="-1" strike="noStrike">
                <a:solidFill>
                  <a:srgbClr val="000000"/>
                </a:solidFill>
                <a:latin typeface="Verdana"/>
              </a:rPr>
              <a:t>.</a:t>
            </a:r>
            <a:endParaRPr b="0" lang="en-US" sz="1900" spc="-1" strike="noStrike">
              <a:solidFill>
                <a:srgbClr val="000000"/>
              </a:solidFill>
              <a:latin typeface="Verdan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азвитие народной медицины в России.</a:t>
            </a:r>
            <a:endParaRPr b="0" lang="en-US" sz="3200" spc="-1" strike="noStrike">
              <a:solidFill>
                <a:srgbClr val="006666"/>
              </a:solidFill>
              <a:latin typeface="Arial"/>
            </a:endParaRPr>
          </a:p>
        </p:txBody>
      </p:sp>
      <p:sp>
        <p:nvSpPr>
          <p:cNvPr id="107" name="PlaceHolder 2"/>
          <p:cNvSpPr>
            <a:spLocks noGrp="1"/>
          </p:cNvSpPr>
          <p:nvPr>
            <p:ph/>
          </p:nvPr>
        </p:nvSpPr>
        <p:spPr>
          <a:xfrm>
            <a:off x="838080" y="1676160"/>
            <a:ext cx="7313760" cy="56386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400" spc="-1" strike="noStrike">
                <a:solidFill>
                  <a:srgbClr val="000000"/>
                </a:solidFill>
                <a:latin typeface="Times New Roman"/>
                <a:ea typeface="Times New Roman"/>
              </a:rPr>
              <a:t>Много сделал для развития лекарственного дела на Руси Петр Первый. По его указу в 1714г. был создан «аптекарский огород» в Петербурге, ставший первой опытной станцией по изучению лекарственных растений (на месте этого «огорода» в настоящее время находится Ботанический сад Академии наук). Внедренная Петром Первым «ягодная повинность», включавшая сбор лекарственных трав, успешная деятельность «аптекарских огородов» позволили настолько увеличить заготовку лекарственного сырья, что в 1754г. медицинская канцелярия прекратила ввоз лекарственных растений из-за рубежа. К этому времени в арсенале российских лекарей числилось около 200 видов дикорастущих и культивируемых в садах растений.</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азвитие народной медицины в России.</a:t>
            </a:r>
            <a:endParaRPr b="0" lang="en-US" sz="3200" spc="-1" strike="noStrike">
              <a:solidFill>
                <a:srgbClr val="006666"/>
              </a:solidFill>
              <a:latin typeface="Arial"/>
            </a:endParaRPr>
          </a:p>
        </p:txBody>
      </p:sp>
      <p:sp>
        <p:nvSpPr>
          <p:cNvPr id="109" name="PlaceHolder 2"/>
          <p:cNvSpPr>
            <a:spLocks noGrp="1"/>
          </p:cNvSpPr>
          <p:nvPr>
            <p:ph/>
          </p:nvPr>
        </p:nvSpPr>
        <p:spPr>
          <a:xfrm>
            <a:off x="1295280" y="1828800"/>
            <a:ext cx="7313760" cy="4114800"/>
          </a:xfrm>
          <a:prstGeom prst="rect">
            <a:avLst/>
          </a:prstGeom>
          <a:noFill/>
          <a:ln w="0">
            <a:noFill/>
          </a:ln>
        </p:spPr>
        <p:txBody>
          <a:bodyPr anchor="t">
            <a:normAutofit/>
          </a:bodyPr>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дной из замечательных страниц в истории медицины является открытие русского ученого, основоположника учения о витаминах Николая Ивановича Лунина, который в 1880г. доказал, что в молоке кроме молочного сахара, белка, жира и солей содержатся и другие компоненты, необходимые для жизни. Впоследствии такие вещества были выделены из различных пищевых продуктов. В 1912г. польский исследователь К. Функ предложил назвать этот класс пищевых веществ «витаминами» (от латинского «вита» - «жизнь» и греческого «амин» - химическое соединение, содержащие азот в виде аминогруппы). Он обобщил накопленные к тому времени экспериментальные и клинические данные и пришел к выводу, что такие заболевания, как цинга, рахит, являются болезнями пищевой недостаточности, или авитаминозами</a:t>
            </a:r>
            <a:r>
              <a:rPr b="0" lang="ru-RU" sz="1900" spc="-1" strike="noStrike">
                <a:solidFill>
                  <a:srgbClr val="000000"/>
                </a:solidFill>
                <a:latin typeface="Verdana"/>
              </a:rPr>
              <a:t>.</a:t>
            </a:r>
            <a:endParaRPr b="0" lang="en-US" sz="1900" spc="-1" strike="noStrike">
              <a:solidFill>
                <a:srgbClr val="000000"/>
              </a:solidFill>
              <a:latin typeface="Verdan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30T10:45:31Z</dcterms:created>
  <dc:creator>1</dc:creator>
  <dc:description/>
  <dc:language>en-US</dc:language>
  <cp:lastModifiedBy>Виктор Иванович</cp:lastModifiedBy>
  <dcterms:modified xsi:type="dcterms:W3CDTF">2015-09-22T20:40:20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