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0C3-DA5C-409F-9A36-0CDBD924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2BF-C5CE-4E49-ADE3-034F7F4D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468-D75E-4A43-B9DF-2F4DC2B8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08B-A793-4822-BA0D-21B10918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71F-6367-4E4B-9031-2448FF65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FEB-6170-4868-8B02-762D791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785-F48B-444A-B7B4-A585C6C0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AA5-4ACB-463D-8048-5B2AF54B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5F4-25D5-4C09-B1E5-57B4E601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EF5-8763-4B5A-8CBF-92F642E5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9E2-1D0B-4E50-99F2-70DA1B6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103-386A-4E78-B6F7-1CCDC0F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B833-19A4-417B-86CE-3530EC707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3" descr="самолеты фон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2920" y="1143000"/>
            <a:ext cx="40006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Проект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«Мой Пап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3000240" y="5000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>
            <a:off x="8715240" y="5000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9"/>
          <p:cNvSpPr/>
          <p:nvPr/>
        </p:nvSpPr>
        <p:spPr>
          <a:xfrm>
            <a:off x="357120" y="64292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0"/>
          <p:cNvSpPr/>
          <p:nvPr/>
        </p:nvSpPr>
        <p:spPr>
          <a:xfrm>
            <a:off x="357120" y="7142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2" descr="папа_рисунок1.jpg"/>
          <p:cNvPicPr/>
          <p:nvPr/>
        </p:nvPicPr>
        <p:blipFill>
          <a:blip r:embed="rId2"/>
          <a:stretch/>
        </p:blipFill>
        <p:spPr>
          <a:xfrm>
            <a:off x="642960" y="1000080"/>
            <a:ext cx="3848040" cy="4775400"/>
          </a:xfrm>
          <a:prstGeom prst="rect">
            <a:avLst/>
          </a:prstGeom>
          <a:ln w="0">
            <a:noFill/>
          </a:ln>
        </p:spPr>
      </p:pic>
      <p:sp>
        <p:nvSpPr>
          <p:cNvPr id="48" name="Заголовок 1"/>
          <p:cNvSpPr/>
          <p:nvPr/>
        </p:nvSpPr>
        <p:spPr>
          <a:xfrm>
            <a:off x="3500280" y="5786280"/>
            <a:ext cx="50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Ученица 2а класса школы №51 Ионова Т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9" descr="самолеты фон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0" y="130320"/>
            <a:ext cx="3143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6000840" y="6273720"/>
            <a:ext cx="314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>
            <a:off x="3000240" y="5000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6"/>
          <p:cNvSpPr/>
          <p:nvPr/>
        </p:nvSpPr>
        <p:spPr>
          <a:xfrm>
            <a:off x="8715240" y="5000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>
            <a:off x="357120" y="64292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357120" y="7142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P9270519.JPG"/>
          <p:cNvPicPr/>
          <p:nvPr/>
        </p:nvPicPr>
        <p:blipFill>
          <a:blip r:embed="rId2"/>
          <a:stretch/>
        </p:blipFill>
        <p:spPr>
          <a:xfrm>
            <a:off x="571680" y="785880"/>
            <a:ext cx="3263760" cy="435600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3929040" y="1000080"/>
            <a:ext cx="4643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его Папу зовут Ионов Александр Юрьеви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самолеты фон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0" y="130320"/>
            <a:ext cx="3143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6000840" y="6273720"/>
            <a:ext cx="314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"/>
          <p:cNvSpPr/>
          <p:nvPr/>
        </p:nvSpPr>
        <p:spPr>
          <a:xfrm>
            <a:off x="3000240" y="5000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>
            <a:off x="8715240" y="5000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7"/>
          <p:cNvSpPr/>
          <p:nvPr/>
        </p:nvSpPr>
        <p:spPr>
          <a:xfrm>
            <a:off x="357120" y="64292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8"/>
          <p:cNvSpPr/>
          <p:nvPr/>
        </p:nvSpPr>
        <p:spPr>
          <a:xfrm>
            <a:off x="357120" y="7142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500040" y="4286160"/>
            <a:ext cx="7643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па работает в институте радиосвязи. Он разрабатывает комплексы связи для самолет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1" descr="на самолете.JPG"/>
          <p:cNvPicPr/>
          <p:nvPr/>
        </p:nvPicPr>
        <p:blipFill>
          <a:blip r:embed="rId2"/>
          <a:stretch/>
        </p:blipFill>
        <p:spPr>
          <a:xfrm>
            <a:off x="500040" y="714240"/>
            <a:ext cx="51814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9" descr="самолеты фон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0" y="130320"/>
            <a:ext cx="3143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6000840" y="6273720"/>
            <a:ext cx="314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5"/>
          <p:cNvSpPr/>
          <p:nvPr/>
        </p:nvSpPr>
        <p:spPr>
          <a:xfrm>
            <a:off x="3000240" y="5000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6"/>
          <p:cNvSpPr/>
          <p:nvPr/>
        </p:nvSpPr>
        <p:spPr>
          <a:xfrm>
            <a:off x="8715240" y="5000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7"/>
          <p:cNvSpPr/>
          <p:nvPr/>
        </p:nvSpPr>
        <p:spPr>
          <a:xfrm>
            <a:off x="357120" y="64292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357120" y="7142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4000680" y="928800"/>
            <a:ext cx="4572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па увлекается рыбалкой. Из пойманной на удочку рыбы получается вкусная ух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1" descr="рыба.JPG"/>
          <p:cNvPicPr/>
          <p:nvPr/>
        </p:nvPicPr>
        <p:blipFill>
          <a:blip r:embed="rId2"/>
          <a:stretch/>
        </p:blipFill>
        <p:spPr>
          <a:xfrm>
            <a:off x="571680" y="857160"/>
            <a:ext cx="3263760" cy="4356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уха.jpg"/>
          <p:cNvPicPr/>
          <p:nvPr/>
        </p:nvPicPr>
        <p:blipFill>
          <a:blip r:embed="rId3"/>
          <a:stretch/>
        </p:blipFill>
        <p:spPr>
          <a:xfrm>
            <a:off x="5500800" y="3786120"/>
            <a:ext cx="2908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9" descr="самолеты фон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0" y="130320"/>
            <a:ext cx="3143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6000840" y="6273720"/>
            <a:ext cx="314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5"/>
          <p:cNvSpPr/>
          <p:nvPr/>
        </p:nvSpPr>
        <p:spPr>
          <a:xfrm>
            <a:off x="3000240" y="5000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6"/>
          <p:cNvSpPr/>
          <p:nvPr/>
        </p:nvSpPr>
        <p:spPr>
          <a:xfrm>
            <a:off x="8715240" y="5000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7"/>
          <p:cNvSpPr/>
          <p:nvPr/>
        </p:nvSpPr>
        <p:spPr>
          <a:xfrm>
            <a:off x="357120" y="64292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8"/>
          <p:cNvSpPr/>
          <p:nvPr/>
        </p:nvSpPr>
        <p:spPr>
          <a:xfrm>
            <a:off x="357120" y="7142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3786120" y="928800"/>
            <a:ext cx="50007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па помогает мне учить уроки, гуляет со мной. Папа знает много интересн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с папой даже пекли куличи на праздник Светлой Пасх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й Папа лучший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очень люблю своего папу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1" descr="куличи.jpg"/>
          <p:cNvPicPr/>
          <p:nvPr/>
        </p:nvPicPr>
        <p:blipFill>
          <a:blip r:embed="rId2"/>
          <a:stretch/>
        </p:blipFill>
        <p:spPr>
          <a:xfrm>
            <a:off x="500040" y="785880"/>
            <a:ext cx="3263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2:10:44Z</dcterms:created>
  <dc:creator>Admin</dc:creator>
  <dc:description/>
  <dc:language>en-US</dc:language>
  <cp:lastModifiedBy>Admin</cp:lastModifiedBy>
  <dcterms:modified xsi:type="dcterms:W3CDTF">2015-02-15T19:33:56Z</dcterms:modified>
  <cp:revision>18</cp:revision>
  <dc:subject/>
  <dc:title>Слайд 1</dc:title>
</cp:coreProperties>
</file>