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5.gif" ContentType="image/gif"/>
  <Override PartName="/ppt/media/image11.jpeg" ContentType="image/jpeg"/>
  <Override PartName="/ppt/media/image9.jpeg" ContentType="image/jpeg"/>
  <Override PartName="/ppt/media/chimes.wav" ContentType="audio/x-wav"/>
  <Override PartName="/ppt/media/image6.jpeg" ContentType="image/jpeg"/>
  <Override PartName="/ppt/media/applause.wav" ContentType="audio/x-wav"/>
  <Override PartName="/ppt/media/image4.png" ContentType="image/png"/>
  <Override PartName="/ppt/media/image20.jpeg" ContentType="image/jpeg"/>
  <Override PartName="/ppt/media/image21.gif" ContentType="image/gif"/>
  <Override PartName="/ppt/media/image19.gif" ContentType="image/gif"/>
  <Override PartName="/ppt/media/drumroll.wav" ContentType="audio/x-wav"/>
  <Override PartName="/ppt/media/image18.jpeg" ContentType="image/jpeg"/>
  <Override PartName="/ppt/media/image16.gif" ContentType="image/gif"/>
  <Override PartName="/ppt/media/image14.jpeg" ContentType="image/jpeg"/>
  <Override PartName="/ppt/media/image2.png" ContentType="image/png"/>
  <Override PartName="/ppt/media/image13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1DDE-1C83-4667-8885-E002A424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8DA-2A34-41F0-9199-8A63DC6A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971C7-A821-4DF9-8EC2-9D3C024E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93492-AFF1-42EF-B45B-F0E5EE56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3927F-A23A-4694-B9B6-14B37B57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F0C55-031B-42B7-905E-E061567F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D9080-0765-420E-BEE4-F1B7C8BD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B4B76-12E3-40B1-BF95-6ED5B407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A875D-542D-4018-BA7C-89B47C62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4477F-5B83-4B4E-8BCE-866430A6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0EEBB-2C31-434A-97EF-80F59F08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1D40B-EFEB-4319-B944-237A7330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453-00B3-4AF3-AE7B-DB9192FB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B16A5-52B4-40D8-A3FB-148A8716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054FD-5978-40DE-9BCE-04292401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3959F-1B19-4E08-AC43-A19A1D96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00450-C9C8-4974-BB97-0859DD8A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6D8F8-33EB-4AF3-9C52-40FABB59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619B8-8944-4CC0-88BE-F084420E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6E855-ADAC-4BA7-97E5-CF98B062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F8ED5-5C9C-4295-BE9D-80996EE2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F4451-3BC8-485A-BDDF-8C52857E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23395-0673-440D-9457-B18B8591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08F-5394-4B3F-8581-0085968C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AFCEF-C792-4EC8-9AAE-EDBD9BFC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D162-DD6D-4134-A544-189C2BC4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BEE5-EE2F-4B89-8817-56FA41F8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8842-B52D-4F72-A691-9A155433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4FFA-3C18-4F0C-81F6-FACC563A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E07B-5664-440D-8CCA-BF9EA459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419D-23AF-440C-A2DA-1FD6FA84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F8C0-3102-40E8-84AC-26D57977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25E9-E01A-4C51-884E-3C8745E7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7E25-8ECD-434D-AB15-9DC85E96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9016-43C4-48BE-96E2-0BF5D071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2D9A-2C07-4944-954E-44441FC0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B328-4C88-49F6-AC0B-01F08D5E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EFA0-0C2D-452C-8C39-4C6A82B4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CFE0-02FF-41BD-9FD6-5BBA6F70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6ECBB-FED4-4CF8-886A-54A08151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CDB3D-1C89-4491-9C69-D24EF7E3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F1FE-3E7F-4F4B-97F2-397D8A67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7FF1-E1C9-4487-9227-B53AF452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A2F-172B-4879-9DA6-AD3C54B0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4EC88-DAD3-4D2D-8614-458709D6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4F649-E16C-42E8-82E5-BB6285DF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9D430-E06D-4679-A00C-FBDE5305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5D62D-DDD0-4044-ABCE-4E0EAC8E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190E-AA84-4D23-BE41-8A60DC33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83FF3-01F4-4FDB-B74E-8B7B7C8E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1092-BB7D-4E64-97BF-6C555FBA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07D3C-332F-41BA-AE94-FFB6F2C5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BA410-03E4-4CD7-A1D4-C36311B8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D0787-8A8B-4D18-8C10-1F46F5FC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AB0-7F67-476B-A934-99061902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494F-478F-45BC-819D-00A3428E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2C78B-E916-4BBD-881A-47F2E2FD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D36C9-C398-4E72-91A6-071C7CC9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2A17E-56B8-43EB-B1A2-2C34F1E0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F51BB-A3FD-4E5D-8826-0BBDC4E5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B71B5-EE71-4786-BF09-7809D68A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4460C-2617-4FBB-84B6-FE64E4E1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35F21-67BF-4187-80B9-6F4865D5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1D5B1-B771-4BA6-A0F8-AC4E9E3A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7EE9A-52FA-41FA-80F7-F829CA2A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942-3F78-46E9-A5E8-255A83AA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539AC-5913-4C42-BD09-905F2BEF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0435B-F640-4B70-BC85-223F1C95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8A0D0-3E08-4D2A-B2A1-B81B26C2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8A44B-13A8-45CA-B14C-552038D7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84D7D-3FC8-4845-856B-3A2DD1C4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881CE-B23F-488B-9673-31979B44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C023F-E2CC-4AC7-839A-A87ED679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9838E-611C-498C-BB5D-34ADD8D0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53BB6-3ECF-4B6E-9FA4-F811518C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7F1EC-ED50-42B9-AFEF-526F5502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6EA-0FA6-43B0-89DC-A5D57E10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8DABC-9846-471E-BFB6-9476E787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004F8-0ADC-4686-91E8-95FF7599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7E680-5A9D-47F4-9EEE-FC13E650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8D578-567E-4FB9-A208-5682F9F5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DDC96-3F65-4C68-A59A-A6BBDCBC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008A1-76ED-41E9-B891-B2B9DA2A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80FDE-F5BA-4217-A0CB-31D0CEAB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A953F-C80A-4FAC-9F6B-DFE4899F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2AE2D-AB02-4EC9-96C7-01EFCAFD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D798A-3CBA-423C-B43B-4A882E0C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567-96A1-4337-AE7C-6AABDB66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9EE41-9D5D-4A08-B11D-A8D35D86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ABB7D-061D-47AE-945D-EF581F3D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83BCA-F3F8-4481-86CD-B985540B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F1B62-2077-499C-A924-9D200D88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9E91A-BD94-4DBA-A458-C974EBA0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F4941-D05E-4DD4-9843-9323EDC4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7FBA7-3B29-4C6D-A94B-1B7CBF1B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CA8FB-464A-4E31-9931-A983D3A4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EE5EE-806D-4892-A5AE-09406966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1159F-9E09-46EE-8EDD-0E3C795A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F6A-C32D-4799-B6F9-91048863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3A2FE-5939-4051-8076-8BCE67E4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2193-D682-467F-9715-CF232910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6AE48-2DAD-4048-B3E7-4C250A02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176C2-94B8-4658-8BBC-2B23B591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5EA87-197E-41D2-83B9-896AA9B1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F9ED9-9E42-4DFE-84F9-F0214955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9BD6B-6FD8-450E-AA86-34A53435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C27F3-C9EA-4D3E-AEAE-D3D607F5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9D2BA-46D2-4985-9503-9A2CE610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B79BE-A770-467A-B342-CFCB34F7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F64-5659-4CE7-9C4F-166A3B21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8584D-787B-4236-84A4-9DFF6B4E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C8F00-D0D8-4953-B08E-6E4CBF6B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4A0B3-54EE-424A-B2B7-882546C8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FF915-11FA-40E9-B247-FB41BA09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C1293-B4C3-4064-968F-E47072A1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C1B0B-79B5-42F1-88D5-9298FE91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D4CC7-7C2B-43F5-B741-26FF122B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297A6-7B99-4C74-BAAB-4AF18D69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F9278-529F-42AA-9B16-772651C4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DAC85-016C-4F87-8210-332B2E5E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5BA8-C5CB-411E-BD59-471A7819CBE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A5AA-8519-4F59-A2CD-26F7D07414B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A92B-A9EC-40F8-85B1-6E630365577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18CA-BD51-4FEE-95C7-B4F67F016E9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1880-8409-4F1A-8B86-85F494E606A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3283-31E3-43BB-BD8A-DDF479614A8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5ABB-4F42-4E02-A841-83FD72DE1C6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28F8-FDDE-4ADB-8DA5-61F26A64E26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609B-01E4-47E0-81AF-7BF32438929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747E-EF56-4D33-8FDC-9474E02F0AB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image" Target="../media/image16.gif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5.png"/><Relationship Id="rId3" Type="http://schemas.openxmlformats.org/officeDocument/2006/relationships/image" Target="../media/image22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image" Target="../media/image5.png"/><Relationship Id="rId5" Type="http://schemas.openxmlformats.org/officeDocument/2006/relationships/image" Target="../media/image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image" Target="../media/image5.png"/><Relationship Id="rId5" Type="http://schemas.openxmlformats.org/officeDocument/2006/relationships/image" Target="../media/image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image" Target="../media/image5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image" Target="../media/image5.png"/><Relationship Id="rId5" Type="http://schemas.openxmlformats.org/officeDocument/2006/relationships/image" Target="../media/image1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image" Target="../media/image5.pn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image" Target="../media/image5.png"/><Relationship Id="rId5" Type="http://schemas.openxmlformats.org/officeDocument/2006/relationships/image" Target="../media/image14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image" Target="../media/image5.png"/><Relationship Id="rId5" Type="http://schemas.openxmlformats.org/officeDocument/2006/relationships/image" Target="../media/image15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rbel"/>
              </a:rPr>
              <a:t>Математический тренажер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403280" y="2852640"/>
            <a:ext cx="73137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Corbel"/>
              </a:rPr>
              <a:t>Решение простых задач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Corbel"/>
              </a:rPr>
              <a:t>1 класс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4" name="Picture 4" descr="znajka"/>
          <p:cNvPicPr/>
          <p:nvPr/>
        </p:nvPicPr>
        <p:blipFill>
          <a:blip r:embed="rId1"/>
          <a:stretch/>
        </p:blipFill>
        <p:spPr>
          <a:xfrm>
            <a:off x="611280" y="3500280"/>
            <a:ext cx="1854000" cy="2103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znajka"/>
          <p:cNvPicPr/>
          <p:nvPr/>
        </p:nvPicPr>
        <p:blipFill>
          <a:blip r:embed="rId2"/>
          <a:stretch/>
        </p:blipFill>
        <p:spPr>
          <a:xfrm>
            <a:off x="611280" y="3500280"/>
            <a:ext cx="1854000" cy="210348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3"/>
          <p:cNvSpPr/>
          <p:nvPr/>
        </p:nvSpPr>
        <p:spPr>
          <a:xfrm>
            <a:off x="684360" y="5824440"/>
            <a:ext cx="617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втор: Лазарев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МБОУ СОШ №8   г. Нижневарт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5" descr="1men"/>
          <p:cNvPicPr/>
          <p:nvPr/>
        </p:nvPicPr>
        <p:blipFill>
          <a:blip r:embed="rId3"/>
          <a:stretch/>
        </p:blipFill>
        <p:spPr>
          <a:xfrm>
            <a:off x="611280" y="230040"/>
            <a:ext cx="1584360" cy="12272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6" descr="1men"/>
          <p:cNvPicPr/>
          <p:nvPr/>
        </p:nvPicPr>
        <p:blipFill>
          <a:blip r:embed="rId4"/>
          <a:stretch/>
        </p:blipFill>
        <p:spPr>
          <a:xfrm>
            <a:off x="7380360" y="5415120"/>
            <a:ext cx="1512720" cy="117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5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2987280" y="404280"/>
            <a:ext cx="5248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Rectangle 13">
            <a:hlinkClick r:id="rId1" action="ppaction://hlinksldjump"/>
          </p:cNvPr>
          <p:cNvSpPr/>
          <p:nvPr/>
        </p:nvSpPr>
        <p:spPr>
          <a:xfrm>
            <a:off x="1547640" y="62935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4">
            <a:hlinkClick r:id="rId2" action="ppaction://hlinksldjump"/>
          </p:cNvPr>
          <p:cNvSpPr/>
          <p:nvPr/>
        </p:nvSpPr>
        <p:spPr>
          <a:xfrm>
            <a:off x="2195640" y="62935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5">
            <a:hlinkClick r:id="rId3" action="ppaction://hlinksldjump"/>
          </p:cNvPr>
          <p:cNvSpPr/>
          <p:nvPr/>
        </p:nvSpPr>
        <p:spPr>
          <a:xfrm>
            <a:off x="2916360" y="62935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6">
            <a:hlinkClick r:id="rId4" action="ppaction://hlinksldjump"/>
          </p:cNvPr>
          <p:cNvSpPr/>
          <p:nvPr/>
        </p:nvSpPr>
        <p:spPr>
          <a:xfrm>
            <a:off x="3635280" y="62935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7">
            <a:hlinkClick r:id="rId5" action="ppaction://hlinksldjump"/>
          </p:cNvPr>
          <p:cNvSpPr/>
          <p:nvPr/>
        </p:nvSpPr>
        <p:spPr>
          <a:xfrm>
            <a:off x="4427640" y="62935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8">
            <a:hlinkClick r:id="rId6" action="ppaction://hlinksldjump"/>
          </p:cNvPr>
          <p:cNvSpPr/>
          <p:nvPr/>
        </p:nvSpPr>
        <p:spPr>
          <a:xfrm>
            <a:off x="5148360" y="62935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9">
            <a:hlinkClick r:id="rId7" action="ppaction://hlinksldjump"/>
          </p:cNvPr>
          <p:cNvSpPr/>
          <p:nvPr/>
        </p:nvSpPr>
        <p:spPr>
          <a:xfrm>
            <a:off x="5867280" y="62870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0"/>
          <p:cNvSpPr/>
          <p:nvPr/>
        </p:nvSpPr>
        <p:spPr>
          <a:xfrm>
            <a:off x="6659640" y="62935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3" descr="MOI19"/>
          <p:cNvPicPr/>
          <p:nvPr/>
        </p:nvPicPr>
        <p:blipFill>
          <a:blip r:embed="rId8"/>
          <a:stretch/>
        </p:blipFill>
        <p:spPr>
          <a:xfrm>
            <a:off x="2050920" y="3141720"/>
            <a:ext cx="3024360" cy="26337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24" descr="i"/>
          <p:cNvPicPr/>
          <p:nvPr/>
        </p:nvPicPr>
        <p:blipFill>
          <a:blip r:embed="rId9"/>
          <a:stretch/>
        </p:blipFill>
        <p:spPr>
          <a:xfrm>
            <a:off x="1116000" y="333360"/>
            <a:ext cx="7632720" cy="20876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5" descr="i (2)"/>
          <p:cNvPicPr/>
          <p:nvPr/>
        </p:nvPicPr>
        <p:blipFill>
          <a:blip r:embed="rId10"/>
          <a:stretch/>
        </p:blipFill>
        <p:spPr>
          <a:xfrm>
            <a:off x="4572000" y="1268280"/>
            <a:ext cx="1295280" cy="17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5"/>
          <p:cNvSpPr/>
          <p:nvPr/>
        </p:nvSpPr>
        <p:spPr>
          <a:xfrm>
            <a:off x="2050920" y="189000"/>
            <a:ext cx="47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1476360" y="6307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8"/>
          <p:cNvSpPr/>
          <p:nvPr/>
        </p:nvSpPr>
        <p:spPr>
          <a:xfrm>
            <a:off x="2197080" y="6307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9"/>
          <p:cNvSpPr/>
          <p:nvPr/>
        </p:nvSpPr>
        <p:spPr>
          <a:xfrm>
            <a:off x="2916360" y="63079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0"/>
          <p:cNvSpPr/>
          <p:nvPr/>
        </p:nvSpPr>
        <p:spPr>
          <a:xfrm>
            <a:off x="3708360" y="6307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1"/>
          <p:cNvSpPr/>
          <p:nvPr/>
        </p:nvSpPr>
        <p:spPr>
          <a:xfrm>
            <a:off x="4429080" y="6307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22"/>
          <p:cNvSpPr/>
          <p:nvPr/>
        </p:nvSpPr>
        <p:spPr>
          <a:xfrm>
            <a:off x="5148360" y="63014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3"/>
          <p:cNvSpPr/>
          <p:nvPr/>
        </p:nvSpPr>
        <p:spPr>
          <a:xfrm>
            <a:off x="5940360" y="6307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4"/>
          <p:cNvSpPr/>
          <p:nvPr/>
        </p:nvSpPr>
        <p:spPr>
          <a:xfrm>
            <a:off x="6588000" y="6210360"/>
            <a:ext cx="25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вершение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6" descr="3040101-604002c28319abff"/>
          <p:cNvPicPr/>
          <p:nvPr/>
        </p:nvPicPr>
        <p:blipFill>
          <a:blip r:embed="rId1"/>
          <a:stretch/>
        </p:blipFill>
        <p:spPr>
          <a:xfrm>
            <a:off x="2268360" y="2349360"/>
            <a:ext cx="4896000" cy="37450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0" descr="9a1dd691814e"/>
          <p:cNvPicPr/>
          <p:nvPr/>
        </p:nvPicPr>
        <p:blipFill>
          <a:blip r:embed="rId2"/>
          <a:stretch/>
        </p:blipFill>
        <p:spPr>
          <a:xfrm>
            <a:off x="1187280" y="0"/>
            <a:ext cx="74883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6"/>
          <p:cNvSpPr/>
          <p:nvPr/>
        </p:nvSpPr>
        <p:spPr>
          <a:xfrm>
            <a:off x="1547640" y="5084640"/>
            <a:ext cx="63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cc0066"/>
                </a:solidFill>
                <a:uFillTx/>
                <a:latin typeface="comic"/>
                <a:ea typeface="Times New Roman"/>
              </a:rPr>
              <a:t>ОТЛИЧНАЯ РАБОТА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21" descr="solnce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19382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2" descr="znajka"/>
          <p:cNvPicPr/>
          <p:nvPr/>
        </p:nvPicPr>
        <p:blipFill>
          <a:blip r:embed="rId2"/>
          <a:stretch/>
        </p:blipFill>
        <p:spPr>
          <a:xfrm>
            <a:off x="179280" y="5157720"/>
            <a:ext cx="1346400" cy="15271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4" descr="57665e28814e"/>
          <p:cNvPicPr/>
          <p:nvPr/>
        </p:nvPicPr>
        <p:blipFill>
          <a:blip r:embed="rId3"/>
          <a:stretch/>
        </p:blipFill>
        <p:spPr>
          <a:xfrm>
            <a:off x="2700360" y="1557360"/>
            <a:ext cx="38098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18920" y="316080"/>
            <a:ext cx="6899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 u="sng">
                <a:solidFill>
                  <a:srgbClr val="cc0066"/>
                </a:solidFill>
                <a:uFillTx/>
                <a:latin typeface="Corbel"/>
              </a:rPr>
              <a:t>Задача 1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624672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а дереве было 2 сороки. К ним прилетели ещё 3. Сколько сорок стало на дереве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61928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ыбери правильн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1476360" y="4581360"/>
            <a:ext cx="6192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34"/>
          <p:cNvGrpSpPr/>
          <p:nvPr/>
        </p:nvGrpSpPr>
        <p:grpSpPr>
          <a:xfrm>
            <a:off x="539640" y="3284640"/>
            <a:ext cx="2376720" cy="1152360"/>
            <a:chOff x="539640" y="3284640"/>
            <a:chExt cx="2376720" cy="1152360"/>
          </a:xfrm>
        </p:grpSpPr>
        <p:sp>
          <p:nvSpPr>
            <p:cNvPr id="474" name="AutoShape 30"/>
            <p:cNvSpPr/>
            <p:nvPr/>
          </p:nvSpPr>
          <p:spPr>
            <a:xfrm>
              <a:off x="684360" y="3284640"/>
              <a:ext cx="2232000" cy="1152360"/>
            </a:xfrm>
            <a:prstGeom prst="cloudCallout">
              <a:avLst>
                <a:gd name="adj1" fmla="val -39333"/>
                <a:gd name="adj2" fmla="val 73689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8">
              <a:hlinkClick r:id="rId1" action="ppaction://hlinksldjump"/>
            </p:cNvPr>
            <p:cNvSpPr/>
            <p:nvPr/>
          </p:nvSpPr>
          <p:spPr>
            <a:xfrm>
              <a:off x="539640" y="3571200"/>
              <a:ext cx="23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А)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35"/>
          <p:cNvGrpSpPr/>
          <p:nvPr/>
        </p:nvGrpSpPr>
        <p:grpSpPr>
          <a:xfrm>
            <a:off x="3201840" y="3933720"/>
            <a:ext cx="2449440" cy="1150560"/>
            <a:chOff x="3201840" y="3933720"/>
            <a:chExt cx="2449440" cy="1150560"/>
          </a:xfrm>
        </p:grpSpPr>
        <p:sp>
          <p:nvSpPr>
            <p:cNvPr id="477" name="AutoShape 32"/>
            <p:cNvSpPr/>
            <p:nvPr/>
          </p:nvSpPr>
          <p:spPr>
            <a:xfrm>
              <a:off x="3362040" y="3933720"/>
              <a:ext cx="2052360" cy="1150560"/>
            </a:xfrm>
            <a:prstGeom prst="cloudCallout">
              <a:avLst>
                <a:gd name="adj1" fmla="val -36004"/>
                <a:gd name="adj2" fmla="val 83185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6">
              <a:hlinkClick r:id="rId2" action="ppaction://hlinksldjump"/>
            </p:cNvPr>
            <p:cNvSpPr/>
            <p:nvPr/>
          </p:nvSpPr>
          <p:spPr>
            <a:xfrm>
              <a:off x="3201840" y="423864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omic Sans MS"/>
                </a:rPr>
                <a:t>Б)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36"/>
          <p:cNvGrpSpPr/>
          <p:nvPr/>
        </p:nvGrpSpPr>
        <p:grpSpPr>
          <a:xfrm>
            <a:off x="5651640" y="4365720"/>
            <a:ext cx="2520720" cy="1081080"/>
            <a:chOff x="5651640" y="4365720"/>
            <a:chExt cx="2520720" cy="1081080"/>
          </a:xfrm>
        </p:grpSpPr>
        <p:sp>
          <p:nvSpPr>
            <p:cNvPr id="480" name="AutoShape 33"/>
            <p:cNvSpPr/>
            <p:nvPr/>
          </p:nvSpPr>
          <p:spPr>
            <a:xfrm>
              <a:off x="5940360" y="4365720"/>
              <a:ext cx="2232000" cy="1081080"/>
            </a:xfrm>
            <a:prstGeom prst="cloudCallout">
              <a:avLst>
                <a:gd name="adj1" fmla="val -47935"/>
                <a:gd name="adj2" fmla="val 6321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7">
              <a:hlinkClick r:id="rId3" action="ppaction://hlinksldjump"/>
            </p:cNvPr>
            <p:cNvSpPr/>
            <p:nvPr/>
          </p:nvSpPr>
          <p:spPr>
            <a:xfrm>
              <a:off x="5651640" y="4710960"/>
              <a:ext cx="25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omic Sans MS"/>
                </a:rPr>
                <a:t>В)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2" name="Picture 38" descr="znajka"/>
          <p:cNvPicPr/>
          <p:nvPr/>
        </p:nvPicPr>
        <p:blipFill>
          <a:blip r:embed="rId4"/>
          <a:stretch/>
        </p:blipFill>
        <p:spPr>
          <a:xfrm>
            <a:off x="0" y="5661000"/>
            <a:ext cx="1055520" cy="11970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9" descr="i"/>
          <p:cNvPicPr/>
          <p:nvPr/>
        </p:nvPicPr>
        <p:blipFill>
          <a:blip r:embed="rId5"/>
          <a:stretch/>
        </p:blipFill>
        <p:spPr>
          <a:xfrm>
            <a:off x="6732720" y="0"/>
            <a:ext cx="216216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920" y="316080"/>
            <a:ext cx="6532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cc0066"/>
                </a:solidFill>
                <a:uFillTx/>
                <a:latin typeface="Corbel"/>
              </a:rPr>
              <a:t>Задача 2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777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оля и Витя поймали 7 лещей. Витя поймал 3 леща. Сколько лещей поймал Коля?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1979640" y="981000"/>
            <a:ext cx="554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ыбери правильн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25"/>
          <p:cNvGrpSpPr/>
          <p:nvPr/>
        </p:nvGrpSpPr>
        <p:grpSpPr>
          <a:xfrm>
            <a:off x="468360" y="3141720"/>
            <a:ext cx="2592360" cy="1439640"/>
            <a:chOff x="468360" y="3141720"/>
            <a:chExt cx="2592360" cy="1439640"/>
          </a:xfrm>
        </p:grpSpPr>
        <p:sp>
          <p:nvSpPr>
            <p:cNvPr id="488" name="AutoShape 22"/>
            <p:cNvSpPr/>
            <p:nvPr/>
          </p:nvSpPr>
          <p:spPr>
            <a:xfrm>
              <a:off x="468360" y="3141720"/>
              <a:ext cx="2592360" cy="1439640"/>
            </a:xfrm>
            <a:prstGeom prst="flowChartMagneticTap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7">
              <a:hlinkClick r:id="rId1" action="ppaction://hlinksldjump"/>
            </p:cNvPr>
            <p:cNvSpPr/>
            <p:nvPr/>
          </p:nvSpPr>
          <p:spPr>
            <a:xfrm>
              <a:off x="1242360" y="3613680"/>
              <a:ext cx="948960" cy="5814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8"/>
          <p:cNvGrpSpPr/>
          <p:nvPr/>
        </p:nvGrpSpPr>
        <p:grpSpPr>
          <a:xfrm>
            <a:off x="3635280" y="4797360"/>
            <a:ext cx="2592360" cy="1440000"/>
            <a:chOff x="3635280" y="4797360"/>
            <a:chExt cx="2592360" cy="1440000"/>
          </a:xfrm>
        </p:grpSpPr>
        <p:sp>
          <p:nvSpPr>
            <p:cNvPr id="491" name="AutoShape 23"/>
            <p:cNvSpPr/>
            <p:nvPr/>
          </p:nvSpPr>
          <p:spPr>
            <a:xfrm>
              <a:off x="3635280" y="4797360"/>
              <a:ext cx="2592360" cy="1440000"/>
            </a:xfrm>
            <a:prstGeom prst="flowChartMagneticTap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1">
              <a:hlinkClick r:id="rId2" action="ppaction://hlinksldjump"/>
            </p:cNvPr>
            <p:cNvSpPr/>
            <p:nvPr/>
          </p:nvSpPr>
          <p:spPr>
            <a:xfrm>
              <a:off x="4263480" y="5198040"/>
              <a:ext cx="1285560" cy="5814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 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27"/>
          <p:cNvGrpSpPr/>
          <p:nvPr/>
        </p:nvGrpSpPr>
        <p:grpSpPr>
          <a:xfrm>
            <a:off x="5867280" y="3068640"/>
            <a:ext cx="2592360" cy="1440000"/>
            <a:chOff x="5867280" y="3068640"/>
            <a:chExt cx="2592360" cy="1440000"/>
          </a:xfrm>
        </p:grpSpPr>
        <p:sp>
          <p:nvSpPr>
            <p:cNvPr id="494" name="AutoShape 24"/>
            <p:cNvSpPr/>
            <p:nvPr/>
          </p:nvSpPr>
          <p:spPr>
            <a:xfrm>
              <a:off x="5867280" y="3068640"/>
              <a:ext cx="2592360" cy="1440000"/>
            </a:xfrm>
            <a:prstGeom prst="flowChartMagneticTap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2">
              <a:hlinkClick r:id="rId3" action="ppaction://hlinksldjump"/>
            </p:cNvPr>
            <p:cNvSpPr/>
            <p:nvPr/>
          </p:nvSpPr>
          <p:spPr>
            <a:xfrm>
              <a:off x="6687360" y="3542400"/>
              <a:ext cx="948960" cy="5814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6" name="Picture 29" descr="znajka"/>
          <p:cNvPicPr/>
          <p:nvPr/>
        </p:nvPicPr>
        <p:blipFill>
          <a:blip r:embed="rId4"/>
          <a:stretch/>
        </p:blipFill>
        <p:spPr>
          <a:xfrm>
            <a:off x="108000" y="5330880"/>
            <a:ext cx="1346040" cy="15271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0" descr="i"/>
          <p:cNvPicPr/>
          <p:nvPr/>
        </p:nvPicPr>
        <p:blipFill>
          <a:blip r:embed="rId5"/>
          <a:stretch/>
        </p:blipFill>
        <p:spPr>
          <a:xfrm>
            <a:off x="6343560" y="0"/>
            <a:ext cx="28004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6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6627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cc0066"/>
                </a:solidFill>
                <a:uFillTx/>
                <a:latin typeface="Corbel"/>
              </a:rPr>
              <a:t>Задача 3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1294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В саду росли 6 яблонь и 4 сливы. На сколько больше яблонь, чем слив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0" name="Group 23"/>
          <p:cNvGrpSpPr/>
          <p:nvPr/>
        </p:nvGrpSpPr>
        <p:grpSpPr>
          <a:xfrm>
            <a:off x="468360" y="3429000"/>
            <a:ext cx="2663640" cy="936720"/>
            <a:chOff x="468360" y="3429000"/>
            <a:chExt cx="2663640" cy="936720"/>
          </a:xfrm>
        </p:grpSpPr>
        <p:sp>
          <p:nvSpPr>
            <p:cNvPr id="501" name="AutoShape 20"/>
            <p:cNvSpPr/>
            <p:nvPr/>
          </p:nvSpPr>
          <p:spPr>
            <a:xfrm>
              <a:off x="611280" y="3429000"/>
              <a:ext cx="2520720" cy="936720"/>
            </a:xfrm>
            <a:prstGeom prst="flowChartPunchedTap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6">
              <a:hlinkClick r:id="rId1" action="ppaction://hlinksldjump"/>
            </p:cNvPr>
            <p:cNvSpPr/>
            <p:nvPr/>
          </p:nvSpPr>
          <p:spPr>
            <a:xfrm>
              <a:off x="468360" y="3640680"/>
              <a:ext cx="25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 на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ectangle 8"/>
          <p:cNvSpPr/>
          <p:nvPr/>
        </p:nvSpPr>
        <p:spPr>
          <a:xfrm>
            <a:off x="1763640" y="981000"/>
            <a:ext cx="554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ыбери правильн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4"/>
          <p:cNvGrpSpPr/>
          <p:nvPr/>
        </p:nvGrpSpPr>
        <p:grpSpPr>
          <a:xfrm>
            <a:off x="3059280" y="4292640"/>
            <a:ext cx="2665080" cy="1009440"/>
            <a:chOff x="3059280" y="4292640"/>
            <a:chExt cx="2665080" cy="1009440"/>
          </a:xfrm>
        </p:grpSpPr>
        <p:sp>
          <p:nvSpPr>
            <p:cNvPr id="505" name="AutoShape 21"/>
            <p:cNvSpPr/>
            <p:nvPr/>
          </p:nvSpPr>
          <p:spPr>
            <a:xfrm>
              <a:off x="3059280" y="4292640"/>
              <a:ext cx="2665080" cy="1009440"/>
            </a:xfrm>
            <a:prstGeom prst="flowChartPunchedTap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10">
              <a:hlinkClick r:id="rId2" action="ppaction://hlinksldjump"/>
            </p:cNvPr>
            <p:cNvSpPr/>
            <p:nvPr/>
          </p:nvSpPr>
          <p:spPr>
            <a:xfrm>
              <a:off x="3274920" y="4507560"/>
              <a:ext cx="208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на 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25"/>
          <p:cNvGrpSpPr/>
          <p:nvPr/>
        </p:nvGrpSpPr>
        <p:grpSpPr>
          <a:xfrm>
            <a:off x="5940360" y="4724280"/>
            <a:ext cx="2592360" cy="1009800"/>
            <a:chOff x="5940360" y="4724280"/>
            <a:chExt cx="2592360" cy="1009800"/>
          </a:xfrm>
        </p:grpSpPr>
        <p:sp>
          <p:nvSpPr>
            <p:cNvPr id="508" name="AutoShape 22"/>
            <p:cNvSpPr/>
            <p:nvPr/>
          </p:nvSpPr>
          <p:spPr>
            <a:xfrm>
              <a:off x="5940360" y="4724280"/>
              <a:ext cx="2592360" cy="1009800"/>
            </a:xfrm>
            <a:prstGeom prst="flowChartPunchedTap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1">
              <a:hlinkClick r:id="rId3" action="ppaction://hlinksldjump"/>
            </p:cNvPr>
            <p:cNvSpPr/>
            <p:nvPr/>
          </p:nvSpPr>
          <p:spPr>
            <a:xfrm>
              <a:off x="6209640" y="4982400"/>
              <a:ext cx="175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на 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26" descr="znajka"/>
          <p:cNvPicPr/>
          <p:nvPr/>
        </p:nvPicPr>
        <p:blipFill>
          <a:blip r:embed="rId4"/>
          <a:stretch/>
        </p:blipFill>
        <p:spPr>
          <a:xfrm>
            <a:off x="179280" y="5084640"/>
            <a:ext cx="1346400" cy="15271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7" descr="i"/>
          <p:cNvPicPr/>
          <p:nvPr/>
        </p:nvPicPr>
        <p:blipFill>
          <a:blip r:embed="rId5"/>
          <a:stretch/>
        </p:blipFill>
        <p:spPr>
          <a:xfrm>
            <a:off x="8097840" y="1628640"/>
            <a:ext cx="1046160" cy="14842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8" descr="i (2)"/>
          <p:cNvPicPr/>
          <p:nvPr/>
        </p:nvPicPr>
        <p:blipFill>
          <a:blip r:embed="rId6"/>
          <a:stretch/>
        </p:blipFill>
        <p:spPr>
          <a:xfrm>
            <a:off x="7238880" y="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7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63640" y="333360"/>
            <a:ext cx="6491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cc0066"/>
                </a:solidFill>
                <a:uFillTx/>
                <a:latin typeface="Corbel"/>
              </a:rPr>
              <a:t>Задача 4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7704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Слава поймал 5 карасей, а щук на 4 меньше. Сколько щук поймал Слав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1692360" y="981000"/>
            <a:ext cx="554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ыбери правильн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77"/>
          <p:cNvGrpSpPr/>
          <p:nvPr/>
        </p:nvGrpSpPr>
        <p:grpSpPr>
          <a:xfrm>
            <a:off x="900000" y="3429000"/>
            <a:ext cx="2448000" cy="1079640"/>
            <a:chOff x="900000" y="3429000"/>
            <a:chExt cx="2448000" cy="1079640"/>
          </a:xfrm>
        </p:grpSpPr>
        <p:sp>
          <p:nvSpPr>
            <p:cNvPr id="517" name="AutoShape 74"/>
            <p:cNvSpPr/>
            <p:nvPr/>
          </p:nvSpPr>
          <p:spPr>
            <a:xfrm>
              <a:off x="900000" y="3429000"/>
              <a:ext cx="2448000" cy="1079640"/>
            </a:xfrm>
            <a:prstGeom prst="wedgeEllipseCallout">
              <a:avLst>
                <a:gd name="adj1" fmla="val -53759"/>
                <a:gd name="adj2" fmla="val 81763"/>
              </a:avLst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62">
              <a:hlinkClick r:id="rId1" action="ppaction://hlinksldjump"/>
            </p:cNvPr>
            <p:cNvSpPr/>
            <p:nvPr/>
          </p:nvSpPr>
          <p:spPr>
            <a:xfrm>
              <a:off x="1187280" y="3573360"/>
              <a:ext cx="1368720" cy="4478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А) 9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79"/>
          <p:cNvGrpSpPr/>
          <p:nvPr/>
        </p:nvGrpSpPr>
        <p:grpSpPr>
          <a:xfrm>
            <a:off x="6012000" y="3068640"/>
            <a:ext cx="2376360" cy="1224000"/>
            <a:chOff x="6012000" y="3068640"/>
            <a:chExt cx="2376360" cy="1224000"/>
          </a:xfrm>
        </p:grpSpPr>
        <p:sp>
          <p:nvSpPr>
            <p:cNvPr id="520" name="AutoShape 76"/>
            <p:cNvSpPr/>
            <p:nvPr/>
          </p:nvSpPr>
          <p:spPr>
            <a:xfrm>
              <a:off x="6012000" y="3068640"/>
              <a:ext cx="2376360" cy="1224000"/>
            </a:xfrm>
            <a:prstGeom prst="wedgeEllipseCallout">
              <a:avLst>
                <a:gd name="adj1" fmla="val -60152"/>
                <a:gd name="adj2" fmla="val 58560"/>
              </a:avLst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63">
              <a:hlinkClick r:id="rId2" action="ppaction://hlinksldjump"/>
            </p:cNvPr>
            <p:cNvSpPr/>
            <p:nvPr/>
          </p:nvSpPr>
          <p:spPr>
            <a:xfrm>
              <a:off x="6732720" y="3357720"/>
              <a:ext cx="1439640" cy="4474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В) 2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78"/>
          <p:cNvGrpSpPr/>
          <p:nvPr/>
        </p:nvGrpSpPr>
        <p:grpSpPr>
          <a:xfrm>
            <a:off x="3492360" y="4653000"/>
            <a:ext cx="2519640" cy="1081080"/>
            <a:chOff x="3492360" y="4653000"/>
            <a:chExt cx="2519640" cy="1081080"/>
          </a:xfrm>
        </p:grpSpPr>
        <p:sp>
          <p:nvSpPr>
            <p:cNvPr id="523" name="AutoShape 75"/>
            <p:cNvSpPr/>
            <p:nvPr/>
          </p:nvSpPr>
          <p:spPr>
            <a:xfrm>
              <a:off x="3492360" y="4653000"/>
              <a:ext cx="2519640" cy="1081080"/>
            </a:xfrm>
            <a:prstGeom prst="wedgeEllipseCallout">
              <a:avLst>
                <a:gd name="adj1" fmla="val -47606"/>
                <a:gd name="adj2" fmla="val 103305"/>
              </a:avLst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64">
              <a:hlinkClick r:id="rId3" action="ppaction://hlinksldjump"/>
            </p:cNvPr>
            <p:cNvSpPr/>
            <p:nvPr/>
          </p:nvSpPr>
          <p:spPr>
            <a:xfrm>
              <a:off x="4140360" y="4925880"/>
              <a:ext cx="1223640" cy="4478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Б) 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Picture 80" descr="znajka"/>
          <p:cNvPicPr/>
          <p:nvPr/>
        </p:nvPicPr>
        <p:blipFill>
          <a:blip r:embed="rId4"/>
          <a:stretch/>
        </p:blipFill>
        <p:spPr>
          <a:xfrm>
            <a:off x="179280" y="5157720"/>
            <a:ext cx="1346400" cy="15271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1" descr="i (1)"/>
          <p:cNvPicPr/>
          <p:nvPr/>
        </p:nvPicPr>
        <p:blipFill>
          <a:blip r:embed="rId5"/>
          <a:stretch/>
        </p:blipFill>
        <p:spPr>
          <a:xfrm>
            <a:off x="7353360" y="0"/>
            <a:ext cx="17906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6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63280" y="315720"/>
            <a:ext cx="66279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cc0066"/>
                </a:solidFill>
                <a:uFillTx/>
                <a:latin typeface="Corbel"/>
              </a:rPr>
              <a:t>Задача 5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69760" y="1969560"/>
            <a:ext cx="63118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У Нины 8 конфет, а у Лены на 2 конфеты больш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Сколько конфет у Лены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Rectangle 12"/>
          <p:cNvSpPr/>
          <p:nvPr/>
        </p:nvSpPr>
        <p:spPr>
          <a:xfrm>
            <a:off x="1619280" y="1125360"/>
            <a:ext cx="612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ыбери правильн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56"/>
          <p:cNvGrpSpPr/>
          <p:nvPr/>
        </p:nvGrpSpPr>
        <p:grpSpPr>
          <a:xfrm>
            <a:off x="6156360" y="3645000"/>
            <a:ext cx="1871640" cy="1224000"/>
            <a:chOff x="6156360" y="3645000"/>
            <a:chExt cx="1871640" cy="1224000"/>
          </a:xfrm>
        </p:grpSpPr>
        <p:sp>
          <p:nvSpPr>
            <p:cNvPr id="531" name="AutoShape 53"/>
            <p:cNvSpPr/>
            <p:nvPr/>
          </p:nvSpPr>
          <p:spPr>
            <a:xfrm>
              <a:off x="6156360" y="3645000"/>
              <a:ext cx="1871640" cy="12240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42">
              <a:hlinkClick r:id="rId1" action="ppaction://hlinksldjump"/>
            </p:cNvPr>
            <p:cNvSpPr/>
            <p:nvPr/>
          </p:nvSpPr>
          <p:spPr>
            <a:xfrm>
              <a:off x="6515280" y="3989520"/>
              <a:ext cx="136836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В) 1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55"/>
          <p:cNvGrpSpPr/>
          <p:nvPr/>
        </p:nvGrpSpPr>
        <p:grpSpPr>
          <a:xfrm>
            <a:off x="3635280" y="3645000"/>
            <a:ext cx="1871640" cy="1224000"/>
            <a:chOff x="3635280" y="3645000"/>
            <a:chExt cx="1871640" cy="1224000"/>
          </a:xfrm>
        </p:grpSpPr>
        <p:sp>
          <p:nvSpPr>
            <p:cNvPr id="534" name="AutoShape 52"/>
            <p:cNvSpPr/>
            <p:nvPr/>
          </p:nvSpPr>
          <p:spPr>
            <a:xfrm>
              <a:off x="3635280" y="3645000"/>
              <a:ext cx="1871640" cy="12240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43">
              <a:hlinkClick r:id="rId2" action="ppaction://hlinksldjump"/>
            </p:cNvPr>
            <p:cNvSpPr/>
            <p:nvPr/>
          </p:nvSpPr>
          <p:spPr>
            <a:xfrm>
              <a:off x="4067280" y="3989520"/>
              <a:ext cx="10810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Б) 7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54"/>
          <p:cNvGrpSpPr/>
          <p:nvPr/>
        </p:nvGrpSpPr>
        <p:grpSpPr>
          <a:xfrm>
            <a:off x="1042920" y="3645000"/>
            <a:ext cx="1871640" cy="1224000"/>
            <a:chOff x="1042920" y="3645000"/>
            <a:chExt cx="1871640" cy="1224000"/>
          </a:xfrm>
        </p:grpSpPr>
        <p:sp>
          <p:nvSpPr>
            <p:cNvPr id="537" name="AutoShape 51"/>
            <p:cNvSpPr/>
            <p:nvPr/>
          </p:nvSpPr>
          <p:spPr>
            <a:xfrm>
              <a:off x="1042920" y="3645000"/>
              <a:ext cx="1871640" cy="12240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44">
              <a:hlinkClick r:id="rId3" action="ppaction://hlinksldjump"/>
            </p:cNvPr>
            <p:cNvSpPr/>
            <p:nvPr/>
          </p:nvSpPr>
          <p:spPr>
            <a:xfrm>
              <a:off x="1474920" y="3989520"/>
              <a:ext cx="10792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А) 6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9" name="Picture 57" descr="znajka"/>
          <p:cNvPicPr/>
          <p:nvPr/>
        </p:nvPicPr>
        <p:blipFill>
          <a:blip r:embed="rId4"/>
          <a:stretch/>
        </p:blipFill>
        <p:spPr>
          <a:xfrm>
            <a:off x="250920" y="5157720"/>
            <a:ext cx="1346040" cy="15271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8" descr="i"/>
          <p:cNvPicPr/>
          <p:nvPr/>
        </p:nvPicPr>
        <p:blipFill>
          <a:blip r:embed="rId5"/>
          <a:stretch/>
        </p:blipFill>
        <p:spPr>
          <a:xfrm>
            <a:off x="7267680" y="0"/>
            <a:ext cx="18763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6" name="chimes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835280" y="333000"/>
            <a:ext cx="65498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cc0066"/>
                </a:solidFill>
                <a:uFillTx/>
                <a:latin typeface="Corbel"/>
              </a:rPr>
              <a:t>Задача 6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539720"/>
            <a:ext cx="655164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В вазе лежали 4 яблока, это на три меньше, чем персиков. Сколько персиков в вазе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Rectangle 11"/>
          <p:cNvSpPr/>
          <p:nvPr/>
        </p:nvSpPr>
        <p:spPr>
          <a:xfrm>
            <a:off x="169236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ыбери правильн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21"/>
          <p:cNvGrpSpPr/>
          <p:nvPr/>
        </p:nvGrpSpPr>
        <p:grpSpPr>
          <a:xfrm>
            <a:off x="1333440" y="3430440"/>
            <a:ext cx="2158920" cy="1150920"/>
            <a:chOff x="1333440" y="3430440"/>
            <a:chExt cx="2158920" cy="1150920"/>
          </a:xfrm>
        </p:grpSpPr>
        <p:sp>
          <p:nvSpPr>
            <p:cNvPr id="545" name="AutoShape 18"/>
            <p:cNvSpPr/>
            <p:nvPr/>
          </p:nvSpPr>
          <p:spPr>
            <a:xfrm>
              <a:off x="1333440" y="3430440"/>
              <a:ext cx="2158920" cy="1150920"/>
            </a:xfrm>
            <a:prstGeom prst="flowChartOnlineStorag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2">
              <a:hlinkClick r:id="rId1" action="ppaction://hlinksldjump"/>
            </p:cNvPr>
            <p:cNvSpPr/>
            <p:nvPr/>
          </p:nvSpPr>
          <p:spPr>
            <a:xfrm>
              <a:off x="1692360" y="3716280"/>
              <a:ext cx="1224000" cy="5047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А) 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23"/>
          <p:cNvGrpSpPr/>
          <p:nvPr/>
        </p:nvGrpSpPr>
        <p:grpSpPr>
          <a:xfrm>
            <a:off x="3708360" y="4581360"/>
            <a:ext cx="1150920" cy="2159280"/>
            <a:chOff x="3708360" y="4581360"/>
            <a:chExt cx="1150920" cy="2159280"/>
          </a:xfrm>
        </p:grpSpPr>
        <p:sp>
          <p:nvSpPr>
            <p:cNvPr id="548" name="AutoShape 20"/>
            <p:cNvSpPr/>
            <p:nvPr/>
          </p:nvSpPr>
          <p:spPr>
            <a:xfrm rot="16200000">
              <a:off x="3204000" y="5085360"/>
              <a:ext cx="2159280" cy="1150920"/>
            </a:xfrm>
            <a:prstGeom prst="flowChartOnlineStorag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>
              <a:hlinkClick r:id="rId2" action="ppaction://hlinksldjump"/>
            </p:cNvPr>
            <p:cNvSpPr/>
            <p:nvPr/>
          </p:nvSpPr>
          <p:spPr>
            <a:xfrm>
              <a:off x="3708360" y="5373720"/>
              <a:ext cx="1150920" cy="5763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Б) 7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22"/>
          <p:cNvGrpSpPr/>
          <p:nvPr/>
        </p:nvGrpSpPr>
        <p:grpSpPr>
          <a:xfrm>
            <a:off x="5076720" y="3428640"/>
            <a:ext cx="2159280" cy="1150920"/>
            <a:chOff x="5076720" y="3428640"/>
            <a:chExt cx="2159280" cy="1150920"/>
          </a:xfrm>
        </p:grpSpPr>
        <p:sp>
          <p:nvSpPr>
            <p:cNvPr id="551" name="AutoShape 19"/>
            <p:cNvSpPr/>
            <p:nvPr/>
          </p:nvSpPr>
          <p:spPr>
            <a:xfrm rot="10800000">
              <a:off x="5076720" y="3428640"/>
              <a:ext cx="2159280" cy="1150920"/>
            </a:xfrm>
            <a:prstGeom prst="flowChartOnlineStorag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4">
              <a:hlinkClick r:id="rId3" action="ppaction://hlinksldjump"/>
            </p:cNvPr>
            <p:cNvSpPr/>
            <p:nvPr/>
          </p:nvSpPr>
          <p:spPr>
            <a:xfrm>
              <a:off x="5651640" y="3716280"/>
              <a:ext cx="1152360" cy="6494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В) 2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3" name="Picture 24" descr="znajka"/>
          <p:cNvPicPr/>
          <p:nvPr/>
        </p:nvPicPr>
        <p:blipFill>
          <a:blip r:embed="rId4"/>
          <a:stretch/>
        </p:blipFill>
        <p:spPr>
          <a:xfrm>
            <a:off x="250920" y="5157720"/>
            <a:ext cx="1346040" cy="1527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5" descr="i (1)"/>
          <p:cNvPicPr/>
          <p:nvPr/>
        </p:nvPicPr>
        <p:blipFill>
          <a:blip r:embed="rId5"/>
          <a:stretch/>
        </p:blipFill>
        <p:spPr>
          <a:xfrm>
            <a:off x="6819840" y="0"/>
            <a:ext cx="232416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6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65563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66"/>
                </a:solidFill>
                <a:uFillTx/>
                <a:latin typeface="Corbel"/>
              </a:rPr>
              <a:t>Задача 7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669600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У Саши было 3 желтых шарика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2 красных и 5 синих. Сколько всего шариков было у Саши?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161928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ыбери правильн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30"/>
          <p:cNvGrpSpPr/>
          <p:nvPr/>
        </p:nvGrpSpPr>
        <p:grpSpPr>
          <a:xfrm>
            <a:off x="5940360" y="4797360"/>
            <a:ext cx="2592360" cy="1440000"/>
            <a:chOff x="5940360" y="4797360"/>
            <a:chExt cx="2592360" cy="1440000"/>
          </a:xfrm>
        </p:grpSpPr>
        <p:sp>
          <p:nvSpPr>
            <p:cNvPr id="559" name="AutoShape 24"/>
            <p:cNvSpPr/>
            <p:nvPr/>
          </p:nvSpPr>
          <p:spPr>
            <a:xfrm>
              <a:off x="5940360" y="4797360"/>
              <a:ext cx="2592360" cy="1440000"/>
            </a:xfrm>
            <a:custGeom>
              <a:avLst/>
              <a:gdLst>
                <a:gd name="textAreaLeft" fmla="*/ 0 w 2592360"/>
                <a:gd name="textAreaRight" fmla="*/ 2592360 w 2592360"/>
                <a:gd name="textAreaTop" fmla="*/ 186480 h 1440000"/>
                <a:gd name="textAreaBottom" fmla="*/ 125352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0">
              <a:hlinkClick r:id="rId1" action="ppaction://hlinksldjump"/>
            </p:cNvPr>
            <p:cNvSpPr/>
            <p:nvPr/>
          </p:nvSpPr>
          <p:spPr>
            <a:xfrm>
              <a:off x="6443640" y="5229360"/>
              <a:ext cx="1584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В) 8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29"/>
          <p:cNvGrpSpPr/>
          <p:nvPr/>
        </p:nvGrpSpPr>
        <p:grpSpPr>
          <a:xfrm>
            <a:off x="3419640" y="3933720"/>
            <a:ext cx="2376360" cy="1368360"/>
            <a:chOff x="3419640" y="3933720"/>
            <a:chExt cx="2376360" cy="1368360"/>
          </a:xfrm>
        </p:grpSpPr>
        <p:sp>
          <p:nvSpPr>
            <p:cNvPr id="562" name="AutoShape 23"/>
            <p:cNvSpPr/>
            <p:nvPr/>
          </p:nvSpPr>
          <p:spPr>
            <a:xfrm>
              <a:off x="3419640" y="3933720"/>
              <a:ext cx="2376360" cy="1368360"/>
            </a:xfrm>
            <a:custGeom>
              <a:avLst/>
              <a:gdLst>
                <a:gd name="textAreaLeft" fmla="*/ 0 w 2376360"/>
                <a:gd name="textAreaRight" fmla="*/ 2376720 w 2376360"/>
                <a:gd name="textAreaTop" fmla="*/ 177120 h 1368360"/>
                <a:gd name="textAreaBottom" fmla="*/ 119124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4">
              <a:hlinkClick r:id="rId2" action="ppaction://hlinksldjump"/>
            </p:cNvPr>
            <p:cNvSpPr/>
            <p:nvPr/>
          </p:nvSpPr>
          <p:spPr>
            <a:xfrm>
              <a:off x="3706920" y="4335480"/>
              <a:ext cx="13064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Б) 9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8"/>
          <p:cNvGrpSpPr/>
          <p:nvPr/>
        </p:nvGrpSpPr>
        <p:grpSpPr>
          <a:xfrm>
            <a:off x="826920" y="3357720"/>
            <a:ext cx="2376720" cy="1223640"/>
            <a:chOff x="826920" y="3357720"/>
            <a:chExt cx="2376720" cy="1223640"/>
          </a:xfrm>
        </p:grpSpPr>
        <p:sp>
          <p:nvSpPr>
            <p:cNvPr id="565" name="AutoShape 22"/>
            <p:cNvSpPr/>
            <p:nvPr/>
          </p:nvSpPr>
          <p:spPr>
            <a:xfrm>
              <a:off x="826920" y="3357720"/>
              <a:ext cx="2376720" cy="1223640"/>
            </a:xfrm>
            <a:custGeom>
              <a:avLst/>
              <a:gdLst>
                <a:gd name="textAreaLeft" fmla="*/ 0 w 2376720"/>
                <a:gd name="textAreaRight" fmla="*/ 2377080 w 2376720"/>
                <a:gd name="textAreaTop" fmla="*/ 158400 h 1223640"/>
                <a:gd name="textAreaBottom" fmla="*/ 106524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5">
              <a:hlinkClick r:id="rId3" action="ppaction://hlinksldjump"/>
            </p:cNvPr>
            <p:cNvSpPr/>
            <p:nvPr/>
          </p:nvSpPr>
          <p:spPr>
            <a:xfrm>
              <a:off x="1116000" y="3716280"/>
              <a:ext cx="1511280" cy="504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А) 1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7" name="Picture 31" descr="znajka"/>
          <p:cNvPicPr/>
          <p:nvPr/>
        </p:nvPicPr>
        <p:blipFill>
          <a:blip r:embed="rId4"/>
          <a:stretch/>
        </p:blipFill>
        <p:spPr>
          <a:xfrm>
            <a:off x="250920" y="5157720"/>
            <a:ext cx="1346040" cy="15271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2" descr="pjatak"/>
          <p:cNvPicPr/>
          <p:nvPr/>
        </p:nvPicPr>
        <p:blipFill>
          <a:blip r:embed="rId5"/>
          <a:stretch/>
        </p:blipFill>
        <p:spPr>
          <a:xfrm>
            <a:off x="7315200" y="0"/>
            <a:ext cx="182880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6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79280" y="315720"/>
            <a:ext cx="64119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66"/>
                </a:solidFill>
                <a:uFillTx/>
                <a:latin typeface="Corbel"/>
              </a:rPr>
              <a:t>Задача 8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835280" y="1844640"/>
            <a:ext cx="61149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Чтобы рассадить 8 девочек, не хватает 2 стула. Сколько стульев в классе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1908000" y="981000"/>
            <a:ext cx="554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ыбери правильн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23"/>
          <p:cNvGrpSpPr/>
          <p:nvPr/>
        </p:nvGrpSpPr>
        <p:grpSpPr>
          <a:xfrm>
            <a:off x="3348000" y="4149720"/>
            <a:ext cx="2016000" cy="1655640"/>
            <a:chOff x="3348000" y="4149720"/>
            <a:chExt cx="2016000" cy="1655640"/>
          </a:xfrm>
        </p:grpSpPr>
        <p:sp>
          <p:nvSpPr>
            <p:cNvPr id="573" name="AutoShape 20"/>
            <p:cNvSpPr/>
            <p:nvPr/>
          </p:nvSpPr>
          <p:spPr>
            <a:xfrm>
              <a:off x="3348000" y="4149720"/>
              <a:ext cx="2016000" cy="1655640"/>
            </a:xfrm>
            <a:prstGeom prst="irregularSeal1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1">
              <a:hlinkClick r:id="rId1" action="ppaction://hlinksldjump"/>
            </p:cNvPr>
            <p:cNvSpPr/>
            <p:nvPr/>
          </p:nvSpPr>
          <p:spPr>
            <a:xfrm>
              <a:off x="3781440" y="4653000"/>
              <a:ext cx="15112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Б) 1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22"/>
          <p:cNvGrpSpPr/>
          <p:nvPr/>
        </p:nvGrpSpPr>
        <p:grpSpPr>
          <a:xfrm>
            <a:off x="826920" y="3068640"/>
            <a:ext cx="2016360" cy="1655640"/>
            <a:chOff x="826920" y="3068640"/>
            <a:chExt cx="2016360" cy="1655640"/>
          </a:xfrm>
        </p:grpSpPr>
        <p:sp>
          <p:nvSpPr>
            <p:cNvPr id="576" name="AutoShape 19"/>
            <p:cNvSpPr/>
            <p:nvPr/>
          </p:nvSpPr>
          <p:spPr>
            <a:xfrm>
              <a:off x="826920" y="3068640"/>
              <a:ext cx="2016360" cy="1655640"/>
            </a:xfrm>
            <a:prstGeom prst="irregularSeal1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2">
              <a:hlinkClick r:id="rId2" action="ppaction://hlinksldjump"/>
            </p:cNvPr>
            <p:cNvSpPr/>
            <p:nvPr/>
          </p:nvSpPr>
          <p:spPr>
            <a:xfrm>
              <a:off x="1332000" y="3571920"/>
              <a:ext cx="1224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А) 7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4"/>
          <p:cNvGrpSpPr/>
          <p:nvPr/>
        </p:nvGrpSpPr>
        <p:grpSpPr>
          <a:xfrm>
            <a:off x="6372360" y="3645000"/>
            <a:ext cx="1800000" cy="1512720"/>
            <a:chOff x="6372360" y="3645000"/>
            <a:chExt cx="1800000" cy="1512720"/>
          </a:xfrm>
        </p:grpSpPr>
        <p:sp>
          <p:nvSpPr>
            <p:cNvPr id="579" name="AutoShape 21"/>
            <p:cNvSpPr/>
            <p:nvPr/>
          </p:nvSpPr>
          <p:spPr>
            <a:xfrm>
              <a:off x="6372360" y="3645000"/>
              <a:ext cx="1800000" cy="1512720"/>
            </a:xfrm>
            <a:prstGeom prst="irregularSeal1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3">
              <a:hlinkClick r:id="rId3" action="ppaction://hlinksldjump"/>
            </p:cNvPr>
            <p:cNvSpPr/>
            <p:nvPr/>
          </p:nvSpPr>
          <p:spPr>
            <a:xfrm>
              <a:off x="6886440" y="4106160"/>
              <a:ext cx="102888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В) 6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1" name="Picture 25" descr="znajka"/>
          <p:cNvPicPr/>
          <p:nvPr/>
        </p:nvPicPr>
        <p:blipFill>
          <a:blip r:embed="rId4"/>
          <a:stretch/>
        </p:blipFill>
        <p:spPr>
          <a:xfrm>
            <a:off x="395280" y="5013360"/>
            <a:ext cx="1346040" cy="1527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6" descr="ava_mim014"/>
          <p:cNvPicPr/>
          <p:nvPr/>
        </p:nvPicPr>
        <p:blipFill>
          <a:blip r:embed="rId5"/>
          <a:stretch/>
        </p:blipFill>
        <p:spPr>
          <a:xfrm>
            <a:off x="7667640" y="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6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06:02:08Z</dcterms:created>
  <dc:creator>.</dc:creator>
  <dc:description/>
  <dc:language>en-US</dc:language>
  <cp:lastModifiedBy>Лара</cp:lastModifiedBy>
  <dcterms:modified xsi:type="dcterms:W3CDTF">2015-10-10T07:32:35Z</dcterms:modified>
  <cp:revision>48</cp:revision>
  <dc:subject/>
  <dc:title>Слайд 1</dc:title>
</cp:coreProperties>
</file>