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5.gif" ContentType="image/gif"/>
  <Override PartName="/ppt/media/image11.jpeg" ContentType="image/jpeg"/>
  <Override PartName="/ppt/media/image9.jpeg" ContentType="image/jpeg"/>
  <Override PartName="/ppt/media/chimes.wav" ContentType="audio/x-wav"/>
  <Override PartName="/ppt/media/image6.jpeg" ContentType="image/jpeg"/>
  <Override PartName="/ppt/media/applause.wav" ContentType="audio/x-wav"/>
  <Override PartName="/ppt/media/image4.png" ContentType="image/png"/>
  <Override PartName="/ppt/media/image20.jpeg" ContentType="image/jpeg"/>
  <Override PartName="/ppt/media/image21.gif" ContentType="image/gif"/>
  <Override PartName="/ppt/media/image19.gif" ContentType="image/gif"/>
  <Override PartName="/ppt/media/drumroll.wav" ContentType="audio/x-wav"/>
  <Override PartName="/ppt/media/image18.jpeg" ContentType="image/jpeg"/>
  <Override PartName="/ppt/media/image16.gif" ContentType="image/gif"/>
  <Override PartName="/ppt/media/image14.jpeg" ContentType="image/jpeg"/>
  <Override PartName="/ppt/media/image2.png" ContentType="image/png"/>
  <Override PartName="/ppt/media/image13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445-7812-4217-8A2C-12213BAB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4F3-D765-482B-827E-DED95B59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74B74-8D0B-480A-9401-93AC5DFF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8E72B-ED9D-4AEC-8A83-47EE9894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B227F-1819-4CA1-BB7D-0DEDD262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D5720-74F1-4C47-A42D-45571F08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A5BAE-E68B-4CBB-86C1-6B540637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19ED5-B019-4B27-8777-8B3A619C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0D829-1356-46BF-8339-31DCAF71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616A5-E946-450F-A778-401D06AA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B17A4-D3EE-4A14-BB2F-867A8043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D348C-C3F6-4D5F-B6FE-C4EBD231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424-1A44-4D0A-94EE-D55F7902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FDC47-288B-47BC-A520-E55B9422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31FD7-E0D7-410C-8A3F-0C66EF1C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3FD3F-756D-4F2C-B476-0A8357FA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00798-CB49-4575-AAE3-9FA88BA6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BBD1E-FAAE-4194-9602-A22C6F5B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28576-BDF4-4A0E-BAE4-7C087CCA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866F2-D53F-43A5-B4EC-AA65C742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D0FCE-E188-40AD-95B1-5F266C22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CF13D-3D66-4348-A902-61FD0404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4D126-8A8C-44DF-B8EC-8ABA346B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DA0-8603-4B43-9395-B6CBE634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3313D-9FD1-44A1-AAC0-B717875A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00C2-4AEF-4A0B-9EA4-E0D6EC7D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ABE1-1500-499A-9EF7-25D85212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ED2F-13DE-45E6-947E-975973C6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6581-642D-4C39-9C87-C8635C2B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423C-3406-4796-B8B9-D12FD64F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8D07-23D9-4967-A5C9-C09531CC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4429-047A-4444-AC24-74EA1F89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DA0-F543-48C5-AC25-A6AA7D31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F0A2-5CE8-4548-800D-60E83BC0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5A86-F4B8-48B0-87DB-D9B7E54B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C9C2-4F8C-4B05-B8C7-955F111D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6893-93A9-47D9-9736-7BD773CD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78F6-3280-47DA-85EE-C24DB420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73349-C63D-4CBA-B674-6E684851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B049C-62E5-4036-879F-F9F43A3D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DBF54-B6F7-4621-9704-FB8C7140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F633-ACFE-412F-A99E-2FBC73FC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D246-DB34-4459-80AC-FD48FAC1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18E-FEE2-440B-9E3C-F9112FDF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3286C-695E-46C0-8D29-18A47CB9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9DE43-3914-4BDF-88AC-308ED5E3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32A64-19CF-4BA7-9992-76619A33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54008-07A7-4303-84EA-15281949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95057-C762-4ECA-995B-5CE56511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81589-21E4-47B2-83A4-61F88400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20C7C-3103-4DEA-8590-9B9FB1B2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5B58A-CF74-47CB-8B01-1608D23B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C7843-C30C-4C84-B3C1-36A614E8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98083-AF2F-4033-AA82-4770E7BB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A41-C4DA-4EF2-91DB-C7188B7E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F0BE-6EBC-4D9D-A114-7920A1D2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51114-E85A-4D50-93F3-FC27D408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F9657-5B2B-4065-ACF9-CE247D93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18BFC-EB7F-478D-B186-ABACB659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AD635-1F4A-4C29-8956-FB8D02A1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707FE-5C36-45A3-93DA-A579DB5C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2B79-EFCE-48BD-AB99-E70D7C56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A536-B1A2-41A9-B01B-C64A3E1D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1BA3F-F0F3-4DA3-BB26-61F34D9A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1AC8C-58FA-49CD-972D-B638EBE9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168-0A97-4A6B-8D5E-CE342433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60C63-C1B8-4C0E-A42F-3676E4CE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DBC97-0ACF-4C98-B4C3-74A07F45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8F8BD-5194-442D-AB38-60A7D458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4000D-C8FD-4D49-BEC0-5F12D6DE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ED321-DF41-41E3-9AEB-49A6583C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003CC-97BA-417C-B63E-B66518BB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21AB7-E87F-4386-BFA9-A81685E8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8CE99-4FDC-4C11-A301-00B8692B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63914-197C-403C-8C37-9897BD4B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F2BBD-9A29-4E1F-9B5B-85A51945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285-8054-40B7-A6D7-625CA99F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90853-B498-4C7C-A12C-A1542BD2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D4289-E0B5-4B79-A669-49509E2F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5F9ED-94E4-4C7B-8FDF-25AA2F39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08EFC-DEE4-4813-B5E3-A23ADCCD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7C729-51DF-47A9-8376-0DD646DB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9B464-00CD-438D-8CCA-55308FFC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18D60-0921-4B85-B845-353856B6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F363E-0446-4C69-8EF2-0EC728BA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E27B8-4148-4A76-94C3-C08A7D3C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7021D-9BCC-4D34-AC16-D4A887FF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0A9-0BF5-44FA-A927-AE56E4B1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C73D6-F460-4EE6-8DAC-43DBC261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361D7-BD96-49CA-B415-F9411857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E8D6A-D5DB-40AD-BFC9-B5812FF2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76E5D-2DDE-4C6F-9453-11422966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ABB82-D8F1-4F1E-BE8E-715A40CF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44123-82C6-4107-AB3B-39389554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757D7-CB83-480D-99E4-D4114561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B54DA-D16E-4C6B-9AFB-2E8CE793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E841D-6160-4464-9ECE-4B57AD4E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C689D-D191-4A55-89A4-890BE149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5E1-63FB-49BB-A7F4-66BD0505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04209-9D17-4B47-9358-CAF04628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5979E-130E-4796-AF91-58302CD4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E1D30-4FB7-43EC-A49C-4719E437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5ED1D-4CDB-40DC-8E71-878CF146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C01DE-D8FE-4B26-A71F-03B99576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18F8C-CF8A-4A7F-B175-5B26ADD4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610C8-F7F3-41AA-88F3-9201BBDE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6976D-B9E8-4AF0-BF3A-05DC0246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CCEDA-36D1-43FC-859E-B10CCB4A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0C337-B10F-4926-BCC7-2DE91BDF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7DC-27A9-4B9F-94C7-E5A14343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00674-77FD-481A-B555-70423440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1BFC7-5EBA-4281-A977-251661AD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37896-CB00-4ED7-B4FA-F7DB324B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3E078-BDB7-4BA4-B25E-C5AC2065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4EFF8-325D-4F0F-9140-369FA613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2A062-2EC5-468E-B676-93D71C2E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6CFCB-6730-4E55-A5F6-D657173A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90DE5-4BBA-42D3-BCB5-B6129C8A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CF589-59A4-4A59-B01E-FCCEDBEC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48037-3A69-4BBC-8091-34E882BE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AEBB-2DC7-4F22-9DD8-99D241E9242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C862-B2B8-410E-BBEC-704FE8CB402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195E-0A80-46B3-A67F-260CDB0C606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16EA-557D-4552-8A2A-BE8EC1BCEB8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A3C6-CBF9-43D4-889F-851E4F82A16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3279-8DA1-423C-A9C4-DF881955004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2208-FC3F-4C3D-B723-D1C46B27397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9AE8-2D4C-475B-B393-E491C14DC90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A824-047C-4751-9B96-2593D6B71CC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3403-B4B7-47A3-9B4E-9B35B31C4EF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image" Target="../media/image16.gif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5.png"/><Relationship Id="rId3" Type="http://schemas.openxmlformats.org/officeDocument/2006/relationships/image" Target="../media/image22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image" Target="../media/image5.png"/><Relationship Id="rId5" Type="http://schemas.openxmlformats.org/officeDocument/2006/relationships/image" Target="../media/image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image" Target="../media/image5.png"/><Relationship Id="rId5" Type="http://schemas.openxmlformats.org/officeDocument/2006/relationships/image" Target="../media/image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image" Target="../media/image5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image" Target="../media/image5.png"/><Relationship Id="rId5" Type="http://schemas.openxmlformats.org/officeDocument/2006/relationships/image" Target="../media/image1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image" Target="../media/image5.pn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image" Target="../media/image5.png"/><Relationship Id="rId5" Type="http://schemas.openxmlformats.org/officeDocument/2006/relationships/image" Target="../media/image14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image" Target="../media/image5.png"/><Relationship Id="rId5" Type="http://schemas.openxmlformats.org/officeDocument/2006/relationships/image" Target="../media/image15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rbel"/>
              </a:rPr>
              <a:t>Математический тренажер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403280" y="2852640"/>
            <a:ext cx="73137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Corbel"/>
              </a:rPr>
              <a:t>Решение простых задач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Corbel"/>
              </a:rPr>
              <a:t>1 класс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4" name="Picture 4" descr="znajka"/>
          <p:cNvPicPr/>
          <p:nvPr/>
        </p:nvPicPr>
        <p:blipFill>
          <a:blip r:embed="rId1"/>
          <a:stretch/>
        </p:blipFill>
        <p:spPr>
          <a:xfrm>
            <a:off x="611280" y="3500280"/>
            <a:ext cx="1854000" cy="2103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znajka"/>
          <p:cNvPicPr/>
          <p:nvPr/>
        </p:nvPicPr>
        <p:blipFill>
          <a:blip r:embed="rId2"/>
          <a:stretch/>
        </p:blipFill>
        <p:spPr>
          <a:xfrm>
            <a:off x="611280" y="3500280"/>
            <a:ext cx="1854000" cy="210348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3"/>
          <p:cNvSpPr/>
          <p:nvPr/>
        </p:nvSpPr>
        <p:spPr>
          <a:xfrm>
            <a:off x="684360" y="5824440"/>
            <a:ext cx="617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втор: Лазарев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МБОУ СОШ №8   г. Нижневарт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5" descr="1men"/>
          <p:cNvPicPr/>
          <p:nvPr/>
        </p:nvPicPr>
        <p:blipFill>
          <a:blip r:embed="rId3"/>
          <a:stretch/>
        </p:blipFill>
        <p:spPr>
          <a:xfrm>
            <a:off x="611280" y="230040"/>
            <a:ext cx="1584360" cy="12272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6" descr="1men"/>
          <p:cNvPicPr/>
          <p:nvPr/>
        </p:nvPicPr>
        <p:blipFill>
          <a:blip r:embed="rId4"/>
          <a:stretch/>
        </p:blipFill>
        <p:spPr>
          <a:xfrm>
            <a:off x="7380360" y="5415120"/>
            <a:ext cx="1512720" cy="117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5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2987280" y="404280"/>
            <a:ext cx="5248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Rectangle 13">
            <a:hlinkClick r:id="rId1" action="ppaction://hlinksldjump"/>
          </p:cNvPr>
          <p:cNvSpPr/>
          <p:nvPr/>
        </p:nvSpPr>
        <p:spPr>
          <a:xfrm>
            <a:off x="1547640" y="62935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4">
            <a:hlinkClick r:id="rId2" action="ppaction://hlinksldjump"/>
          </p:cNvPr>
          <p:cNvSpPr/>
          <p:nvPr/>
        </p:nvSpPr>
        <p:spPr>
          <a:xfrm>
            <a:off x="2195640" y="62935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5">
            <a:hlinkClick r:id="rId3" action="ppaction://hlinksldjump"/>
          </p:cNvPr>
          <p:cNvSpPr/>
          <p:nvPr/>
        </p:nvSpPr>
        <p:spPr>
          <a:xfrm>
            <a:off x="2916360" y="62935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6">
            <a:hlinkClick r:id="rId4" action="ppaction://hlinksldjump"/>
          </p:cNvPr>
          <p:cNvSpPr/>
          <p:nvPr/>
        </p:nvSpPr>
        <p:spPr>
          <a:xfrm>
            <a:off x="3635280" y="62935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7">
            <a:hlinkClick r:id="rId5" action="ppaction://hlinksldjump"/>
          </p:cNvPr>
          <p:cNvSpPr/>
          <p:nvPr/>
        </p:nvSpPr>
        <p:spPr>
          <a:xfrm>
            <a:off x="4427640" y="62935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8">
            <a:hlinkClick r:id="rId6" action="ppaction://hlinksldjump"/>
          </p:cNvPr>
          <p:cNvSpPr/>
          <p:nvPr/>
        </p:nvSpPr>
        <p:spPr>
          <a:xfrm>
            <a:off x="5148360" y="62935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9">
            <a:hlinkClick r:id="rId7" action="ppaction://hlinksldjump"/>
          </p:cNvPr>
          <p:cNvSpPr/>
          <p:nvPr/>
        </p:nvSpPr>
        <p:spPr>
          <a:xfrm>
            <a:off x="5867280" y="62870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0"/>
          <p:cNvSpPr/>
          <p:nvPr/>
        </p:nvSpPr>
        <p:spPr>
          <a:xfrm>
            <a:off x="6659640" y="62935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3" descr="MOI19"/>
          <p:cNvPicPr/>
          <p:nvPr/>
        </p:nvPicPr>
        <p:blipFill>
          <a:blip r:embed="rId8"/>
          <a:stretch/>
        </p:blipFill>
        <p:spPr>
          <a:xfrm>
            <a:off x="2050920" y="3141720"/>
            <a:ext cx="3024360" cy="26337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24" descr="i"/>
          <p:cNvPicPr/>
          <p:nvPr/>
        </p:nvPicPr>
        <p:blipFill>
          <a:blip r:embed="rId9"/>
          <a:stretch/>
        </p:blipFill>
        <p:spPr>
          <a:xfrm>
            <a:off x="1116000" y="333360"/>
            <a:ext cx="7632720" cy="20876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5" descr="i (2)"/>
          <p:cNvPicPr/>
          <p:nvPr/>
        </p:nvPicPr>
        <p:blipFill>
          <a:blip r:embed="rId10"/>
          <a:stretch/>
        </p:blipFill>
        <p:spPr>
          <a:xfrm>
            <a:off x="4572000" y="1268280"/>
            <a:ext cx="1295280" cy="17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5"/>
          <p:cNvSpPr/>
          <p:nvPr/>
        </p:nvSpPr>
        <p:spPr>
          <a:xfrm>
            <a:off x="2050920" y="189000"/>
            <a:ext cx="47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1476360" y="6307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8"/>
          <p:cNvSpPr/>
          <p:nvPr/>
        </p:nvSpPr>
        <p:spPr>
          <a:xfrm>
            <a:off x="2197080" y="6307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9"/>
          <p:cNvSpPr/>
          <p:nvPr/>
        </p:nvSpPr>
        <p:spPr>
          <a:xfrm>
            <a:off x="2916360" y="63079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0"/>
          <p:cNvSpPr/>
          <p:nvPr/>
        </p:nvSpPr>
        <p:spPr>
          <a:xfrm>
            <a:off x="3708360" y="6307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1"/>
          <p:cNvSpPr/>
          <p:nvPr/>
        </p:nvSpPr>
        <p:spPr>
          <a:xfrm>
            <a:off x="4429080" y="6307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22"/>
          <p:cNvSpPr/>
          <p:nvPr/>
        </p:nvSpPr>
        <p:spPr>
          <a:xfrm>
            <a:off x="5148360" y="63014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3"/>
          <p:cNvSpPr/>
          <p:nvPr/>
        </p:nvSpPr>
        <p:spPr>
          <a:xfrm>
            <a:off x="5940360" y="6307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4"/>
          <p:cNvSpPr/>
          <p:nvPr/>
        </p:nvSpPr>
        <p:spPr>
          <a:xfrm>
            <a:off x="6588000" y="6210360"/>
            <a:ext cx="25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вершение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6" descr="3040101-604002c28319abff"/>
          <p:cNvPicPr/>
          <p:nvPr/>
        </p:nvPicPr>
        <p:blipFill>
          <a:blip r:embed="rId1"/>
          <a:stretch/>
        </p:blipFill>
        <p:spPr>
          <a:xfrm>
            <a:off x="2268360" y="2349360"/>
            <a:ext cx="4896000" cy="37450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0" descr="9a1dd691814e"/>
          <p:cNvPicPr/>
          <p:nvPr/>
        </p:nvPicPr>
        <p:blipFill>
          <a:blip r:embed="rId2"/>
          <a:stretch/>
        </p:blipFill>
        <p:spPr>
          <a:xfrm>
            <a:off x="1187280" y="0"/>
            <a:ext cx="74883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6"/>
          <p:cNvSpPr/>
          <p:nvPr/>
        </p:nvSpPr>
        <p:spPr>
          <a:xfrm>
            <a:off x="1547640" y="5084640"/>
            <a:ext cx="63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cc0066"/>
                </a:solidFill>
                <a:uFillTx/>
                <a:latin typeface="comic"/>
                <a:ea typeface="Times New Roman"/>
              </a:rPr>
              <a:t>ОТЛИЧНАЯ РАБОТА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21" descr="solnce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19382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2" descr="znajka"/>
          <p:cNvPicPr/>
          <p:nvPr/>
        </p:nvPicPr>
        <p:blipFill>
          <a:blip r:embed="rId2"/>
          <a:stretch/>
        </p:blipFill>
        <p:spPr>
          <a:xfrm>
            <a:off x="179280" y="5157720"/>
            <a:ext cx="1346400" cy="15271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4" descr="57665e28814e"/>
          <p:cNvPicPr/>
          <p:nvPr/>
        </p:nvPicPr>
        <p:blipFill>
          <a:blip r:embed="rId3"/>
          <a:stretch/>
        </p:blipFill>
        <p:spPr>
          <a:xfrm>
            <a:off x="2700360" y="1557360"/>
            <a:ext cx="38098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18920" y="316080"/>
            <a:ext cx="6899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 u="sng">
                <a:solidFill>
                  <a:srgbClr val="cc0066"/>
                </a:solidFill>
                <a:uFillTx/>
                <a:latin typeface="Corbel"/>
              </a:rPr>
              <a:t>Задача 1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624672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а дереве было 2 сороки. К ним прилетели ещё 3. Сколько сорок стало на дереве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61928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ыбери правильн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1476360" y="4581360"/>
            <a:ext cx="6192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34"/>
          <p:cNvGrpSpPr/>
          <p:nvPr/>
        </p:nvGrpSpPr>
        <p:grpSpPr>
          <a:xfrm>
            <a:off x="539640" y="3284640"/>
            <a:ext cx="2376720" cy="1152360"/>
            <a:chOff x="539640" y="3284640"/>
            <a:chExt cx="2376720" cy="1152360"/>
          </a:xfrm>
        </p:grpSpPr>
        <p:sp>
          <p:nvSpPr>
            <p:cNvPr id="474" name="AutoShape 30"/>
            <p:cNvSpPr/>
            <p:nvPr/>
          </p:nvSpPr>
          <p:spPr>
            <a:xfrm>
              <a:off x="684360" y="3284640"/>
              <a:ext cx="2232000" cy="1152360"/>
            </a:xfrm>
            <a:prstGeom prst="cloudCallout">
              <a:avLst>
                <a:gd name="adj1" fmla="val -39333"/>
                <a:gd name="adj2" fmla="val 73689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8">
              <a:hlinkClick r:id="rId1" action="ppaction://hlinksldjump"/>
            </p:cNvPr>
            <p:cNvSpPr/>
            <p:nvPr/>
          </p:nvSpPr>
          <p:spPr>
            <a:xfrm>
              <a:off x="539640" y="3571200"/>
              <a:ext cx="23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А)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35"/>
          <p:cNvGrpSpPr/>
          <p:nvPr/>
        </p:nvGrpSpPr>
        <p:grpSpPr>
          <a:xfrm>
            <a:off x="3201840" y="3933720"/>
            <a:ext cx="2449440" cy="1150560"/>
            <a:chOff x="3201840" y="3933720"/>
            <a:chExt cx="2449440" cy="1150560"/>
          </a:xfrm>
        </p:grpSpPr>
        <p:sp>
          <p:nvSpPr>
            <p:cNvPr id="477" name="AutoShape 32"/>
            <p:cNvSpPr/>
            <p:nvPr/>
          </p:nvSpPr>
          <p:spPr>
            <a:xfrm>
              <a:off x="3362040" y="3933720"/>
              <a:ext cx="2052360" cy="1150560"/>
            </a:xfrm>
            <a:prstGeom prst="cloudCallout">
              <a:avLst>
                <a:gd name="adj1" fmla="val -36004"/>
                <a:gd name="adj2" fmla="val 83185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6">
              <a:hlinkClick r:id="rId2" action="ppaction://hlinksldjump"/>
            </p:cNvPr>
            <p:cNvSpPr/>
            <p:nvPr/>
          </p:nvSpPr>
          <p:spPr>
            <a:xfrm>
              <a:off x="3201840" y="423864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omic Sans MS"/>
                </a:rPr>
                <a:t>Б)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36"/>
          <p:cNvGrpSpPr/>
          <p:nvPr/>
        </p:nvGrpSpPr>
        <p:grpSpPr>
          <a:xfrm>
            <a:off x="5651640" y="4365720"/>
            <a:ext cx="2520720" cy="1081080"/>
            <a:chOff x="5651640" y="4365720"/>
            <a:chExt cx="2520720" cy="1081080"/>
          </a:xfrm>
        </p:grpSpPr>
        <p:sp>
          <p:nvSpPr>
            <p:cNvPr id="480" name="AutoShape 33"/>
            <p:cNvSpPr/>
            <p:nvPr/>
          </p:nvSpPr>
          <p:spPr>
            <a:xfrm>
              <a:off x="5940360" y="4365720"/>
              <a:ext cx="2232000" cy="1081080"/>
            </a:xfrm>
            <a:prstGeom prst="cloudCallout">
              <a:avLst>
                <a:gd name="adj1" fmla="val -47935"/>
                <a:gd name="adj2" fmla="val 6321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7">
              <a:hlinkClick r:id="rId3" action="ppaction://hlinksldjump"/>
            </p:cNvPr>
            <p:cNvSpPr/>
            <p:nvPr/>
          </p:nvSpPr>
          <p:spPr>
            <a:xfrm>
              <a:off x="5651640" y="4710960"/>
              <a:ext cx="25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omic Sans MS"/>
                </a:rPr>
                <a:t>В)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2" name="Picture 38" descr="znajka"/>
          <p:cNvPicPr/>
          <p:nvPr/>
        </p:nvPicPr>
        <p:blipFill>
          <a:blip r:embed="rId4"/>
          <a:stretch/>
        </p:blipFill>
        <p:spPr>
          <a:xfrm>
            <a:off x="0" y="5661000"/>
            <a:ext cx="1055520" cy="11970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9" descr="i"/>
          <p:cNvPicPr/>
          <p:nvPr/>
        </p:nvPicPr>
        <p:blipFill>
          <a:blip r:embed="rId5"/>
          <a:stretch/>
        </p:blipFill>
        <p:spPr>
          <a:xfrm>
            <a:off x="6732720" y="0"/>
            <a:ext cx="216216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920" y="316080"/>
            <a:ext cx="6532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cc0066"/>
                </a:solidFill>
                <a:uFillTx/>
                <a:latin typeface="Corbel"/>
              </a:rPr>
              <a:t>Задача 2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777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оля и Витя поймали 7 лещей. Витя поймал 3 леща. Сколько лещей поймал Коля?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1979640" y="981000"/>
            <a:ext cx="554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ыбери правильн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25"/>
          <p:cNvGrpSpPr/>
          <p:nvPr/>
        </p:nvGrpSpPr>
        <p:grpSpPr>
          <a:xfrm>
            <a:off x="468360" y="3141720"/>
            <a:ext cx="2592360" cy="1439640"/>
            <a:chOff x="468360" y="3141720"/>
            <a:chExt cx="2592360" cy="1439640"/>
          </a:xfrm>
        </p:grpSpPr>
        <p:sp>
          <p:nvSpPr>
            <p:cNvPr id="488" name="AutoShape 22"/>
            <p:cNvSpPr/>
            <p:nvPr/>
          </p:nvSpPr>
          <p:spPr>
            <a:xfrm>
              <a:off x="468360" y="3141720"/>
              <a:ext cx="2592360" cy="1439640"/>
            </a:xfrm>
            <a:prstGeom prst="flowChartMagneticTap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7">
              <a:hlinkClick r:id="rId1" action="ppaction://hlinksldjump"/>
            </p:cNvPr>
            <p:cNvSpPr/>
            <p:nvPr/>
          </p:nvSpPr>
          <p:spPr>
            <a:xfrm>
              <a:off x="1242360" y="3613680"/>
              <a:ext cx="948960" cy="5814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8"/>
          <p:cNvGrpSpPr/>
          <p:nvPr/>
        </p:nvGrpSpPr>
        <p:grpSpPr>
          <a:xfrm>
            <a:off x="3635280" y="4797360"/>
            <a:ext cx="2592360" cy="1440000"/>
            <a:chOff x="3635280" y="4797360"/>
            <a:chExt cx="2592360" cy="1440000"/>
          </a:xfrm>
        </p:grpSpPr>
        <p:sp>
          <p:nvSpPr>
            <p:cNvPr id="491" name="AutoShape 23"/>
            <p:cNvSpPr/>
            <p:nvPr/>
          </p:nvSpPr>
          <p:spPr>
            <a:xfrm>
              <a:off x="3635280" y="4797360"/>
              <a:ext cx="2592360" cy="1440000"/>
            </a:xfrm>
            <a:prstGeom prst="flowChartMagneticTap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1">
              <a:hlinkClick r:id="rId2" action="ppaction://hlinksldjump"/>
            </p:cNvPr>
            <p:cNvSpPr/>
            <p:nvPr/>
          </p:nvSpPr>
          <p:spPr>
            <a:xfrm>
              <a:off x="4263480" y="5198040"/>
              <a:ext cx="1285560" cy="5814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 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27"/>
          <p:cNvGrpSpPr/>
          <p:nvPr/>
        </p:nvGrpSpPr>
        <p:grpSpPr>
          <a:xfrm>
            <a:off x="5867280" y="3068640"/>
            <a:ext cx="2592360" cy="1440000"/>
            <a:chOff x="5867280" y="3068640"/>
            <a:chExt cx="2592360" cy="1440000"/>
          </a:xfrm>
        </p:grpSpPr>
        <p:sp>
          <p:nvSpPr>
            <p:cNvPr id="494" name="AutoShape 24"/>
            <p:cNvSpPr/>
            <p:nvPr/>
          </p:nvSpPr>
          <p:spPr>
            <a:xfrm>
              <a:off x="5867280" y="3068640"/>
              <a:ext cx="2592360" cy="1440000"/>
            </a:xfrm>
            <a:prstGeom prst="flowChartMagneticTap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2">
              <a:hlinkClick r:id="rId3" action="ppaction://hlinksldjump"/>
            </p:cNvPr>
            <p:cNvSpPr/>
            <p:nvPr/>
          </p:nvSpPr>
          <p:spPr>
            <a:xfrm>
              <a:off x="6687360" y="3542400"/>
              <a:ext cx="948960" cy="5814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6" name="Picture 29" descr="znajka"/>
          <p:cNvPicPr/>
          <p:nvPr/>
        </p:nvPicPr>
        <p:blipFill>
          <a:blip r:embed="rId4"/>
          <a:stretch/>
        </p:blipFill>
        <p:spPr>
          <a:xfrm>
            <a:off x="108000" y="5330880"/>
            <a:ext cx="1346040" cy="15271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0" descr="i"/>
          <p:cNvPicPr/>
          <p:nvPr/>
        </p:nvPicPr>
        <p:blipFill>
          <a:blip r:embed="rId5"/>
          <a:stretch/>
        </p:blipFill>
        <p:spPr>
          <a:xfrm>
            <a:off x="6343560" y="0"/>
            <a:ext cx="28004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6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6627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cc0066"/>
                </a:solidFill>
                <a:uFillTx/>
                <a:latin typeface="Corbel"/>
              </a:rPr>
              <a:t>Задача 3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1294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В саду росли 6 яблонь и 4 сливы. На сколько больше яблонь, чем слив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0" name="Group 23"/>
          <p:cNvGrpSpPr/>
          <p:nvPr/>
        </p:nvGrpSpPr>
        <p:grpSpPr>
          <a:xfrm>
            <a:off x="468360" y="3429000"/>
            <a:ext cx="2663640" cy="936720"/>
            <a:chOff x="468360" y="3429000"/>
            <a:chExt cx="2663640" cy="936720"/>
          </a:xfrm>
        </p:grpSpPr>
        <p:sp>
          <p:nvSpPr>
            <p:cNvPr id="501" name="AutoShape 20"/>
            <p:cNvSpPr/>
            <p:nvPr/>
          </p:nvSpPr>
          <p:spPr>
            <a:xfrm>
              <a:off x="611280" y="3429000"/>
              <a:ext cx="2520720" cy="936720"/>
            </a:xfrm>
            <a:prstGeom prst="flowChartPunchedTap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6">
              <a:hlinkClick r:id="rId1" action="ppaction://hlinksldjump"/>
            </p:cNvPr>
            <p:cNvSpPr/>
            <p:nvPr/>
          </p:nvSpPr>
          <p:spPr>
            <a:xfrm>
              <a:off x="468360" y="3640680"/>
              <a:ext cx="25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 на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ectangle 8"/>
          <p:cNvSpPr/>
          <p:nvPr/>
        </p:nvSpPr>
        <p:spPr>
          <a:xfrm>
            <a:off x="1763640" y="981000"/>
            <a:ext cx="554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ыбери правильн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4"/>
          <p:cNvGrpSpPr/>
          <p:nvPr/>
        </p:nvGrpSpPr>
        <p:grpSpPr>
          <a:xfrm>
            <a:off x="3059280" y="4292640"/>
            <a:ext cx="2665080" cy="1009440"/>
            <a:chOff x="3059280" y="4292640"/>
            <a:chExt cx="2665080" cy="1009440"/>
          </a:xfrm>
        </p:grpSpPr>
        <p:sp>
          <p:nvSpPr>
            <p:cNvPr id="505" name="AutoShape 21"/>
            <p:cNvSpPr/>
            <p:nvPr/>
          </p:nvSpPr>
          <p:spPr>
            <a:xfrm>
              <a:off x="3059280" y="4292640"/>
              <a:ext cx="2665080" cy="1009440"/>
            </a:xfrm>
            <a:prstGeom prst="flowChartPunchedTap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10">
              <a:hlinkClick r:id="rId2" action="ppaction://hlinksldjump"/>
            </p:cNvPr>
            <p:cNvSpPr/>
            <p:nvPr/>
          </p:nvSpPr>
          <p:spPr>
            <a:xfrm>
              <a:off x="3274920" y="4507560"/>
              <a:ext cx="208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на 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25"/>
          <p:cNvGrpSpPr/>
          <p:nvPr/>
        </p:nvGrpSpPr>
        <p:grpSpPr>
          <a:xfrm>
            <a:off x="5940360" y="4724280"/>
            <a:ext cx="2592360" cy="1009800"/>
            <a:chOff x="5940360" y="4724280"/>
            <a:chExt cx="2592360" cy="1009800"/>
          </a:xfrm>
        </p:grpSpPr>
        <p:sp>
          <p:nvSpPr>
            <p:cNvPr id="508" name="AutoShape 22"/>
            <p:cNvSpPr/>
            <p:nvPr/>
          </p:nvSpPr>
          <p:spPr>
            <a:xfrm>
              <a:off x="5940360" y="4724280"/>
              <a:ext cx="2592360" cy="1009800"/>
            </a:xfrm>
            <a:prstGeom prst="flowChartPunchedTap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1">
              <a:hlinkClick r:id="rId3" action="ppaction://hlinksldjump"/>
            </p:cNvPr>
            <p:cNvSpPr/>
            <p:nvPr/>
          </p:nvSpPr>
          <p:spPr>
            <a:xfrm>
              <a:off x="6209640" y="4982400"/>
              <a:ext cx="175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на 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26" descr="znajka"/>
          <p:cNvPicPr/>
          <p:nvPr/>
        </p:nvPicPr>
        <p:blipFill>
          <a:blip r:embed="rId4"/>
          <a:stretch/>
        </p:blipFill>
        <p:spPr>
          <a:xfrm>
            <a:off x="179280" y="5084640"/>
            <a:ext cx="1346400" cy="15271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7" descr="i"/>
          <p:cNvPicPr/>
          <p:nvPr/>
        </p:nvPicPr>
        <p:blipFill>
          <a:blip r:embed="rId5"/>
          <a:stretch/>
        </p:blipFill>
        <p:spPr>
          <a:xfrm>
            <a:off x="8097840" y="1628640"/>
            <a:ext cx="1046160" cy="14842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8" descr="i (2)"/>
          <p:cNvPicPr/>
          <p:nvPr/>
        </p:nvPicPr>
        <p:blipFill>
          <a:blip r:embed="rId6"/>
          <a:stretch/>
        </p:blipFill>
        <p:spPr>
          <a:xfrm>
            <a:off x="7238880" y="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7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63640" y="333360"/>
            <a:ext cx="6491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cc0066"/>
                </a:solidFill>
                <a:uFillTx/>
                <a:latin typeface="Corbel"/>
              </a:rPr>
              <a:t>Задача 4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7704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Слава поймал 5 карасей, а щук на 4 меньше. Сколько щук поймал Слав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1692360" y="981000"/>
            <a:ext cx="554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ыбери правильн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77"/>
          <p:cNvGrpSpPr/>
          <p:nvPr/>
        </p:nvGrpSpPr>
        <p:grpSpPr>
          <a:xfrm>
            <a:off x="900000" y="3429000"/>
            <a:ext cx="2448000" cy="1079640"/>
            <a:chOff x="900000" y="3429000"/>
            <a:chExt cx="2448000" cy="1079640"/>
          </a:xfrm>
        </p:grpSpPr>
        <p:sp>
          <p:nvSpPr>
            <p:cNvPr id="517" name="AutoShape 74"/>
            <p:cNvSpPr/>
            <p:nvPr/>
          </p:nvSpPr>
          <p:spPr>
            <a:xfrm>
              <a:off x="900000" y="3429000"/>
              <a:ext cx="2448000" cy="1079640"/>
            </a:xfrm>
            <a:prstGeom prst="wedgeEllipseCallout">
              <a:avLst>
                <a:gd name="adj1" fmla="val -53759"/>
                <a:gd name="adj2" fmla="val 81763"/>
              </a:avLst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62">
              <a:hlinkClick r:id="rId1" action="ppaction://hlinksldjump"/>
            </p:cNvPr>
            <p:cNvSpPr/>
            <p:nvPr/>
          </p:nvSpPr>
          <p:spPr>
            <a:xfrm>
              <a:off x="1187280" y="3573360"/>
              <a:ext cx="1368720" cy="4478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А) 9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79"/>
          <p:cNvGrpSpPr/>
          <p:nvPr/>
        </p:nvGrpSpPr>
        <p:grpSpPr>
          <a:xfrm>
            <a:off x="6012000" y="3068640"/>
            <a:ext cx="2376360" cy="1224000"/>
            <a:chOff x="6012000" y="3068640"/>
            <a:chExt cx="2376360" cy="1224000"/>
          </a:xfrm>
        </p:grpSpPr>
        <p:sp>
          <p:nvSpPr>
            <p:cNvPr id="520" name="AutoShape 76"/>
            <p:cNvSpPr/>
            <p:nvPr/>
          </p:nvSpPr>
          <p:spPr>
            <a:xfrm>
              <a:off x="6012000" y="3068640"/>
              <a:ext cx="2376360" cy="1224000"/>
            </a:xfrm>
            <a:prstGeom prst="wedgeEllipseCallout">
              <a:avLst>
                <a:gd name="adj1" fmla="val -60152"/>
                <a:gd name="adj2" fmla="val 58560"/>
              </a:avLst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63">
              <a:hlinkClick r:id="rId2" action="ppaction://hlinksldjump"/>
            </p:cNvPr>
            <p:cNvSpPr/>
            <p:nvPr/>
          </p:nvSpPr>
          <p:spPr>
            <a:xfrm>
              <a:off x="6732720" y="3357720"/>
              <a:ext cx="1439640" cy="4474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В) 2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78"/>
          <p:cNvGrpSpPr/>
          <p:nvPr/>
        </p:nvGrpSpPr>
        <p:grpSpPr>
          <a:xfrm>
            <a:off x="3492360" y="4653000"/>
            <a:ext cx="2519640" cy="1081080"/>
            <a:chOff x="3492360" y="4653000"/>
            <a:chExt cx="2519640" cy="1081080"/>
          </a:xfrm>
        </p:grpSpPr>
        <p:sp>
          <p:nvSpPr>
            <p:cNvPr id="523" name="AutoShape 75"/>
            <p:cNvSpPr/>
            <p:nvPr/>
          </p:nvSpPr>
          <p:spPr>
            <a:xfrm>
              <a:off x="3492360" y="4653000"/>
              <a:ext cx="2519640" cy="1081080"/>
            </a:xfrm>
            <a:prstGeom prst="wedgeEllipseCallout">
              <a:avLst>
                <a:gd name="adj1" fmla="val -47606"/>
                <a:gd name="adj2" fmla="val 103305"/>
              </a:avLst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64">
              <a:hlinkClick r:id="rId3" action="ppaction://hlinksldjump"/>
            </p:cNvPr>
            <p:cNvSpPr/>
            <p:nvPr/>
          </p:nvSpPr>
          <p:spPr>
            <a:xfrm>
              <a:off x="4140360" y="4925880"/>
              <a:ext cx="1223640" cy="4478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Б) 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Picture 80" descr="znajka"/>
          <p:cNvPicPr/>
          <p:nvPr/>
        </p:nvPicPr>
        <p:blipFill>
          <a:blip r:embed="rId4"/>
          <a:stretch/>
        </p:blipFill>
        <p:spPr>
          <a:xfrm>
            <a:off x="179280" y="5157720"/>
            <a:ext cx="1346400" cy="15271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1" descr="i (1)"/>
          <p:cNvPicPr/>
          <p:nvPr/>
        </p:nvPicPr>
        <p:blipFill>
          <a:blip r:embed="rId5"/>
          <a:stretch/>
        </p:blipFill>
        <p:spPr>
          <a:xfrm>
            <a:off x="7353360" y="0"/>
            <a:ext cx="17906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6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63280" y="315720"/>
            <a:ext cx="66279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cc0066"/>
                </a:solidFill>
                <a:uFillTx/>
                <a:latin typeface="Corbel"/>
              </a:rPr>
              <a:t>Задача 5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69760" y="1969560"/>
            <a:ext cx="63118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У Нины 8 конфет, а у Лены на 2 конфеты больш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Сколько конфет у Лены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Rectangle 12"/>
          <p:cNvSpPr/>
          <p:nvPr/>
        </p:nvSpPr>
        <p:spPr>
          <a:xfrm>
            <a:off x="1619280" y="1125360"/>
            <a:ext cx="612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ыбери правильн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56"/>
          <p:cNvGrpSpPr/>
          <p:nvPr/>
        </p:nvGrpSpPr>
        <p:grpSpPr>
          <a:xfrm>
            <a:off x="6156360" y="3645000"/>
            <a:ext cx="1871640" cy="1224000"/>
            <a:chOff x="6156360" y="3645000"/>
            <a:chExt cx="1871640" cy="1224000"/>
          </a:xfrm>
        </p:grpSpPr>
        <p:sp>
          <p:nvSpPr>
            <p:cNvPr id="531" name="AutoShape 53"/>
            <p:cNvSpPr/>
            <p:nvPr/>
          </p:nvSpPr>
          <p:spPr>
            <a:xfrm>
              <a:off x="6156360" y="3645000"/>
              <a:ext cx="1871640" cy="12240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42">
              <a:hlinkClick r:id="rId1" action="ppaction://hlinksldjump"/>
            </p:cNvPr>
            <p:cNvSpPr/>
            <p:nvPr/>
          </p:nvSpPr>
          <p:spPr>
            <a:xfrm>
              <a:off x="6515280" y="3989520"/>
              <a:ext cx="136836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В) 1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55"/>
          <p:cNvGrpSpPr/>
          <p:nvPr/>
        </p:nvGrpSpPr>
        <p:grpSpPr>
          <a:xfrm>
            <a:off x="3635280" y="3645000"/>
            <a:ext cx="1871640" cy="1224000"/>
            <a:chOff x="3635280" y="3645000"/>
            <a:chExt cx="1871640" cy="1224000"/>
          </a:xfrm>
        </p:grpSpPr>
        <p:sp>
          <p:nvSpPr>
            <p:cNvPr id="534" name="AutoShape 52"/>
            <p:cNvSpPr/>
            <p:nvPr/>
          </p:nvSpPr>
          <p:spPr>
            <a:xfrm>
              <a:off x="3635280" y="3645000"/>
              <a:ext cx="1871640" cy="12240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43">
              <a:hlinkClick r:id="rId2" action="ppaction://hlinksldjump"/>
            </p:cNvPr>
            <p:cNvSpPr/>
            <p:nvPr/>
          </p:nvSpPr>
          <p:spPr>
            <a:xfrm>
              <a:off x="4067280" y="3989520"/>
              <a:ext cx="10810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Б) 7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54"/>
          <p:cNvGrpSpPr/>
          <p:nvPr/>
        </p:nvGrpSpPr>
        <p:grpSpPr>
          <a:xfrm>
            <a:off x="1042920" y="3645000"/>
            <a:ext cx="1871640" cy="1224000"/>
            <a:chOff x="1042920" y="3645000"/>
            <a:chExt cx="1871640" cy="1224000"/>
          </a:xfrm>
        </p:grpSpPr>
        <p:sp>
          <p:nvSpPr>
            <p:cNvPr id="537" name="AutoShape 51"/>
            <p:cNvSpPr/>
            <p:nvPr/>
          </p:nvSpPr>
          <p:spPr>
            <a:xfrm>
              <a:off x="1042920" y="3645000"/>
              <a:ext cx="1871640" cy="12240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44">
              <a:hlinkClick r:id="rId3" action="ppaction://hlinksldjump"/>
            </p:cNvPr>
            <p:cNvSpPr/>
            <p:nvPr/>
          </p:nvSpPr>
          <p:spPr>
            <a:xfrm>
              <a:off x="1474920" y="3989520"/>
              <a:ext cx="10792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А) 6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9" name="Picture 57" descr="znajka"/>
          <p:cNvPicPr/>
          <p:nvPr/>
        </p:nvPicPr>
        <p:blipFill>
          <a:blip r:embed="rId4"/>
          <a:stretch/>
        </p:blipFill>
        <p:spPr>
          <a:xfrm>
            <a:off x="250920" y="5157720"/>
            <a:ext cx="1346040" cy="15271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8" descr="i"/>
          <p:cNvPicPr/>
          <p:nvPr/>
        </p:nvPicPr>
        <p:blipFill>
          <a:blip r:embed="rId5"/>
          <a:stretch/>
        </p:blipFill>
        <p:spPr>
          <a:xfrm>
            <a:off x="7267680" y="0"/>
            <a:ext cx="18763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6" name="chimes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835280" y="333000"/>
            <a:ext cx="65498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cc0066"/>
                </a:solidFill>
                <a:uFillTx/>
                <a:latin typeface="Corbel"/>
              </a:rPr>
              <a:t>Задача 6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539720"/>
            <a:ext cx="655164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В вазе лежали 4 яблока, это на три меньше, чем персиков. Сколько персиков в вазе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Rectangle 11"/>
          <p:cNvSpPr/>
          <p:nvPr/>
        </p:nvSpPr>
        <p:spPr>
          <a:xfrm>
            <a:off x="169236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ыбери правильн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21"/>
          <p:cNvGrpSpPr/>
          <p:nvPr/>
        </p:nvGrpSpPr>
        <p:grpSpPr>
          <a:xfrm>
            <a:off x="1333440" y="3430440"/>
            <a:ext cx="2158920" cy="1150920"/>
            <a:chOff x="1333440" y="3430440"/>
            <a:chExt cx="2158920" cy="1150920"/>
          </a:xfrm>
        </p:grpSpPr>
        <p:sp>
          <p:nvSpPr>
            <p:cNvPr id="545" name="AutoShape 18"/>
            <p:cNvSpPr/>
            <p:nvPr/>
          </p:nvSpPr>
          <p:spPr>
            <a:xfrm>
              <a:off x="1333440" y="3430440"/>
              <a:ext cx="2158920" cy="1150920"/>
            </a:xfrm>
            <a:prstGeom prst="flowChartOnlineStorag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2">
              <a:hlinkClick r:id="rId1" action="ppaction://hlinksldjump"/>
            </p:cNvPr>
            <p:cNvSpPr/>
            <p:nvPr/>
          </p:nvSpPr>
          <p:spPr>
            <a:xfrm>
              <a:off x="1692360" y="3716280"/>
              <a:ext cx="1224000" cy="5047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А) 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23"/>
          <p:cNvGrpSpPr/>
          <p:nvPr/>
        </p:nvGrpSpPr>
        <p:grpSpPr>
          <a:xfrm>
            <a:off x="3708360" y="4581360"/>
            <a:ext cx="1150920" cy="2159280"/>
            <a:chOff x="3708360" y="4581360"/>
            <a:chExt cx="1150920" cy="2159280"/>
          </a:xfrm>
        </p:grpSpPr>
        <p:sp>
          <p:nvSpPr>
            <p:cNvPr id="548" name="AutoShape 20"/>
            <p:cNvSpPr/>
            <p:nvPr/>
          </p:nvSpPr>
          <p:spPr>
            <a:xfrm rot="16200000">
              <a:off x="3204000" y="5085360"/>
              <a:ext cx="2159280" cy="1150920"/>
            </a:xfrm>
            <a:prstGeom prst="flowChartOnlineStorag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>
              <a:hlinkClick r:id="rId2" action="ppaction://hlinksldjump"/>
            </p:cNvPr>
            <p:cNvSpPr/>
            <p:nvPr/>
          </p:nvSpPr>
          <p:spPr>
            <a:xfrm>
              <a:off x="3708360" y="5373720"/>
              <a:ext cx="1150920" cy="5763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Б) 7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22"/>
          <p:cNvGrpSpPr/>
          <p:nvPr/>
        </p:nvGrpSpPr>
        <p:grpSpPr>
          <a:xfrm>
            <a:off x="5076720" y="3428640"/>
            <a:ext cx="2159280" cy="1150920"/>
            <a:chOff x="5076720" y="3428640"/>
            <a:chExt cx="2159280" cy="1150920"/>
          </a:xfrm>
        </p:grpSpPr>
        <p:sp>
          <p:nvSpPr>
            <p:cNvPr id="551" name="AutoShape 19"/>
            <p:cNvSpPr/>
            <p:nvPr/>
          </p:nvSpPr>
          <p:spPr>
            <a:xfrm rot="10800000">
              <a:off x="5076720" y="3428640"/>
              <a:ext cx="2159280" cy="1150920"/>
            </a:xfrm>
            <a:prstGeom prst="flowChartOnlineStorag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4">
              <a:hlinkClick r:id="rId3" action="ppaction://hlinksldjump"/>
            </p:cNvPr>
            <p:cNvSpPr/>
            <p:nvPr/>
          </p:nvSpPr>
          <p:spPr>
            <a:xfrm>
              <a:off x="5651640" y="3716280"/>
              <a:ext cx="1152360" cy="6494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В) 2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3" name="Picture 24" descr="znajka"/>
          <p:cNvPicPr/>
          <p:nvPr/>
        </p:nvPicPr>
        <p:blipFill>
          <a:blip r:embed="rId4"/>
          <a:stretch/>
        </p:blipFill>
        <p:spPr>
          <a:xfrm>
            <a:off x="250920" y="5157720"/>
            <a:ext cx="1346040" cy="1527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5" descr="i (1)"/>
          <p:cNvPicPr/>
          <p:nvPr/>
        </p:nvPicPr>
        <p:blipFill>
          <a:blip r:embed="rId5"/>
          <a:stretch/>
        </p:blipFill>
        <p:spPr>
          <a:xfrm>
            <a:off x="6819840" y="0"/>
            <a:ext cx="232416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6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65563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66"/>
                </a:solidFill>
                <a:uFillTx/>
                <a:latin typeface="Corbel"/>
              </a:rPr>
              <a:t>Задача 7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669600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У Саши было 3 желтых шарика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2 красных и 5 синих. Сколько всего шариков было у Саши?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161928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ыбери правильн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30"/>
          <p:cNvGrpSpPr/>
          <p:nvPr/>
        </p:nvGrpSpPr>
        <p:grpSpPr>
          <a:xfrm>
            <a:off x="5940360" y="4797360"/>
            <a:ext cx="2592360" cy="1440000"/>
            <a:chOff x="5940360" y="4797360"/>
            <a:chExt cx="2592360" cy="1440000"/>
          </a:xfrm>
        </p:grpSpPr>
        <p:sp>
          <p:nvSpPr>
            <p:cNvPr id="559" name="AutoShape 24"/>
            <p:cNvSpPr/>
            <p:nvPr/>
          </p:nvSpPr>
          <p:spPr>
            <a:xfrm>
              <a:off x="5940360" y="4797360"/>
              <a:ext cx="2592360" cy="1440000"/>
            </a:xfrm>
            <a:custGeom>
              <a:avLst/>
              <a:gdLst>
                <a:gd name="textAreaLeft" fmla="*/ 0 w 2592360"/>
                <a:gd name="textAreaRight" fmla="*/ 2592360 w 2592360"/>
                <a:gd name="textAreaTop" fmla="*/ 186480 h 1440000"/>
                <a:gd name="textAreaBottom" fmla="*/ 125352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0">
              <a:hlinkClick r:id="rId1" action="ppaction://hlinksldjump"/>
            </p:cNvPr>
            <p:cNvSpPr/>
            <p:nvPr/>
          </p:nvSpPr>
          <p:spPr>
            <a:xfrm>
              <a:off x="6443640" y="5229360"/>
              <a:ext cx="1584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В) 8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29"/>
          <p:cNvGrpSpPr/>
          <p:nvPr/>
        </p:nvGrpSpPr>
        <p:grpSpPr>
          <a:xfrm>
            <a:off x="3419640" y="3933720"/>
            <a:ext cx="2376360" cy="1368360"/>
            <a:chOff x="3419640" y="3933720"/>
            <a:chExt cx="2376360" cy="1368360"/>
          </a:xfrm>
        </p:grpSpPr>
        <p:sp>
          <p:nvSpPr>
            <p:cNvPr id="562" name="AutoShape 23"/>
            <p:cNvSpPr/>
            <p:nvPr/>
          </p:nvSpPr>
          <p:spPr>
            <a:xfrm>
              <a:off x="3419640" y="3933720"/>
              <a:ext cx="2376360" cy="1368360"/>
            </a:xfrm>
            <a:custGeom>
              <a:avLst/>
              <a:gdLst>
                <a:gd name="textAreaLeft" fmla="*/ 0 w 2376360"/>
                <a:gd name="textAreaRight" fmla="*/ 2376720 w 2376360"/>
                <a:gd name="textAreaTop" fmla="*/ 177120 h 1368360"/>
                <a:gd name="textAreaBottom" fmla="*/ 119124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4">
              <a:hlinkClick r:id="rId2" action="ppaction://hlinksldjump"/>
            </p:cNvPr>
            <p:cNvSpPr/>
            <p:nvPr/>
          </p:nvSpPr>
          <p:spPr>
            <a:xfrm>
              <a:off x="3706920" y="4335480"/>
              <a:ext cx="13064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Б) 9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8"/>
          <p:cNvGrpSpPr/>
          <p:nvPr/>
        </p:nvGrpSpPr>
        <p:grpSpPr>
          <a:xfrm>
            <a:off x="826920" y="3357720"/>
            <a:ext cx="2376720" cy="1223640"/>
            <a:chOff x="826920" y="3357720"/>
            <a:chExt cx="2376720" cy="1223640"/>
          </a:xfrm>
        </p:grpSpPr>
        <p:sp>
          <p:nvSpPr>
            <p:cNvPr id="565" name="AutoShape 22"/>
            <p:cNvSpPr/>
            <p:nvPr/>
          </p:nvSpPr>
          <p:spPr>
            <a:xfrm>
              <a:off x="826920" y="3357720"/>
              <a:ext cx="2376720" cy="1223640"/>
            </a:xfrm>
            <a:custGeom>
              <a:avLst/>
              <a:gdLst>
                <a:gd name="textAreaLeft" fmla="*/ 0 w 2376720"/>
                <a:gd name="textAreaRight" fmla="*/ 2377080 w 2376720"/>
                <a:gd name="textAreaTop" fmla="*/ 158400 h 1223640"/>
                <a:gd name="textAreaBottom" fmla="*/ 106524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5">
              <a:hlinkClick r:id="rId3" action="ppaction://hlinksldjump"/>
            </p:cNvPr>
            <p:cNvSpPr/>
            <p:nvPr/>
          </p:nvSpPr>
          <p:spPr>
            <a:xfrm>
              <a:off x="1116000" y="3716280"/>
              <a:ext cx="1511280" cy="504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А) 1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7" name="Picture 31" descr="znajka"/>
          <p:cNvPicPr/>
          <p:nvPr/>
        </p:nvPicPr>
        <p:blipFill>
          <a:blip r:embed="rId4"/>
          <a:stretch/>
        </p:blipFill>
        <p:spPr>
          <a:xfrm>
            <a:off x="250920" y="5157720"/>
            <a:ext cx="1346040" cy="15271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2" descr="pjatak"/>
          <p:cNvPicPr/>
          <p:nvPr/>
        </p:nvPicPr>
        <p:blipFill>
          <a:blip r:embed="rId5"/>
          <a:stretch/>
        </p:blipFill>
        <p:spPr>
          <a:xfrm>
            <a:off x="7315200" y="0"/>
            <a:ext cx="182880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6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79280" y="315720"/>
            <a:ext cx="64119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66"/>
                </a:solidFill>
                <a:uFillTx/>
                <a:latin typeface="Corbel"/>
              </a:rPr>
              <a:t>Задача 8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835280" y="1844640"/>
            <a:ext cx="61149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Чтобы рассадить 8 девочек, не хватает 2 стула. Сколько стульев в классе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1908000" y="981000"/>
            <a:ext cx="554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ыбери правильн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23"/>
          <p:cNvGrpSpPr/>
          <p:nvPr/>
        </p:nvGrpSpPr>
        <p:grpSpPr>
          <a:xfrm>
            <a:off x="3348000" y="4149720"/>
            <a:ext cx="2016000" cy="1655640"/>
            <a:chOff x="3348000" y="4149720"/>
            <a:chExt cx="2016000" cy="1655640"/>
          </a:xfrm>
        </p:grpSpPr>
        <p:sp>
          <p:nvSpPr>
            <p:cNvPr id="573" name="AutoShape 20"/>
            <p:cNvSpPr/>
            <p:nvPr/>
          </p:nvSpPr>
          <p:spPr>
            <a:xfrm>
              <a:off x="3348000" y="4149720"/>
              <a:ext cx="2016000" cy="1655640"/>
            </a:xfrm>
            <a:prstGeom prst="irregularSeal1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1">
              <a:hlinkClick r:id="rId1" action="ppaction://hlinksldjump"/>
            </p:cNvPr>
            <p:cNvSpPr/>
            <p:nvPr/>
          </p:nvSpPr>
          <p:spPr>
            <a:xfrm>
              <a:off x="3781440" y="4653000"/>
              <a:ext cx="15112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Б) 1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22"/>
          <p:cNvGrpSpPr/>
          <p:nvPr/>
        </p:nvGrpSpPr>
        <p:grpSpPr>
          <a:xfrm>
            <a:off x="826920" y="3068640"/>
            <a:ext cx="2016360" cy="1655640"/>
            <a:chOff x="826920" y="3068640"/>
            <a:chExt cx="2016360" cy="1655640"/>
          </a:xfrm>
        </p:grpSpPr>
        <p:sp>
          <p:nvSpPr>
            <p:cNvPr id="576" name="AutoShape 19"/>
            <p:cNvSpPr/>
            <p:nvPr/>
          </p:nvSpPr>
          <p:spPr>
            <a:xfrm>
              <a:off x="826920" y="3068640"/>
              <a:ext cx="2016360" cy="1655640"/>
            </a:xfrm>
            <a:prstGeom prst="irregularSeal1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2">
              <a:hlinkClick r:id="rId2" action="ppaction://hlinksldjump"/>
            </p:cNvPr>
            <p:cNvSpPr/>
            <p:nvPr/>
          </p:nvSpPr>
          <p:spPr>
            <a:xfrm>
              <a:off x="1332000" y="3571920"/>
              <a:ext cx="1224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А) 7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4"/>
          <p:cNvGrpSpPr/>
          <p:nvPr/>
        </p:nvGrpSpPr>
        <p:grpSpPr>
          <a:xfrm>
            <a:off x="6372360" y="3645000"/>
            <a:ext cx="1800000" cy="1512720"/>
            <a:chOff x="6372360" y="3645000"/>
            <a:chExt cx="1800000" cy="1512720"/>
          </a:xfrm>
        </p:grpSpPr>
        <p:sp>
          <p:nvSpPr>
            <p:cNvPr id="579" name="AutoShape 21"/>
            <p:cNvSpPr/>
            <p:nvPr/>
          </p:nvSpPr>
          <p:spPr>
            <a:xfrm>
              <a:off x="6372360" y="3645000"/>
              <a:ext cx="1800000" cy="1512720"/>
            </a:xfrm>
            <a:prstGeom prst="irregularSeal1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3">
              <a:hlinkClick r:id="rId3" action="ppaction://hlinksldjump"/>
            </p:cNvPr>
            <p:cNvSpPr/>
            <p:nvPr/>
          </p:nvSpPr>
          <p:spPr>
            <a:xfrm>
              <a:off x="6886440" y="4106160"/>
              <a:ext cx="10288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В) 6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1" name="Picture 25" descr="znajka"/>
          <p:cNvPicPr/>
          <p:nvPr/>
        </p:nvPicPr>
        <p:blipFill>
          <a:blip r:embed="rId4"/>
          <a:stretch/>
        </p:blipFill>
        <p:spPr>
          <a:xfrm>
            <a:off x="395280" y="5013360"/>
            <a:ext cx="1346040" cy="1527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6" descr="ava_mim014"/>
          <p:cNvPicPr/>
          <p:nvPr/>
        </p:nvPicPr>
        <p:blipFill>
          <a:blip r:embed="rId5"/>
          <a:stretch/>
        </p:blipFill>
        <p:spPr>
          <a:xfrm>
            <a:off x="7667640" y="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6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06:02:08Z</dcterms:created>
  <dc:creator>.</dc:creator>
  <dc:description/>
  <dc:language>en-US</dc:language>
  <cp:lastModifiedBy>Лара</cp:lastModifiedBy>
  <dcterms:modified xsi:type="dcterms:W3CDTF">2015-10-10T07:32:35Z</dcterms:modified>
  <cp:revision>48</cp:revision>
  <dc:subject/>
  <dc:title>Слайд 1</dc:title>
</cp:coreProperties>
</file>