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C00-CE0D-4053-9FAF-5B648530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316-5607-44B7-8E34-940FD35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6E3-24B7-4FFC-BB32-118452CD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68F-7534-4361-B546-16A5CC07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480-5D44-4169-83FB-0F36C82C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C96-E663-4038-8A47-52ABC10B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62E-4C8D-4079-8995-F33DAA7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C76-BCB7-4F04-8022-75297A6A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45F-0BA3-4AD9-B0E9-33CCC00F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D3D-BED3-428F-BEA5-C7FCE08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3C4-1EAA-4F62-B932-FF2CB4B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DF9-5455-4AC2-A2E3-DCC4199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B90D-9820-4A71-A188-A3EFB7A96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u.ru/db-mon/mo/Data/d_09/m373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457200" y="-1257480"/>
            <a:ext cx="1846440" cy="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57200" y="-1257480"/>
            <a:ext cx="3873600" cy="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457200" y="-1257480"/>
            <a:ext cx="3873600" cy="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9"/>
          <p:cNvGrpSpPr/>
          <p:nvPr/>
        </p:nvGrpSpPr>
        <p:grpSpPr>
          <a:xfrm>
            <a:off x="1258920" y="476280"/>
            <a:ext cx="6841080" cy="6857280"/>
            <a:chOff x="1258920" y="476280"/>
            <a:chExt cx="6841080" cy="6857280"/>
          </a:xfrm>
        </p:grpSpPr>
        <p:grpSp>
          <p:nvGrpSpPr>
            <p:cNvPr id="45" name="Group 30"/>
            <p:cNvGrpSpPr/>
            <p:nvPr/>
          </p:nvGrpSpPr>
          <p:grpSpPr>
            <a:xfrm>
              <a:off x="1608480" y="1048320"/>
              <a:ext cx="4203720" cy="3651480"/>
              <a:chOff x="1608480" y="1048320"/>
              <a:chExt cx="4203720" cy="3651480"/>
            </a:xfrm>
          </p:grpSpPr>
          <p:sp>
            <p:nvSpPr>
              <p:cNvPr id="46" name="AutoShape 31"/>
              <p:cNvSpPr/>
              <p:nvPr/>
            </p:nvSpPr>
            <p:spPr>
              <a:xfrm>
                <a:off x="1608480" y="1048320"/>
                <a:ext cx="4203720" cy="365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Picture 32" descr=""/>
            <p:cNvPicPr/>
            <p:nvPr/>
          </p:nvPicPr>
          <p:blipFill>
            <a:blip r:embed="rId1"/>
            <a:stretch/>
          </p:blipFill>
          <p:spPr>
            <a:xfrm>
              <a:off x="1272960" y="476280"/>
              <a:ext cx="68270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33"/>
            <p:cNvSpPr/>
            <p:nvPr/>
          </p:nvSpPr>
          <p:spPr>
            <a:xfrm>
              <a:off x="1258920" y="2571480"/>
              <a:ext cx="6777360" cy="26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38"/>
          <p:cNvSpPr/>
          <p:nvPr/>
        </p:nvSpPr>
        <p:spPr>
          <a:xfrm>
            <a:off x="0" y="-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684360" y="-368640"/>
            <a:ext cx="79912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Муниципальное бюджетное образовательное учреждение « Средняя общеобразовательная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школа №2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3"/>
          <p:cNvSpPr/>
          <p:nvPr/>
        </p:nvSpPr>
        <p:spPr>
          <a:xfrm>
            <a:off x="3137040" y="5948280"/>
            <a:ext cx="30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.Нижневарт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611280" y="155736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 сентября 2011 года все образовательные учреждения России перешли  на новый Федеральный государственный образовательный стандарт начального общего образования (ФГОС НОО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 такое Федеральный государственный стандарт начального общего образования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е государственные стандарты устанавливаются в Российской Федерации в соответствии с требованием Статьи 7 «Закона об образовании » и представляют собой «совокупность требований, обязательных при реализации основных образовательных программ начального общего образования (ООП НОО) образовательными учреждениями, имеющими государственную аккредитацию». С официальным приказом о введении в действие ФГОС НОО и текстом Стандарта можно познакомиться на сайт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обрнаук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ие требования выдвигает новый ФГОС НОО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выдвигает три группы требова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основной образовательной программы начального обще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структуре основной образовательной программы начального обще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условиям реализации основной образовательной программы началь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является отличительной особенностью нового Стандарт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тельной особенностью нового стандарта является е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ый харак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тавящий главной целью развитие личности учащего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тъемлемой частью ядра нового стандарта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 (УУД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выполнения ФГОС в школе разработаны и реализуются программ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ая программа начального общего образования в соответствии с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формирования и развития универсальных учебных действий у обучающихся начальны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духовно-нравственного развития и воспитания обучающихся на ступени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формирования культуры здорового и безопасн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работы с одаренными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коррекционной работы с обучающими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v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5640" y="421920"/>
            <a:ext cx="744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униципальная общеобразовательная средняя школа №24 расположена по адре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44520" y="1413000"/>
          <a:ext cx="8799480" cy="822240"/>
        </p:xfrm>
        <a:graphic>
          <a:graphicData uri="http://schemas.openxmlformats.org/drawingml/2006/table">
            <a:tbl>
              <a:tblPr/>
              <a:tblGrid>
                <a:gridCol w="87994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8617  Россия, Тюменская область, Ханты – Мансийский автономный округ - Югра, улица Пермская  дом 2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и телефоны:46-63-7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45-92-43, 47-04-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16"/>
          <p:cNvSpPr/>
          <p:nvPr/>
        </p:nvSpPr>
        <p:spPr>
          <a:xfrm>
            <a:off x="1116360" y="2719080"/>
            <a:ext cx="511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с:46-60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Школьный сайт: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ite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gerb"/>
          <p:cNvPicPr/>
          <p:nvPr/>
        </p:nvPicPr>
        <p:blipFill>
          <a:blip r:embed="rId1"/>
          <a:stretch/>
        </p:blipFill>
        <p:spPr>
          <a:xfrm>
            <a:off x="6877080" y="83664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gerb-lage_(preview)"/>
          <p:cNvPicPr/>
          <p:nvPr/>
        </p:nvPicPr>
        <p:blipFill>
          <a:blip r:embed="rId2"/>
          <a:stretch/>
        </p:blipFill>
        <p:spPr>
          <a:xfrm>
            <a:off x="250920" y="907920"/>
            <a:ext cx="1731960" cy="201636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75564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униципальное бюджетное образовательное учреждение  </a:t>
            </a:r>
            <a:endParaRPr b="0" lang="en-US" sz="16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« Средняя общеобразовательная </a:t>
            </a:r>
            <a:endParaRPr b="0" lang="en-US" sz="16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школа № 24»</a:t>
            </a:r>
            <a:endParaRPr b="0" lang="en-US" sz="16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611280" y="4581360"/>
            <a:ext cx="8001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pic>
        <p:nvPicPr>
          <p:cNvPr id="57" name="Picture 8" descr="школа"/>
          <p:cNvPicPr/>
          <p:nvPr/>
        </p:nvPicPr>
        <p:blipFill>
          <a:blip r:embed="rId3"/>
          <a:stretch/>
        </p:blipFill>
        <p:spPr>
          <a:xfrm>
            <a:off x="2357280" y="185724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л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ции город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20.04.2009 №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 муниципальные общеобразовательные учреждения города (далее - общеобразовательные учреждения) принимаются дети по достижении ими возраста 6 лет 6 месяцев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ля зачисления детей в 1 класс их родители (законные представители) должны представить в общеобразовательное учрежд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явление о приёме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пию свидетельства о рождении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дицинское заключение (справку) о состоянии здоровья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В целях определения программы обучения, соответствующей уровню развития, способностям и здоровью ребёнка, по согласию родителей (законных представителей) обучающихся и в их присутствии психологом образовательного учреждения может быть проведено собеседование с ребенком. Заключение психолога носит рекомендательны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Режи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а работает в одну смену. Начало занятий первой смены в 8-30 часов. Учебные занятия для 1-х классов организованы по 5-ти дневной рабочей нед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учебного г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 классе – 33 учебные не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2-4 классах – 34 учебные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перемен после 1, 4,5  урока- 10 минут, после 2-3 уроков по 20 минут, что соответствует СанПиН 2.4.2.1178-02, п.2.9.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учащихся 1 класса организована 5-ти дневная учебная неделя. Количество уроков в день не более 4-х. Используется «ступенчатый» режим обучения с постепенным наращиванием учебной нагрузки. В середине дня организована динамическая пауза продолжительностью 40 минут, что соответствует СанПиН 2.4.2.1178-02, п.2.9.4, 2.9.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ксимально допустимая недельная нагрузка в часах соответствует гигиеническим требованиям к максимальным величинам образовательной нагрузки СанПиН 2.4.2.1178-02, п.2.9.1. (1 класс - 20 ча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урочная деятельность младших школьников, на которую отводится 10 часов в недел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врале организованы дополнительные недельные каникулы. Продолжительность канику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не менее 30 календарных дней. Обучение осуществляется без домашних заданий и бального оценивания знаний обучающихся. Предметы высокой степени сложности проводятся 2, 3 уро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3:37:24Z</dcterms:created>
  <dc:creator>1</dc:creator>
  <dc:description/>
  <dc:language>en-US</dc:language>
  <cp:lastModifiedBy>ershova_nn</cp:lastModifiedBy>
  <dcterms:modified xsi:type="dcterms:W3CDTF">2012-04-21T05:49:25Z</dcterms:modified>
  <cp:revision>40</cp:revision>
  <dc:subject/>
  <dc:title>Слайд 1</dc:title>
</cp:coreProperties>
</file>