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687-8BC6-4AE7-86FF-4505156D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A24-349B-4603-88C2-C0EC12CD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62B-5671-4302-8881-71025E55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156-1645-441E-8B62-53CA0C2E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8A9-3160-490A-8A4A-0D8069F9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54C-D470-49A4-AC49-F046C3D3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8CF-38E2-4227-9618-ABE3059A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143-BDF0-4F0D-A5A5-B484C7CA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E4C-5586-4471-9D9A-D52B8F3B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D33-8D0B-4A9B-BD14-91A27699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F6E-B650-4B3B-98D0-54682BBD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D46-BD40-40E8-B45D-EDE1902C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29F9-8E92-4A27-9E23-C075E52B0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du.ru/db-mon/mo/Data/d_09/m373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457200" y="-1257480"/>
            <a:ext cx="1846440" cy="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457200" y="-1257480"/>
            <a:ext cx="3873600" cy="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457200" y="-1257480"/>
            <a:ext cx="3873600" cy="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825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9"/>
          <p:cNvGrpSpPr/>
          <p:nvPr/>
        </p:nvGrpSpPr>
        <p:grpSpPr>
          <a:xfrm>
            <a:off x="1258920" y="476280"/>
            <a:ext cx="6841080" cy="6857280"/>
            <a:chOff x="1258920" y="476280"/>
            <a:chExt cx="6841080" cy="6857280"/>
          </a:xfrm>
        </p:grpSpPr>
        <p:grpSp>
          <p:nvGrpSpPr>
            <p:cNvPr id="45" name="Group 30"/>
            <p:cNvGrpSpPr/>
            <p:nvPr/>
          </p:nvGrpSpPr>
          <p:grpSpPr>
            <a:xfrm>
              <a:off x="1608480" y="1048320"/>
              <a:ext cx="4203720" cy="3651480"/>
              <a:chOff x="1608480" y="1048320"/>
              <a:chExt cx="4203720" cy="3651480"/>
            </a:xfrm>
          </p:grpSpPr>
          <p:sp>
            <p:nvSpPr>
              <p:cNvPr id="46" name="AutoShape 31"/>
              <p:cNvSpPr/>
              <p:nvPr/>
            </p:nvSpPr>
            <p:spPr>
              <a:xfrm>
                <a:off x="1608480" y="1048320"/>
                <a:ext cx="4203720" cy="365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" name="Picture 32" descr=""/>
            <p:cNvPicPr/>
            <p:nvPr/>
          </p:nvPicPr>
          <p:blipFill>
            <a:blip r:embed="rId1"/>
            <a:stretch/>
          </p:blipFill>
          <p:spPr>
            <a:xfrm>
              <a:off x="1272960" y="476280"/>
              <a:ext cx="68270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33"/>
            <p:cNvSpPr/>
            <p:nvPr/>
          </p:nvSpPr>
          <p:spPr>
            <a:xfrm>
              <a:off x="1258920" y="2571480"/>
              <a:ext cx="6777360" cy="26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38"/>
          <p:cNvSpPr/>
          <p:nvPr/>
        </p:nvSpPr>
        <p:spPr>
          <a:xfrm>
            <a:off x="0" y="-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9"/>
          <p:cNvSpPr/>
          <p:nvPr/>
        </p:nvSpPr>
        <p:spPr>
          <a:xfrm>
            <a:off x="684360" y="-368640"/>
            <a:ext cx="79912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Муниципальное бюджетное образовательное учреждение « Средняя общеобразовательная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школа №2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3"/>
          <p:cNvSpPr/>
          <p:nvPr/>
        </p:nvSpPr>
        <p:spPr>
          <a:xfrm>
            <a:off x="3137040" y="5948280"/>
            <a:ext cx="30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г.Нижневарт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611280" y="155736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1 сентября 2011 года все образовательные учреждения России перешли  на новый Федеральный государственный образовательный стандарт начального общего образования (ФГОС НОО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то такое Федеральный государственный стандарт начального общего образования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е государственные стандарты устанавливаются в Российской Федерации в соответствии с требованием Статьи 7 «Закона об образовании » и представляют собой «совокупность требований, обязательных при реализации основных образовательных программ начального общего образования (ООП НОО) образовательными учреждениями, имеющими государственную аккредитацию». С официальным приказом о введении в действие ФГОС НОО и текстом Стандарта можно познакомиться на сайт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обрнаук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ие требования выдвигает новый ФГОС НОО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выдвигает три группы требован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ния к результатам освоения основной образовательной программы начального обще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ния к структуре основной образовательной программы начального обще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ния к условиям реализации основной образовательной программы начального обще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является отличительной особенностью нового Стандарт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ительной особенностью нового стандарта является е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ный характ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тавящий главной целью развитие личности учащего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тъемлемой частью ядра нового стандарта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иверсальные учебные действия (УУД)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выполнения ФГОС в школе разработаны и реализуются программы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ая программа начального общего образования в соответствии с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формирования и развития универсальных учебных действий у обучающихся начальны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духовно-нравственного развития и воспитания обучающихся на ступени началь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формирования культуры здорового и безопасн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работы с одаренными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коррекционной работы с обучающими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v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755640" y="421920"/>
            <a:ext cx="744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униципальная общеобразовательная средняя школа №24 расположена по адре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44520" y="1413000"/>
          <a:ext cx="8799480" cy="822240"/>
        </p:xfrm>
        <a:graphic>
          <a:graphicData uri="http://schemas.openxmlformats.org/drawingml/2006/table">
            <a:tbl>
              <a:tblPr/>
              <a:tblGrid>
                <a:gridCol w="87994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8617  Россия, Тюменская область, Ханты – Мансийский автономный округ - Югра, улица Пермская  дом 2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и телефоны:46-63-7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45-92-43, 47-04-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16"/>
          <p:cNvSpPr/>
          <p:nvPr/>
        </p:nvSpPr>
        <p:spPr>
          <a:xfrm>
            <a:off x="1116360" y="2719080"/>
            <a:ext cx="511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с:46-60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Школьный сайт: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ite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gerb"/>
          <p:cNvPicPr/>
          <p:nvPr/>
        </p:nvPicPr>
        <p:blipFill>
          <a:blip r:embed="rId1"/>
          <a:stretch/>
        </p:blipFill>
        <p:spPr>
          <a:xfrm>
            <a:off x="6877080" y="836640"/>
            <a:ext cx="201600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gerb-lage_(preview)"/>
          <p:cNvPicPr/>
          <p:nvPr/>
        </p:nvPicPr>
        <p:blipFill>
          <a:blip r:embed="rId2"/>
          <a:stretch/>
        </p:blipFill>
        <p:spPr>
          <a:xfrm>
            <a:off x="250920" y="907920"/>
            <a:ext cx="1731960" cy="201636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75564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униципальное бюджетное образовательное учреждение  </a:t>
            </a:r>
            <a:endParaRPr b="0" lang="en-US" sz="16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« Средняя общеобразовательная </a:t>
            </a:r>
            <a:endParaRPr b="0" lang="en-US" sz="16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школа № 24»</a:t>
            </a:r>
            <a:endParaRPr b="0" lang="en-US" sz="16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611280" y="4581360"/>
            <a:ext cx="8001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pic>
        <p:nvPicPr>
          <p:cNvPr id="57" name="Picture 8" descr="школа"/>
          <p:cNvPicPr/>
          <p:nvPr/>
        </p:nvPicPr>
        <p:blipFill>
          <a:blip r:embed="rId3"/>
          <a:stretch/>
        </p:blipFill>
        <p:spPr>
          <a:xfrm>
            <a:off x="2357280" y="185724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новл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министрации город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20.04.2009 №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 муниципальные общеобразовательные учреждения города (далее - общеобразовательные учреждения) принимаются дети по достижении ими возраста 6 лет 6 месяцев при отсутствии противопоказаний по состоянию здоровья, но не позже достижения ими возраста 8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ля зачисления детей в 1 класс их родители (законные представители) должны представить в общеобразовательное учрежд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явление о приёме ребё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пию свидетельства о рождении ребё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едицинское заключение (справку) о состоянии здоровья ребё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В целях определения программы обучения, соответствующей уровню развития, способностям и здоровью ребёнка, по согласию родителей (законных представителей) обучающихся и в их присутствии психологом образовательного учреждения может быть проведено собеседование с ребенком. Заключение психолога носит рекомендательный харак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Режи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а работает в одну смену. Начало занятий первой смены в 8-30 часов. Учебные занятия для 1-х классов организованы по 5-ти дневной рабочей неде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ельность учебного го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 классе – 33 учебные не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2-4 классах – 34 учебные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перемен после 1, 4,5  урока- 10 минут, после 2-3 уроков по 20 минут, что соответствует СанПиН 2.4.2.1178-02, п.2.9.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учащихся 1 класса организована 5-ти дневная учебная неделя. Количество уроков в день не более 4-х. Используется «ступенчатый» режим обучения с постепенным наращиванием учебной нагрузки. В середине дня организована динамическая пауза продолжительностью 40 минут, что соответствует СанПиН 2.4.2.1178-02, п.2.9.4, 2.9.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ксимально допустимая недельная нагрузка в часах соответствует гигиеническим требованиям к максимальным величинам образовательной нагрузки СанПиН 2.4.2.1178-02, п.2.9.1. (1 класс - 20 ча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урочная деятельность младших школьников, на которую отводится 10 часов в недел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феврале организованы дополнительные недельные каникулы. Продолжительность канику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ечение учебного года не менее 30 календарных дней. Обучение осуществляется без домашних заданий и бального оценивания знаний обучающихся. Предметы высокой степени сложности проводятся 2, 3 уро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3:37:24Z</dcterms:created>
  <dc:creator>1</dc:creator>
  <dc:description/>
  <dc:language>en-US</dc:language>
  <cp:lastModifiedBy>ershova_nn</cp:lastModifiedBy>
  <dcterms:modified xsi:type="dcterms:W3CDTF">2012-04-21T05:49:25Z</dcterms:modified>
  <cp:revision>40</cp:revision>
  <dc:subject/>
  <dc:title>Слайд 1</dc:title>
</cp:coreProperties>
</file>