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wind.wav" ContentType="audio/x-wav"/>
  <Override PartName="/ppt/media/image16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D95-BF85-46A4-AC2A-2D81819B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BD6-3633-4CB4-BE0D-79DA483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639-971E-4F6F-9DF6-FF25A1AC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D59-5F60-49F2-A796-25C4F8F0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CA5B-D699-46C0-BDB9-E23E2CFB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2DCE-5344-46F5-84D7-CCECB137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ED7-DEBE-4CE2-9731-7449E659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DDCB-12F8-47D2-BEB2-9397872A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E54-B94E-4BC6-A1B9-5C7CC5CE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9675-17BA-442A-AC80-57DA610D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AADA-6C35-418C-9E2F-34D947B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23E-F020-422C-9173-89EB57A5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25ED-A6E8-450E-9A8A-4C4EDD3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DB8C-B485-4B2F-8E24-515E0245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19A4-D918-4B31-898F-6327FCCC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2AB8-70E4-482F-82C2-848AE343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F16A-EC81-4B98-95C4-CE8981DF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26B-17EC-4E32-BFF0-C6B651FB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658-7274-4485-AD2A-F26B6841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9BD-29AC-465F-A968-DE7FE4CF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EA3-A2D3-4612-9D9E-74D318B6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CED-E446-402C-95FD-30AF9DC0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183-E24C-4F80-BD3B-023DFCD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F4F-512E-40DD-A74A-AC15C14B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8a54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4bd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4bd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4bd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4E74-050B-4841-8420-B2F0908E2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8a54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4bd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4bd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4bd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EEF1-5239-4197-93EA-9588D69E0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69960" y="603360"/>
            <a:ext cx="7804080" cy="1542960"/>
          </a:xfrm>
          <a:prstGeom prst="rect">
            <a:avLst/>
          </a:prstGeom>
          <a:ln w="0">
            <a:noFill/>
          </a:ln>
        </p:spPr>
      </p:pic>
      <p:grpSp>
        <p:nvGrpSpPr>
          <p:cNvPr id="83" name="Равнобедренный треугольник 3"/>
          <p:cNvGrpSpPr/>
          <p:nvPr/>
        </p:nvGrpSpPr>
        <p:grpSpPr>
          <a:xfrm>
            <a:off x="2176560" y="2328840"/>
            <a:ext cx="4790880" cy="4284720"/>
            <a:chOff x="2176560" y="2328840"/>
            <a:chExt cx="4790880" cy="4284720"/>
          </a:xfrm>
        </p:grpSpPr>
        <p:pic>
          <p:nvPicPr>
            <p:cNvPr id="84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2176560" y="2328840"/>
              <a:ext cx="479088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292560" y="4473720"/>
              <a:ext cx="2376360" cy="21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200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-360" y="907920"/>
            <a:ext cx="5724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ема: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з точки, не лежащей на прямой, можно провести перпендикуляр к этой прямой, и притом только один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Медианы треугольника пересекаются в одной точке, которая называется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ентром тяжести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треугольника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вносторонний треугольник: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звали так, потому что его стороны равные. 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</p:txBody>
      </p:sp>
      <p:pic>
        <p:nvPicPr>
          <p:cNvPr id="105" name="Содержимое 4" descr="tri06.gif"/>
          <p:cNvPicPr/>
          <p:nvPr/>
        </p:nvPicPr>
        <p:blipFill>
          <a:blip r:embed="rId2"/>
          <a:stretch/>
        </p:blipFill>
        <p:spPr>
          <a:xfrm>
            <a:off x="5940360" y="981000"/>
            <a:ext cx="302436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Павел\Рабочий стол\3у\200px-Triangle-equilateral.svg.png"/>
          <p:cNvPicPr/>
          <p:nvPr/>
        </p:nvPicPr>
        <p:blipFill>
          <a:blip r:embed="rId3"/>
          <a:stretch/>
        </p:blipFill>
        <p:spPr>
          <a:xfrm>
            <a:off x="6012000" y="422100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2279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8920" y="1989000"/>
            <a:ext cx="87138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Урок геометрии. Учитель просит нарисовать равнобедренный треугольник. Ученик рисует его на доске. Учитель: 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- Петя, теперь докажи, что этот треугольник действительно равнобедренный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- Мамой клянусь!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479700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Учитель спрашивает ученика: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- Почему уроки за тебя каждый день делает твой папа?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- Потому что мама всегда занята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3" descr=""/>
          <p:cNvPicPr/>
          <p:nvPr/>
        </p:nvPicPr>
        <p:blipFill>
          <a:blip r:embed="rId1"/>
          <a:stretch/>
        </p:blipFill>
        <p:spPr>
          <a:xfrm>
            <a:off x="450720" y="1047600"/>
            <a:ext cx="8242560" cy="4687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3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632800" cy="393228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geo7a.gif"/>
          <p:cNvPicPr/>
          <p:nvPr/>
        </p:nvPicPr>
        <p:blipFill>
          <a:blip r:embed="rId2"/>
          <a:stretch/>
        </p:blipFill>
        <p:spPr>
          <a:xfrm>
            <a:off x="611280" y="3716280"/>
            <a:ext cx="806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85840" y="-30240"/>
            <a:ext cx="8572320" cy="1230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еугольники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вают:</a:t>
            </a:r>
            <a:endParaRPr b="0" lang="en-US" sz="4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тры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упы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ямоугольны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вносторонни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внобедренны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правильные.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Павел\Рабочий стол\3у\treygolniki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3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30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052640"/>
            <a:ext cx="536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диана: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резок, соединяющий вершину треугольника  с серединой противоположной стороны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иссектрис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т лат. 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-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двойное», и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разрезание») угла это луч с началом в вершине угла, делящий угол на две равные части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  <p:pic>
        <p:nvPicPr>
          <p:cNvPr id="93" name="Содержимое 10" descr="tri03.gif"/>
          <p:cNvPicPr/>
          <p:nvPr/>
        </p:nvPicPr>
        <p:blipFill>
          <a:blip r:embed="rId2"/>
          <a:stretch/>
        </p:blipFill>
        <p:spPr>
          <a:xfrm>
            <a:off x="5364000" y="981000"/>
            <a:ext cx="3600720" cy="244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Павел\Рабочий стол\3у\tri04.gif"/>
          <p:cNvPicPr/>
          <p:nvPr/>
        </p:nvPicPr>
        <p:blipFill>
          <a:blip r:embed="rId3"/>
          <a:stretch/>
        </p:blipFill>
        <p:spPr>
          <a:xfrm>
            <a:off x="5580000" y="386064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3640" y="764640"/>
            <a:ext cx="46083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сота: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пендикуляр, проведённый из вершины треугольника к противоположной стороне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  <p:pic>
        <p:nvPicPr>
          <p:cNvPr id="96" name="Содержимое 9" descr="tri05.gif"/>
          <p:cNvPicPr/>
          <p:nvPr/>
        </p:nvPicPr>
        <p:blipFill>
          <a:blip r:embed="rId1"/>
          <a:stretch/>
        </p:blipFill>
        <p:spPr>
          <a:xfrm>
            <a:off x="5219640" y="981000"/>
            <a:ext cx="36892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24000" y="18900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Свойства треуголь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1c50b"/>
                </a:solidFill>
                <a:uFillTx/>
                <a:latin typeface="Constantia"/>
              </a:rPr>
              <a:t>В любом треугольнике:</a:t>
            </a:r>
            <a:r>
              <a:rPr b="1" lang="ru-RU" sz="2800" spc="-1" strike="noStrike">
                <a:solidFill>
                  <a:srgbClr val="21c50b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1.  Против большей стороны лежит больший угол, и наоборот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2.  Против равных сторон лежат равные углы, и наоборот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(т.е. все углы в </a:t>
            </a:r>
            <a:r>
              <a:rPr b="0" i="1" lang="ru-RU" sz="2000" spc="-1" strike="noStrike">
                <a:solidFill>
                  <a:srgbClr val="ffc000"/>
                </a:solidFill>
                <a:latin typeface="Constantia"/>
              </a:rPr>
              <a:t>равностороннем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 треугольнике равны)</a:t>
            </a: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3.  Сумма углов треугольника равна 180 º 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nstantia"/>
              </a:rPr>
              <a:t>(из двух последних свойств следует, что каждый угол в  равностороннем   треугольнике равен 60</a:t>
            </a:r>
            <a:r>
              <a:rPr b="1" i="1" lang="ru-RU" sz="2000" spc="-1" strike="noStrike">
                <a:solidFill>
                  <a:srgbClr val="00b0f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Constantia"/>
              </a:rPr>
              <a:t>º)</a:t>
            </a:r>
            <a:r>
              <a:rPr b="0" lang="ru-RU" sz="2000" spc="-1" strike="noStrike">
                <a:solidFill>
                  <a:srgbClr val="00b0f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4.  Продолжая одну из сторон треугольника, получаем </a:t>
            </a:r>
            <a:r>
              <a:rPr b="0" i="1" lang="ru-RU" sz="2400" spc="-1" strike="noStrike">
                <a:solidFill>
                  <a:srgbClr val="ffc000"/>
                </a:solidFill>
                <a:latin typeface="Constantia"/>
              </a:rPr>
              <a:t>внешний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  угол. </a:t>
            </a:r>
            <a:r>
              <a:rPr b="1" i="1" lang="ru-RU" sz="2000" spc="-1" strike="noStrike">
                <a:solidFill>
                  <a:srgbClr val="ffc000"/>
                </a:solidFill>
                <a:latin typeface="Constantia"/>
              </a:rPr>
              <a:t>Внешний угол треугольника равен сумме внутренних углов, не смежных с ним</a:t>
            </a:r>
            <a:r>
              <a:rPr b="1" lang="ru-RU" sz="2000" spc="-1" strike="noStrike">
                <a:solidFill>
                  <a:srgbClr val="ffc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5.  Любая сторона треугольника меньше суммы двух других сторон и больше их разности </a:t>
            </a:r>
            <a:r>
              <a:rPr b="1" i="1" lang="ru-RU" sz="2000" spc="-1" strike="noStrike">
                <a:solidFill>
                  <a:srgbClr val="00b0f0"/>
                </a:solidFill>
                <a:latin typeface="Constantia"/>
              </a:rPr>
              <a:t>( a &lt; b + c,  a &gt; b – c;  b &lt; a + c,  b &gt; a – c;  c &lt; a + b,  c &gt; a – b ).       </a:t>
            </a: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99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ема: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равнобедренном треугольнике углы при основании равны. 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ема: </a:t>
            </a:r>
            <a:r>
              <a:rPr b="1" lang="ru-RU" sz="28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В равнобедренном треугольнике биссектриса, проведённая к основанию, является медианой и высотой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ема:</a:t>
            </a:r>
            <a:r>
              <a:rPr b="1" lang="ru-RU" sz="28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сота (медиана) р/б треугольника, проведённая к основанию, является  медианой (высотой) и биссектрисой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-225360" y="182520"/>
            <a:ext cx="9594720" cy="101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5056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c50b"/>
                </a:solidFill>
                <a:latin typeface="Times New Roman"/>
                <a:ea typeface="Times New Roman"/>
              </a:rPr>
              <a:t>Треугольники равны, если: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c50b"/>
                </a:solidFill>
                <a:latin typeface="Times New Roman"/>
                <a:ea typeface="Times New Roman"/>
              </a:rPr>
              <a:t>1 признак: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ве стороны и угол между ними одного треугольника соответственно равны двум сторонам и углу между ними другого треугольника. 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c50b"/>
                </a:solidFill>
                <a:latin typeface="Times New Roman"/>
                <a:ea typeface="Times New Roman"/>
              </a:rPr>
              <a:t>2 признак: </a:t>
            </a:r>
            <a:r>
              <a:rPr b="1" lang="ru-RU" sz="24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сторона и два прилежащих к ней угла одного треугольника соответственно равны стороне и двум прилежащим к ней углам другого треугольника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c50b"/>
                </a:solidFill>
                <a:latin typeface="Times New Roman"/>
                <a:ea typeface="Times New Roman"/>
              </a:rPr>
              <a:t>3 признак: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ри стороны одного треугольника соответственно равны трем сторонам другого треугольника.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7:00:39Z</dcterms:created>
  <dc:creator>Павел</dc:creator>
  <dc:description/>
  <cp:keywords/>
  <dc:language>en-US</dc:language>
  <cp:lastModifiedBy>Павел</cp:lastModifiedBy>
  <dcterms:modified xsi:type="dcterms:W3CDTF">2010-12-09T21:34:07Z</dcterms:modified>
  <cp:revision>25</cp:revision>
  <dc:subject/>
  <dc:title>Треугольн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3333</vt:lpwstr>
  </property>
</Properties>
</file>