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applause.wav" ContentType="audio/x-wav"/>
  <Override PartName="/ppt/media/wind.wav" ContentType="audio/x-wav"/>
  <Override PartName="/ppt/media/image16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F73-D4DC-4819-9072-2D57E91E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37E-A79C-4012-9DB3-D7F6A88D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971-DC4C-4308-A15E-9A4BA5ED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627-AC8E-4752-9515-58A90959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3D27-AA4A-47D8-974C-C6FE26F8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A858-D8CE-46C1-A110-8F573A2B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49F7-6147-47A5-A609-A426C4FE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B393-A4F1-438C-A1F0-7E3AEC4D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576D-DB05-4276-B526-A840D6A9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4D6E-DA52-4066-A510-698026D7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4AE4-D85D-40A9-A183-AC4E8DAC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E6F-5FEA-4A1F-A007-B8B49B9C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9564-2D4C-46DE-B902-3242ADEE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C0DE-90E0-45E1-932D-C260F66E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699C-84CA-42CD-B6DE-3EA74257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A86C-8AB5-4F9B-8C8F-AC71A172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D56F-8590-4465-B08A-192179E5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A459-08B5-4307-B3CA-88A2E63D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BEE6-7AC8-44A6-9E90-CCB7A3B2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B4C-A457-4D15-9864-06A3EF6D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DB5A-8C74-43E7-B2DC-EB5C3249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1B2-D2AC-47DA-838D-39B391DE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934-40F9-49F3-8C8C-37ECA768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45A6-65DB-447E-A588-2D37E4C5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48a54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bd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4bd9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4bd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4bd9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4bd9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B6D3-395B-45B0-859C-26B714F299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48a54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948a54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bd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4bd9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4bd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4bd9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4bd9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0F7F-9D53-4380-9A41-B4376C4C32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669960" y="603360"/>
            <a:ext cx="7804080" cy="1542960"/>
          </a:xfrm>
          <a:prstGeom prst="rect">
            <a:avLst/>
          </a:prstGeom>
          <a:ln w="0">
            <a:noFill/>
          </a:ln>
        </p:spPr>
      </p:pic>
      <p:grpSp>
        <p:nvGrpSpPr>
          <p:cNvPr id="83" name="Равнобедренный треугольник 3"/>
          <p:cNvGrpSpPr/>
          <p:nvPr/>
        </p:nvGrpSpPr>
        <p:grpSpPr>
          <a:xfrm>
            <a:off x="2176560" y="2328840"/>
            <a:ext cx="4790880" cy="4284720"/>
            <a:chOff x="2176560" y="2328840"/>
            <a:chExt cx="4790880" cy="4284720"/>
          </a:xfrm>
        </p:grpSpPr>
        <p:pic>
          <p:nvPicPr>
            <p:cNvPr id="84" name="Равнобедренный треугольник 3" descr=""/>
            <p:cNvPicPr/>
            <p:nvPr/>
          </p:nvPicPr>
          <p:blipFill>
            <a:blip r:embed="rId2"/>
            <a:stretch/>
          </p:blipFill>
          <p:spPr>
            <a:xfrm>
              <a:off x="2176560" y="2328840"/>
              <a:ext cx="4790880" cy="42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292560" y="4473720"/>
              <a:ext cx="2376360" cy="21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  <p:sndAc>
      <p:stSnd>
        <p:snd r:embed="rId3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-139680"/>
            <a:ext cx="8242560" cy="1200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-360" y="907920"/>
            <a:ext cx="5724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орема: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з точки, не лежащей на прямой, можно провести перпендикуляр к этой прямой, и притом только один.</a:t>
            </a:r>
            <a:endParaRPr b="0" lang="en-US" sz="24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084d"/>
                </a:solidFill>
                <a:latin typeface="Times New Roman"/>
                <a:ea typeface="Times New Roman"/>
              </a:rPr>
              <a:t>Медианы треугольника пересекаются в одной точке, которая называется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центром тяжести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8084d"/>
                </a:solidFill>
                <a:latin typeface="Times New Roman"/>
                <a:ea typeface="Times New Roman"/>
              </a:rPr>
              <a:t>треугольника.</a:t>
            </a:r>
            <a:endParaRPr b="0" lang="en-US" sz="24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вносторонний треугольник: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азвали так, потому что его стороны равные. </a:t>
            </a:r>
            <a:endParaRPr b="0" lang="en-US" sz="2400" spc="-1" strike="noStrike">
              <a:solidFill>
                <a:srgbClr val="c4bd97"/>
              </a:solidFill>
              <a:latin typeface="Constantia"/>
            </a:endParaRPr>
          </a:p>
        </p:txBody>
      </p:sp>
      <p:pic>
        <p:nvPicPr>
          <p:cNvPr id="105" name="Содержимое 4" descr="tri06.gif"/>
          <p:cNvPicPr/>
          <p:nvPr/>
        </p:nvPicPr>
        <p:blipFill>
          <a:blip r:embed="rId2"/>
          <a:stretch/>
        </p:blipFill>
        <p:spPr>
          <a:xfrm>
            <a:off x="5940360" y="981000"/>
            <a:ext cx="3024360" cy="2879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Documents and Settings\Павел\Рабочий стол\3у\200px-Triangle-equilateral.svg.png"/>
          <p:cNvPicPr/>
          <p:nvPr/>
        </p:nvPicPr>
        <p:blipFill>
          <a:blip r:embed="rId3"/>
          <a:stretch/>
        </p:blipFill>
        <p:spPr>
          <a:xfrm>
            <a:off x="6012000" y="4221000"/>
            <a:ext cx="295272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0720" y="-139680"/>
            <a:ext cx="8242560" cy="2279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78920" y="1989000"/>
            <a:ext cx="87138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nstantia"/>
              </a:rPr>
              <a:t>Урок геометрии. Учитель просит нарисовать равнобедренный треугольник. Ученик рисует его на доске. Учитель: 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nstantia"/>
              </a:rPr>
              <a:t>- Петя, теперь докажи, что этот треугольник действительно равнобедренный.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nstantia"/>
              </a:rPr>
              <a:t>- Мамой клянусь!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8920" y="4797000"/>
            <a:ext cx="8713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nstantia"/>
              </a:rPr>
              <a:t>Учитель спрашивает ученика: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08520" indent="-308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nstantia"/>
              </a:rPr>
              <a:t>- Почему уроки за тебя каждый день делает твой папа?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08520" indent="-308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nstantia"/>
              </a:rPr>
              <a:t>- Потому что мама всегда занята.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3" descr=""/>
          <p:cNvPicPr/>
          <p:nvPr/>
        </p:nvPicPr>
        <p:blipFill>
          <a:blip r:embed="rId1"/>
          <a:stretch/>
        </p:blipFill>
        <p:spPr>
          <a:xfrm>
            <a:off x="450720" y="1047600"/>
            <a:ext cx="8242560" cy="4687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3" descr=""/>
          <p:cNvPicPr/>
          <p:nvPr/>
        </p:nvPicPr>
        <p:blipFill>
          <a:blip r:embed="rId1"/>
          <a:stretch/>
        </p:blipFill>
        <p:spPr>
          <a:xfrm>
            <a:off x="212760" y="225360"/>
            <a:ext cx="8632800" cy="393228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4" descr="geo7a.gif"/>
          <p:cNvPicPr/>
          <p:nvPr/>
        </p:nvPicPr>
        <p:blipFill>
          <a:blip r:embed="rId2"/>
          <a:stretch/>
        </p:blipFill>
        <p:spPr>
          <a:xfrm>
            <a:off x="611280" y="3716280"/>
            <a:ext cx="806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285840" y="-30240"/>
            <a:ext cx="8572320" cy="1230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реугольники</a:t>
            </a:r>
            <a:r>
              <a:rPr b="1" lang="ru-RU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ывают:</a:t>
            </a:r>
            <a:endParaRPr b="0" lang="en-US" sz="40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стрые;</a:t>
            </a:r>
            <a:endParaRPr b="0" lang="en-US" sz="30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упые;</a:t>
            </a:r>
            <a:endParaRPr b="0" lang="en-US" sz="30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ямоугольные;</a:t>
            </a:r>
            <a:endParaRPr b="0" lang="en-US" sz="30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вносторонние;</a:t>
            </a:r>
            <a:endParaRPr b="0" lang="en-US" sz="30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внобедренные;</a:t>
            </a:r>
            <a:endParaRPr b="0" lang="en-US" sz="30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правильные.</a:t>
            </a:r>
            <a:endParaRPr b="0" lang="en-US" sz="30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bd97"/>
              </a:solidFill>
              <a:latin typeface="Constanti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Павел\Рабочий стол\3у\treygolniki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3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242560" cy="1305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0" y="1052640"/>
            <a:ext cx="536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едиана: 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резок, соединяющий вершину треугольника  с серединой противоположной стороны.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иссектрис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от лат. 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-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двойное», и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tio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разрезание») угла это луч с началом в вершине угла, делящий угол на две равные части.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</p:txBody>
      </p:sp>
      <p:pic>
        <p:nvPicPr>
          <p:cNvPr id="93" name="Содержимое 10" descr="tri03.gif"/>
          <p:cNvPicPr/>
          <p:nvPr/>
        </p:nvPicPr>
        <p:blipFill>
          <a:blip r:embed="rId2"/>
          <a:stretch/>
        </p:blipFill>
        <p:spPr>
          <a:xfrm>
            <a:off x="5364000" y="981000"/>
            <a:ext cx="3600720" cy="244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C:\Documents and Settings\Павел\Рабочий стол\3у\tri04.gif"/>
          <p:cNvPicPr/>
          <p:nvPr/>
        </p:nvPicPr>
        <p:blipFill>
          <a:blip r:embed="rId3"/>
          <a:stretch/>
        </p:blipFill>
        <p:spPr>
          <a:xfrm>
            <a:off x="5580000" y="3860640"/>
            <a:ext cx="3313080" cy="2484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23640" y="764640"/>
            <a:ext cx="460836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ысота: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ерпендикуляр, проведённый из вершины треугольника к противоположной стороне.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</p:txBody>
      </p:sp>
      <p:pic>
        <p:nvPicPr>
          <p:cNvPr id="96" name="Содержимое 9" descr="tri05.gif"/>
          <p:cNvPicPr/>
          <p:nvPr/>
        </p:nvPicPr>
        <p:blipFill>
          <a:blip r:embed="rId1"/>
          <a:stretch/>
        </p:blipFill>
        <p:spPr>
          <a:xfrm>
            <a:off x="5219640" y="981000"/>
            <a:ext cx="36892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324000" y="189000"/>
            <a:ext cx="84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Свойства треугольник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1197000"/>
            <a:ext cx="8640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1c50b"/>
                </a:solidFill>
                <a:uFillTx/>
                <a:latin typeface="Constantia"/>
              </a:rPr>
              <a:t>В любом треугольнике:</a:t>
            </a:r>
            <a:r>
              <a:rPr b="1" lang="ru-RU" sz="2800" spc="-1" strike="noStrike">
                <a:solidFill>
                  <a:srgbClr val="21c50b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onstantia"/>
              </a:rPr>
              <a:t>1.  Против большей стороны лежит больший угол, и наоборот.</a:t>
            </a:r>
            <a:endParaRPr b="0" lang="en-US" sz="2400" spc="-1" strike="noStrike">
              <a:solidFill>
                <a:srgbClr val="c4bd97"/>
              </a:solidFill>
              <a:latin typeface="Constantia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2.  Против равных сторон лежат равные углы, и наоборот.</a:t>
            </a:r>
            <a:endParaRPr b="0" lang="en-US" sz="2400" spc="-1" strike="noStrike">
              <a:solidFill>
                <a:srgbClr val="c4bd97"/>
              </a:solidFill>
              <a:latin typeface="Constantia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Constantia"/>
              </a:rPr>
              <a:t>(т.е. все углы в </a:t>
            </a:r>
            <a:r>
              <a:rPr b="0" i="1" lang="ru-RU" sz="2000" spc="-1" strike="noStrike">
                <a:solidFill>
                  <a:srgbClr val="ffc000"/>
                </a:solidFill>
                <a:latin typeface="Constantia"/>
              </a:rPr>
              <a:t>равностороннем</a:t>
            </a:r>
            <a:r>
              <a:rPr b="0" lang="ru-RU" sz="2000" spc="-1" strike="noStrike">
                <a:solidFill>
                  <a:srgbClr val="ffc000"/>
                </a:solidFill>
                <a:latin typeface="Constantia"/>
              </a:rPr>
              <a:t> треугольнике равны)</a:t>
            </a:r>
            <a:endParaRPr b="0" lang="en-US" sz="2000" spc="-1" strike="noStrike">
              <a:solidFill>
                <a:srgbClr val="c4bd97"/>
              </a:solidFill>
              <a:latin typeface="Constantia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onstantia"/>
              </a:rPr>
              <a:t>3.  Сумма углов треугольника равна 180 º .</a:t>
            </a:r>
            <a:endParaRPr b="0" lang="en-US" sz="2400" spc="-1" strike="noStrike">
              <a:solidFill>
                <a:srgbClr val="c4bd97"/>
              </a:solidFill>
              <a:latin typeface="Constantia"/>
            </a:endParaRPr>
          </a:p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Constantia"/>
              </a:rPr>
              <a:t>(из двух последних свойств следует, что каждый угол в  равностороннем   треугольнике равен 60</a:t>
            </a:r>
            <a:r>
              <a:rPr b="1" i="1" lang="ru-RU" sz="2000" spc="-1" strike="noStrike">
                <a:solidFill>
                  <a:srgbClr val="00b0f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Constantia"/>
              </a:rPr>
              <a:t>º)</a:t>
            </a:r>
            <a:r>
              <a:rPr b="0" lang="ru-RU" sz="2000" spc="-1" strike="noStrike">
                <a:solidFill>
                  <a:srgbClr val="00b0f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c4bd97"/>
              </a:solidFill>
              <a:latin typeface="Constantia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4.  Продолжая одну из сторон треугольника, получаем </a:t>
            </a:r>
            <a:r>
              <a:rPr b="0" i="1" lang="ru-RU" sz="2400" spc="-1" strike="noStrike">
                <a:solidFill>
                  <a:srgbClr val="ffc000"/>
                </a:solidFill>
                <a:latin typeface="Constantia"/>
              </a:rPr>
              <a:t>внешний</a:t>
            </a: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  угол. </a:t>
            </a:r>
            <a:r>
              <a:rPr b="1" i="1" lang="ru-RU" sz="2000" spc="-1" strike="noStrike">
                <a:solidFill>
                  <a:srgbClr val="ffc000"/>
                </a:solidFill>
                <a:latin typeface="Constantia"/>
              </a:rPr>
              <a:t>Внешний угол треугольника равен сумме внутренних углов, не смежных с ним</a:t>
            </a:r>
            <a:r>
              <a:rPr b="1" lang="ru-RU" sz="2000" spc="-1" strike="noStrike">
                <a:solidFill>
                  <a:srgbClr val="ffc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c4bd97"/>
              </a:solidFill>
              <a:latin typeface="Constantia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b0f0"/>
                </a:solidFill>
                <a:latin typeface="Constantia"/>
              </a:rPr>
              <a:t>5.  Любая сторона треугольника меньше суммы двух других сторон и больше их разности </a:t>
            </a:r>
            <a:r>
              <a:rPr b="1" i="1" lang="ru-RU" sz="2000" spc="-1" strike="noStrike">
                <a:solidFill>
                  <a:srgbClr val="00b0f0"/>
                </a:solidFill>
                <a:latin typeface="Constantia"/>
              </a:rPr>
              <a:t>( a &lt; b + c,  a &gt; b – c;  b &lt; a + c,  b &gt; a – c;  c &lt; a + b,  c &gt; a – b ).       </a:t>
            </a:r>
            <a:endParaRPr b="0" lang="en-US" sz="2000" spc="-1" strike="noStrike">
              <a:solidFill>
                <a:srgbClr val="c4bd97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993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орема: 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равнобедренном треугольнике углы при основании равны. 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орема: </a:t>
            </a:r>
            <a:r>
              <a:rPr b="1" lang="ru-RU" sz="2800" spc="-1" strike="noStrike">
                <a:solidFill>
                  <a:srgbClr val="c8084d"/>
                </a:solidFill>
                <a:latin typeface="Times New Roman"/>
                <a:ea typeface="Times New Roman"/>
              </a:rPr>
              <a:t>В равнобедренном треугольнике биссектриса, проведённая к основанию, является медианой и высотой.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орема:</a:t>
            </a:r>
            <a:r>
              <a:rPr b="1" lang="ru-RU" sz="2800" spc="-1" strike="noStrike">
                <a:solidFill>
                  <a:srgbClr val="c8084d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ысота (медиана) р/б треугольника, проведённая к основанию, является  медианой (высотой) и биссектрисой.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</p:txBody>
      </p:sp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-225360" y="182520"/>
            <a:ext cx="9594720" cy="101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250560" y="1125360"/>
            <a:ext cx="8713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c50b"/>
                </a:solidFill>
                <a:latin typeface="Times New Roman"/>
                <a:ea typeface="Times New Roman"/>
              </a:rPr>
              <a:t>Треугольники равны, если:</a:t>
            </a:r>
            <a:endParaRPr b="0" lang="en-US" sz="28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c50b"/>
                </a:solidFill>
                <a:latin typeface="Times New Roman"/>
                <a:ea typeface="Times New Roman"/>
              </a:rPr>
              <a:t>1 признак: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ве стороны и угол между ними одного треугольника соответственно равны двум сторонам и углу между ними другого треугольника. </a:t>
            </a:r>
            <a:endParaRPr b="0" lang="en-US" sz="24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c50b"/>
                </a:solidFill>
                <a:latin typeface="Times New Roman"/>
                <a:ea typeface="Times New Roman"/>
              </a:rPr>
              <a:t>2 признак: </a:t>
            </a:r>
            <a:r>
              <a:rPr b="1" lang="ru-RU" sz="2400" spc="-1" strike="noStrike">
                <a:solidFill>
                  <a:srgbClr val="c8084d"/>
                </a:solidFill>
                <a:latin typeface="Times New Roman"/>
                <a:ea typeface="Times New Roman"/>
              </a:rPr>
              <a:t>сторона и два прилежащих к ней угла одного треугольника соответственно равны стороне и двум прилежащим к ней углам другого треугольника.</a:t>
            </a:r>
            <a:endParaRPr b="0" lang="en-US" sz="24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c50b"/>
                </a:solidFill>
                <a:latin typeface="Times New Roman"/>
                <a:ea typeface="Times New Roman"/>
              </a:rPr>
              <a:t>3 признак: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три стороны одного треугольника соответственно равны трем сторонам другого треугольника.</a:t>
            </a:r>
            <a:r>
              <a:rPr b="1" lang="ru-RU" sz="24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4bd97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4bd97"/>
              </a:solidFill>
              <a:latin typeface="Constantia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7:00:39Z</dcterms:created>
  <dc:creator>Павел</dc:creator>
  <dc:description/>
  <cp:keywords/>
  <dc:language>en-US</dc:language>
  <cp:lastModifiedBy>Павел</cp:lastModifiedBy>
  <dcterms:modified xsi:type="dcterms:W3CDTF">2010-12-09T21:34:07Z</dcterms:modified>
  <cp:revision>25</cp:revision>
  <dc:subject/>
  <dc:title>Треугольн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3333</vt:lpwstr>
  </property>
</Properties>
</file>