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B14-750E-49FB-B0A0-B84885A0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1510-B1D1-46B3-B45B-9655DAA2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1F9-A693-4A9B-9697-2D998A94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0EF-9EC5-4406-86CB-CF12AE9B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E513F-7059-400E-AB0D-F66F3832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FE84D-BB04-433B-81B5-F69ED746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0A98A-1FFB-48D7-A72C-C8CEC4EE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78B08-C697-4EE4-97BC-68D3C486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1F274-F955-482C-A15C-10C0268C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CEC29-71AC-4CF9-85A2-DE6ECB29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28095-DAD8-4922-ACB1-DCE2B4CA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0EA-8713-4C34-9D2F-22204408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6891C-98C3-498E-8948-2092396B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0FCB2-E130-4234-84D9-9D65C30B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3D7FF-8E04-41E3-9850-6F744DA1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BCE98-1E9F-4E59-BB7F-F749BD67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84909-7F10-4EB7-9462-DCF6A6DB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C03-1536-4071-B1A3-E42044E6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0B7-3829-4067-ABC6-F4BB3F81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653-D2B3-47CD-A2A8-8B400601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998-C06F-4E31-9AF9-F574C3D5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640-663E-4415-8ADD-61BAEDF5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E36-082F-4FD5-920A-7DAFE148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1BF-B986-47B0-AE6D-166A1856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9F7E-BF2A-4CBE-88F7-3EA1FDF108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174B-1B8C-4B00-94BE-ACC0327992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зентация на тему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чебно – методические комплект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2390760" y="4049640"/>
            <a:ext cx="67532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132000" y="5661000"/>
            <a:ext cx="24591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24000" y="674640"/>
            <a:ext cx="835164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 учебно-методических комплектов (УМК)(Средства для обучения, повторения татар.языка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 Материалы для обу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Рабочие тетради для дете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Методические рекомендации и пособия    для   воспит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. Материал для формирования языково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борники детских художественных произведений для воспитателей и    род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омплекты аудиоматериалов (песни, танц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омплекты видеоматериалов (телепередачи, учебные мультфильмы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ереведенные с русского язы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вновь созданные на татарском язы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65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м кабинета Министров Республики Татарстан от 30.12.2010 г. № 1174 «Об утверждении Стратегии развития образования в Республики Татарстан на 2010-2015 г.г. «Киләчәк», в рамках реализации первоочередных мероприятий Стратегии, творческой группой, созданной Министерством образования и науки Республики Татарстан, разработан УМК обучения детей двум государственным языкам в дошкольных образовательных учреждениях Республики Татарстан.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Были созданы 4 комплект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по обучению татароязычных детей русскому языку «Изучаем русский язык»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кая группа под руководством Гаффаровой Сабили Муллануровн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о обучению русскоязычных детей татарскому языку «Татарча сөйләшәбез» - «Говорим по-татарски»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кая группа под руководством  Зариповой Зифы Мирхатовн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компле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о обучению татароязычных детей родному языку «Туган телдә сөйләшәбез»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творческая группа под руководством Хазратовой Файрузы Вакилевн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компле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для детей подготовительной к школе групп «Мәктәпкәчә яшьтәгеләр әлифбасы: авазларны уйнатып» (для татароязычных детей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Шаехова Резеда Камилевна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собие «Раз – словечко, два - словечко» (занимательное обучение татарскому языку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Шаехова Резеда Камилев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590544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зучаем русский язык» С.Гаффаров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кт  включает в себя программу обучения детей национальных группах русскому языку, пособие для воспитателей. В нем приведены конспекты занятий, физкультминутки, пальчиковые игры, рабочая тетрадь для детей и воспитателей, подборка игр и упражнений, аудио- и видеоматериалы для работы, как на занятиях, так и вне занятий, перечень наглядных материалов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ая задача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и развитие первоначальных умений и навыков практического владения русским языком в устной форме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764640"/>
            <a:ext cx="9036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атарча сөйләшәбез» - «Говорим по-татарски» З.Зарип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К по обучению русскоязычных детей татарскому языку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 состоит из трех частей : “Минем өем” (для средней группы), “Уйный-уйный үсәбез” (для старшей группы), “Мәктәпкә илтә юллар” (для подготовительной к школе группы). Основной задаче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зучения татарского языка в дошкольном возрасте является формирование первоначальных умений и навыков практического владения татарским языком в устной форме. В процессе обучения дети должны научиться воспринимать и понимать татарскую речь на слух и говорить по-татарски в пределах доступной им тематики, усвоенных сл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5724360" y="122400"/>
            <a:ext cx="3232440" cy="6480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179280" y="404640"/>
            <a:ext cx="58104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ем өем” (для средней групп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Цель: разбудить интерес к татарскому язы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Задачи: первоначальное накопления словарного запа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частие в простом диалоге(взрослый -ребенок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ексический минимум: 62 с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629320" y="189000"/>
            <a:ext cx="3274920" cy="6426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539640" y="20304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йный-уйный үсәбез” (для старшей групп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Цель: общение на бытовом уровне со взрослыми и дет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Задачи: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копления словарного запа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умения отвечать, выражать просьб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ексический минимум: 45 с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05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Цель: обогощение словарного запаса словами относящимися к быту, природным явлениям, обществу, построениеи исчпользование слов и словосочетаний в различных ситуац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Задачи: усовершенствовать язык как средство общ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мение вести свободно диалог, высказывать свои мыс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ексический минимум: 60 с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08000" y="291960"/>
            <a:ext cx="9036000" cy="14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инде зурлар - мәктәпкә илтә юллар” (для подготовительной к школе групп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24000" y="189000"/>
            <a:ext cx="8569080" cy="59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уган телдә сөйләшәбез» 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.Хазратова, З.Шәрәфетдинова, И.Хәбибулл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ложенный УМК включает в себе методические пособия по обучению родному (татарскому) языку и развитии речи детей дошкольного возраста, рабочие тетради, начиная с средней группы, аудиозаписи, серии картин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ая цел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МК “Туган телдә сөйләшәбез”  - формирование  правильной устной родной речи детей дошкольного возраста. Главной задачей для программы является обучение детей правильно и красиво говори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9:20:28Z</dcterms:created>
  <dc:creator>Admin</dc:creator>
  <dc:description/>
  <dc:language>en-US</dc:language>
  <cp:lastModifiedBy>admin</cp:lastModifiedBy>
  <dcterms:modified xsi:type="dcterms:W3CDTF">2015-04-02T12:32:04Z</dcterms:modified>
  <cp:revision>20</cp:revision>
  <dc:subject/>
  <dc:title>Слайд 1</dc:title>
</cp:coreProperties>
</file>