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032-B43C-4E10-A43D-6D069F53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672-C583-4269-B8BB-15857FBD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EBF-5311-4B6B-B0AC-B2688760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57A-3CF2-414B-B8CA-C7012E96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01D4-8B50-478D-8F6D-F9348D63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07E5C-5717-4D31-8B65-51E4DF6D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4FC89-5AA3-41CA-A0F8-898B02F0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9330A-E021-4FA9-ABDB-F38D53CE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C70F6-5734-4A7B-9AD6-A16C7227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F8ACF-0C8D-4098-8C65-8469E0D0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9AD59-5567-46C2-8580-EFA5A35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593-E7EE-4E73-97B8-A1C3BFD2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18376-4800-4432-A883-38F856F1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82A4-43CA-4420-838F-1DBCDBD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33FD9-F488-45F7-8B4E-03A8A361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3C64-5E73-42A7-B7D1-AFA61CAA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DAEE-8768-4616-AF61-8AD7F670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C76-4F9F-43A7-85F0-7849F3E4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F30-5BFE-4DEE-884E-A81FAC6A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F6A-7A62-4B67-8AFD-1ADC432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65E-2266-4F13-8E44-D51D99A6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9B7-0501-4717-B313-3297003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43A-404B-4798-9E96-5F22771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822-1349-4BF0-A097-0FFF12C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669-E832-4CBE-AE29-2087EE9B6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B518-35A2-4B3E-A8D6-515941C934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зентация на тему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ебно – методические комплек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390760" y="4049640"/>
            <a:ext cx="6753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32000" y="5661000"/>
            <a:ext cx="2459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24000" y="674640"/>
            <a:ext cx="835164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учебно-методических комплектов (УМК)(Средства для обучения, повторения татар.язык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 Материалы для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бочие тетради для дете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Методические рекомендации и пособия    для   воспит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. Материал для формирования языково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борники детских художественных произведений для воспитателей и    род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омплекты аудиоматериалов (песни, танц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омплекты видеоматериалов (телепередачи, учебные мультфильмы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ереведенные с русск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вновь созданные на татарском язы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кабинета Министров Республики Татарстан от 30.12.2010 г. № 1174 «Об утверждении Стратегии развития образования в Республики Татарстан на 2010-2015 г.г. «Киләчәк», в рамках реализации первоочередных мероприятий Стратегии, творческой группой, созданной Министерством образования и науки Республики Татарстан, разработан УМК обучения детей двум государственным языкам в дошкольных образовательных учреждениях Республики Татарстан.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ыли созданы 4 комплект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о обучению татароязычных детей русскому языку «Изучаем русский язык»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ая группа под руководством Гаффаровой Сабили Муллануров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 обучению русскоязычных детей татарскому языку «Татарча сөйләшәбез» - «Говорим по-татарски»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ая группа под руководством  Зариповой Зифы Мирхатов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омпл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 обучению татароязычных детей родному языку «Туган телдә сөйләшәбез»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ворческая группа под руководством Хазратовой Файрузы Вакилев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компл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для детей подготовительной к школе групп «Мәктәпкәчә яшьтәгеләр әлифбасы: авазларны уйнатып» (для татароязычных детей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ехова Резеда Камилевна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обие «Раз – словечко, два - словечко» (занимательное обучение татарскому языку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ехова Резеда Камиле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5905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зучаем русский язык» С.Гаффаров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т  включает в себя программу обучения детей национальных группах русскому языку, пособие для воспитателей. В нем приведены конспекты занятий, физкультминутки, пальчиковые игры, рабочая тетрадь для детей и воспитателей, подборка игр и упражнений, аудио- и видеоматериалы для работы, как на занятиях, так и вне занятий, перечень наглядных материалов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задача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 развитие первоначальных умений и навыков практического владения русским языком в устной форм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764640"/>
            <a:ext cx="903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атарча сөйләшәбез» - «Говорим по-татарски» З.Зар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К по обучению русскоязычных детей татарскому языку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состоит из трех частей : “Минем өем” (для средней группы), “Уйный-уйный үсәбез” (для старшей группы), “Мәктәпкә илтә юллар” (для подготовительной к школе группы). Основной задач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зучения татарского языка в дошкольном возрасте является формирование первоначальных умений и навыков практического владения татарским языком в устной форме. В процессе обучения дети должны научиться воспринимать и понимать татарскую речь на слух и говорить по-татарски в пределах доступной им тематики, усвоенных сл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724360" y="122400"/>
            <a:ext cx="3232440" cy="6480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179280" y="404640"/>
            <a:ext cx="5810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м өем” (для средней групп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ь: разбудить интерес к татарс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чи: первоначальное накопления словарного запа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астие в простом диалоге(взрослый -ребенок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ексический минимум: 62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629320" y="189000"/>
            <a:ext cx="3274920" cy="6426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539640" y="2030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йный-уйный үсәбез” (для старшей групп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ь: общение на бытовом уровне со взрослыми 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копления словарного запа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мения отвечать, выражать просьб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ексический минимум: 45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05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ь: обогощение словарного запаса словами относящимися к быту, природным явлениям, обществу, построениеи исчпользование слов и словосочетаний в различных ситуац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чи: усовершенствовать язык как средство общ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мение вести свободно диалог, высказывать свои мыс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ексический минимум: 60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8000" y="291960"/>
            <a:ext cx="9036000" cy="14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инде зурлар - мәктәпкә илтә юллар” (для подготовительной к школе групп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24000" y="189000"/>
            <a:ext cx="856908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уган телдә сөйләшәбез» 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.Хазратова, З.Шәрәфетдинова, И.Хәбибул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енный УМК включает в себе методические пособия по обучению родному (татарскому) языку и развитии речи детей дошкольного возраста, рабочие тетради, начиная с средней группы, аудиозаписи, серии картин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ц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МК “Туган телдә сөйләшәбез”  - формирование  правильной устной родной речи детей дошкольного возраста. Главной задачей для программы является обучение детей правильно и красиво гово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9:20:28Z</dcterms:created>
  <dc:creator>Admin</dc:creator>
  <dc:description/>
  <dc:language>en-US</dc:language>
  <cp:lastModifiedBy>admin</cp:lastModifiedBy>
  <dcterms:modified xsi:type="dcterms:W3CDTF">2015-04-02T12:32:04Z</dcterms:modified>
  <cp:revision>20</cp:revision>
  <dc:subject/>
  <dc:title>Слайд 1</dc:title>
</cp:coreProperties>
</file>