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3.gif" ContentType="image/gif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E1AB5-9ADF-48A1-9BB2-1534FF1D3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9140B-7667-4D9E-A09F-67BBBFB4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42257-7D05-4C23-A6FD-8E093CB4D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E780B-A172-4C40-BA29-6F8DA5C49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2892-EDD5-41B9-B1B0-F6DBCEF39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E5EE-3D14-43AA-93DC-F9885815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459F-2731-4C05-8AF0-DFCB47B2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9FFB-DF02-443A-AF63-3A6DAED4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AFE7-0AEE-4C93-9B9D-F6FFE1B8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01B2-3C32-4BDA-9C32-A15219F4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0F4D-ECB3-4B11-AF50-A8AEBA00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33F52-1E6A-4CA9-A307-307EAC11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D0F9-381C-45CC-B01B-E0AFE0CE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EEC01-BD77-45DD-8420-61F617DB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4D54-63BA-497D-A97E-A2A23BF1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6438-84D2-4FC9-9254-F85DF5317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B8E7-F287-4BF8-93E8-FE749BA85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1CB48-586B-44E2-B414-C343D66A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1B24D-DF47-4928-9994-B8F06219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09603-6645-45CC-B18B-E63D4C31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6AF0C-895E-4F3B-A8F2-4BC4FFF5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ED5EA-621A-484F-B626-42FA5195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66B19-76AD-4083-AF03-2CFC5C65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13A8D-76F8-4035-938C-3FA6319C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3560-8B75-471B-90E5-351EAED4B5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D634-4D4B-48B0-982C-85C1997D647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260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Использование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игровых технологий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в работе с детьми с  ОВЗ</a:t>
            </a:r>
            <a:r>
              <a:rPr b="1" lang="ru-RU" sz="4800" spc="-1" strike="noStrike">
                <a:solidFill>
                  <a:srgbClr val="e5e5ff"/>
                </a:solidFill>
                <a:latin typeface="Times New Roman"/>
              </a:rPr>
              <a:t> 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438280" y="57909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Рисунок 6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16064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aCr4ugl43sU"/>
          <p:cNvPicPr/>
          <p:nvPr/>
        </p:nvPicPr>
        <p:blipFill>
          <a:blip r:embed="rId1"/>
          <a:stretch/>
        </p:blipFill>
        <p:spPr>
          <a:xfrm>
            <a:off x="228600" y="1066680"/>
            <a:ext cx="3330720" cy="4800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7cuj8GnRNqs"/>
          <p:cNvPicPr/>
          <p:nvPr/>
        </p:nvPicPr>
        <p:blipFill>
          <a:blip r:embed="rId2"/>
          <a:stretch/>
        </p:blipFill>
        <p:spPr>
          <a:xfrm>
            <a:off x="4114800" y="304920"/>
            <a:ext cx="4343400" cy="3036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PxpIPsiG7xA"/>
          <p:cNvPicPr/>
          <p:nvPr/>
        </p:nvPicPr>
        <p:blipFill>
          <a:blip r:embed="rId3"/>
          <a:stretch/>
        </p:blipFill>
        <p:spPr>
          <a:xfrm>
            <a:off x="4114800" y="3200400"/>
            <a:ext cx="434340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«Подбери по цвету»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Picture 6" descr="Bl_men_loto2_новый размер"/>
          <p:cNvPicPr/>
          <p:nvPr/>
        </p:nvPicPr>
        <p:blipFill>
          <a:blip r:embed="rId1"/>
          <a:stretch/>
        </p:blipFill>
        <p:spPr>
          <a:xfrm>
            <a:off x="533520" y="1371600"/>
            <a:ext cx="3392280" cy="480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Bl_men_loto1_новый размер"/>
          <p:cNvPicPr/>
          <p:nvPr/>
        </p:nvPicPr>
        <p:blipFill>
          <a:blip r:embed="rId2"/>
          <a:stretch/>
        </p:blipFill>
        <p:spPr>
          <a:xfrm>
            <a:off x="5105520" y="1371600"/>
            <a:ext cx="34462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«Времена года»</a:t>
            </a: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Picture 4" descr="O5aREF4cWWI"/>
          <p:cNvPicPr/>
          <p:nvPr/>
        </p:nvPicPr>
        <p:blipFill>
          <a:blip r:embed="rId1"/>
          <a:stretch/>
        </p:blipFill>
        <p:spPr>
          <a:xfrm>
            <a:off x="228600" y="1143000"/>
            <a:ext cx="5638680" cy="4022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NN2zyKbkQl0"/>
          <p:cNvPicPr/>
          <p:nvPr/>
        </p:nvPicPr>
        <p:blipFill>
          <a:blip r:embed="rId2"/>
          <a:stretch/>
        </p:blipFill>
        <p:spPr>
          <a:xfrm>
            <a:off x="4495680" y="3352680"/>
            <a:ext cx="441972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«Повтори комбинацию»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8" name="Picture 5" descr="7wmTvv3XFeo"/>
          <p:cNvPicPr/>
          <p:nvPr/>
        </p:nvPicPr>
        <p:blipFill>
          <a:blip r:embed="rId1"/>
          <a:stretch/>
        </p:blipFill>
        <p:spPr>
          <a:xfrm>
            <a:off x="2438280" y="1219320"/>
            <a:ext cx="40579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«Больше, меньше или равно»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Picture 5" descr="f3aROi2NFE4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Безымянный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58640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3"/>
          <p:cNvSpPr/>
          <p:nvPr/>
        </p:nvSpPr>
        <p:spPr>
          <a:xfrm>
            <a:off x="1690560" y="2590920"/>
            <a:ext cx="576432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514"/>
                </a:solidFill>
                <a:latin typeface="Times New Roman"/>
              </a:rPr>
              <a:t>ИГРЫ ДЛЯ ДЕТЕЙ С ОВЗ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514"/>
                </a:solidFill>
                <a:latin typeface="Times New Roman"/>
              </a:rPr>
              <a:t>2. ВОСПИТЫВАЮЩИЕ ИГ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Воспитание ЗОЖ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4" name="Picture 4" descr="-W-BnbfA6R8"/>
          <p:cNvPicPr/>
          <p:nvPr/>
        </p:nvPicPr>
        <p:blipFill>
          <a:blip r:embed="rId1"/>
          <a:stretch/>
        </p:blipFill>
        <p:spPr>
          <a:xfrm>
            <a:off x="914400" y="1066680"/>
            <a:ext cx="767088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Y59A4H-hC04"/>
          <p:cNvPicPr/>
          <p:nvPr/>
        </p:nvPicPr>
        <p:blipFill>
          <a:blip r:embed="rId1"/>
          <a:stretch/>
        </p:blipFill>
        <p:spPr>
          <a:xfrm>
            <a:off x="304920" y="304920"/>
            <a:ext cx="4368600" cy="3174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P1Al6M36si8"/>
          <p:cNvPicPr/>
          <p:nvPr/>
        </p:nvPicPr>
        <p:blipFill>
          <a:blip r:embed="rId2"/>
          <a:stretch/>
        </p:blipFill>
        <p:spPr>
          <a:xfrm>
            <a:off x="4038480" y="3048120"/>
            <a:ext cx="4749840" cy="3514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y4DDDI7dWiw"/>
          <p:cNvPicPr/>
          <p:nvPr/>
        </p:nvPicPr>
        <p:blipFill>
          <a:blip r:embed="rId3"/>
          <a:stretch/>
        </p:blipFill>
        <p:spPr>
          <a:xfrm>
            <a:off x="5257800" y="304920"/>
            <a:ext cx="3429000" cy="2520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sByM5v_Snz0"/>
          <p:cNvPicPr/>
          <p:nvPr/>
        </p:nvPicPr>
        <p:blipFill>
          <a:blip r:embed="rId4"/>
          <a:stretch/>
        </p:blipFill>
        <p:spPr>
          <a:xfrm>
            <a:off x="228600" y="3962520"/>
            <a:ext cx="3606840" cy="26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«Безопасность жизнедеятельности ребенка дошкольного возраста»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0" name="Picture 5" descr="&amp;mcy;&amp;icy;&amp;ncy;&amp;icy;&amp;acy;&amp;tcy;&amp;yucy;&amp;rcy;&amp;acy;"/>
          <p:cNvPicPr/>
          <p:nvPr/>
        </p:nvPicPr>
        <p:blipFill>
          <a:blip r:embed="rId1"/>
          <a:stretch/>
        </p:blipFill>
        <p:spPr>
          <a:xfrm>
            <a:off x="380880" y="1219320"/>
            <a:ext cx="4286520" cy="3085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&amp;mcy;&amp;icy;&amp;ncy;&amp;icy;&amp;acy;&amp;tcy;&amp;yucy;&amp;rcy;&amp;acy; 2"/>
          <p:cNvPicPr/>
          <p:nvPr/>
        </p:nvPicPr>
        <p:blipFill>
          <a:blip r:embed="rId2"/>
          <a:stretch/>
        </p:blipFill>
        <p:spPr>
          <a:xfrm>
            <a:off x="4038480" y="3127320"/>
            <a:ext cx="485784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Безымянный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58640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3"/>
          <p:cNvSpPr/>
          <p:nvPr/>
        </p:nvSpPr>
        <p:spPr>
          <a:xfrm>
            <a:off x="1690560" y="2590920"/>
            <a:ext cx="576432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514"/>
                </a:solidFill>
                <a:latin typeface="Times New Roman"/>
              </a:rPr>
              <a:t>ИГРЫ ДЛЯ ДЕТЕЙ С ОВЗ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514"/>
                </a:solidFill>
                <a:latin typeface="Times New Roman"/>
              </a:rPr>
              <a:t>3. СОЦИАЛИЗИРУЮЩИЕ ИГРЫ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5"/>
          <p:cNvSpPr/>
          <p:nvPr/>
        </p:nvSpPr>
        <p:spPr>
          <a:xfrm>
            <a:off x="914400" y="380880"/>
            <a:ext cx="7391520" cy="1295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514"/>
                </a:solidFill>
                <a:latin typeface="Times New Roman"/>
              </a:rPr>
              <a:t>ПЕДАГОГИЧЕСКАЯ ТЕХНОЛОГ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228600" y="2057400"/>
            <a:ext cx="8763120" cy="4038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Times New Roman"/>
              </a:rPr>
              <a:t>системная совокупность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Times New Roman"/>
              </a:rPr>
              <a:t>и порядок функционирования всех личностных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Times New Roman"/>
              </a:rPr>
              <a:t>инструментальных и методологических  средств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Times New Roman"/>
              </a:rPr>
              <a:t>используемых для достижения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Times New Roman"/>
              </a:rPr>
              <a:t>педагогических целей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Times New Roman"/>
              </a:rPr>
              <a:t>(М.В. Кларин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Игра «Костёр»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Цель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формирование внимания и произвольной регуляции собственной деятель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4" descr="1331756708_bonfire-2"/>
          <p:cNvPicPr/>
          <p:nvPr/>
        </p:nvPicPr>
        <p:blipFill>
          <a:blip r:embed="rId1"/>
          <a:stretch/>
        </p:blipFill>
        <p:spPr>
          <a:xfrm>
            <a:off x="2819520" y="3048120"/>
            <a:ext cx="354312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Ход игры: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дставьте, что это костер. Дети встают по кругу, в середине обозначение костра, можно символ. Дети выполняют инструкцию ведущего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команде «руки замерзли» - протянули руки к костр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команде «ой, какой большой костер» - машем рукам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команде «искры полетели» - хлопаем в ладош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команде «жарко» - отодвиньтесь от костр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команде «костер принес нам дружбу и веселье» - взяться за руки и ходить вокруг костр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Безымянный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586404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3"/>
          <p:cNvSpPr/>
          <p:nvPr/>
        </p:nvSpPr>
        <p:spPr>
          <a:xfrm>
            <a:off x="1690560" y="2590920"/>
            <a:ext cx="576432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514"/>
                </a:solidFill>
                <a:latin typeface="Times New Roman"/>
              </a:rPr>
              <a:t>ИГРЫ ДЛЯ ДЕТЕЙ С ОВЗ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514"/>
                </a:solidFill>
                <a:latin typeface="Times New Roman"/>
              </a:rPr>
              <a:t>4. РАЗВИВАЮЩИЕ ИГРЫ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«Пальчиковые тренажёры»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2" name="Picture 4" descr="5KYrY5iq46o"/>
          <p:cNvPicPr/>
          <p:nvPr/>
        </p:nvPicPr>
        <p:blipFill>
          <a:blip r:embed="rId1"/>
          <a:stretch/>
        </p:blipFill>
        <p:spPr>
          <a:xfrm>
            <a:off x="228600" y="1371600"/>
            <a:ext cx="4246560" cy="4724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lBHSLQoч7fbI"/>
          <p:cNvPicPr/>
          <p:nvPr/>
        </p:nvPicPr>
        <p:blipFill>
          <a:blip r:embed="rId2"/>
          <a:stretch/>
        </p:blipFill>
        <p:spPr>
          <a:xfrm>
            <a:off x="4800600" y="1371600"/>
            <a:ext cx="4132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«Игрушки – ходилки»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5" name="Picture 4" descr="60606718_1277119040_finger_puppets_finger_fa_lg"/>
          <p:cNvPicPr/>
          <p:nvPr/>
        </p:nvPicPr>
        <p:blipFill>
          <a:blip r:embed="rId1"/>
          <a:stretch/>
        </p:blipFill>
        <p:spPr>
          <a:xfrm>
            <a:off x="380880" y="1523880"/>
            <a:ext cx="3753000" cy="4343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60606739_1277119432_treepuppet"/>
          <p:cNvPicPr/>
          <p:nvPr/>
        </p:nvPicPr>
        <p:blipFill>
          <a:blip r:embed="rId2"/>
          <a:stretch/>
        </p:blipFill>
        <p:spPr>
          <a:xfrm>
            <a:off x="4419720" y="1523880"/>
            <a:ext cx="44193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6" descr="SzFDIqMCg2A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324480"/>
          </a:xfrm>
          <a:prstGeom prst="rect">
            <a:avLst/>
          </a:prstGeom>
          <a:ln w="0">
            <a:noFill/>
          </a:ln>
        </p:spPr>
      </p:pic>
      <p:sp>
        <p:nvSpPr>
          <p:cNvPr id="158" name="WordArt 4"/>
          <p:cNvSpPr txBox="1"/>
          <p:nvPr/>
        </p:nvSpPr>
        <p:spPr>
          <a:xfrm>
            <a:off x="2971800" y="2971800"/>
            <a:ext cx="3900600" cy="31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 ВНИМАНИЕ !!!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Технологии, применяемые при работе с детьми с ОВЗ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Технология разноуровневого обучения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Коррекционно - развивающие технологи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Технология проблемного обучения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. Проектная деятельность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5. Игровые технологи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6. Информационно-коммуникационные технологи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7. Здоровьесберегающие технологи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Функции игры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   развлекательная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   коммуникативна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   самореализаци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   игротерапевтическа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   диагностическа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   коррекционна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   функция межнациональной коммуникаци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  функция социализации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Характеристика педагогической игры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ётко поставленная цель обучения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правление ходом игры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ебно-познавательная направленность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дведение итогов и оценивание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ответствующий цели педагогический результат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Виды педагогических игр по целевым ориентациям: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-1857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Дидактические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расширение кругозора, познавательной деятельности; применение ЗУН в практической деятельности; развитие общеучебных умений и навыков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85760" indent="-1857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Воспитывающие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воспитание самостоятельности, воли; формирование нравственных, эстетических и мировоззренческих установок; воспитание сотрудничества, коллективизма, общительности, коммуникативности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85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Развивающие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развитие ВПФ, творческих способностей, эмпатии, рефлексии, развитие мотивации учебной деятельнос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Социализирующие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приобщение к нормам и ценностям общества; адаптация к условиям среды; стрессовый контроль, саморегуляция; обучение общению; психотерап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Требования при подборе игр для детей с ОВЗ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ответствие игры возрасту ребенка или его актуальному уровню развити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1440" indent="-271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ет структуры дефект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1440" indent="-271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бор игрового материала с постепенным усложнением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1440" indent="-271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язь содержания игры с системой знаний ребенк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1440" indent="-271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ответствие коррекционной цели заняти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1440" indent="-271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ет принципа смены видов деятельност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1440" indent="-271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пользование ярких, озвученных игрушек и пособий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1440" indent="-271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ответствие игрушек и пособий гигиеническим требованиям, безопасност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1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Безымянный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58640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1690560" y="2590920"/>
            <a:ext cx="576432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514"/>
                </a:solidFill>
                <a:latin typeface="Times New Roman"/>
              </a:rPr>
              <a:t>ИГРЫ ДЛЯ ДЕТЕЙ С ОВЗ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514"/>
                </a:solidFill>
                <a:latin typeface="Times New Roman"/>
              </a:rPr>
              <a:t>1. ДИДАКТИЧЕСКИЕ ИГРЫ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10-08T11:23:37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