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.png" ContentType="image/pn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23.gif" ContentType="image/gif"/>
  <Override PartName="/ppt/media/image14.jpeg" ContentType="image/jpeg"/>
  <Override PartName="/ppt/media/image1.png" ContentType="image/pn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64EFD9-39A7-4735-B017-67F7C4594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956484-5A10-4A9E-9D6C-1C20AE04F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A7529A-FDED-4C45-B865-BD72F663A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BB781B-F542-450B-9AED-87254C946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67E40-3654-4B6F-98E4-1810D57B5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9C494-25F1-403A-AB97-E8A4B0E10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7F99A-BFAB-471E-95A8-36C3C4D89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47FC0-8D7E-43BF-88F1-381E4955A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D03B7-152B-41A7-9B44-A21BABB81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2859D-409F-4ACD-BB72-C55EB219E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FFE7B-12BC-4173-8033-623FC78CD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23A9A0-8A1F-4DDC-A5C8-A17578C3C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7EAED-125F-4148-B2C8-80789D0B4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EABB2-39A1-46C2-8BEB-2B0F5B58F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56F6E-E93D-4040-8811-AE408F4F8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70BFC-2CC6-46D4-91C3-9BB5F3917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F863D-21E8-4595-9FED-1C8748E67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8A2FF9-ABB0-4379-B3A8-6A438E68B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52899C-7E3B-4E86-9E7E-131197155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C48782-144D-472E-9336-FBDECD9B3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9EA837-6A1A-47F9-B952-9F2732647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6D7121-6234-42E8-AA9C-450AFD577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F9A279-4614-40C5-9CE2-D6613B49E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D7C7FD-E88D-4762-A92C-108538CB4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C773C-5F50-4864-B1A4-E36B2946FDF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8A106-93D4-4104-BEE2-365895BC320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gi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260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imes New Roman"/>
              </a:rPr>
              <a:t>Использование </a:t>
            </a:r>
            <a:br>
              <a:rPr sz="4800"/>
            </a:br>
            <a:r>
              <a:rPr b="1" lang="ru-RU" sz="4800" spc="-1" strike="noStrike">
                <a:solidFill>
                  <a:srgbClr val="ffffff"/>
                </a:solidFill>
                <a:latin typeface="Times New Roman"/>
              </a:rPr>
              <a:t>игровых технологий </a:t>
            </a:r>
            <a:br>
              <a:rPr sz="4800"/>
            </a:br>
            <a:r>
              <a:rPr b="1" lang="ru-RU" sz="4800" spc="-1" strike="noStrike">
                <a:solidFill>
                  <a:srgbClr val="ffffff"/>
                </a:solidFill>
                <a:latin typeface="Times New Roman"/>
              </a:rPr>
              <a:t>в работе с детьми с  ОВЗ</a:t>
            </a:r>
            <a:r>
              <a:rPr b="1" lang="ru-RU" sz="4800" spc="-1" strike="noStrike">
                <a:solidFill>
                  <a:srgbClr val="e5e5ff"/>
                </a:solidFill>
                <a:latin typeface="Times New Roman"/>
              </a:rPr>
              <a:t> 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2438280" y="579096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ru-RU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2" name="Рисунок 6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116064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4" descr="aCr4ugl43sU"/>
          <p:cNvPicPr/>
          <p:nvPr/>
        </p:nvPicPr>
        <p:blipFill>
          <a:blip r:embed="rId1"/>
          <a:stretch/>
        </p:blipFill>
        <p:spPr>
          <a:xfrm>
            <a:off x="228600" y="1066680"/>
            <a:ext cx="3330720" cy="48006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5" descr="7cuj8GnRNqs"/>
          <p:cNvPicPr/>
          <p:nvPr/>
        </p:nvPicPr>
        <p:blipFill>
          <a:blip r:embed="rId2"/>
          <a:stretch/>
        </p:blipFill>
        <p:spPr>
          <a:xfrm>
            <a:off x="4114800" y="304920"/>
            <a:ext cx="4343400" cy="30366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6" descr="PxpIPsiG7xA"/>
          <p:cNvPicPr/>
          <p:nvPr/>
        </p:nvPicPr>
        <p:blipFill>
          <a:blip r:embed="rId3"/>
          <a:stretch/>
        </p:blipFill>
        <p:spPr>
          <a:xfrm>
            <a:off x="4114800" y="3200400"/>
            <a:ext cx="4343400" cy="34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76312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Times New Roman"/>
              </a:rPr>
              <a:t>«Подбери по цвету» 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2" name="Picture 6" descr="Bl_men_loto2_новый размер"/>
          <p:cNvPicPr/>
          <p:nvPr/>
        </p:nvPicPr>
        <p:blipFill>
          <a:blip r:embed="rId1"/>
          <a:stretch/>
        </p:blipFill>
        <p:spPr>
          <a:xfrm>
            <a:off x="533520" y="1371600"/>
            <a:ext cx="3392280" cy="48006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7" descr="Bl_men_loto1_новый размер"/>
          <p:cNvPicPr/>
          <p:nvPr/>
        </p:nvPicPr>
        <p:blipFill>
          <a:blip r:embed="rId2"/>
          <a:stretch/>
        </p:blipFill>
        <p:spPr>
          <a:xfrm>
            <a:off x="5105520" y="1371600"/>
            <a:ext cx="344628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Times New Roman"/>
              </a:rPr>
              <a:t>«Времена года»</a:t>
            </a:r>
            <a:r>
              <a:rPr b="1" lang="ru-RU" sz="4000" spc="-1" strike="noStrike">
                <a:solidFill>
                  <a:srgbClr val="ffcc00"/>
                </a:solidFill>
                <a:latin typeface="Garamond"/>
              </a:rPr>
              <a:t>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5" name="Picture 4" descr="O5aREF4cWWI"/>
          <p:cNvPicPr/>
          <p:nvPr/>
        </p:nvPicPr>
        <p:blipFill>
          <a:blip r:embed="rId1"/>
          <a:stretch/>
        </p:blipFill>
        <p:spPr>
          <a:xfrm>
            <a:off x="228600" y="1143000"/>
            <a:ext cx="5638680" cy="40226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5" descr="NN2zyKbkQl0"/>
          <p:cNvPicPr/>
          <p:nvPr/>
        </p:nvPicPr>
        <p:blipFill>
          <a:blip r:embed="rId2"/>
          <a:stretch/>
        </p:blipFill>
        <p:spPr>
          <a:xfrm>
            <a:off x="4495680" y="3352680"/>
            <a:ext cx="4419720" cy="32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Times New Roman"/>
              </a:rPr>
              <a:t>«Повтори комбинацию» 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8" name="Picture 5" descr="7wmTvv3XFeo"/>
          <p:cNvPicPr/>
          <p:nvPr/>
        </p:nvPicPr>
        <p:blipFill>
          <a:blip r:embed="rId1"/>
          <a:stretch/>
        </p:blipFill>
        <p:spPr>
          <a:xfrm>
            <a:off x="2438280" y="1219320"/>
            <a:ext cx="405792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Times New Roman"/>
              </a:rPr>
              <a:t>«Больше, меньше или равно» 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30" name="Picture 5" descr="f3aROi2NFE4"/>
          <p:cNvPicPr/>
          <p:nvPr/>
        </p:nvPicPr>
        <p:blipFill>
          <a:blip r:embed="rId1"/>
          <a:stretch/>
        </p:blipFill>
        <p:spPr>
          <a:xfrm>
            <a:off x="990720" y="1219320"/>
            <a:ext cx="7162560" cy="506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Безымянный"/>
          <p:cNvPicPr/>
          <p:nvPr/>
        </p:nvPicPr>
        <p:blipFill>
          <a:blip r:embed="rId1"/>
          <a:stretch/>
        </p:blipFill>
        <p:spPr>
          <a:xfrm>
            <a:off x="762120" y="533520"/>
            <a:ext cx="7696080" cy="586404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3"/>
          <p:cNvSpPr/>
          <p:nvPr/>
        </p:nvSpPr>
        <p:spPr>
          <a:xfrm>
            <a:off x="1690560" y="2590920"/>
            <a:ext cx="5764320" cy="15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514"/>
                </a:solidFill>
                <a:latin typeface="Times New Roman"/>
              </a:rPr>
              <a:t>ИГРЫ ДЛЯ ДЕТЕЙ С ОВЗ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514"/>
                </a:solidFill>
                <a:latin typeface="Times New Roman"/>
              </a:rPr>
              <a:t>2. ВОСПИТЫВАЮЩИЕ ИГРЫ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Times New Roman"/>
              </a:rPr>
              <a:t>Воспитание ЗОЖ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34" name="Picture 4" descr="-W-BnbfA6R8"/>
          <p:cNvPicPr/>
          <p:nvPr/>
        </p:nvPicPr>
        <p:blipFill>
          <a:blip r:embed="rId1"/>
          <a:stretch/>
        </p:blipFill>
        <p:spPr>
          <a:xfrm>
            <a:off x="914400" y="1066680"/>
            <a:ext cx="7670880" cy="560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4" descr="Y59A4H-hC04"/>
          <p:cNvPicPr/>
          <p:nvPr/>
        </p:nvPicPr>
        <p:blipFill>
          <a:blip r:embed="rId1"/>
          <a:stretch/>
        </p:blipFill>
        <p:spPr>
          <a:xfrm>
            <a:off x="304920" y="304920"/>
            <a:ext cx="4368600" cy="31748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5" descr="P1Al6M36si8"/>
          <p:cNvPicPr/>
          <p:nvPr/>
        </p:nvPicPr>
        <p:blipFill>
          <a:blip r:embed="rId2"/>
          <a:stretch/>
        </p:blipFill>
        <p:spPr>
          <a:xfrm>
            <a:off x="4038480" y="3048120"/>
            <a:ext cx="4749840" cy="35146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6" descr="y4DDDI7dWiw"/>
          <p:cNvPicPr/>
          <p:nvPr/>
        </p:nvPicPr>
        <p:blipFill>
          <a:blip r:embed="rId3"/>
          <a:stretch/>
        </p:blipFill>
        <p:spPr>
          <a:xfrm>
            <a:off x="5257800" y="304920"/>
            <a:ext cx="3429000" cy="25207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7" descr="sByM5v_Snz0"/>
          <p:cNvPicPr/>
          <p:nvPr/>
        </p:nvPicPr>
        <p:blipFill>
          <a:blip r:embed="rId4"/>
          <a:stretch/>
        </p:blipFill>
        <p:spPr>
          <a:xfrm>
            <a:off x="228600" y="3962520"/>
            <a:ext cx="3606840" cy="263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Times New Roman"/>
              </a:rPr>
              <a:t>«Безопасность жизнедеятельности ребенка дошкольного возраста»</a:t>
            </a:r>
            <a:br>
              <a:rPr sz="3200"/>
            </a:b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40" name="Picture 5" descr="&amp;mcy;&amp;icy;&amp;ncy;&amp;icy;&amp;acy;&amp;tcy;&amp;yucy;&amp;rcy;&amp;acy;"/>
          <p:cNvPicPr/>
          <p:nvPr/>
        </p:nvPicPr>
        <p:blipFill>
          <a:blip r:embed="rId1"/>
          <a:stretch/>
        </p:blipFill>
        <p:spPr>
          <a:xfrm>
            <a:off x="380880" y="1219320"/>
            <a:ext cx="4286520" cy="30859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7" descr="&amp;mcy;&amp;icy;&amp;ncy;&amp;icy;&amp;acy;&amp;tcy;&amp;yucy;&amp;rcy;&amp;acy; 2"/>
          <p:cNvPicPr/>
          <p:nvPr/>
        </p:nvPicPr>
        <p:blipFill>
          <a:blip r:embed="rId2"/>
          <a:stretch/>
        </p:blipFill>
        <p:spPr>
          <a:xfrm>
            <a:off x="4038480" y="3127320"/>
            <a:ext cx="4857840" cy="33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Безымянный"/>
          <p:cNvPicPr/>
          <p:nvPr/>
        </p:nvPicPr>
        <p:blipFill>
          <a:blip r:embed="rId1"/>
          <a:stretch/>
        </p:blipFill>
        <p:spPr>
          <a:xfrm>
            <a:off x="762120" y="533520"/>
            <a:ext cx="7696080" cy="586404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3"/>
          <p:cNvSpPr/>
          <p:nvPr/>
        </p:nvSpPr>
        <p:spPr>
          <a:xfrm>
            <a:off x="1690560" y="2590920"/>
            <a:ext cx="5764320" cy="15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514"/>
                </a:solidFill>
                <a:latin typeface="Times New Roman"/>
              </a:rPr>
              <a:t>ИГРЫ ДЛЯ ДЕТЕЙ С ОВЗ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514"/>
                </a:solidFill>
                <a:latin typeface="Times New Roman"/>
              </a:rPr>
              <a:t>3. СОЦИАЛИЗИРУЮЩИЕ ИГРЫ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AutoShape 5"/>
          <p:cNvSpPr/>
          <p:nvPr/>
        </p:nvSpPr>
        <p:spPr>
          <a:xfrm>
            <a:off x="914400" y="380880"/>
            <a:ext cx="7391520" cy="1295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514"/>
                </a:solidFill>
                <a:latin typeface="Times New Roman"/>
              </a:rPr>
              <a:t>ПЕДАГОГИЧЕСКАЯ ТЕХНОЛОГИЯ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AutoShape 6"/>
          <p:cNvSpPr/>
          <p:nvPr/>
        </p:nvSpPr>
        <p:spPr>
          <a:xfrm>
            <a:off x="228600" y="2057400"/>
            <a:ext cx="8763120" cy="40384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514"/>
                </a:solidFill>
                <a:latin typeface="Times New Roman"/>
              </a:rPr>
              <a:t>системная совокупность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514"/>
                </a:solidFill>
                <a:latin typeface="Times New Roman"/>
              </a:rPr>
              <a:t>и порядок функционирования всех личностных,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514"/>
                </a:solidFill>
                <a:latin typeface="Times New Roman"/>
              </a:rPr>
              <a:t>инструментальных и методологических  средств,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514"/>
                </a:solidFill>
                <a:latin typeface="Times New Roman"/>
              </a:rPr>
              <a:t>используемых для достижения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514"/>
                </a:solidFill>
                <a:latin typeface="Times New Roman"/>
              </a:rPr>
              <a:t>педагогических целей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514"/>
                </a:solidFill>
                <a:latin typeface="Times New Roman"/>
              </a:rPr>
              <a:t>(М.В. Кларин)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Times New Roman"/>
              </a:rPr>
              <a:t>Игра «Костёр» 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Times New Roman"/>
              </a:rPr>
              <a:t>    </a:t>
            </a:r>
            <a:r>
              <a:rPr b="1" lang="ru-RU" sz="3200" spc="-1" strike="noStrike">
                <a:solidFill>
                  <a:srgbClr val="ffcc00"/>
                </a:solidFill>
                <a:latin typeface="Times New Roman"/>
              </a:rPr>
              <a:t>Цель: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формирование внимания и произвольной регуляции собственной деятельност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6" name="Picture 4" descr="1331756708_bonfire-2"/>
          <p:cNvPicPr/>
          <p:nvPr/>
        </p:nvPicPr>
        <p:blipFill>
          <a:blip r:embed="rId1"/>
          <a:stretch/>
        </p:blipFill>
        <p:spPr>
          <a:xfrm>
            <a:off x="2819520" y="3048120"/>
            <a:ext cx="3543120" cy="35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Times New Roman"/>
              </a:rPr>
              <a:t>Ход игры: 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144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едставьте, что это костер. Дети встают по кругу, в середине обозначение костра, можно символ. Дети выполняют инструкцию ведущего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71440" indent="-2714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 команде «руки замерзли» - протянули руки к костру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71440" indent="-2714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 команде «ой, какой большой костер» - машем руками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71440" indent="-2714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 команде «искры полетели» - хлопаем в ладоши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71440" indent="-2714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 команде «жарко» - отодвиньтесь от костр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71440" indent="-2714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 команде «костер принес нам дружбу и веселье» - взяться за руки и ходить вокруг костра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2" descr="Безымянный"/>
          <p:cNvPicPr/>
          <p:nvPr/>
        </p:nvPicPr>
        <p:blipFill>
          <a:blip r:embed="rId1"/>
          <a:stretch/>
        </p:blipFill>
        <p:spPr>
          <a:xfrm>
            <a:off x="762120" y="533520"/>
            <a:ext cx="7696080" cy="5864040"/>
          </a:xfrm>
          <a:prstGeom prst="rect">
            <a:avLst/>
          </a:prstGeom>
          <a:ln w="0">
            <a:noFill/>
          </a:ln>
        </p:spPr>
      </p:pic>
      <p:sp>
        <p:nvSpPr>
          <p:cNvPr id="150" name="Rectangle 3"/>
          <p:cNvSpPr/>
          <p:nvPr/>
        </p:nvSpPr>
        <p:spPr>
          <a:xfrm>
            <a:off x="1690560" y="2590920"/>
            <a:ext cx="5764320" cy="10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514"/>
                </a:solidFill>
                <a:latin typeface="Times New Roman"/>
              </a:rPr>
              <a:t>ИГРЫ ДЛЯ ДЕТЕЙ С ОВЗ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514"/>
                </a:solidFill>
                <a:latin typeface="Times New Roman"/>
              </a:rPr>
              <a:t>4. РАЗВИВАЮЩИЕ ИГРЫ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Times New Roman"/>
              </a:rPr>
              <a:t>«Пальчиковые тренажёры» 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52" name="Picture 4" descr="5KYrY5iq46o"/>
          <p:cNvPicPr/>
          <p:nvPr/>
        </p:nvPicPr>
        <p:blipFill>
          <a:blip r:embed="rId1"/>
          <a:stretch/>
        </p:blipFill>
        <p:spPr>
          <a:xfrm>
            <a:off x="228600" y="1371600"/>
            <a:ext cx="4246560" cy="47242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5" descr="lBHSLQoч7fbI"/>
          <p:cNvPicPr/>
          <p:nvPr/>
        </p:nvPicPr>
        <p:blipFill>
          <a:blip r:embed="rId2"/>
          <a:stretch/>
        </p:blipFill>
        <p:spPr>
          <a:xfrm>
            <a:off x="4800600" y="1371600"/>
            <a:ext cx="413244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Times New Roman"/>
              </a:rPr>
              <a:t>«Игрушки – ходилки» 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55" name="Picture 4" descr="60606718_1277119040_finger_puppets_finger_fa_lg"/>
          <p:cNvPicPr/>
          <p:nvPr/>
        </p:nvPicPr>
        <p:blipFill>
          <a:blip r:embed="rId1"/>
          <a:stretch/>
        </p:blipFill>
        <p:spPr>
          <a:xfrm>
            <a:off x="380880" y="1523880"/>
            <a:ext cx="3753000" cy="43434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5" descr="60606739_1277119432_treepuppet"/>
          <p:cNvPicPr/>
          <p:nvPr/>
        </p:nvPicPr>
        <p:blipFill>
          <a:blip r:embed="rId2"/>
          <a:stretch/>
        </p:blipFill>
        <p:spPr>
          <a:xfrm>
            <a:off x="4419720" y="1523880"/>
            <a:ext cx="441936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6" descr="SzFDIqMCg2A"/>
          <p:cNvPicPr/>
          <p:nvPr/>
        </p:nvPicPr>
        <p:blipFill>
          <a:blip r:embed="rId1"/>
          <a:stretch/>
        </p:blipFill>
        <p:spPr>
          <a:xfrm>
            <a:off x="228600" y="228600"/>
            <a:ext cx="8686800" cy="6324480"/>
          </a:xfrm>
          <a:prstGeom prst="rect">
            <a:avLst/>
          </a:prstGeom>
          <a:ln w="0">
            <a:noFill/>
          </a:ln>
        </p:spPr>
      </p:pic>
      <p:sp>
        <p:nvSpPr>
          <p:cNvPr id="158" name="WordArt 4"/>
          <p:cNvSpPr txBox="1"/>
          <p:nvPr/>
        </p:nvSpPr>
        <p:spPr>
          <a:xfrm>
            <a:off x="2971800" y="2971800"/>
            <a:ext cx="3900600" cy="311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ПАСИБО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ЗА ВНИМАНИЕ !!!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Times New Roman"/>
              </a:rPr>
              <a:t>Технологии, применяемые при работе с детьми с ОВЗ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1. Технология разноуровневого обучения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2. Коррекционно - развивающие технологии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3. Технология проблемного обучения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4. Проектная деятельность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5. Игровые технологии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6. Информационно-коммуникационные технологии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7. Здоровьесберегающие технологии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Times New Roman"/>
              </a:rPr>
              <a:t>Функции игры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-   развлекательная;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-   коммуникативная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-   самореализации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-   игротерапевтическая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-   диагностическая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-   коррекционная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-   функция межнациональной коммуникации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-   функция социализации;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Times New Roman"/>
              </a:rPr>
              <a:t>Характеристика педагогической игры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чётко поставленная цель обучения;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управление ходом игры;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учебно-познавательная направленность;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одведение итогов и оценивание;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оответствующий цели педагогический результат;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Times New Roman"/>
              </a:rPr>
              <a:t>Виды педагогических игр по целевым ориентациям: 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5760" indent="-1857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ru-RU" sz="3200" spc="-1" strike="noStrike">
                <a:solidFill>
                  <a:srgbClr val="ffcc00"/>
                </a:solidFill>
                <a:latin typeface="Times New Roman"/>
              </a:rPr>
              <a:t>Дидактические: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расширение кругозора, познавательной деятельности; применение ЗУН в практической деятельности; развитие общеучебных умений и навыков;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185760" indent="-1857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ru-RU" sz="3200" spc="-1" strike="noStrike">
                <a:solidFill>
                  <a:srgbClr val="ffcc00"/>
                </a:solidFill>
                <a:latin typeface="Times New Roman"/>
              </a:rPr>
              <a:t>Воспитывающие: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воспитание самостоятельности, воли; формирование нравственных, эстетических и мировоззренческих установок; воспитание сотрудничества, коллективизма, общительности, коммуникативности 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1857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57200" y="83808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Times New Roman"/>
              </a:rPr>
              <a:t>  </a:t>
            </a:r>
            <a:r>
              <a:rPr b="1" lang="ru-RU" sz="3200" spc="-1" strike="noStrike">
                <a:solidFill>
                  <a:srgbClr val="ffcc00"/>
                </a:solidFill>
                <a:latin typeface="Times New Roman"/>
              </a:rPr>
              <a:t>Развивающие: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развитие ВПФ, творческих способностей, эмпатии, рефлексии, развитие мотивации учебной деятельности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Times New Roman"/>
              </a:rPr>
              <a:t>  </a:t>
            </a:r>
            <a:r>
              <a:rPr b="1" lang="ru-RU" sz="3200" spc="-1" strike="noStrike">
                <a:solidFill>
                  <a:srgbClr val="ffcc00"/>
                </a:solidFill>
                <a:latin typeface="Times New Roman"/>
              </a:rPr>
              <a:t>Социализирующие: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приобщение к нормам и ценностям общества; адаптация к условиям среды; стрессовый контроль, саморегуляция; обучение общению; психотерапия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76312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Times New Roman"/>
              </a:rPr>
              <a:t>Требования при подборе игр для детей с ОВЗ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61048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1440" indent="-2714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оответствие игры возрасту ребенка или его актуальному уровню развития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71440" indent="-2714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Учет структуры дефекта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71440" indent="-2714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дбор игрового материала с постепенным усложнением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71440" indent="-2714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вязь содержания игры с системой знаний ребенка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71440" indent="-2714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оответствие коррекционной цели занятия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71440" indent="-2714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Учет принципа смены видов деятельности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71440" indent="-2714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спользование ярких, озвученных игрушек и пособий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71440" indent="-2714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оответствие игрушек и пособий гигиеническим требованиям, безопасность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71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4" descr="Безымянный"/>
          <p:cNvPicPr/>
          <p:nvPr/>
        </p:nvPicPr>
        <p:blipFill>
          <a:blip r:embed="rId1"/>
          <a:stretch/>
        </p:blipFill>
        <p:spPr>
          <a:xfrm>
            <a:off x="762120" y="533520"/>
            <a:ext cx="7696080" cy="586404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5"/>
          <p:cNvSpPr/>
          <p:nvPr/>
        </p:nvSpPr>
        <p:spPr>
          <a:xfrm>
            <a:off x="1690560" y="2590920"/>
            <a:ext cx="5764320" cy="10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514"/>
                </a:solidFill>
                <a:latin typeface="Times New Roman"/>
              </a:rPr>
              <a:t>ИГРЫ ДЛЯ ДЕТЕЙ С ОВЗ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514"/>
                </a:solidFill>
                <a:latin typeface="Times New Roman"/>
              </a:rPr>
              <a:t>1. ДИДАКТИЧЕСКИЕ ИГРЫ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5-10-08T11:23:37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