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A90-31C9-45BB-B8E7-B0EFEBB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795-FB17-4EBA-8F96-A7B232EC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262-C7DC-4898-84E7-D7E3D71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8AD-C7CB-48F0-99A4-48CB9881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9C894-1526-4B3F-ADC9-E4A1182B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67B38-D378-4594-92D2-20DCA58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661F2-C823-4349-8532-A32F6A7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9609-82DA-4D97-B347-D3FB266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ECA08-81C3-490A-8BB6-9E1F3F9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26704-B82C-4534-8239-219B2BDF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1CD6-C805-433C-857F-C6D86B1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5F6-C4DC-42C6-A788-2E77C77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3A580-C9B3-4258-869E-BFF6F32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9BD30-10B5-40E2-8C67-14F75B2C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889D9-A559-4F59-861C-C88728F4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DB0E-67DC-48A5-AAC6-7EFC5AE9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C0C04-937C-40EB-83AD-28DAB627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830-A271-463E-96A8-5B5184F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511-5BFD-4B2D-A297-53D2AE22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8EC-6408-4EED-B586-AD947231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AD0-DE7B-4F7D-9D10-F0B91D19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589-63C4-4346-9F3A-B7588E2A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4DA-7098-496C-A4A9-3F9F95F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F2D-32AA-4D99-94C6-635F5F51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D206-FE3F-488E-980B-ECB2CBF66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154C-B585-46DF-BECE-6C43A2CB1C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was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19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A teac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904000" y="2133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A soldi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419640" y="2781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A pri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8" descr="g0113445"/>
          <p:cNvPicPr/>
          <p:nvPr/>
        </p:nvPicPr>
        <p:blipFill>
          <a:blip r:embed="rId1"/>
          <a:stretch/>
        </p:blipFill>
        <p:spPr>
          <a:xfrm>
            <a:off x="179280" y="2852640"/>
            <a:ext cx="2982960" cy="24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g0109688"/>
          <p:cNvPicPr/>
          <p:nvPr/>
        </p:nvPicPr>
        <p:blipFill>
          <a:blip r:embed="rId2"/>
          <a:stretch/>
        </p:blipFill>
        <p:spPr>
          <a:xfrm flipH="1">
            <a:off x="6907320" y="2708280"/>
            <a:ext cx="2862000" cy="391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g0149776"/>
          <p:cNvPicPr/>
          <p:nvPr/>
        </p:nvPicPr>
        <p:blipFill>
          <a:blip r:embed="rId3"/>
          <a:stretch/>
        </p:blipFill>
        <p:spPr>
          <a:xfrm>
            <a:off x="3492360" y="3645000"/>
            <a:ext cx="2397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lived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203640" y="2852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In Gree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904000" y="198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In R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5280" y="19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In Great Brit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0" descr="p0105442"/>
          <p:cNvPicPr/>
          <p:nvPr/>
        </p:nvPicPr>
        <p:blipFill>
          <a:blip r:embed="rId1"/>
          <a:stretch/>
        </p:blipFill>
        <p:spPr>
          <a:xfrm>
            <a:off x="2700360" y="3716280"/>
            <a:ext cx="4103640" cy="275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p0105434"/>
          <p:cNvPicPr/>
          <p:nvPr/>
        </p:nvPicPr>
        <p:blipFill>
          <a:blip r:embed="rId2"/>
          <a:stretch/>
        </p:blipFill>
        <p:spPr>
          <a:xfrm>
            <a:off x="6948360" y="2852640"/>
            <a:ext cx="1962360" cy="304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p0108116"/>
          <p:cNvPicPr/>
          <p:nvPr/>
        </p:nvPicPr>
        <p:blipFill>
          <a:blip r:embed="rId3"/>
          <a:stretch/>
        </p:blipFill>
        <p:spPr>
          <a:xfrm>
            <a:off x="250920" y="3141720"/>
            <a:ext cx="19825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Valentine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 beheaded because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724360" y="1989000"/>
            <a:ext cx="34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) He secretly married young cou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092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) He ran away with the Emperor’s daugh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050920" y="5516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) He was always in love with some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0" descr="g0140614"/>
          <p:cNvPicPr/>
          <p:nvPr/>
        </p:nvPicPr>
        <p:blipFill>
          <a:blip r:embed="rId1"/>
          <a:stretch/>
        </p:blipFill>
        <p:spPr>
          <a:xfrm>
            <a:off x="324000" y="4365720"/>
            <a:ext cx="1598400" cy="219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g0405669"/>
          <p:cNvPicPr/>
          <p:nvPr/>
        </p:nvPicPr>
        <p:blipFill>
          <a:blip r:embed="rId2"/>
          <a:stretch/>
        </p:blipFill>
        <p:spPr>
          <a:xfrm>
            <a:off x="7020000" y="4508640"/>
            <a:ext cx="1913040" cy="195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0109056"/>
          <p:cNvPicPr/>
          <p:nvPr/>
        </p:nvPicPr>
        <p:blipFill>
          <a:blip r:embed="rId3"/>
          <a:stretch/>
        </p:blipFill>
        <p:spPr>
          <a:xfrm>
            <a:off x="3203640" y="2997360"/>
            <a:ext cx="2913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77224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476360" y="1413000"/>
            <a:ext cx="25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St. Valentine was in prison, who did he fall in love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651640" y="404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His prisoner’s daugh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796000" y="256536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) His prisoner’s w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292720" y="479736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) His prisoner’s s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72240" cy="6553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476360" y="14130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girl St. Valentine was in love with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651640" y="404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couldn’t hear (she was dea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96000" y="234936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) couldn’t see (she was blin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580000" y="458136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) couldn’t see and hear (blind and dea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God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 the symbol of St. Valentine's Day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8" descr="g0109056"/>
          <p:cNvPicPr/>
          <p:nvPr/>
        </p:nvPicPr>
        <p:blipFill>
          <a:blip r:embed="rId1"/>
          <a:stretch/>
        </p:blipFill>
        <p:spPr>
          <a:xfrm>
            <a:off x="2843280" y="2133720"/>
            <a:ext cx="3489120" cy="293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250920" y="2852640"/>
            <a:ext cx="266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A) Er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012000" y="2852640"/>
            <a:ext cx="29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B) Cupi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059280" y="5589720"/>
            <a:ext cx="280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c) Apoll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4360" y="333360"/>
            <a:ext cx="74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 flowers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St. Valentine's Day?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0920" y="20606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A) Tulip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588000" y="206064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B) Ros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87640" y="5300640"/>
            <a:ext cx="35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Monotype Corsiva"/>
              </a:rPr>
              <a:t>c) Sunflow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g0205206"/>
          <p:cNvPicPr/>
          <p:nvPr/>
        </p:nvPicPr>
        <p:blipFill>
          <a:blip r:embed="rId1"/>
          <a:stretch/>
        </p:blipFill>
        <p:spPr>
          <a:xfrm>
            <a:off x="6659640" y="2997360"/>
            <a:ext cx="2324160" cy="293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g0205212"/>
          <p:cNvPicPr/>
          <p:nvPr/>
        </p:nvPicPr>
        <p:blipFill>
          <a:blip r:embed="rId2"/>
          <a:stretch/>
        </p:blipFill>
        <p:spPr>
          <a:xfrm>
            <a:off x="539640" y="3141720"/>
            <a:ext cx="1839960" cy="325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g0205211"/>
          <p:cNvPicPr/>
          <p:nvPr/>
        </p:nvPicPr>
        <p:blipFill>
          <a:blip r:embed="rId3"/>
          <a:stretch/>
        </p:blipFill>
        <p:spPr>
          <a:xfrm>
            <a:off x="2843280" y="1989000"/>
            <a:ext cx="3886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6:41:35Z</dcterms:created>
  <dc:creator>Ольга</dc:creator>
  <dc:description/>
  <dc:language>en-US</dc:language>
  <cp:lastModifiedBy>12</cp:lastModifiedBy>
  <dcterms:modified xsi:type="dcterms:W3CDTF">2015-10-10T17:35:05Z</dcterms:modified>
  <cp:revision>5</cp:revision>
  <dc:subject/>
  <dc:title>Слайд 1</dc:title>
</cp:coreProperties>
</file>