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426-579A-44DF-8B21-0B49DAE0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58D-5DA8-4F73-84C8-A2ECB186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227-7D22-439E-8F72-BEAD794E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0A6-CBC0-40EE-B6A1-80E42150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63D72-9CB7-4C1E-A19E-AF3800FF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B7134-F408-4D02-B0A0-5A4FEDA5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823B5-C880-420C-A415-3C7F376A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686C0-F2CD-432B-9927-1AD2029B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9AB5C-514B-4327-BB33-DD6BF791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BE039-014D-48EB-A0FF-6243E1C7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7AA76-02AB-44D5-B209-52C1E4A8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B92-9A02-4E69-A41C-3B551727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655AA-3A24-41F9-ABB6-AA4BCAF9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FE8F9-787E-4539-A22F-72D8FC85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C298F-C883-4514-82B5-D826D8AD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28CB7-02A0-45D4-92A3-7E8766AB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37747-2325-4960-8173-9B3A2C3C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BC1-0A9D-48A8-AD35-CD828646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97B-EE41-44E5-9667-D263997D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A52F-55FB-4DD6-8CBE-15009E1E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DEA-4E47-4845-88AB-1A3371C1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100-0EEF-4822-B8F3-79642E20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8D3-176C-4089-9564-5A77A1D0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55F-5135-4845-AC2B-713835B3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B1E6-8804-4B60-A685-3E76AC527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3ADF-3AD5-48D8-B1AD-D47264A5C8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684360" y="333360"/>
            <a:ext cx="748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. Valentine was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50920" y="1989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) A teac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904000" y="21337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) A soldi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419640" y="278136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) A prie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8" descr="g0113445"/>
          <p:cNvPicPr/>
          <p:nvPr/>
        </p:nvPicPr>
        <p:blipFill>
          <a:blip r:embed="rId1"/>
          <a:stretch/>
        </p:blipFill>
        <p:spPr>
          <a:xfrm>
            <a:off x="179280" y="2852640"/>
            <a:ext cx="2982960" cy="2443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g0109688"/>
          <p:cNvPicPr/>
          <p:nvPr/>
        </p:nvPicPr>
        <p:blipFill>
          <a:blip r:embed="rId2"/>
          <a:stretch/>
        </p:blipFill>
        <p:spPr>
          <a:xfrm flipH="1">
            <a:off x="6907320" y="2708280"/>
            <a:ext cx="2862000" cy="391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g0149776"/>
          <p:cNvPicPr/>
          <p:nvPr/>
        </p:nvPicPr>
        <p:blipFill>
          <a:blip r:embed="rId3"/>
          <a:stretch/>
        </p:blipFill>
        <p:spPr>
          <a:xfrm>
            <a:off x="3492360" y="3645000"/>
            <a:ext cx="23972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684360" y="333360"/>
            <a:ext cx="748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. Valentine lived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203640" y="285264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) In Gree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904000" y="19890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) In Ro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95280" y="19162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) In Great Brita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10" descr="p0105442"/>
          <p:cNvPicPr/>
          <p:nvPr/>
        </p:nvPicPr>
        <p:blipFill>
          <a:blip r:embed="rId1"/>
          <a:stretch/>
        </p:blipFill>
        <p:spPr>
          <a:xfrm>
            <a:off x="2700360" y="3716280"/>
            <a:ext cx="4103640" cy="2752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p0105434"/>
          <p:cNvPicPr/>
          <p:nvPr/>
        </p:nvPicPr>
        <p:blipFill>
          <a:blip r:embed="rId2"/>
          <a:stretch/>
        </p:blipFill>
        <p:spPr>
          <a:xfrm>
            <a:off x="6948360" y="2852640"/>
            <a:ext cx="1962360" cy="304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p0108116"/>
          <p:cNvPicPr/>
          <p:nvPr/>
        </p:nvPicPr>
        <p:blipFill>
          <a:blip r:embed="rId3"/>
          <a:stretch/>
        </p:blipFill>
        <p:spPr>
          <a:xfrm>
            <a:off x="250920" y="3141720"/>
            <a:ext cx="19825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684360" y="333360"/>
            <a:ext cx="748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. Valentine 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s beheaded because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724360" y="1989000"/>
            <a:ext cx="34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) He secretly married young coup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50920" y="198900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) He ran away with the Emperor’s daugh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050920" y="551664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) He was always in love with someo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0" descr="g0140614"/>
          <p:cNvPicPr/>
          <p:nvPr/>
        </p:nvPicPr>
        <p:blipFill>
          <a:blip r:embed="rId1"/>
          <a:stretch/>
        </p:blipFill>
        <p:spPr>
          <a:xfrm>
            <a:off x="324000" y="4365720"/>
            <a:ext cx="1598400" cy="2192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g0405669"/>
          <p:cNvPicPr/>
          <p:nvPr/>
        </p:nvPicPr>
        <p:blipFill>
          <a:blip r:embed="rId2"/>
          <a:stretch/>
        </p:blipFill>
        <p:spPr>
          <a:xfrm>
            <a:off x="7020000" y="4508640"/>
            <a:ext cx="1913040" cy="1952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0109056"/>
          <p:cNvPicPr/>
          <p:nvPr/>
        </p:nvPicPr>
        <p:blipFill>
          <a:blip r:embed="rId3"/>
          <a:stretch/>
        </p:blipFill>
        <p:spPr>
          <a:xfrm>
            <a:off x="3203640" y="2997360"/>
            <a:ext cx="291312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5772240" cy="65530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1476360" y="1413000"/>
            <a:ext cx="259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en St. Valentine was in prison, who did he fall in love wit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651640" y="404640"/>
            <a:ext cx="316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) His prisoner’s daugh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796000" y="2565360"/>
            <a:ext cx="30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b) His prisoner’s w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5292720" y="479736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) His prisoner’s s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772240" cy="6553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476360" y="14130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girl St. Valentine was in love with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651640" y="404640"/>
            <a:ext cx="316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) couldn’t hear (she was dea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796000" y="2349360"/>
            <a:ext cx="30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b) couldn’t see (she was blin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580000" y="458136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) couldn’t see and hear (blind and dea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684360" y="333360"/>
            <a:ext cx="748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ich God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s the symbol of St. Valentine's Day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Picture 8" descr="g0109056"/>
          <p:cNvPicPr/>
          <p:nvPr/>
        </p:nvPicPr>
        <p:blipFill>
          <a:blip r:embed="rId1"/>
          <a:stretch/>
        </p:blipFill>
        <p:spPr>
          <a:xfrm>
            <a:off x="2843280" y="2133720"/>
            <a:ext cx="3489120" cy="2935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1"/>
          <p:cNvSpPr/>
          <p:nvPr/>
        </p:nvSpPr>
        <p:spPr>
          <a:xfrm>
            <a:off x="250920" y="2852640"/>
            <a:ext cx="266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A) Ero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6012000" y="2852640"/>
            <a:ext cx="291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Monotype Corsiva"/>
              </a:rPr>
              <a:t>B) Cupid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3059280" y="5589720"/>
            <a:ext cx="2808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Monotype Corsiva"/>
              </a:rPr>
              <a:t>c) Apoll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684360" y="333360"/>
            <a:ext cx="748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are the flowers 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f St. Valentine's Day?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0920" y="206064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Monotype Corsiva"/>
              </a:rPr>
              <a:t>A) Tulip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588000" y="2060640"/>
            <a:ext cx="23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B) Ros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987640" y="5300640"/>
            <a:ext cx="352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Monotype Corsiva"/>
              </a:rPr>
              <a:t>c) Sunflower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g0205206"/>
          <p:cNvPicPr/>
          <p:nvPr/>
        </p:nvPicPr>
        <p:blipFill>
          <a:blip r:embed="rId1"/>
          <a:stretch/>
        </p:blipFill>
        <p:spPr>
          <a:xfrm>
            <a:off x="6659640" y="2997360"/>
            <a:ext cx="2324160" cy="2935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g0205212"/>
          <p:cNvPicPr/>
          <p:nvPr/>
        </p:nvPicPr>
        <p:blipFill>
          <a:blip r:embed="rId2"/>
          <a:stretch/>
        </p:blipFill>
        <p:spPr>
          <a:xfrm>
            <a:off x="539640" y="3141720"/>
            <a:ext cx="1839960" cy="3259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g0205211"/>
          <p:cNvPicPr/>
          <p:nvPr/>
        </p:nvPicPr>
        <p:blipFill>
          <a:blip r:embed="rId3"/>
          <a:stretch/>
        </p:blipFill>
        <p:spPr>
          <a:xfrm>
            <a:off x="2843280" y="1989000"/>
            <a:ext cx="38862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6:41:35Z</dcterms:created>
  <dc:creator>Ольга</dc:creator>
  <dc:description/>
  <dc:language>en-US</dc:language>
  <cp:lastModifiedBy>12</cp:lastModifiedBy>
  <dcterms:modified xsi:type="dcterms:W3CDTF">2015-10-10T17:35:05Z</dcterms:modified>
  <cp:revision>5</cp:revision>
  <dc:subject/>
  <dc:title>Слайд 1</dc:title>
</cp:coreProperties>
</file>