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387-6D32-4970-BE29-03FA362B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778-F09D-4036-AF28-FEB7FAD2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548-1211-45A5-AA21-8F736E74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6E2-48D2-4733-AC16-062E374F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8A5-541A-476D-95A8-F7DCFBDA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EAB-2DC6-430F-A02E-B5732372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C62-FA09-465B-9F30-5C909BC1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CFB-D03B-407D-A0E8-CF433912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C2E-F772-450E-9CF0-8D68E536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431-754B-4ED7-A3AA-60DCA90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0CF-3392-47F1-97E6-AD957845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9FF-AB83-4B84-BAF1-893DE035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4B0B-07A5-4AE7-9AB1-D97534089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371600"/>
            <a:ext cx="830592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590920"/>
            <a:ext cx="82296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Живо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22960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Эруд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80880"/>
            <a:ext cx="82296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натоки 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960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2590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2590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590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2590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2590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3809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3809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3809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3809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3809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3430440" y="1676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572000" y="1676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5715000" y="1676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6935760" y="1676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8002440" y="1676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430440" y="2895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7" action="ppaction://hlinksldjump"/>
          </p:cNvPr>
          <p:cNvSpPr/>
          <p:nvPr/>
        </p:nvSpPr>
        <p:spPr>
          <a:xfrm>
            <a:off x="4573440" y="2895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8" action="ppaction://hlinksldjump"/>
          </p:cNvPr>
          <p:cNvSpPr/>
          <p:nvPr/>
        </p:nvSpPr>
        <p:spPr>
          <a:xfrm>
            <a:off x="5716440" y="2895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9" action="ppaction://hlinksldjump"/>
          </p:cNvPr>
          <p:cNvSpPr/>
          <p:nvPr/>
        </p:nvSpPr>
        <p:spPr>
          <a:xfrm>
            <a:off x="6859440" y="2895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0" action="ppaction://hlinksldjump"/>
          </p:cNvPr>
          <p:cNvSpPr/>
          <p:nvPr/>
        </p:nvSpPr>
        <p:spPr>
          <a:xfrm>
            <a:off x="80024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1" action="ppaction://hlinksldjump"/>
          </p:cNvPr>
          <p:cNvSpPr/>
          <p:nvPr/>
        </p:nvSpPr>
        <p:spPr>
          <a:xfrm>
            <a:off x="3430440" y="4114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2" action="ppaction://hlinksldjump"/>
          </p:cNvPr>
          <p:cNvSpPr/>
          <p:nvPr/>
        </p:nvSpPr>
        <p:spPr>
          <a:xfrm>
            <a:off x="4573440" y="4114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3" action="ppaction://hlinksldjump"/>
          </p:cNvPr>
          <p:cNvSpPr/>
          <p:nvPr/>
        </p:nvSpPr>
        <p:spPr>
          <a:xfrm>
            <a:off x="5716440" y="403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4" action="ppaction://hlinksldjump"/>
          </p:cNvPr>
          <p:cNvSpPr/>
          <p:nvPr/>
        </p:nvSpPr>
        <p:spPr>
          <a:xfrm>
            <a:off x="6859440" y="403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5" action="ppaction://hlinksldjump"/>
          </p:cNvPr>
          <p:cNvSpPr/>
          <p:nvPr/>
        </p:nvSpPr>
        <p:spPr>
          <a:xfrm>
            <a:off x="8002440" y="403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105520"/>
            <a:ext cx="83059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Зву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6760" y="5410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9760" y="5410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2760" y="5410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5760" y="5410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78760" y="5410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ы подумай над вопрос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 совсем не дышит нос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 на суше, ни в вод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, вообще, нигд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720" y="58672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ыбы, морски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639040" cy="3124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909920" y="481644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лугах живет скрипач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сит фрак и ходит вска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960" y="5715000"/>
            <a:ext cx="270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62320" y="2514600"/>
            <a:ext cx="4419360" cy="3352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773840" y="480060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228600"/>
            <a:ext cx="6933960" cy="236232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де расположены зубы у ули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0040" y="5486400"/>
            <a:ext cx="27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 язы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14600" y="2438280"/>
            <a:ext cx="4800600" cy="3276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849800" y="487692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животное сам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льшое в ми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360" y="5715000"/>
            <a:ext cx="30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ний к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6553440" cy="2895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002080" y="4800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переводится слово помид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5867280"/>
            <a:ext cx="464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олотое ябло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757640" y="474012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наз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ое солёное море в ми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5791320"/>
            <a:ext cx="41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ёртвое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firstslide"/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733560" cy="2971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919560" y="588312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какого ковша не пьют, не ед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только на него глядя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5715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звездие Большая медвед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  <a:hlinkClick r:id="rId1"/>
          </p:cNvPr>
          <p:cNvSpPr/>
          <p:nvPr/>
        </p:nvSpPr>
        <p:spPr>
          <a:xfrm>
            <a:off x="810108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600200" y="2514600"/>
            <a:ext cx="6324480" cy="3200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002080" y="4800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кушк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носят большую польз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едая мохнатых гусениц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рытых ядом. Другие птицы та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ощение игнориру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6960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02440" y="480060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209680" y="243828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33536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мурский тиг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зане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расную книгу Росс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расную книгу МСО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02080" y="4800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808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133720" y="2714760"/>
            <a:ext cx="502920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6952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льз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ходится возле линий электропереда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ревьев, в водоём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бираться на возвыш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ьзоваться металлическими предме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ходиться возле ок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9246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02080" y="4800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808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371600" y="2514600"/>
            <a:ext cx="6248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52742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за дерево стои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тра нет, а лист дрож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2320" y="5284800"/>
            <a:ext cx="19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84872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8120" y="2514600"/>
            <a:ext cx="373356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925760" y="46483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 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ит - НАР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несён в Красную Книг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9246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02080" y="4800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523880" y="2590920"/>
            <a:ext cx="6248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9971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3124440" cy="2438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и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ббо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джунглях Бирм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ама и Зондских остров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самый ловкий акроб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всех живущих обезьян на Зем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firstslide"/>
            <a:hlinkClick r:id="rId2"/>
          </p:cNvPr>
          <p:cNvSpPr/>
          <p:nvPr/>
        </p:nvSpPr>
        <p:spPr>
          <a:xfrm>
            <a:off x="77724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73480" y="510552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04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80880" y="2666880"/>
            <a:ext cx="2895840" cy="2438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2819520" y="4191120"/>
            <a:ext cx="3143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596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том снег! Просто сме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нег по городу ле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же он не т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1960" y="5589720"/>
            <a:ext cx="224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оп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9246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666880" y="2590920"/>
            <a:ext cx="4648320" cy="4038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14840" y="458784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адили зернышк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растили солныш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солнышко сорвем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 зёрен собер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0" y="5589720"/>
            <a:ext cx="324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солн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9246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00400" y="2590920"/>
            <a:ext cx="3886200" cy="4038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078400" y="487692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 ни прикаса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 того цепл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вязчивый и кол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угом торчат иго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560" y="5715000"/>
            <a:ext cx="282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пей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4724280" cy="3200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849800" y="4800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ёл я лугом по тропин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ел солнце на травин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 совсем не горя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лнца белые лу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960" y="5638680"/>
            <a:ext cx="26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ма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7724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849800" y="480060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м извлекает насекомых из трещ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оре деревьев дят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6880" y="5562720"/>
            <a:ext cx="23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зы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84872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3200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773480" y="464832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й зверёк умеет лет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160" y="586728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057400" y="2590920"/>
            <a:ext cx="5562720" cy="3276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849800" y="4800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19320" y="304920"/>
            <a:ext cx="693396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называется жилище боб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1600" y="5562720"/>
            <a:ext cx="173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а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2971800" cy="2819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600200" y="2666880"/>
            <a:ext cx="3219480" cy="2819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849800" y="4800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03T10:34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