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3B56-FD8E-4376-B103-34F3A0432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2CE1-7321-4F89-958C-A5BE97A4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A2AE-BE70-4628-B387-293A24568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21AB-15D0-4458-9E01-FCA0B6525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0C5D-FA6E-4DCE-BCD4-E55ECF87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766E-14D5-4720-BD78-F6EF7C89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A141-F0D3-4F4E-A7DD-7092656A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0823-DAFE-4EA2-ABCE-1C563B24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8323-7EAB-4BA9-8E8F-7C31E9FB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30D2-CD59-4BA6-96F8-22D43B26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1777-311D-4D5D-8077-C8E58C60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B673-0FE4-4273-ABE7-DD37FD8C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F9FA-D23F-4834-B1B2-D43522D3D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8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8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8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image" Target="../media/image18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371600"/>
            <a:ext cx="830592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Рас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590920"/>
            <a:ext cx="822960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Живот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229600" cy="1067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Эруди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380880"/>
            <a:ext cx="82296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Знатоки прир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13716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67080" y="13716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13716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53080" y="13716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96080" y="13716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96080" y="2590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2590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2590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2590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2590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38098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38098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10080" y="38098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53080" y="38098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96080" y="38098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3430440" y="1676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4572000" y="167652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5715000" y="1676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6935760" y="1676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8002440" y="1676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6" action="ppaction://hlinksldjump"/>
          </p:cNvPr>
          <p:cNvSpPr/>
          <p:nvPr/>
        </p:nvSpPr>
        <p:spPr>
          <a:xfrm>
            <a:off x="3430440" y="2895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7" action="ppaction://hlinksldjump"/>
          </p:cNvPr>
          <p:cNvSpPr/>
          <p:nvPr/>
        </p:nvSpPr>
        <p:spPr>
          <a:xfrm>
            <a:off x="4573440" y="2895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8" action="ppaction://hlinksldjump"/>
          </p:cNvPr>
          <p:cNvSpPr/>
          <p:nvPr/>
        </p:nvSpPr>
        <p:spPr>
          <a:xfrm>
            <a:off x="5716440" y="2895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9" action="ppaction://hlinksldjump"/>
          </p:cNvPr>
          <p:cNvSpPr/>
          <p:nvPr/>
        </p:nvSpPr>
        <p:spPr>
          <a:xfrm>
            <a:off x="6859440" y="2895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10" action="ppaction://hlinksldjump"/>
          </p:cNvPr>
          <p:cNvSpPr/>
          <p:nvPr/>
        </p:nvSpPr>
        <p:spPr>
          <a:xfrm>
            <a:off x="80024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11" action="ppaction://hlinksldjump"/>
          </p:cNvPr>
          <p:cNvSpPr/>
          <p:nvPr/>
        </p:nvSpPr>
        <p:spPr>
          <a:xfrm>
            <a:off x="3430440" y="4114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12" action="ppaction://hlinksldjump"/>
          </p:cNvPr>
          <p:cNvSpPr/>
          <p:nvPr/>
        </p:nvSpPr>
        <p:spPr>
          <a:xfrm>
            <a:off x="4573440" y="4114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13" action="ppaction://hlinksldjump"/>
          </p:cNvPr>
          <p:cNvSpPr/>
          <p:nvPr/>
        </p:nvSpPr>
        <p:spPr>
          <a:xfrm>
            <a:off x="5716440" y="4038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14" action="ppaction://hlinksldjump"/>
          </p:cNvPr>
          <p:cNvSpPr/>
          <p:nvPr/>
        </p:nvSpPr>
        <p:spPr>
          <a:xfrm>
            <a:off x="6859440" y="4038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15" action="ppaction://hlinksldjump"/>
          </p:cNvPr>
          <p:cNvSpPr/>
          <p:nvPr/>
        </p:nvSpPr>
        <p:spPr>
          <a:xfrm>
            <a:off x="8002440" y="4038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5105520"/>
            <a:ext cx="830592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Зву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при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96080" y="51814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53080" y="51814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10080" y="51814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51814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51814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06760" y="5410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9760" y="5410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92760" y="5410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35760" y="5410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078760" y="5410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19320" y="304920"/>
            <a:ext cx="6933960" cy="23619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ы подумай над вопрос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то совсем не дышит нос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и на суше, ни в воде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, вообще, нигд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720" y="586728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ыбы, морски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firstslide"/>
            <a:hlinkClick r:id="rId1"/>
          </p:cNvPr>
          <p:cNvSpPr/>
          <p:nvPr/>
        </p:nvSpPr>
        <p:spPr>
          <a:xfrm>
            <a:off x="78487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5639040" cy="3124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909920" y="481644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219320" y="304920"/>
            <a:ext cx="6933960" cy="23619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лугах живет скрипач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осит фрак и ходит вска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960" y="5715000"/>
            <a:ext cx="270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узнеч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firstslide"/>
            <a:hlinkClick r:id="rId1"/>
          </p:cNvPr>
          <p:cNvSpPr/>
          <p:nvPr/>
        </p:nvSpPr>
        <p:spPr>
          <a:xfrm>
            <a:off x="76960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362320" y="2514600"/>
            <a:ext cx="4419360" cy="3352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773840" y="4800600"/>
            <a:ext cx="77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19320" y="228600"/>
            <a:ext cx="6933960" cy="236232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де расположены зубы у улит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0040" y="5486400"/>
            <a:ext cx="272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 язы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firstslide"/>
            <a:hlinkClick r:id="rId1"/>
          </p:cNvPr>
          <p:cNvSpPr/>
          <p:nvPr/>
        </p:nvSpPr>
        <p:spPr>
          <a:xfrm>
            <a:off x="78487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514600" y="2438280"/>
            <a:ext cx="4800600" cy="3276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849800" y="487692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19320" y="304920"/>
            <a:ext cx="6933960" cy="23619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ое животное сам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ольшое в ми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8360" y="5715000"/>
            <a:ext cx="301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иний к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firstslide"/>
            <a:hlinkClick r:id="rId1"/>
          </p:cNvPr>
          <p:cNvSpPr/>
          <p:nvPr/>
        </p:nvSpPr>
        <p:spPr>
          <a:xfrm>
            <a:off x="77724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523880" y="2590920"/>
            <a:ext cx="6553440" cy="28954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8002080" y="480060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5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219320" y="304920"/>
            <a:ext cx="6933960" cy="23619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переводится слово помидо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5867280"/>
            <a:ext cx="464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олотое ябло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firstslide"/>
            <a:hlinkClick r:id="rId1"/>
          </p:cNvPr>
          <p:cNvSpPr/>
          <p:nvPr/>
        </p:nvSpPr>
        <p:spPr>
          <a:xfrm>
            <a:off x="76960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438280" y="2438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757640" y="474012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9320" y="304920"/>
            <a:ext cx="6933960" cy="23619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назыв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амое солёное море в ми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5791320"/>
            <a:ext cx="413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ёртвое мо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firstslide"/>
            <a:hlinkClick r:id="rId1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2743200"/>
            <a:ext cx="3733560" cy="2971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685800" y="2743200"/>
            <a:ext cx="3886200" cy="2971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919560" y="588312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19320" y="304920"/>
            <a:ext cx="6933960" cy="23619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 какого ковша не пьют, не едя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 только на него глядя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57150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звездие Большая медвед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  <a:hlinkClick r:id="rId1"/>
          </p:cNvPr>
          <p:cNvSpPr/>
          <p:nvPr/>
        </p:nvSpPr>
        <p:spPr>
          <a:xfrm>
            <a:off x="810108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600200" y="2514600"/>
            <a:ext cx="6324480" cy="32004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8002080" y="480060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19320" y="304920"/>
            <a:ext cx="6933960" cy="23619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укушк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носят большую польз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едая мохнатых гусениц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крытых ядом. Другие птицы так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гощение игнориру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firstslide"/>
            <a:hlinkClick r:id="rId1"/>
          </p:cNvPr>
          <p:cNvSpPr/>
          <p:nvPr/>
        </p:nvSpPr>
        <p:spPr>
          <a:xfrm>
            <a:off x="7696080" y="5562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002440" y="4800600"/>
            <a:ext cx="77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2209680" y="2438280"/>
            <a:ext cx="4114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" dur="33536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19320" y="304920"/>
            <a:ext cx="6933960" cy="23619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мурский тиг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занес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Красную книгу Росси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Красную книгу МСО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firstslide"/>
            <a:hlinkClick r:id="rId1"/>
          </p:cNvPr>
          <p:cNvSpPr/>
          <p:nvPr/>
        </p:nvSpPr>
        <p:spPr>
          <a:xfrm>
            <a:off x="78487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002080" y="480060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808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2133720" y="2714760"/>
            <a:ext cx="5029200" cy="36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6952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19320" y="304920"/>
            <a:ext cx="6933960" cy="23619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ельз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ходится возле линий электропередач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ревьев, в водоём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бираться на возвышен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ьзоваться металлическими предмет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ходиться возле ок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firstslide"/>
            <a:hlinkClick r:id="rId1"/>
          </p:cNvPr>
          <p:cNvSpPr/>
          <p:nvPr/>
        </p:nvSpPr>
        <p:spPr>
          <a:xfrm>
            <a:off x="7924680" y="5562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02080" y="480060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80880" y="6019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1371600" y="2514600"/>
            <a:ext cx="6248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52742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19320" y="304920"/>
            <a:ext cx="6933960" cy="23619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то за дерево стоит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тра нет, а лист дрожи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2320" y="5284800"/>
            <a:ext cx="19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firstslide"/>
            <a:hlinkClick r:id="rId1"/>
          </p:cNvPr>
          <p:cNvSpPr/>
          <p:nvPr/>
        </p:nvSpPr>
        <p:spPr>
          <a:xfrm>
            <a:off x="784872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048120" y="2514600"/>
            <a:ext cx="3733560" cy="4114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925760" y="4648320"/>
            <a:ext cx="88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 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19320" y="304920"/>
            <a:ext cx="6933960" cy="23619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ит - НАРВ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занесён в Красную Книг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firstslide"/>
            <a:hlinkClick r:id="rId1"/>
          </p:cNvPr>
          <p:cNvSpPr/>
          <p:nvPr/>
        </p:nvSpPr>
        <p:spPr>
          <a:xfrm>
            <a:off x="79246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002080" y="480060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1523880" y="2590920"/>
            <a:ext cx="62485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99718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638680" y="2666880"/>
            <a:ext cx="3124440" cy="24386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219320" y="304920"/>
            <a:ext cx="6933960" cy="23619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ди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ббо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 джунглях Бирм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ама и Зондских остров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самый ловкий акроба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 всех живущих обезьян на Земл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" action="ppaction://hlinkshowjump?jump=firstslide"/>
            <a:hlinkClick r:id="rId2"/>
          </p:cNvPr>
          <p:cNvSpPr/>
          <p:nvPr/>
        </p:nvSpPr>
        <p:spPr>
          <a:xfrm>
            <a:off x="7772400" y="5638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773480" y="510552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304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380880" y="2666880"/>
            <a:ext cx="2895840" cy="2438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2819520" y="4191120"/>
            <a:ext cx="3143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5" dur="1596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19320" y="304920"/>
            <a:ext cx="6933960" cy="23619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том снег! Просто смех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нег по городу лет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чему же он не та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1960" y="5589720"/>
            <a:ext cx="224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опо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  <a:hlinkClick r:id="rId1"/>
          </p:cNvPr>
          <p:cNvSpPr/>
          <p:nvPr/>
        </p:nvSpPr>
        <p:spPr>
          <a:xfrm>
            <a:off x="79246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666880" y="2590920"/>
            <a:ext cx="4648320" cy="4038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214840" y="4587840"/>
            <a:ext cx="77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19320" y="304920"/>
            <a:ext cx="6933960" cy="23619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садили зернышко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растили солныш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то солнышко сорвем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ного зёрен собер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0" y="5589720"/>
            <a:ext cx="324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солну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firstslide"/>
            <a:hlinkClick r:id="rId1"/>
          </p:cNvPr>
          <p:cNvSpPr/>
          <p:nvPr/>
        </p:nvSpPr>
        <p:spPr>
          <a:xfrm>
            <a:off x="79246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00400" y="2590920"/>
            <a:ext cx="3886200" cy="4038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078400" y="4876920"/>
            <a:ext cx="77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19320" y="304920"/>
            <a:ext cx="6933960" cy="23619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то ни прикасае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 того цепл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вязчивый и колк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ругом торчат иго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560" y="5715000"/>
            <a:ext cx="282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епей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  <a:hlinkClick r:id="rId1"/>
          </p:cNvPr>
          <p:cNvSpPr/>
          <p:nvPr/>
        </p:nvSpPr>
        <p:spPr>
          <a:xfrm>
            <a:off x="784872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362320" y="2666880"/>
            <a:ext cx="4724280" cy="32004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849800" y="480060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19320" y="304920"/>
            <a:ext cx="6933960" cy="23619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Шёл я лугом по тропин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идел солнце на травин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о совсем не горя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лнца белые лу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960" y="5638680"/>
            <a:ext cx="26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ома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firstslide"/>
            <a:hlinkClick r:id="rId1"/>
          </p:cNvPr>
          <p:cNvSpPr/>
          <p:nvPr/>
        </p:nvSpPr>
        <p:spPr>
          <a:xfrm>
            <a:off x="777240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971800" y="2666880"/>
            <a:ext cx="4267080" cy="3505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849800" y="4800600"/>
            <a:ext cx="77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19320" y="304920"/>
            <a:ext cx="6933960" cy="23619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ем извлекает насекомых из трещ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коре деревьев дяте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6880" y="5562720"/>
            <a:ext cx="23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Язы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firstslide"/>
            <a:hlinkClick r:id="rId1"/>
          </p:cNvPr>
          <p:cNvSpPr/>
          <p:nvPr/>
        </p:nvSpPr>
        <p:spPr>
          <a:xfrm>
            <a:off x="784872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3200400" cy="3886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773480" y="464832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5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19320" y="304920"/>
            <a:ext cx="6933960" cy="23619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ой зверёк умеет лет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160" y="5867280"/>
            <a:ext cx="428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етучая 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firstslide"/>
            <a:hlinkClick r:id="rId1"/>
          </p:cNvPr>
          <p:cNvSpPr/>
          <p:nvPr/>
        </p:nvSpPr>
        <p:spPr>
          <a:xfrm>
            <a:off x="77724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057400" y="2590920"/>
            <a:ext cx="5562720" cy="3276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849800" y="480060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19320" y="304920"/>
            <a:ext cx="6933960" cy="23619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называется жилище боб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1600" y="5562720"/>
            <a:ext cx="173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Ха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firstslide"/>
            <a:hlinkClick r:id="rId1"/>
          </p:cNvPr>
          <p:cNvSpPr/>
          <p:nvPr/>
        </p:nvSpPr>
        <p:spPr>
          <a:xfrm>
            <a:off x="784872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800600" y="2666880"/>
            <a:ext cx="2971800" cy="2819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600200" y="2666880"/>
            <a:ext cx="3219480" cy="28195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849800" y="480060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3-03T10:34:4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