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C1B-20F2-4B71-9E13-DC4361D0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164-BED7-4BE6-856C-3B5A92F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EA2-65C0-45B3-97E2-2AC9471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8D8-C2D2-4F10-9F97-C95AABD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9CE-9440-4486-B746-857CEA2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2CE-4A15-40B6-A619-EC34EDE4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4D5-0112-4655-BEAE-B5EA1FFF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967-FD8B-41C3-B252-265CAE3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087-E427-4076-9CDD-DB5A7EF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DEC-A2D8-45E7-BFD0-13BB60E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835-1D7D-41FC-BF35-18C5C50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B53-A9C7-4ECC-B1E2-2859825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B7FB-BA35-49E5-8A49-8AF9CDA8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5360"/>
            <a:ext cx="9031320" cy="72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54" t="3946" r="-1051" b="5264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лассификация проектов &quot; портал с примерами справок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127" r="0" b="31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7:17:16Z</dcterms:created>
  <dc:creator>User</dc:creator>
  <dc:description/>
  <dc:language>en-US</dc:language>
  <cp:lastModifiedBy>User</cp:lastModifiedBy>
  <dcterms:modified xsi:type="dcterms:W3CDTF">2015-10-11T17:29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