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5B9-31A7-4857-8692-91559E68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28C-5CE4-4244-9E50-109A7C5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ACB-10CC-44DF-B030-60182DE1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A3F-9519-4F31-948C-E979648B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114-9A1C-4B9A-A1BE-3A4320CC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9BF-A283-4C82-B94F-6C0677D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A16-E392-4872-B274-CBFDE20E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3B5-8920-474D-B97B-2F1605A7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B61-444C-456E-AF22-4676A0F2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0E3-C864-4EE3-BF9B-0DEEFCD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752-9D0E-46A2-8FFE-65F5130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AFC-34DF-4525-89EA-F7C18AD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507-0FC3-40EA-9ACD-9A5483EC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5360"/>
            <a:ext cx="9031320" cy="72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054" t="3946" r="-1051" b="5264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лассификация проектов &quot; портал с примерами справок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127" r="0" b="31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7:17:16Z</dcterms:created>
  <dc:creator>User</dc:creator>
  <dc:description/>
  <dc:language>en-US</dc:language>
  <cp:lastModifiedBy>User</cp:lastModifiedBy>
  <dcterms:modified xsi:type="dcterms:W3CDTF">2015-10-11T17:29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