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7D2-A636-4F74-806A-3B65C0A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9C9-39A2-48C3-B7E1-98124AA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B14-C428-45B1-887D-ED11833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5CB-A2EC-40FF-8D00-0804AFE4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823-DEC7-4377-8829-92D4E42D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EAB-FEE9-4613-AFF4-2BCC7B60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AC7-28CC-44B8-A1E9-CA04A57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93D-D680-470A-8523-E0D318E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35B-8D83-4E53-BBBE-7198B94F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EE1-D8AC-4121-A319-B5ACC82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E5A-02CC-4930-B6DE-D7AD154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168-53A0-4417-AE07-45FA5BA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4A8-2763-4915-A16C-91E901FC5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16.jpeg"/><Relationship Id="rId4" Type="http://schemas.openxmlformats.org/officeDocument/2006/relationships/hyperlink" Target="file:///tmp/home/.config/libreoffice/4/user/gallery/BRD_P16.WAV" TargetMode="External"/><Relationship Id="rId5" Type="http://schemas.openxmlformats.org/officeDocument/2006/relationships/image" Target="../media/image17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1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Franklin Gothic Medium"/>
              </a:rPr>
              <a:t>Развитие зрительно-моторной коорд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0" t="5629" r="0" b="0"/>
          <a:stretch/>
        </p:blipFill>
        <p:spPr>
          <a:xfrm>
            <a:off x="2411280" y="134136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348000" y="6165720"/>
            <a:ext cx="57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1197000"/>
            <a:ext cx="856944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Соедини предметы левого и правого ряда непрерывными линиями слева на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куда ид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Слоны"/>
          <p:cNvPicPr/>
          <p:nvPr/>
        </p:nvPicPr>
        <p:blipFill>
          <a:blip r:embed="rId1"/>
          <a:stretch/>
        </p:blipFill>
        <p:spPr>
          <a:xfrm>
            <a:off x="3276720" y="1628640"/>
            <a:ext cx="1295280" cy="142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Млекопитающие"/>
          <p:cNvPicPr/>
          <p:nvPr/>
        </p:nvPicPr>
        <p:blipFill>
          <a:blip r:embed="rId2"/>
          <a:stretch/>
        </p:blipFill>
        <p:spPr>
          <a:xfrm>
            <a:off x="3924360" y="3716280"/>
            <a:ext cx="1200240" cy="11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жеребёнок, лошадь, одуванчики, конь"/>
          <p:cNvPicPr/>
          <p:nvPr/>
        </p:nvPicPr>
        <p:blipFill>
          <a:blip r:embed="rId3"/>
          <a:stretch/>
        </p:blipFill>
        <p:spPr>
          <a:xfrm>
            <a:off x="1692360" y="2708280"/>
            <a:ext cx="1368360" cy="135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сидит, макро, белочка, белка"/>
          <p:cNvPicPr/>
          <p:nvPr/>
        </p:nvPicPr>
        <p:blipFill>
          <a:blip r:embed="rId4"/>
          <a:stretch/>
        </p:blipFill>
        <p:spPr>
          <a:xfrm>
            <a:off x="7451640" y="1916280"/>
            <a:ext cx="1513080" cy="99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вода, горы, фон, медведь"/>
          <p:cNvPicPr/>
          <p:nvPr/>
        </p:nvPicPr>
        <p:blipFill>
          <a:blip r:embed="rId5"/>
          <a:stretch/>
        </p:blipFill>
        <p:spPr>
          <a:xfrm>
            <a:off x="5292720" y="1125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обои, животные, звери, картинка"/>
          <p:cNvPicPr/>
          <p:nvPr/>
        </p:nvPicPr>
        <p:blipFill>
          <a:blip r:embed="rId6"/>
          <a:stretch/>
        </p:blipFill>
        <p:spPr>
          <a:xfrm>
            <a:off x="6156360" y="5300640"/>
            <a:ext cx="1563480" cy="128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от, тигр, нападение, крадущийся"/>
          <p:cNvPicPr/>
          <p:nvPr/>
        </p:nvPicPr>
        <p:blipFill>
          <a:blip r:embed="rId7"/>
          <a:stretch/>
        </p:blipFill>
        <p:spPr>
          <a:xfrm>
            <a:off x="3348000" y="5373720"/>
            <a:ext cx="1349280" cy="121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Обои лиса, нога, поляна, потягнулась, осень"/>
          <p:cNvPicPr/>
          <p:nvPr/>
        </p:nvPicPr>
        <p:blipFill>
          <a:blip r:embed="rId8"/>
          <a:stretch/>
        </p:blipFill>
        <p:spPr>
          <a:xfrm>
            <a:off x="7596360" y="3789360"/>
            <a:ext cx="1296720" cy="106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горы, ирбис, снежный барс"/>
          <p:cNvPicPr/>
          <p:nvPr/>
        </p:nvPicPr>
        <p:blipFill>
          <a:blip r:embed="rId9"/>
          <a:stretch/>
        </p:blipFill>
        <p:spPr>
          <a:xfrm>
            <a:off x="5796000" y="314172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юмор, овощи, животные, черепаха, бутерброд"/>
          <p:cNvPicPr/>
          <p:nvPr/>
        </p:nvPicPr>
        <p:blipFill>
          <a:blip r:embed="rId10"/>
          <a:stretch/>
        </p:blipFill>
        <p:spPr>
          <a:xfrm>
            <a:off x="755640" y="5373720"/>
            <a:ext cx="1584360" cy="10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снег, упряжка, лайки"/>
          <p:cNvPicPr/>
          <p:nvPr/>
        </p:nvPicPr>
        <p:blipFill>
          <a:blip r:embed="rId11"/>
          <a:stretch/>
        </p:blipFill>
        <p:spPr>
          <a:xfrm>
            <a:off x="179280" y="4005360"/>
            <a:ext cx="1440000" cy="113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лето, природа, олень, поле"/>
          <p:cNvPicPr/>
          <p:nvPr/>
        </p:nvPicPr>
        <p:blipFill>
          <a:blip r:embed="rId12"/>
          <a:stretch/>
        </p:blipFill>
        <p:spPr>
          <a:xfrm>
            <a:off x="250920" y="119700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2411280" y="573408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692360" y="443700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1763640" y="1773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643280" y="2421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716360" y="595008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5219640" y="429264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6804000" y="1197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5508720" y="5445000"/>
            <a:ext cx="615960" cy="486000"/>
          </a:xfrm>
          <a:prstGeom prst="leftArrow">
            <a:avLst>
              <a:gd name="adj1" fmla="val 50000"/>
              <a:gd name="adj2" fmla="val 3168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6948360" y="436572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5076720" y="3213000"/>
            <a:ext cx="615960" cy="486000"/>
          </a:xfrm>
          <a:prstGeom prst="leftArrow">
            <a:avLst>
              <a:gd name="adj1" fmla="val 50000"/>
              <a:gd name="adj2" fmla="val 3168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804000" y="242100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042920" y="306864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780080" cy="290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3240" y="5137200"/>
            <a:ext cx="1800360" cy="150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62680" y="5124600"/>
            <a:ext cx="1754280" cy="150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58920" y="5157720"/>
            <a:ext cx="1800360" cy="1451160"/>
          </a:xfrm>
          <a:prstGeom prst="rect">
            <a:avLst/>
          </a:prstGeom>
          <a:ln w="0">
            <a:noFill/>
          </a:ln>
        </p:spPr>
      </p:pic>
      <p:pic>
        <p:nvPicPr>
          <p:cNvPr id="74" name="MS90737.wav" descr=""/>
          <p:cNvPicPr/>
          <p:nvPr/>
        </p:nvPicPr>
        <p:blipFill>
          <a:blip r:embed="rId8"/>
          <a:stretch/>
        </p:blipFill>
        <p:spPr>
          <a:xfrm>
            <a:off x="9558360" y="2079720"/>
            <a:ext cx="24768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MS90738.wav" descr=""/>
          <p:cNvPicPr/>
          <p:nvPr/>
        </p:nvPicPr>
        <p:blipFill>
          <a:blip r:embed="rId9"/>
          <a:stretch/>
        </p:blipFill>
        <p:spPr>
          <a:xfrm>
            <a:off x="9558360" y="3232080"/>
            <a:ext cx="247680" cy="214560"/>
          </a:xfrm>
          <a:prstGeom prst="rect">
            <a:avLst/>
          </a:prstGeom>
          <a:ln w="0">
            <a:noFill/>
          </a:ln>
        </p:spPr>
      </p:pic>
      <p:pic>
        <p:nvPicPr>
          <p:cNvPr id="76" name="j021753.wav" descr=""/>
          <p:cNvPicPr/>
          <p:nvPr/>
        </p:nvPicPr>
        <p:blipFill>
          <a:blip r:embed="rId10"/>
          <a:stretch/>
        </p:blipFill>
        <p:spPr>
          <a:xfrm>
            <a:off x="9487080" y="4095720"/>
            <a:ext cx="247320" cy="214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1258920" y="52880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МОЛОД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401840" y="26028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«</a:t>
            </a: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КАКОГО ФРАГМЕНТА НЕ ХВАТАЕТ НА КАРТИНК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3 0.06829 L 0.56268 -0.46713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31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46 -0.05093 L 0.04011 -0.22477 C 0.02379 -0.26158 0.01997 -0.30787 0.03004 -0.35047 C 0.04167 -0.39931 0.06389 -0.43287 0.09358 -0.45047 L 0.22674 -0.53843 E">
                                      <p:cBhvr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5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0.14306 L -0.03923 -0.51435 E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7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орисуй портрет. Запиши, какие части лица ты дорисова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56000" y="1800360"/>
            <a:ext cx="396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152280"/>
            <a:ext cx="64911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Franklin Gothic Medium"/>
              </a:rPr>
              <a:t>Дорисуй по клет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3267023"/>
          <p:cNvPicPr/>
          <p:nvPr/>
        </p:nvPicPr>
        <p:blipFill>
          <a:blip r:embed="rId1"/>
          <a:stretch/>
        </p:blipFill>
        <p:spPr>
          <a:xfrm>
            <a:off x="971640" y="2060640"/>
            <a:ext cx="3024000" cy="364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2867_mini"/>
          <p:cNvPicPr/>
          <p:nvPr/>
        </p:nvPicPr>
        <p:blipFill>
          <a:blip r:embed="rId2"/>
          <a:stretch/>
        </p:blipFill>
        <p:spPr>
          <a:xfrm>
            <a:off x="5364000" y="1989000"/>
            <a:ext cx="295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-171360"/>
            <a:ext cx="7539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Franklin Gothic Medium"/>
              </a:rPr>
              <a:t>Раскрась у зай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АСКРАСКА  "/>
          <p:cNvPicPr/>
          <p:nvPr/>
        </p:nvPicPr>
        <p:blipFill>
          <a:blip r:embed="rId1"/>
          <a:stretch/>
        </p:blipFill>
        <p:spPr>
          <a:xfrm>
            <a:off x="1187280" y="2133720"/>
            <a:ext cx="329904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4643280" y="2133720"/>
            <a:ext cx="410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e58"/>
                </a:solidFill>
                <a:latin typeface="Franklin Gothic Medium"/>
              </a:rPr>
              <a:t>Желт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левое 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Franklin Gothic Medium"/>
              </a:rPr>
              <a:t>Серым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правы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Franklin Gothic Medium"/>
              </a:rPr>
              <a:t>Голуб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левую переднюю ла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Черным</a:t>
            </a:r>
            <a:r>
              <a:rPr b="1" lang="ru-RU" sz="1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Franklin Gothic Medium"/>
              </a:rPr>
              <a:t>– правую заднюю лапу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52:28Z</dcterms:created>
  <dc:creator>Customer</dc:creator>
  <dc:description/>
  <dc:language>en-US</dc:language>
  <cp:lastModifiedBy>Любовь</cp:lastModifiedBy>
  <dcterms:modified xsi:type="dcterms:W3CDTF">2015-03-03T15:01:32Z</dcterms:modified>
  <cp:revision>9</cp:revision>
  <dc:subject/>
  <dc:title>Слайд 1</dc:title>
</cp:coreProperties>
</file>