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jpeg" ContentType="image/jpeg"/>
  <Override PartName="/ppt/media/image9.wmf" ContentType="image/x-wmf"/>
  <Override PartName="/ppt/media/image6.wmf" ContentType="image/x-wmf"/>
  <Override PartName="/ppt/media/image12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7E9-0335-4265-A734-A7BE2FBA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6CB-C5D0-4FFA-BAA8-B232A380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5C8-5945-4924-8925-1728A338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982-A28B-4752-B14B-BFD491FD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DD87-60EC-4175-873B-9A36275E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7D60-74A2-49DC-94F5-CBA6D7E1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F9A8-C47C-4E09-BED6-56BF437C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3E80-4873-41D7-8BF8-3FD48C1D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B8A-1F54-4E94-8379-767C43CF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AED1-6B44-4351-BE6F-56569830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2226-6225-4F11-95BA-05184963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A72-E998-45D6-9D33-310DAEF6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FC1E-A2E7-4EEE-88F1-97FED56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F2ED-A336-4C77-B55C-69DD4363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C2B4-8592-49B2-BE2D-75E2FE4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C276-55FE-426C-A1E8-40BAB719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DCE5-7ACE-4A91-AF2C-268533B9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AA258-DF1F-4326-B598-1C0B7562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72F70-9000-4020-9191-84181710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90649-5FC0-4153-B240-D940475C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0BB7C-24E4-4DA3-A047-6A704DBB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FA2E9-366A-4222-986A-99697A03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902-3A38-4380-B223-C93EAA37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5F7F5-3944-437C-96AA-A5B1D715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09E3B-A302-4DB0-B3CD-1E594E3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F3F5B-3018-43B3-AD69-738EFE25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11802-86F3-49BC-A0F3-5EC0160A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6F2D7-A444-4A04-9BAA-B1F3E9DD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C33DC-9584-4032-A664-B8BDC08B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AE111-3DCF-4DDC-8B91-E2742135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C7F43-CB62-4E05-B0C2-3EB5B79A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7B34-32E9-4AE0-8EF6-0D967AA8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C0EC-2DBD-4C1F-9192-68A1081A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6A8-BC3B-4F54-9D46-274E2686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E206D-EDBC-4691-BC8D-9CED3F7B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97C9-A10E-4963-98D6-D81D02D3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BFC4-E517-43A1-889D-1783E15E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59DF-0415-40F5-B1D3-CA5BFC3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FC99-4EED-4D5B-9E21-6C1BC05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FFF9-C792-460C-9E1E-F12A321A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A214-3D24-47C9-AC13-F33DFBEE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D0E56-EADC-48E1-A1EF-64C7CFE0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EBA9-1DDA-426B-89AF-6EC33476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F9DB5-357E-4491-9999-4E32C5FF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102-BDBC-4342-AA8C-9AFA9ED7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0DB28-8149-4C6C-B5CF-75961B35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D407C-CF2F-4757-A9EA-C32724FF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4E51E-96BF-44EB-B376-D24A16F0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1842D-DBE0-4F8D-8DD3-C2EEFCD8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5A672-4082-417C-843B-365082C5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16B63-447B-4936-A9F7-2213CAB5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A7436-5CFB-41D2-B0DF-DE7899EA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CE710-E626-4980-B9B2-8CC9BBE6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59063-314F-42DE-9F27-BCE5755B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4FEEF-D24F-4B70-9929-F3FCA79F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884-EBAF-4FA5-89AF-5C2C90A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51591-D2AD-431E-969A-07DFF04D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FBB66-C4CA-4FA7-8855-E75EC2E4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91E08-9F01-4866-82AF-ECE1FDBD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EFD3C-7FD4-4148-BD99-15A2F9D9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7B4D8-4DCB-44B2-A68C-FB908B8D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23825-90D1-4BD0-9632-F072FEED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FB928-F06B-4356-8849-2E76B065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5CC83-BA9B-44BC-B36F-2DF33FC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7CD81-7DE1-4EE4-9F57-199916CD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F10CB-6145-4C47-85A9-0F2BC18B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C9D-F19E-4904-88F8-0D60B90E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FD18A-D45B-4518-A215-31AFB4D4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78F3A-3DE9-4CD2-BE9B-71607BCC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35DB7-288C-45D0-B04A-4D5B0F99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6989C-B524-4102-822F-A2754817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0DCB9-BB4B-46F1-B64F-1B00386A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FD57C-96BF-48B1-B27C-132C721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0627D-FE3E-4A99-8DF8-02D04024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26B99-A053-47C6-B98E-A3AEAEDD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BE177-51CD-4697-A361-7A4A615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A25AF-1CBD-456D-8CAE-164DB6FC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EF2-209C-4C3B-ADD2-BAA5562A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86919-AA29-44E4-B39A-7F6CDBB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B6828-26F7-46D1-9087-71A27B1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BC349-90C1-45E3-B5F0-5CE98737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BFACA-45DD-4C07-86E4-D2736C6C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17A28-3F68-4D49-8F51-EA4E3F99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E13-3169-486E-AB0C-5F8B5552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FF29-1DEE-487E-977F-7A56C28904E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65AE-A6A1-45AD-ADE5-0D04C25A73F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D508-0CE5-4F97-8F90-07BB5FB5D9D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B0ED-7A88-42E1-ADED-746CB7E89FE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FFAB-E0DD-45C2-8118-85EC945118A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1B9F-3CCE-4539-A0C3-E78D5FCE2B8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77B1-636A-484B-B3A9-3DF2011B2F5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6480" y="3380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ЛЬНЫЙ ПРОЕК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ЖНОСТЬ ИЗУЧЕН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ГО ЯЗЫКА, ОБЩЕСТВОЗНАНИЯ,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ИОЛОГИИ и  ИНФОР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ШКОЛ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2209680" y="5334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дготовили ученики 6 «А» класса школы № 145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Эмануэль Н. 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Требуются молодые люди для раздачи листовок. - Другие сферы занятий в Одессе на Slando"/>
          <p:cNvPicPr/>
          <p:nvPr/>
        </p:nvPicPr>
        <p:blipFill>
          <a:blip r:embed="rId1"/>
          <a:stretch/>
        </p:blipFill>
        <p:spPr>
          <a:xfrm>
            <a:off x="1764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1"/>
          <p:cNvSpPr/>
          <p:nvPr/>
        </p:nvSpPr>
        <p:spPr>
          <a:xfrm rot="20167800">
            <a:off x="369360" y="2814480"/>
            <a:ext cx="16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изучать общество 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"/>
          <p:cNvSpPr/>
          <p:nvPr/>
        </p:nvSpPr>
        <p:spPr>
          <a:xfrm rot="20914800">
            <a:off x="7405200" y="3154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лос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6"/>
          <p:cNvSpPr txBox="1"/>
          <p:nvPr/>
        </p:nvSpPr>
        <p:spPr>
          <a:xfrm>
            <a:off x="152280" y="457200"/>
            <a:ext cx="8610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 жизни обществознание может пригодиться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78" name="Object 7"/>
          <p:cNvGraphicFramePr/>
          <p:nvPr/>
        </p:nvGraphicFramePr>
        <p:xfrm>
          <a:off x="76320" y="1219320"/>
          <a:ext cx="8692920" cy="55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8692920" cy="55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>
            <a:off x="380880" y="4572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Какая из глобальных проблем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ам кажется наиболее острой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81" name="Object 5"/>
          <p:cNvGraphicFramePr/>
          <p:nvPr/>
        </p:nvGraphicFramePr>
        <p:xfrm>
          <a:off x="96840" y="1219320"/>
          <a:ext cx="869328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219320"/>
                    <a:ext cx="869328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6"/>
          <p:cNvSpPr txBox="1"/>
          <p:nvPr/>
        </p:nvSpPr>
        <p:spPr>
          <a:xfrm rot="21135600">
            <a:off x="456840" y="1066680"/>
            <a:ext cx="5130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006600"/>
                    </a:gs>
                  </a:gsLst>
                  <a:lin ang="3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ологи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006600"/>
                  </a:gs>
                </a:gsLst>
                <a:lin ang="3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4" name="Picture 7" descr="J0233959_WMF"/>
          <p:cNvPicPr/>
          <p:nvPr/>
        </p:nvPicPr>
        <p:blipFill>
          <a:blip r:embed="rId1"/>
          <a:stretch/>
        </p:blipFill>
        <p:spPr>
          <a:xfrm>
            <a:off x="838080" y="3352680"/>
            <a:ext cx="3051360" cy="3191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5cdc323114bc"/>
          <p:cNvPicPr/>
          <p:nvPr/>
        </p:nvPicPr>
        <p:blipFill>
          <a:blip r:embed="rId2"/>
          <a:stretch/>
        </p:blipFill>
        <p:spPr>
          <a:xfrm>
            <a:off x="6172200" y="1981080"/>
            <a:ext cx="222084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Требуются молодые люди для раздачи листовок. - Другие сферы занятий в Одессе на Slando"/>
          <p:cNvPicPr/>
          <p:nvPr/>
        </p:nvPicPr>
        <p:blipFill>
          <a:blip r:embed="rId1"/>
          <a:stretch/>
        </p:blipFill>
        <p:spPr>
          <a:xfrm>
            <a:off x="1764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1"/>
          <p:cNvSpPr/>
          <p:nvPr/>
        </p:nvSpPr>
        <p:spPr>
          <a:xfrm rot="20167800">
            <a:off x="369360" y="2814480"/>
            <a:ext cx="16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изучать биологию 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 rot="20914800">
            <a:off x="7405200" y="3154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лос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4"/>
          <p:cNvGraphicFramePr/>
          <p:nvPr/>
        </p:nvGraphicFramePr>
        <p:xfrm>
          <a:off x="-228600" y="1219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19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WordArt 5"/>
          <p:cNvSpPr txBox="1"/>
          <p:nvPr/>
        </p:nvSpPr>
        <p:spPr>
          <a:xfrm>
            <a:off x="762120" y="457200"/>
            <a:ext cx="6848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Биологию нужно изучать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WordArt 4"/>
          <p:cNvSpPr txBox="1"/>
          <p:nvPr/>
        </p:nvSpPr>
        <p:spPr>
          <a:xfrm>
            <a:off x="457200" y="457200"/>
            <a:ext cx="815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 жизни биология может пригодиться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93" name="Object 5"/>
          <p:cNvGraphicFramePr/>
          <p:nvPr/>
        </p:nvGraphicFramePr>
        <p:xfrm>
          <a:off x="122400" y="1122480"/>
          <a:ext cx="875340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122480"/>
                    <a:ext cx="875340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4"/>
          <p:cNvSpPr txBox="1"/>
          <p:nvPr/>
        </p:nvSpPr>
        <p:spPr>
          <a:xfrm>
            <a:off x="380880" y="4572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Какая из глобальных проблем, связанных с биологией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ам кажется наиболее острой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96" name="Object 5"/>
          <p:cNvGraphicFramePr/>
          <p:nvPr/>
        </p:nvGraphicFramePr>
        <p:xfrm>
          <a:off x="-237960" y="1219320"/>
          <a:ext cx="90010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7960" y="1219320"/>
                    <a:ext cx="9001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2"/>
          <p:cNvSpPr txBox="1"/>
          <p:nvPr/>
        </p:nvSpPr>
        <p:spPr>
          <a:xfrm rot="21135600">
            <a:off x="615600" y="1355760"/>
            <a:ext cx="564048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285"/>
                    </a:gs>
                    <a:gs pos="100000">
                      <a:srgbClr val="fff39d"/>
                    </a:gs>
                  </a:gsLst>
                  <a:lin ang="3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формати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285"/>
                  </a:gs>
                  <a:gs pos="100000">
                    <a:srgbClr val="fff39d"/>
                  </a:gs>
                </a:gsLst>
                <a:lin ang="3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9" name="Picture 2" descr="Воспитательное мероприятие &quot;Турнир компьютерик&quot; Персональный сайт учителя информатики"/>
          <p:cNvPicPr/>
          <p:nvPr/>
        </p:nvPicPr>
        <p:blipFill>
          <a:blip r:embed="rId1"/>
          <a:stretch/>
        </p:blipFill>
        <p:spPr>
          <a:xfrm>
            <a:off x="1905120" y="2514600"/>
            <a:ext cx="6667560" cy="4010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Требуются молодые люди для раздачи листовок. - Другие сферы занятий в Одессе на Slando"/>
          <p:cNvPicPr/>
          <p:nvPr/>
        </p:nvPicPr>
        <p:blipFill>
          <a:blip r:embed="rId1"/>
          <a:stretch/>
        </p:blipFill>
        <p:spPr>
          <a:xfrm>
            <a:off x="1764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"/>
          <p:cNvSpPr/>
          <p:nvPr/>
        </p:nvSpPr>
        <p:spPr>
          <a:xfrm rot="20167800">
            <a:off x="374400" y="2835360"/>
            <a:ext cx="15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изучать информа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"/>
          <p:cNvSpPr/>
          <p:nvPr/>
        </p:nvSpPr>
        <p:spPr>
          <a:xfrm rot="20914800">
            <a:off x="7405200" y="3154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лос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27000" y="2286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Исследовать проблему нужности изучения русского языка, обществознания, биологии и информатики в шко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ять для чего эти знания пригодятся нам в будущей жиз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тить внимание на то, чему стоит уделять больше времени в школьной программ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Object 2"/>
          <p:cNvGraphicFramePr/>
          <p:nvPr/>
        </p:nvGraphicFramePr>
        <p:xfrm>
          <a:off x="-228600" y="1165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165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WordArt 3"/>
          <p:cNvSpPr txBox="1"/>
          <p:nvPr/>
        </p:nvSpPr>
        <p:spPr>
          <a:xfrm>
            <a:off x="304920" y="457200"/>
            <a:ext cx="8534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285"/>
                </a:solidFill>
                <a:latin typeface="Arial"/>
              </a:rPr>
              <a:t>Информатику нужно изучать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285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-228600" y="1165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165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WordArt 3"/>
          <p:cNvSpPr txBox="1"/>
          <p:nvPr/>
        </p:nvSpPr>
        <p:spPr>
          <a:xfrm>
            <a:off x="228600" y="457200"/>
            <a:ext cx="8686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285"/>
                </a:solidFill>
                <a:latin typeface="Arial"/>
              </a:rPr>
              <a:t>В жизни информатика может пригодиться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285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WordArt 2"/>
          <p:cNvSpPr txBox="1"/>
          <p:nvPr/>
        </p:nvSpPr>
        <p:spPr>
          <a:xfrm>
            <a:off x="380880" y="3049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285"/>
                </a:solidFill>
                <a:latin typeface="Arial"/>
              </a:rPr>
              <a:t>Какая из пробле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285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285"/>
                </a:solidFill>
                <a:latin typeface="Arial"/>
              </a:rPr>
              <a:t>вам кажется наиболее острой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285"/>
              </a:solidFill>
              <a:latin typeface="Arial"/>
              <a:ea typeface="Arial"/>
            </a:endParaRPr>
          </a:p>
        </p:txBody>
      </p:sp>
      <p:graphicFrame>
        <p:nvGraphicFramePr>
          <p:cNvPr id="410" name="Object 3"/>
          <p:cNvGraphicFramePr/>
          <p:nvPr/>
        </p:nvGraphicFramePr>
        <p:xfrm>
          <a:off x="-244440" y="1219320"/>
          <a:ext cx="927900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4440" y="1219320"/>
                    <a:ext cx="92790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1"/>
          <p:cNvSpPr/>
          <p:nvPr/>
        </p:nvSpPr>
        <p:spPr>
          <a:xfrm rot="20103000">
            <a:off x="-1573920" y="1054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4" descr="Скачать Русский язык картинки для детей 5"/>
          <p:cNvPicPr/>
          <p:nvPr/>
        </p:nvPicPr>
        <p:blipFill>
          <a:blip r:embed="rId1"/>
          <a:stretch/>
        </p:blipFill>
        <p:spPr>
          <a:xfrm>
            <a:off x="1447920" y="2938320"/>
            <a:ext cx="2895480" cy="3767400"/>
          </a:xfrm>
          <a:prstGeom prst="rect">
            <a:avLst/>
          </a:prstGeom>
          <a:ln w="0">
            <a:noFill/>
          </a:ln>
        </p:spPr>
      </p:pic>
      <p:sp>
        <p:nvSpPr>
          <p:cNvPr id="414" name="Скругленная прямоугольная выноска 4"/>
          <p:cNvSpPr/>
          <p:nvPr/>
        </p:nvSpPr>
        <p:spPr>
          <a:xfrm>
            <a:off x="4572000" y="1143000"/>
            <a:ext cx="3657600" cy="3368520"/>
          </a:xfrm>
          <a:prstGeom prst="wedgeRoundRectCallout">
            <a:avLst>
              <a:gd name="adj1" fmla="val -70782"/>
              <a:gd name="adj2" fmla="val 50467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Русский пригодится для того чтобы ощутить себя полноценным членом обществ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обществознание для того чтобы уметь вести себя в обществе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биология для ЗОЖ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а информатика для защиты от хаккр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Требуются молодые люди для раздачи листовок. - Другие сферы занятий в Одессе на Slando"/>
          <p:cNvPicPr/>
          <p:nvPr/>
        </p:nvPicPr>
        <p:blipFill>
          <a:blip r:embed="rId1"/>
          <a:stretch/>
        </p:blipFill>
        <p:spPr>
          <a:xfrm>
            <a:off x="1764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 rot="20167800">
            <a:off x="369360" y="2814480"/>
            <a:ext cx="16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изучать русский 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 rot="20914800">
            <a:off x="7405200" y="3154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лос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22400" y="1170000"/>
          <a:ext cx="900900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170000"/>
                    <a:ext cx="900900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 txBox="1"/>
          <p:nvPr/>
        </p:nvSpPr>
        <p:spPr>
          <a:xfrm>
            <a:off x="304920" y="457200"/>
            <a:ext cx="8534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Оцените по 10-бальной шкал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ажность изучения предметов в школ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6"/>
          <p:cNvSpPr txBox="1"/>
          <p:nvPr/>
        </p:nvSpPr>
        <p:spPr>
          <a:xfrm rot="21135600">
            <a:off x="3560400" y="1253880"/>
            <a:ext cx="5130720" cy="11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006600"/>
                    </a:gs>
                  </a:gsLst>
                  <a:lin ang="3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006600"/>
                  </a:gs>
                </a:gsLst>
                <a:lin ang="3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1" name="Picture 4" descr="Скачать Русский язык картинки для детей 5"/>
          <p:cNvPicPr/>
          <p:nvPr/>
        </p:nvPicPr>
        <p:blipFill>
          <a:blip r:embed="rId1"/>
          <a:stretch/>
        </p:blipFill>
        <p:spPr>
          <a:xfrm>
            <a:off x="-20520" y="723960"/>
            <a:ext cx="4714920" cy="613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Object 4"/>
          <p:cNvGraphicFramePr/>
          <p:nvPr/>
        </p:nvGraphicFramePr>
        <p:xfrm>
          <a:off x="-228600" y="1165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165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WordArt 5"/>
          <p:cNvSpPr txBox="1"/>
          <p:nvPr/>
        </p:nvSpPr>
        <p:spPr>
          <a:xfrm>
            <a:off x="304920" y="45720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Русский язык нужно изучать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Object 2"/>
          <p:cNvGraphicFramePr/>
          <p:nvPr/>
        </p:nvGraphicFramePr>
        <p:xfrm>
          <a:off x="-228600" y="1165320"/>
          <a:ext cx="93726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165320"/>
                    <a:ext cx="93726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WordArt 5"/>
          <p:cNvSpPr txBox="1"/>
          <p:nvPr/>
        </p:nvSpPr>
        <p:spPr>
          <a:xfrm>
            <a:off x="228600" y="457200"/>
            <a:ext cx="8686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 жизни русский язык может пригодиться для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4"/>
          <p:cNvSpPr txBox="1"/>
          <p:nvPr/>
        </p:nvSpPr>
        <p:spPr>
          <a:xfrm>
            <a:off x="380880" y="4572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Какая из проблем, русского языка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ам кажется наиболее острой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graphicFrame>
        <p:nvGraphicFramePr>
          <p:cNvPr id="369" name="Object 5"/>
          <p:cNvGraphicFramePr/>
          <p:nvPr/>
        </p:nvGraphicFramePr>
        <p:xfrm>
          <a:off x="-244440" y="1219320"/>
          <a:ext cx="927900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4440" y="1219320"/>
                    <a:ext cx="92790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 rot="21135600">
            <a:off x="1082160" y="2101320"/>
            <a:ext cx="5816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006600"/>
                    </a:gs>
                  </a:gsLst>
                  <a:lin ang="3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ствознание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006600"/>
                  </a:gs>
                </a:gsLst>
                <a:lin ang="3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2" name="Picture 2" descr="Новошахтинск Результаты участников муниципального тура Всеро…"/>
          <p:cNvPicPr/>
          <p:nvPr/>
        </p:nvPicPr>
        <p:blipFill>
          <a:blip r:embed="rId1"/>
          <a:stretch/>
        </p:blipFill>
        <p:spPr>
          <a:xfrm>
            <a:off x="4952880" y="3581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Решебник по обществознанию 8 класс боголюбова гдз по русском…"/>
          <p:cNvPicPr/>
          <p:nvPr/>
        </p:nvPicPr>
        <p:blipFill>
          <a:blip r:embed="rId2"/>
          <a:stretch/>
        </p:blipFill>
        <p:spPr>
          <a:xfrm>
            <a:off x="533520" y="228600"/>
            <a:ext cx="293688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35:58Z</dcterms:created>
  <dc:creator>Сергей</dc:creator>
  <dc:description/>
  <dc:language>en-US</dc:language>
  <cp:lastModifiedBy>евг</cp:lastModifiedBy>
  <dcterms:modified xsi:type="dcterms:W3CDTF">2015-06-09T15:59:3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