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jpeg" ContentType="image/jpeg"/>
  <Override PartName="/ppt/media/image9.wmf" ContentType="image/x-wmf"/>
  <Override PartName="/ppt/media/image6.wmf" ContentType="image/x-wmf"/>
  <Override PartName="/ppt/media/image12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104-3FF9-403D-9B50-014D12E0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0C6-FB55-4259-AA39-621CCD9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0AD-7BBE-4DD4-9EF6-EA709451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2C3-653A-469B-91C4-856F5D38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5E2E-8B55-49BE-BE96-71D36ECF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2B9-C54E-4377-AF4C-7B38F767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56F0-F71D-4788-9C40-D2AED3A2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682-C6DE-4471-8784-D82B7472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B12-82D0-4138-A73F-A6D39E9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9DC-C09B-45DB-8EC1-FD30B18D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956-31A9-432E-81CB-5AA7732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E83-3AE4-4F59-A5A3-D1E326C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ADC-E41E-4FCD-8818-F62C5EB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1FD4-9777-4347-85FA-7BB6780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7DE7-EA1D-4A48-A4E6-7D6CF222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776-765D-44C2-9A4C-09662488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8F1-ABEB-44EF-A43F-651249EB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E3C8C-D5A0-4E04-A513-AF9C422E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6299B-F1D1-4292-A4FD-617A0D03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F04D0-CA3B-441E-923B-C5976F9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D7E8C-4ED2-4F81-9BE9-D5FA1A50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1C49D-7CB1-4AD4-ACFB-FAB9E5E3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358-DE8A-44BF-873C-DB6AE51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4F72A-74C5-4902-9B5A-796B64F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90CAC-A4CD-42F7-AA8B-DBCFDB0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F0EDD-1903-4879-A76D-1605867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3B366-BB7B-4CC8-B1DE-2DC92FC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2D684-9821-418E-9CE4-E38663D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DF41F-AFA0-41E9-BF62-9D9293AA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255A3-6B51-4F28-9F5E-DEFE74AB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D90B-F2FF-4C02-8547-CC5AB1EA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AB9D-8844-4D96-B6FD-32BE190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5ED0-686F-47BF-91AB-73516AA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F70-DA92-47E7-87D0-505EA23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E204-EDF0-4B11-BA18-82F26C9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1B977-522A-4123-A57B-FDC7BA68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840D-5279-497B-BC1A-C802389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90B9-277B-4440-9766-C384EA4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4E3F-8104-4FF7-B50A-A1C5916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7C56-DC49-4448-BEB1-8C296EE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391C-FE01-4B93-8C52-E4A8650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7908-CEF1-407A-AF45-56352C4A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FFCC-16EA-4106-9430-3C96508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205C1-27EC-4D34-8F06-B311B3A1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0A3-AB9E-4D55-BB0E-63B4CA32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23F1A-AD7B-4F68-B377-9BE68D5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C2F78-9670-4C9F-BBFF-0D81DC31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81C83-4E62-4B2F-B2E7-101AF67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9C5DF-B536-45A1-BFEE-AF41B64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3CAD8-B6AC-47E7-9DD8-5FF11C3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94ACC-3583-4AE5-92C3-377F2C65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1E556-58CF-4BAD-982F-C39C7A1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13D9D-BB78-449C-ACB1-FEA60C9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1E307-B5D2-4908-8A1B-6996CC78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87DE4-FBD9-4D04-B4BF-107FFEF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B66-25C4-437A-9FB4-EFE46CA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1B056-C2C1-4A5B-BD57-F159F05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5C057-66A4-4E8F-9545-7D9708A6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616B9-3533-496B-A8A2-C5DFE768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67E78-1F8E-4651-9F5F-4B33AC6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27D4F-09DF-40A2-AC34-26E3BD7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51A82-73E9-45C4-B4AF-4DA8795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55AC3-C3E4-4EC5-A39F-4DDBF937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92CD9-8E43-4CAD-92AD-B933964F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24E4D-85BF-44C6-A33D-CBEE5A8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20D20-4DFB-4BAF-8C73-78D14092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784-BC26-4FE6-998E-948E495F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89D36-19FF-4988-9CBD-293E47F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C9957-51FB-4E52-9E80-914FE72A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B19E6-ED0F-44D5-8DBA-C940093B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C52F6-5027-452E-ADC1-0EE256F0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39AF0-81A2-40FB-927E-EB60F95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F54CD-09FF-468A-BFC8-1806B5D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AE1AE-BBD9-4788-9A89-1FB66AD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5ADE4-EB15-49ED-8BCE-20839CF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5483D-709E-4C48-8304-06FA3026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5271E-A5DD-47C0-ABAB-09BB0E3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3E7-86B7-4FDF-B997-40D1433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62759-FCDF-426B-9382-9C06913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D4071-AD31-4E11-A8E4-9590B5B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91A09-0B3E-4255-989E-A3BB4962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8B6E0-4618-4618-A464-92AB1E33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B6132-612B-41F5-AF2C-91675F41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237-086D-4B5C-9E14-F4C9C93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CDB-5138-41A2-9BD4-F2F9206CB4B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25BB-4DA1-4D94-A141-94E6E46ED66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72D-3A34-4715-B2B3-E59521D95B9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45E-B919-447F-86FF-F23FEDD0F22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F25-8E4B-4B36-B92C-84E94885E50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1272-15F4-49FC-B8A2-7340F9609B0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89C9-826A-49D5-979C-92861217433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6480" y="3380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ЛЬНЫЙ ПРОЕК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ЖНОСТЬ ИЗУЧ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ГО ЯЗЫКА, ОБЩЕСТВОЗНАНИЯ,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ИОЛОГИИ и  ИНФОР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КО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2209680" y="5334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дготовили ученики 6 «А» класса школы № 145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Эмануэль Н.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общество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6"/>
          <p:cNvSpPr txBox="1"/>
          <p:nvPr/>
        </p:nvSpPr>
        <p:spPr>
          <a:xfrm>
            <a:off x="152280" y="457200"/>
            <a:ext cx="861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обществознание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78" name="Object 7"/>
          <p:cNvGraphicFramePr/>
          <p:nvPr/>
        </p:nvGraphicFramePr>
        <p:xfrm>
          <a:off x="76320" y="1219320"/>
          <a:ext cx="8692920" cy="55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692920" cy="55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глобальных пробле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96840" y="1219320"/>
          <a:ext cx="869328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219320"/>
                    <a:ext cx="869328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6"/>
          <p:cNvSpPr txBox="1"/>
          <p:nvPr/>
        </p:nvSpPr>
        <p:spPr>
          <a:xfrm rot="21135600">
            <a:off x="456840" y="1066680"/>
            <a:ext cx="5130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олог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7" descr="J0233959_WMF"/>
          <p:cNvPicPr/>
          <p:nvPr/>
        </p:nvPicPr>
        <p:blipFill>
          <a:blip r:embed="rId1"/>
          <a:stretch/>
        </p:blipFill>
        <p:spPr>
          <a:xfrm>
            <a:off x="838080" y="3352680"/>
            <a:ext cx="3051360" cy="3191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5cdc323114bc"/>
          <p:cNvPicPr/>
          <p:nvPr/>
        </p:nvPicPr>
        <p:blipFill>
          <a:blip r:embed="rId2"/>
          <a:stretch/>
        </p:blipFill>
        <p:spPr>
          <a:xfrm>
            <a:off x="6172200" y="1981080"/>
            <a:ext cx="222084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биологию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4"/>
          <p:cNvGraphicFramePr/>
          <p:nvPr/>
        </p:nvGraphicFramePr>
        <p:xfrm>
          <a:off x="-228600" y="1219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19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WordArt 5"/>
          <p:cNvSpPr txBox="1"/>
          <p:nvPr/>
        </p:nvSpPr>
        <p:spPr>
          <a:xfrm>
            <a:off x="762120" y="457200"/>
            <a:ext cx="6848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Биологию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WordArt 4"/>
          <p:cNvSpPr txBox="1"/>
          <p:nvPr/>
        </p:nvSpPr>
        <p:spPr>
          <a:xfrm>
            <a:off x="457200" y="45720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биология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122400" y="1122480"/>
          <a:ext cx="875340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122480"/>
                    <a:ext cx="875340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глобальных проблем, связанных с биологией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96" name="Object 5"/>
          <p:cNvGraphicFramePr/>
          <p:nvPr/>
        </p:nvGraphicFramePr>
        <p:xfrm>
          <a:off x="-237960" y="1219320"/>
          <a:ext cx="9001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7960" y="1219320"/>
                    <a:ext cx="9001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2"/>
          <p:cNvSpPr txBox="1"/>
          <p:nvPr/>
        </p:nvSpPr>
        <p:spPr>
          <a:xfrm rot="21135600">
            <a:off x="615600" y="1355760"/>
            <a:ext cx="56404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285"/>
                    </a:gs>
                    <a:gs pos="100000">
                      <a:srgbClr val="fff39d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ти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285"/>
                  </a:gs>
                  <a:gs pos="100000">
                    <a:srgbClr val="fff39d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9" name="Picture 2" descr="Воспитательное мероприятие &quot;Турнир компьютерик&quot; Персональный сайт учителя информатики"/>
          <p:cNvPicPr/>
          <p:nvPr/>
        </p:nvPicPr>
        <p:blipFill>
          <a:blip r:embed="rId1"/>
          <a:stretch/>
        </p:blipFill>
        <p:spPr>
          <a:xfrm>
            <a:off x="1905120" y="2514600"/>
            <a:ext cx="6667560" cy="4010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"/>
          <p:cNvSpPr/>
          <p:nvPr/>
        </p:nvSpPr>
        <p:spPr>
          <a:xfrm rot="20167800">
            <a:off x="374400" y="2835360"/>
            <a:ext cx="15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информа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700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Исследовать проблему нужности изучения русского языка, обществознания, биологии и информатики в шк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ять для чего эти знания пригодятся нам в будущей жиз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тить внимание на то, чему стоит уделять больше времени в школьной программ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WordArt 3"/>
          <p:cNvSpPr txBox="1"/>
          <p:nvPr/>
        </p:nvSpPr>
        <p:spPr>
          <a:xfrm>
            <a:off x="304920" y="457200"/>
            <a:ext cx="8534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Информатику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WordArt 3"/>
          <p:cNvSpPr txBox="1"/>
          <p:nvPr/>
        </p:nvSpPr>
        <p:spPr>
          <a:xfrm>
            <a:off x="228600" y="457200"/>
            <a:ext cx="868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В жизни информатика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2"/>
          <p:cNvSpPr txBox="1"/>
          <p:nvPr/>
        </p:nvSpPr>
        <p:spPr>
          <a:xfrm>
            <a:off x="380880" y="3049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Какая из пробле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  <p:graphicFrame>
        <p:nvGraphicFramePr>
          <p:cNvPr id="410" name="Object 3"/>
          <p:cNvGraphicFramePr/>
          <p:nvPr/>
        </p:nvGraphicFramePr>
        <p:xfrm>
          <a:off x="-244440" y="1219320"/>
          <a:ext cx="9279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4440" y="1219320"/>
                    <a:ext cx="9279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 rot="20103000">
            <a:off x="-1573920" y="105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Скачать Русский язык картинки для детей 5"/>
          <p:cNvPicPr/>
          <p:nvPr/>
        </p:nvPicPr>
        <p:blipFill>
          <a:blip r:embed="rId1"/>
          <a:stretch/>
        </p:blipFill>
        <p:spPr>
          <a:xfrm>
            <a:off x="1447920" y="2938320"/>
            <a:ext cx="2895480" cy="3767400"/>
          </a:xfrm>
          <a:prstGeom prst="rect">
            <a:avLst/>
          </a:prstGeom>
          <a:ln w="0">
            <a:noFill/>
          </a:ln>
        </p:spPr>
      </p:pic>
      <p:sp>
        <p:nvSpPr>
          <p:cNvPr id="414" name="Скругленная прямоугольная выноска 4"/>
          <p:cNvSpPr/>
          <p:nvPr/>
        </p:nvSpPr>
        <p:spPr>
          <a:xfrm>
            <a:off x="4572000" y="1143000"/>
            <a:ext cx="3657600" cy="3368520"/>
          </a:xfrm>
          <a:prstGeom prst="wedgeRoundRectCallout">
            <a:avLst>
              <a:gd name="adj1" fmla="val -70782"/>
              <a:gd name="adj2" fmla="val 50467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усский пригодится для того чтобы ощутить себя полноценным членом обществ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бществознание для того чтобы уметь вести себя в обществ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биология для ЗО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а информатика для защиты от хаккр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русский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22400" y="1170000"/>
          <a:ext cx="900900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170000"/>
                    <a:ext cx="90090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 txBox="1"/>
          <p:nvPr/>
        </p:nvSpPr>
        <p:spPr>
          <a:xfrm>
            <a:off x="304920" y="457200"/>
            <a:ext cx="8534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цените по 10-бальной шкал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жность изучения предметов в школ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 rot="21135600">
            <a:off x="3560400" y="1253880"/>
            <a:ext cx="5130720" cy="11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1" name="Picture 4" descr="Скачать Русский язык картинки для детей 5"/>
          <p:cNvPicPr/>
          <p:nvPr/>
        </p:nvPicPr>
        <p:blipFill>
          <a:blip r:embed="rId1"/>
          <a:stretch/>
        </p:blipFill>
        <p:spPr>
          <a:xfrm>
            <a:off x="-20520" y="723960"/>
            <a:ext cx="4714920" cy="613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4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WordArt 5"/>
          <p:cNvSpPr txBox="1"/>
          <p:nvPr/>
        </p:nvSpPr>
        <p:spPr>
          <a:xfrm>
            <a:off x="304920" y="4572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Русский язык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WordArt 5"/>
          <p:cNvSpPr txBox="1"/>
          <p:nvPr/>
        </p:nvSpPr>
        <p:spPr>
          <a:xfrm>
            <a:off x="228600" y="457200"/>
            <a:ext cx="868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русский язык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проблем, русского язык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69" name="Object 5"/>
          <p:cNvGraphicFramePr/>
          <p:nvPr/>
        </p:nvGraphicFramePr>
        <p:xfrm>
          <a:off x="-244440" y="1219320"/>
          <a:ext cx="9279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4440" y="1219320"/>
                    <a:ext cx="9279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 rot="21135600">
            <a:off x="1082160" y="2101320"/>
            <a:ext cx="5816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ствознание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2" name="Picture 2" descr="Новошахтинск Результаты участников муниципального тура Всеро…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Решебник по обществознанию 8 класс боголюбова гдз по русском…"/>
          <p:cNvPicPr/>
          <p:nvPr/>
        </p:nvPicPr>
        <p:blipFill>
          <a:blip r:embed="rId2"/>
          <a:stretch/>
        </p:blipFill>
        <p:spPr>
          <a:xfrm>
            <a:off x="533520" y="228600"/>
            <a:ext cx="293688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5:58Z</dcterms:created>
  <dc:creator>Сергей</dc:creator>
  <dc:description/>
  <dc:language>en-US</dc:language>
  <cp:lastModifiedBy>евг</cp:lastModifiedBy>
  <dcterms:modified xsi:type="dcterms:W3CDTF">2015-06-09T15:59:3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