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jpeg" ContentType="image/jpeg"/>
  <Override PartName="/ppt/media/image3.png" ContentType="image/png"/>
  <Override PartName="/ppt/media/image4.gif" ContentType="image/gif"/>
  <Override PartName="/ppt/media/image8.png" ContentType="image/png"/>
  <Override PartName="/ppt/media/image5.gif" ContentType="image/gif"/>
  <Override PartName="/ppt/media/image10.gif" ContentType="image/gif"/>
  <Override PartName="/ppt/media/image13.wmf" ContentType="image/x-wmf"/>
  <Override PartName="/ppt/media/image6.gif" ContentType="image/gif"/>
  <Override PartName="/ppt/media/image11.gif" ContentType="image/gif"/>
  <Override PartName="/ppt/media/image7.gif" ContentType="image/gif"/>
  <Override PartName="/ppt/media/image9.gif" ContentType="image/gif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A4667-CA9A-49A4-8EFB-29EFC9D2F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CA03D-B688-4809-AEE7-271F2AE12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88D80-86EB-4D38-80A6-89CEFE7D4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9D603-442A-42C8-BD88-27330399B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353D6-F37F-4EB8-B990-66A941C0B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D4A0A-0332-4158-87D2-5C4AB9ADE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A7FDC-FA33-48BF-92D0-C40AF02BE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1F961-8310-465A-955A-4CA2F5F12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8D187-A7DE-4CCF-B3D6-6BCB222DD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380520" y="304560"/>
            <a:ext cx="84582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BAF22-53CB-4734-B5E2-B84B059BC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0ED96-4D84-4D5B-8D0D-89E213E4B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96370-74BC-427D-9CC4-F9B89B2C7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748B1-E3A7-4572-B183-D788D21AA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F8903-0F70-49C7-8966-2CA287851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C4162-4089-4802-9A4D-2CE804D21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DCF3A-447A-4F1D-9FB6-C1E21C731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FF98C-8378-4CFB-8935-52E3F2DFD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A60B4-6DD7-4E87-88A7-2E22CD1EA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6FABB-4AB5-43ED-BE91-166ADCB4F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51F56-2E34-43C3-8327-725E9B529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80520" y="304560"/>
            <a:ext cx="84582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64B02-4080-45D8-A265-FE1C9F0B0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4F8EC-2648-49D4-B387-12D7F1D22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082BD-A3A6-4E86-A5E7-E3102C5B1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5F6BD-6796-4707-8594-2C6D02946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Object 44"/>
          <p:cNvGraphicFramePr/>
          <p:nvPr/>
        </p:nvGraphicFramePr>
        <p:xfrm>
          <a:off x="0" y="0"/>
          <a:ext cx="9144000" cy="1066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Object 4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Rectangle 45"/>
          <p:cNvSpPr/>
          <p:nvPr/>
        </p:nvSpPr>
        <p:spPr>
          <a:xfrm>
            <a:off x="0" y="990720"/>
            <a:ext cx="9144000" cy="120600"/>
          </a:xfrm>
          <a:prstGeom prst="rect">
            <a:avLst/>
          </a:prstGeom>
          <a:gradFill rotWithShape="0">
            <a:gsLst>
              <a:gs pos="0">
                <a:srgbClr val="ecce4c"/>
              </a:gs>
              <a:gs pos="50000">
                <a:srgbClr val="f6e7a8"/>
              </a:gs>
              <a:gs pos="100000">
                <a:srgbClr val="ecce4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5d1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ecce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45684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400440"/>
            <a:ext cx="289584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272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65C70-B2FA-4E94-A085-83EFD4C4AB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53"/>
          <p:cNvSpPr/>
          <p:nvPr/>
        </p:nvSpPr>
        <p:spPr>
          <a:xfrm flipV="1">
            <a:off x="0" y="3002400"/>
            <a:ext cx="9144000" cy="7779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cce4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Group 16"/>
          <p:cNvGrpSpPr/>
          <p:nvPr/>
        </p:nvGrpSpPr>
        <p:grpSpPr>
          <a:xfrm>
            <a:off x="4038480" y="5691240"/>
            <a:ext cx="1079640" cy="635760"/>
            <a:chOff x="4038480" y="5691240"/>
            <a:chExt cx="1079640" cy="635760"/>
          </a:xfrm>
        </p:grpSpPr>
        <p:sp>
          <p:nvSpPr>
            <p:cNvPr id="46" name="Text Box 14"/>
            <p:cNvSpPr/>
            <p:nvPr/>
          </p:nvSpPr>
          <p:spPr>
            <a:xfrm>
              <a:off x="4038480" y="5867280"/>
              <a:ext cx="107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LOG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AutoShape 15"/>
            <p:cNvSpPr/>
            <p:nvPr/>
          </p:nvSpPr>
          <p:spPr>
            <a:xfrm rot="5400000">
              <a:off x="4432320" y="5397480"/>
              <a:ext cx="272880" cy="8604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091" y="822"/>
                    <a:pt x="4581" y="5080"/>
                    <a:pt x="4581" y="10800"/>
                  </a:cubicBezTo>
                  <a:cubicBezTo>
                    <a:pt x="4581" y="16520"/>
                    <a:pt x="13091" y="20778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ecce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5d1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ecce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27771-2A57-4255-BA7D-CD890094A41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94840" y="3034800"/>
            <a:ext cx="85345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66"/>
                </a:solidFill>
                <a:latin typeface="Times New Roman"/>
              </a:rPr>
              <a:t>Родительское собрание </a:t>
            </a: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218960" y="403812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Arial"/>
              </a:rPr>
              <a:t>Первая оценка 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Arial"/>
              </a:rPr>
              <a:t>как к ней относитс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МАТЕМАТИКА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Комбинированная работ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(1 задача, примеры и задание другого вид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«5»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- вся работа выполнена безошибочно и нет исправлени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«4»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- допущены 1-2 вычислительные ошибк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b050"/>
                </a:solidFill>
                <a:latin typeface="Arial"/>
              </a:rPr>
              <a:t>«3»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- допущены ошибки в ходе решения задачи при правильном выполнении всех заданий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или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допущены 3-4 вычислительные ошибк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«2»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- допущена ошибка в ходе решения задачи и хотя бы одна вычислительная ошибка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или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при решении задач и примеров допущено более 5 вычислительных ошиб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МАТЕМАТИКА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Математический  диктан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«5» </a:t>
            </a:r>
            <a:r>
              <a:rPr b="0" i="1" lang="ru-RU" sz="2800" spc="-1" strike="noStrike">
                <a:solidFill>
                  <a:srgbClr val="002060"/>
                </a:solidFill>
                <a:latin typeface="Arial"/>
              </a:rPr>
              <a:t>- вся работа выполнена безошибочно и нет исправлени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«4» </a:t>
            </a:r>
            <a:r>
              <a:rPr b="0" i="1" lang="ru-RU" sz="2800" spc="-1" strike="noStrike">
                <a:solidFill>
                  <a:srgbClr val="002060"/>
                </a:solidFill>
                <a:latin typeface="Arial"/>
              </a:rPr>
              <a:t>- не выполнена 1/5 часть примеров от их общего числ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5d135"/>
                </a:solidFill>
                <a:latin typeface="Arial"/>
              </a:rPr>
              <a:t>«3» </a:t>
            </a:r>
            <a:r>
              <a:rPr b="0" i="1" lang="ru-RU" sz="2800" spc="-1" strike="noStrike">
                <a:solidFill>
                  <a:srgbClr val="002060"/>
                </a:solidFill>
                <a:latin typeface="Arial"/>
              </a:rPr>
              <a:t>- не выполнена 1/4 часть примеров от их общего числ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Arial"/>
              </a:rPr>
              <a:t>«2» - не выполнена 1/2 часть примеров от их общего числ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2276640"/>
            <a:ext cx="8382240" cy="20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r>
              <a:rPr b="1" i="1" lang="ru-RU" sz="36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i="1" lang="ru-RU" sz="3600" spc="-1" strike="noStrike">
                <a:solidFill>
                  <a:srgbClr val="000066"/>
                </a:solidFill>
                <a:latin typeface="Times New Roman"/>
              </a:rPr>
              <a:t>Как относиться к отметкам ребёнка? </a:t>
            </a:r>
            <a:br>
              <a:rPr sz="3600"/>
            </a:br>
            <a:r>
              <a:rPr b="1" i="1" lang="ru-RU" sz="3600" spc="-1" strike="noStrike">
                <a:solidFill>
                  <a:srgbClr val="000066"/>
                </a:solidFill>
                <a:latin typeface="Times New Roman"/>
              </a:rPr>
              <a:t> </a:t>
            </a:r>
            <a:br>
              <a:rPr sz="3600"/>
            </a:br>
            <a:br>
              <a:rPr sz="4800"/>
            </a:br>
            <a:br>
              <a:rPr sz="4800"/>
            </a:b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1600200" y="4800600"/>
            <a:ext cx="586728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Памятка для родител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Как относиться к отметкам ребёнка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a0aff"/>
                </a:solidFill>
                <a:latin typeface="Arial"/>
              </a:rPr>
              <a:t>Не ругайте своего ребёнка за плохую отметку. Ему очень хочется быть в ваших глазах хороши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a0aff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a0aff"/>
                </a:solidFill>
                <a:latin typeface="Arial"/>
              </a:rPr>
              <a:t>Если быть хорошим не получается, ребёнок начинает врать и изворачиваться, чтобы быть в ваших глазах хороши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4" descr="j0282745"/>
          <p:cNvPicPr/>
          <p:nvPr/>
        </p:nvPicPr>
        <p:blipFill>
          <a:blip r:embed="rId1"/>
          <a:stretch/>
        </p:blipFill>
        <p:spPr>
          <a:xfrm>
            <a:off x="3780000" y="4869000"/>
            <a:ext cx="1512720" cy="143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Как относиться к отметкам ребёнка.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Сочувствуйте своему ребёнку, если он долго трудился, но результат его труда не высок. Объясните ему, что важен не только высокий результат. Больше важны знания, которые он сможет приобрести в результате ежедневного, упорного труд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4" descr="Копия (5) AG00315_"/>
          <p:cNvPicPr/>
          <p:nvPr/>
        </p:nvPicPr>
        <p:blipFill>
          <a:blip r:embed="rId1"/>
          <a:stretch/>
        </p:blipFill>
        <p:spPr>
          <a:xfrm>
            <a:off x="5943600" y="3352680"/>
            <a:ext cx="2881440" cy="296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Как относиться к отметкам ребёнка.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 заставляйте своего ребёнка вымаливать себе оценку в конце четверти ради вашего душевного спокойств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 учите своего ребёнка ловчить, унижаться и приспосабливаться ради положительного результата в виде высокой отмет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5" descr="AG00319_"/>
          <p:cNvPicPr/>
          <p:nvPr/>
        </p:nvPicPr>
        <p:blipFill>
          <a:blip r:embed="rId1"/>
          <a:stretch/>
        </p:blipFill>
        <p:spPr>
          <a:xfrm>
            <a:off x="3851280" y="3141720"/>
            <a:ext cx="4680000" cy="331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Times New Roman"/>
              </a:rPr>
              <a:t>Как относиться к отметкам ребёнка?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икогда не выражайте сомнений по поводу объективности выставленной вашему ребёнку оценки вслу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сть сомнения - идите в школу и  попытайтесь объективно разобраться в ситуац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 обвиняйте беспричинно других взрослых и детей в проблемах собственных дет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4" descr="j0336396"/>
          <p:cNvPicPr/>
          <p:nvPr/>
        </p:nvPicPr>
        <p:blipFill>
          <a:blip r:embed="rId1"/>
          <a:stretch/>
        </p:blipFill>
        <p:spPr>
          <a:xfrm>
            <a:off x="7391520" y="1752480"/>
            <a:ext cx="1515960" cy="14036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4" descr="Рисунок16"/>
          <p:cNvPicPr/>
          <p:nvPr/>
        </p:nvPicPr>
        <p:blipFill>
          <a:blip r:embed="rId2"/>
          <a:stretch/>
        </p:blipFill>
        <p:spPr>
          <a:xfrm>
            <a:off x="7238880" y="4114800"/>
            <a:ext cx="927360" cy="2351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1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1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1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1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Как относиться к отметкам ребёнка.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ддерживайте ребёнка в его, пусть не очень значительных, но победах над собой, над своей лень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емонстрируйте положительные результаты своего труда, чтобы ребёнку хотелось вам подража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4" descr="J0076204"/>
          <p:cNvPicPr/>
          <p:nvPr/>
        </p:nvPicPr>
        <p:blipFill>
          <a:blip r:embed="rId1"/>
          <a:stretch/>
        </p:blipFill>
        <p:spPr>
          <a:xfrm>
            <a:off x="3048120" y="3886200"/>
            <a:ext cx="5616360" cy="213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Как относиться к отметкам ребёнка.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a0aff"/>
                </a:solidFill>
                <a:latin typeface="Arial"/>
              </a:rPr>
              <a:t>Устраивайте праздники по случа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a0aff"/>
                </a:solidFill>
                <a:latin typeface="Arial"/>
              </a:rPr>
              <a:t>     </a:t>
            </a:r>
            <a:r>
              <a:rPr b="0" i="1" lang="ru-RU" sz="2800" spc="-1" strike="noStrike">
                <a:solidFill>
                  <a:srgbClr val="0a0aff"/>
                </a:solidFill>
                <a:latin typeface="Arial"/>
              </a:rPr>
              <a:t>получения отличной отметк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a0aff"/>
                </a:solidFill>
                <a:latin typeface="Arial"/>
              </a:rPr>
              <a:t>    </a:t>
            </a:r>
            <a:r>
              <a:rPr b="0" i="1" lang="ru-RU" sz="2800" spc="-1" strike="noStrike">
                <a:solidFill>
                  <a:srgbClr val="0a0aff"/>
                </a:solidFill>
                <a:latin typeface="Arial"/>
              </a:rPr>
              <a:t>Хорошее, как и плохое, запоминается ребёнком надолго и его хочется повторить. Пусть ребёнок получает хорошую отметку ради того, чтобы его отметили. Вскоре это станет привычк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4" descr="BD13647_"/>
          <p:cNvPicPr/>
          <p:nvPr/>
        </p:nvPicPr>
        <p:blipFill>
          <a:blip r:embed="rId1"/>
          <a:stretch/>
        </p:blipFill>
        <p:spPr>
          <a:xfrm>
            <a:off x="5694480" y="4419720"/>
            <a:ext cx="2489040" cy="18889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4" descr="j0178301"/>
          <p:cNvPicPr/>
          <p:nvPr/>
        </p:nvPicPr>
        <p:blipFill>
          <a:blip r:embed="rId2"/>
          <a:stretch/>
        </p:blipFill>
        <p:spPr>
          <a:xfrm rot="813000">
            <a:off x="7315200" y="1066680"/>
            <a:ext cx="1676520" cy="1582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33526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66"/>
                </a:solidFill>
                <a:latin typeface="Times New Roman"/>
              </a:rPr>
              <a:t>Как помочь ребёнку                                                                  в выполнении  домашних заданий</a:t>
            </a:r>
            <a:r>
              <a:rPr b="1" lang="ru-RU" sz="3200" spc="-1" strike="noStrike">
                <a:solidFill>
                  <a:srgbClr val="000066"/>
                </a:solidFill>
                <a:latin typeface="Times New Roman"/>
              </a:rPr>
              <a:t>.</a:t>
            </a:r>
            <a:br>
              <a:rPr sz="3200"/>
            </a:b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380520" y="3772080"/>
            <a:ext cx="8001000" cy="54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ffff"/>
                </a:solidFill>
                <a:latin typeface="Times New Roman"/>
              </a:rPr>
              <a:t>Наши успехи </a:t>
            </a: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TextBox 4"/>
          <p:cNvSpPr/>
          <p:nvPr/>
        </p:nvSpPr>
        <p:spPr>
          <a:xfrm>
            <a:off x="228600" y="1371600"/>
            <a:ext cx="3751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На «5 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6"/>
          <p:cNvSpPr/>
          <p:nvPr/>
        </p:nvSpPr>
        <p:spPr>
          <a:xfrm>
            <a:off x="380880" y="2286000"/>
            <a:ext cx="38102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С одной «4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На «4» и «5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457200" y="1218960"/>
            <a:ext cx="822960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Как правильно помогать ребёнку?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8" name="Group 3"/>
          <p:cNvGrpSpPr/>
          <p:nvPr/>
        </p:nvGrpSpPr>
        <p:grpSpPr>
          <a:xfrm>
            <a:off x="228600" y="1832040"/>
            <a:ext cx="2971080" cy="3730320"/>
            <a:chOff x="228600" y="1832040"/>
            <a:chExt cx="2971080" cy="3730320"/>
          </a:xfrm>
        </p:grpSpPr>
        <p:sp>
          <p:nvSpPr>
            <p:cNvPr id="139" name="AutoShape 4"/>
            <p:cNvSpPr/>
            <p:nvPr/>
          </p:nvSpPr>
          <p:spPr>
            <a:xfrm>
              <a:off x="228600" y="2116440"/>
              <a:ext cx="2962440" cy="264168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AutoShape 5"/>
            <p:cNvSpPr/>
            <p:nvPr/>
          </p:nvSpPr>
          <p:spPr>
            <a:xfrm>
              <a:off x="274320" y="2124000"/>
              <a:ext cx="2873520" cy="2591280"/>
            </a:xfrm>
            <a:prstGeom prst="roundRect">
              <a:avLst>
                <a:gd name="adj" fmla="val 16667"/>
              </a:avLst>
            </a:pr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AutoShape 6"/>
            <p:cNvSpPr/>
            <p:nvPr/>
          </p:nvSpPr>
          <p:spPr>
            <a:xfrm>
              <a:off x="298080" y="4031640"/>
              <a:ext cx="2834280" cy="655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AutoShape 7"/>
            <p:cNvSpPr/>
            <p:nvPr/>
          </p:nvSpPr>
          <p:spPr>
            <a:xfrm>
              <a:off x="298080" y="2144520"/>
              <a:ext cx="2834280" cy="6544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AutoShape 8"/>
            <p:cNvSpPr/>
            <p:nvPr/>
          </p:nvSpPr>
          <p:spPr>
            <a:xfrm>
              <a:off x="237240" y="4758120"/>
              <a:ext cx="2962440" cy="80424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AutoShape 9"/>
            <p:cNvSpPr/>
            <p:nvPr/>
          </p:nvSpPr>
          <p:spPr>
            <a:xfrm>
              <a:off x="298080" y="4926960"/>
              <a:ext cx="2834280" cy="5680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5" name="Group 10"/>
            <p:cNvGrpSpPr/>
            <p:nvPr/>
          </p:nvGrpSpPr>
          <p:grpSpPr>
            <a:xfrm>
              <a:off x="1247760" y="1832040"/>
              <a:ext cx="880200" cy="594360"/>
              <a:chOff x="1247760" y="1832040"/>
              <a:chExt cx="880200" cy="594360"/>
            </a:xfrm>
          </p:grpSpPr>
          <p:sp>
            <p:nvSpPr>
              <p:cNvPr id="146" name="Oval 11"/>
              <p:cNvSpPr/>
              <p:nvPr/>
            </p:nvSpPr>
            <p:spPr>
              <a:xfrm>
                <a:off x="1247760" y="1832040"/>
                <a:ext cx="880200" cy="5943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Oval 12"/>
              <p:cNvSpPr/>
              <p:nvPr/>
            </p:nvSpPr>
            <p:spPr>
              <a:xfrm>
                <a:off x="1256760" y="1836360"/>
                <a:ext cx="851040" cy="5756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Oval 13"/>
              <p:cNvSpPr/>
              <p:nvPr/>
            </p:nvSpPr>
            <p:spPr>
              <a:xfrm>
                <a:off x="1267200" y="1839960"/>
                <a:ext cx="831240" cy="56160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Oval 14"/>
              <p:cNvSpPr/>
              <p:nvPr/>
            </p:nvSpPr>
            <p:spPr>
              <a:xfrm>
                <a:off x="1276560" y="1845360"/>
                <a:ext cx="790560" cy="5238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Oval 15"/>
              <p:cNvSpPr/>
              <p:nvPr/>
            </p:nvSpPr>
            <p:spPr>
              <a:xfrm>
                <a:off x="1322640" y="1859400"/>
                <a:ext cx="702360" cy="425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1" name="Text Box 16"/>
            <p:cNvSpPr/>
            <p:nvPr/>
          </p:nvSpPr>
          <p:spPr>
            <a:xfrm>
              <a:off x="1504440" y="19170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Text Box 17"/>
            <p:cNvSpPr/>
            <p:nvPr/>
          </p:nvSpPr>
          <p:spPr>
            <a:xfrm>
              <a:off x="333000" y="2536560"/>
              <a:ext cx="2817360" cy="34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" name="Group 18"/>
          <p:cNvGrpSpPr/>
          <p:nvPr/>
        </p:nvGrpSpPr>
        <p:grpSpPr>
          <a:xfrm>
            <a:off x="3352680" y="1832040"/>
            <a:ext cx="2590560" cy="3806280"/>
            <a:chOff x="3352680" y="1832040"/>
            <a:chExt cx="2590560" cy="3806280"/>
          </a:xfrm>
        </p:grpSpPr>
        <p:sp>
          <p:nvSpPr>
            <p:cNvPr id="154" name="AutoShape 19"/>
            <p:cNvSpPr/>
            <p:nvPr/>
          </p:nvSpPr>
          <p:spPr>
            <a:xfrm>
              <a:off x="3352680" y="2122200"/>
              <a:ext cx="2586960" cy="2695320"/>
            </a:xfrm>
            <a:custGeom>
              <a:avLst/>
              <a:gdLst>
                <a:gd name="textAreaLeft" fmla="*/ 132480 w 2586960"/>
                <a:gd name="textAreaRight" fmla="*/ 2454480 w 2586960"/>
                <a:gd name="textAreaTop" fmla="*/ 132480 h 2695320"/>
                <a:gd name="textAreaBottom" fmla="*/ 2562840 h 2695320"/>
              </a:gdLst>
              <a:ahLst/>
              <a:rect l="textAreaLeft" t="textAreaTop" r="textAreaRight" b="textAreaBottom"/>
              <a:pathLst>
                <a:path w="21600" h="22505">
                  <a:moveTo>
                    <a:pt x="3782" y="0"/>
                  </a:moveTo>
                  <a:arcTo wR="3782" hR="3782" stAng="16200000" swAng="-5400000"/>
                  <a:lnTo>
                    <a:pt x="0" y="18723"/>
                  </a:lnTo>
                  <a:arcTo wR="3782" hR="3782" stAng="10800000" swAng="-5400000"/>
                  <a:lnTo>
                    <a:pt x="17818" y="2250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b034"/>
                </a:gs>
                <a:gs pos="100000">
                  <a:srgbClr val="3f8b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AutoShape 20"/>
            <p:cNvSpPr/>
            <p:nvPr/>
          </p:nvSpPr>
          <p:spPr>
            <a:xfrm>
              <a:off x="3392280" y="2130120"/>
              <a:ext cx="2509200" cy="2644200"/>
            </a:xfrm>
            <a:custGeom>
              <a:avLst/>
              <a:gdLst>
                <a:gd name="textAreaLeft" fmla="*/ 122400 w 2509200"/>
                <a:gd name="textAreaRight" fmla="*/ 2386800 w 2509200"/>
                <a:gd name="textAreaTop" fmla="*/ 122400 h 2644200"/>
                <a:gd name="textAreaBottom" fmla="*/ 2521800 h 2644200"/>
              </a:gdLst>
              <a:ahLst/>
              <a:rect l="textAreaLeft" t="textAreaTop" r="textAreaRight" b="textAreaBottom"/>
              <a:pathLst>
                <a:path w="21600" h="22762">
                  <a:moveTo>
                    <a:pt x="3600" y="0"/>
                  </a:moveTo>
                  <a:arcTo wR="3600" hR="3600" stAng="16200000" swAng="-5400000"/>
                  <a:lnTo>
                    <a:pt x="0" y="19162"/>
                  </a:lnTo>
                  <a:arcTo wR="3600" hR="3600" stAng="10800000" swAng="-5400000"/>
                  <a:lnTo>
                    <a:pt x="18000" y="2276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AutoShape 21"/>
            <p:cNvSpPr/>
            <p:nvPr/>
          </p:nvSpPr>
          <p:spPr>
            <a:xfrm>
              <a:off x="3413160" y="4076640"/>
              <a:ext cx="2475000" cy="6692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3f2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AutoShape 22"/>
            <p:cNvSpPr/>
            <p:nvPr/>
          </p:nvSpPr>
          <p:spPr>
            <a:xfrm>
              <a:off x="3413160" y="2150640"/>
              <a:ext cx="2475000" cy="6678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0f7d4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Oval 23"/>
            <p:cNvSpPr/>
            <p:nvPr/>
          </p:nvSpPr>
          <p:spPr>
            <a:xfrm>
              <a:off x="4242600" y="1832040"/>
              <a:ext cx="768600" cy="6062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Oval 24"/>
            <p:cNvSpPr/>
            <p:nvPr/>
          </p:nvSpPr>
          <p:spPr>
            <a:xfrm>
              <a:off x="4249800" y="1836360"/>
              <a:ext cx="744120" cy="5868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Oval 25"/>
            <p:cNvSpPr/>
            <p:nvPr/>
          </p:nvSpPr>
          <p:spPr>
            <a:xfrm>
              <a:off x="4259880" y="1839240"/>
              <a:ext cx="726480" cy="5734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Oval 26"/>
            <p:cNvSpPr/>
            <p:nvPr/>
          </p:nvSpPr>
          <p:spPr>
            <a:xfrm>
              <a:off x="4267080" y="1845360"/>
              <a:ext cx="690840" cy="5342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Oval 27"/>
            <p:cNvSpPr/>
            <p:nvPr/>
          </p:nvSpPr>
          <p:spPr>
            <a:xfrm>
              <a:off x="4308840" y="1860480"/>
              <a:ext cx="613080" cy="434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Text Box 28"/>
            <p:cNvSpPr/>
            <p:nvPr/>
          </p:nvSpPr>
          <p:spPr>
            <a:xfrm>
              <a:off x="4444200" y="19188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Text Box 29"/>
            <p:cNvSpPr/>
            <p:nvPr/>
          </p:nvSpPr>
          <p:spPr>
            <a:xfrm>
              <a:off x="3443400" y="2550600"/>
              <a:ext cx="2459880" cy="34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AutoShape 30"/>
            <p:cNvSpPr/>
            <p:nvPr/>
          </p:nvSpPr>
          <p:spPr>
            <a:xfrm>
              <a:off x="3355920" y="4817880"/>
              <a:ext cx="2587320" cy="82044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AutoShape 31"/>
            <p:cNvSpPr/>
            <p:nvPr/>
          </p:nvSpPr>
          <p:spPr>
            <a:xfrm>
              <a:off x="3409200" y="4840200"/>
              <a:ext cx="2475000" cy="7293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Group 32"/>
          <p:cNvGrpSpPr/>
          <p:nvPr/>
        </p:nvGrpSpPr>
        <p:grpSpPr>
          <a:xfrm>
            <a:off x="6019920" y="1828800"/>
            <a:ext cx="2742840" cy="4035600"/>
            <a:chOff x="6019920" y="1828800"/>
            <a:chExt cx="2742840" cy="4035600"/>
          </a:xfrm>
        </p:grpSpPr>
        <p:sp>
          <p:nvSpPr>
            <p:cNvPr id="168" name="AutoShape 33"/>
            <p:cNvSpPr/>
            <p:nvPr/>
          </p:nvSpPr>
          <p:spPr>
            <a:xfrm>
              <a:off x="6027480" y="2136600"/>
              <a:ext cx="2735280" cy="2857680"/>
            </a:xfrm>
            <a:custGeom>
              <a:avLst/>
              <a:gdLst>
                <a:gd name="textAreaLeft" fmla="*/ 140040 w 2735280"/>
                <a:gd name="textAreaRight" fmla="*/ 2595240 w 2735280"/>
                <a:gd name="textAreaTop" fmla="*/ 140040 h 2857680"/>
                <a:gd name="textAreaBottom" fmla="*/ 2717640 h 2857680"/>
              </a:gdLst>
              <a:ahLst/>
              <a:rect l="textAreaLeft" t="textAreaTop" r="textAreaRight" b="textAreaBottom"/>
              <a:pathLst>
                <a:path w="21600" h="22566">
                  <a:moveTo>
                    <a:pt x="3782" y="0"/>
                  </a:moveTo>
                  <a:arcTo wR="3782" hR="3782" stAng="16200000" swAng="-5400000"/>
                  <a:lnTo>
                    <a:pt x="0" y="18784"/>
                  </a:lnTo>
                  <a:arcTo wR="3782" hR="3782" stAng="10800000" swAng="-5400000"/>
                  <a:lnTo>
                    <a:pt x="17818" y="22566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b59f43"/>
                </a:gs>
                <a:gs pos="100000">
                  <a:srgbClr val="8f88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AutoShape 34"/>
            <p:cNvSpPr/>
            <p:nvPr/>
          </p:nvSpPr>
          <p:spPr>
            <a:xfrm>
              <a:off x="6069960" y="2057400"/>
              <a:ext cx="2652840" cy="2890800"/>
            </a:xfrm>
            <a:custGeom>
              <a:avLst/>
              <a:gdLst>
                <a:gd name="textAreaLeft" fmla="*/ 129240 w 2652840"/>
                <a:gd name="textAreaRight" fmla="*/ 2523600 w 2652840"/>
                <a:gd name="textAreaTop" fmla="*/ 129240 h 2890800"/>
                <a:gd name="textAreaBottom" fmla="*/ 2761560 h 2890800"/>
              </a:gdLst>
              <a:ahLst/>
              <a:rect l="textAreaLeft" t="textAreaTop" r="textAreaRight" b="textAreaBottom"/>
              <a:pathLst>
                <a:path w="21600" h="23537">
                  <a:moveTo>
                    <a:pt x="3600" y="0"/>
                  </a:moveTo>
                  <a:arcTo wR="3600" hR="3600" stAng="16200000" swAng="-5400000"/>
                  <a:lnTo>
                    <a:pt x="0" y="19937"/>
                  </a:lnTo>
                  <a:arcTo wR="3600" hR="3600" stAng="10800000" swAng="-5400000"/>
                  <a:lnTo>
                    <a:pt x="18000" y="235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AutoShape 35"/>
            <p:cNvSpPr/>
            <p:nvPr/>
          </p:nvSpPr>
          <p:spPr>
            <a:xfrm>
              <a:off x="6091560" y="4208400"/>
              <a:ext cx="261684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2eda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AutoShape 36"/>
            <p:cNvSpPr/>
            <p:nvPr/>
          </p:nvSpPr>
          <p:spPr>
            <a:xfrm>
              <a:off x="6091560" y="2166840"/>
              <a:ext cx="261684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8f5cc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Group 37"/>
            <p:cNvGrpSpPr/>
            <p:nvPr/>
          </p:nvGrpSpPr>
          <p:grpSpPr>
            <a:xfrm>
              <a:off x="6968520" y="1828800"/>
              <a:ext cx="812520" cy="642960"/>
              <a:chOff x="6968520" y="1828800"/>
              <a:chExt cx="812520" cy="642960"/>
            </a:xfrm>
          </p:grpSpPr>
          <p:sp>
            <p:nvSpPr>
              <p:cNvPr id="173" name="Oval 38"/>
              <p:cNvSpPr/>
              <p:nvPr/>
            </p:nvSpPr>
            <p:spPr>
              <a:xfrm>
                <a:off x="6968520" y="1828800"/>
                <a:ext cx="812520" cy="6429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Oval 39"/>
              <p:cNvSpPr/>
              <p:nvPr/>
            </p:nvSpPr>
            <p:spPr>
              <a:xfrm>
                <a:off x="6976800" y="1833480"/>
                <a:ext cx="785520" cy="6228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Oval 40"/>
              <p:cNvSpPr/>
              <p:nvPr/>
            </p:nvSpPr>
            <p:spPr>
              <a:xfrm>
                <a:off x="6986520" y="1837440"/>
                <a:ext cx="767520" cy="607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Oval 41"/>
              <p:cNvSpPr/>
              <p:nvPr/>
            </p:nvSpPr>
            <p:spPr>
              <a:xfrm>
                <a:off x="6995160" y="1843200"/>
                <a:ext cx="729720" cy="5666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Oval 42"/>
              <p:cNvSpPr/>
              <p:nvPr/>
            </p:nvSpPr>
            <p:spPr>
              <a:xfrm>
                <a:off x="7037640" y="1858680"/>
                <a:ext cx="648360" cy="4608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8" name="Text Box 43"/>
            <p:cNvSpPr/>
            <p:nvPr/>
          </p:nvSpPr>
          <p:spPr>
            <a:xfrm>
              <a:off x="7191720" y="19209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44"/>
            <p:cNvSpPr/>
            <p:nvPr/>
          </p:nvSpPr>
          <p:spPr>
            <a:xfrm>
              <a:off x="6123960" y="2590920"/>
              <a:ext cx="260064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AutoShape 45"/>
            <p:cNvSpPr/>
            <p:nvPr/>
          </p:nvSpPr>
          <p:spPr>
            <a:xfrm>
              <a:off x="6019920" y="4994280"/>
              <a:ext cx="2734560" cy="87012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99bac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AutoShape 46"/>
            <p:cNvSpPr/>
            <p:nvPr/>
          </p:nvSpPr>
          <p:spPr>
            <a:xfrm>
              <a:off x="6075720" y="5018040"/>
              <a:ext cx="2616480" cy="773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8da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" name="Прямоугольник 46"/>
          <p:cNvSpPr/>
          <p:nvPr/>
        </p:nvSpPr>
        <p:spPr>
          <a:xfrm>
            <a:off x="533520" y="2438280"/>
            <a:ext cx="2514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Не вмешиваться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если о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не просит помощ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Прямоугольник 47"/>
          <p:cNvSpPr/>
          <p:nvPr/>
        </p:nvSpPr>
        <p:spPr>
          <a:xfrm>
            <a:off x="3657600" y="2438280"/>
            <a:ext cx="1981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зьмите на себя только, то,  что он не может выполни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Прямоугольник 48"/>
          <p:cNvSpPr/>
          <p:nvPr/>
        </p:nvSpPr>
        <p:spPr>
          <a:xfrm>
            <a:off x="5943600" y="2362320"/>
            <a:ext cx="32004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о мере освоения ребёнком нов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действий, постепенно передавайте ему и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51920" y="609120"/>
            <a:ext cx="845820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«Как помочь ребенку                                           выполнить домашнее задание»</a:t>
            </a:r>
            <a:br>
              <a:rPr sz="5400"/>
            </a:b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бенок должен готовить домашнее задание самостоятельно, но не бесконтроль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ясните трудности, с которыми встречается ребенок при выполнении домашнего зада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стройте ребенка на выполнение заданий тех уроков, которые были сегодня, а задания на следующий день надо только повторит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итм выполнения домашнего задания  индивидуален для каждого ребенка.            Не следует ни торопиться, ни затягивать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5" descr="р19"/>
          <p:cNvPicPr/>
          <p:nvPr/>
        </p:nvPicPr>
        <p:blipFill>
          <a:blip r:embed="rId1"/>
          <a:stretch/>
        </p:blipFill>
        <p:spPr>
          <a:xfrm>
            <a:off x="6583320" y="3886200"/>
            <a:ext cx="256068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"/>
          <p:cNvSpPr/>
          <p:nvPr/>
        </p:nvSpPr>
        <p:spPr>
          <a:xfrm>
            <a:off x="2286000" y="47484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полнение каждого задания необходимо мотивировать применением его в будуще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следует отвлекать ребенка, умственный труд требует сосредоточенност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умная помощь и ненавязчивый контроль особенно необходимы ребенку в трудновыполнимых задания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тепенно необходимо приучать ребенка к планирующей оценке своих действий на день, два, неделю, месяц, четверт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a0aff"/>
                </a:solidFill>
                <a:latin typeface="Arial"/>
              </a:rPr>
              <a:t>Научить рёбёнка самостоятельно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a0aff"/>
                </a:solidFill>
                <a:latin typeface="Arial"/>
              </a:rPr>
              <a:t>учитьс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a0aff"/>
                </a:solidFill>
                <a:latin typeface="Arial"/>
              </a:rPr>
              <a:t>    </a:t>
            </a:r>
            <a:r>
              <a:rPr b="1" i="1" lang="ru-RU" sz="2800" spc="-1" strike="noStrike">
                <a:solidFill>
                  <a:srgbClr val="0a0aff"/>
                </a:solidFill>
                <a:latin typeface="Arial"/>
              </a:rPr>
              <a:t>научить добывать знания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Ваша родительская обязаннос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5" descr="j0088510"/>
          <p:cNvPicPr/>
          <p:nvPr/>
        </p:nvPicPr>
        <p:blipFill>
          <a:blip r:embed="rId1"/>
          <a:stretch/>
        </p:blipFill>
        <p:spPr>
          <a:xfrm>
            <a:off x="5715000" y="3733920"/>
            <a:ext cx="3005280" cy="26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0" y="1828800"/>
            <a:ext cx="4316400" cy="46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70c0"/>
                </a:solidFill>
                <a:latin typeface="Arial"/>
              </a:rPr>
              <a:t>Ребёнок нуждается в постоянной поддержке родителей. Ваша искренняя заинтересованность в его школьных делах, серьёзное отношение к достижениям и трудностям помогут ученик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Arial"/>
              </a:rPr>
              <a:t>Не забывайте напоминать о школьных правилах и необходимости их соблюда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692aa2"/>
                </a:solidFill>
                <a:latin typeface="Arial"/>
              </a:rPr>
              <a:t>Составьте вместе распорядок дня, а затем следите за выполнение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191120" y="1294920"/>
            <a:ext cx="4952880" cy="530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26b18"/>
                </a:solidFill>
                <a:latin typeface="Arial"/>
              </a:rPr>
              <a:t>Когда человек учится, у него может что-то не получаться, это естественно. Ребёнок имеет право на ошибк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7030a0"/>
                </a:solidFill>
                <a:latin typeface="Arial"/>
              </a:rPr>
              <a:t>Не пропускайте трудности. При необходимости обращайтесь за помощью к учителю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7030a0"/>
                </a:solidFill>
                <a:latin typeface="Arial"/>
              </a:rPr>
              <a:t>     </a:t>
            </a:r>
            <a:r>
              <a:rPr b="0" i="1" lang="ru-RU" sz="2000" spc="-1" strike="noStrike">
                <a:solidFill>
                  <a:srgbClr val="7030a0"/>
                </a:solidFill>
                <a:latin typeface="Arial"/>
              </a:rPr>
              <a:t>специалистам: психологу, логопеду, окулист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Arial"/>
              </a:rPr>
              <a:t>Поддерживайте ребёнка в его желании добиться успеха. В каждой работе обязательно найдите, за что можно было бы его похвалит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0" i="1" lang="ru-RU" sz="2000" spc="-1" strike="noStrike">
                <a:solidFill>
                  <a:srgbClr val="ff0000"/>
                </a:solidFill>
                <a:latin typeface="Arial"/>
              </a:rPr>
              <a:t>Похвала способна повысить интеллектуальные достиж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AutoShape 4"/>
          <p:cNvSpPr/>
          <p:nvPr/>
        </p:nvSpPr>
        <p:spPr>
          <a:xfrm>
            <a:off x="0" y="0"/>
            <a:ext cx="4267080" cy="1905120"/>
          </a:xfrm>
          <a:prstGeom prst="irregularSeal2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WordArt 6"/>
          <p:cNvSpPr txBox="1"/>
          <p:nvPr/>
        </p:nvSpPr>
        <p:spPr>
          <a:xfrm>
            <a:off x="684360" y="476280"/>
            <a:ext cx="251928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полезны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98" name="WordArt 7"/>
          <p:cNvSpPr txBox="1"/>
          <p:nvPr/>
        </p:nvSpPr>
        <p:spPr>
          <a:xfrm>
            <a:off x="684360" y="981000"/>
            <a:ext cx="259236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совет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7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0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1294920" y="3901320"/>
            <a:ext cx="5791320" cy="32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WordArt 3"/>
          <p:cNvSpPr txBox="1"/>
          <p:nvPr/>
        </p:nvSpPr>
        <p:spPr>
          <a:xfrm>
            <a:off x="914400" y="3048120"/>
            <a:ext cx="739152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66"/>
                    </a:gs>
                    <a:gs pos="100000">
                      <a:srgbClr val="65d135"/>
                    </a:gs>
                  </a:gsLst>
                  <a:lin ang="0"/>
                </a:gradFill>
                <a:effectLst>
                  <a:outerShdw dist="89604" dir="2700000" blurRad="0" rotWithShape="0">
                    <a:srgbClr val="000000">
                      <a:alpha val="50000"/>
                    </a:srgbClr>
                  </a:outerShdw>
                </a:effectLst>
                <a:latin typeface="Verdana"/>
              </a:rPr>
              <a:t>Спасибо за сотрудничество!</a:t>
            </a:r>
            <a:endParaRPr b="1" lang="en-US" sz="54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66"/>
                  </a:gs>
                  <a:gs pos="100000">
                    <a:srgbClr val="65d135"/>
                  </a:gs>
                </a:gsLst>
                <a:lin ang="0"/>
              </a:gradFill>
              <a:effectLst>
                <a:outerShdw dist="89604" dir="2700000" blurRad="0" rotWithShape="0">
                  <a:srgbClr val="000000">
                    <a:alpha val="50000"/>
                  </a:srgbClr>
                </a:outerShdw>
              </a:effectLst>
              <a:latin typeface="Verdana"/>
              <a:ea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РУССКИЙ ЯЗЫК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Диктан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«5» </a:t>
            </a:r>
            <a:r>
              <a:rPr b="1" lang="ru-RU" sz="3200" spc="-1" strike="noStrike">
                <a:solidFill>
                  <a:srgbClr val="0a0aff"/>
                </a:solidFill>
                <a:latin typeface="Arial"/>
              </a:rPr>
              <a:t>- нет ошибок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«4» </a:t>
            </a:r>
            <a:r>
              <a:rPr b="1" lang="ru-RU" sz="3200" spc="-1" strike="noStrike">
                <a:solidFill>
                  <a:srgbClr val="0a0aff"/>
                </a:solidFill>
                <a:latin typeface="Arial"/>
              </a:rPr>
              <a:t>- не более 2-х ошибок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a0aff"/>
                </a:solidFill>
                <a:latin typeface="Arial"/>
              </a:rPr>
              <a:t>«3» - не более 4-х ошибок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a0aff"/>
                </a:solidFill>
                <a:latin typeface="Arial"/>
              </a:rPr>
              <a:t>«2» - 5 и более ошибок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РУССКИЙ ЯЗЫК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Орфографическое зад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«5»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002060"/>
                </a:solidFill>
                <a:latin typeface="Arial"/>
              </a:rPr>
              <a:t>- задание выполнено без ошибок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«4» </a:t>
            </a:r>
            <a:r>
              <a:rPr b="0" i="1" lang="ru-RU" sz="3200" spc="-1" strike="noStrike">
                <a:solidFill>
                  <a:srgbClr val="002060"/>
                </a:solidFill>
                <a:latin typeface="Arial"/>
              </a:rPr>
              <a:t>- задание выполнено полностью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2060"/>
                </a:solidFill>
                <a:latin typeface="Arial"/>
              </a:rPr>
              <a:t>    </a:t>
            </a:r>
            <a:r>
              <a:rPr b="0" i="1" lang="ru-RU" sz="3200" spc="-1" strike="noStrike">
                <a:solidFill>
                  <a:srgbClr val="002060"/>
                </a:solidFill>
                <a:latin typeface="Arial"/>
              </a:rPr>
              <a:t>1 ошибк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Arial"/>
              </a:rPr>
              <a:t>«3» </a:t>
            </a:r>
            <a:r>
              <a:rPr b="0" i="1" lang="ru-RU" sz="3200" spc="-1" strike="noStrike">
                <a:solidFill>
                  <a:srgbClr val="002060"/>
                </a:solidFill>
                <a:latin typeface="Arial"/>
              </a:rPr>
              <a:t>- не полостью выполнено задание или полностью выполнено, но 2 ошибк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Arial"/>
              </a:rPr>
              <a:t>«2» </a:t>
            </a:r>
            <a:r>
              <a:rPr b="0" i="1" lang="ru-RU" sz="3200" spc="-1" strike="noStrike">
                <a:solidFill>
                  <a:srgbClr val="002060"/>
                </a:solidFill>
                <a:latin typeface="Arial"/>
              </a:rPr>
              <a:t>- невыполненное зада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РУССКИЙ ЯЗЫК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Списыв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«5» 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- безукоризненно выполненная работа, в которой нет исправлени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«4» 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- 1-2 исправления или 1 ошибк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Arial"/>
              </a:rPr>
              <a:t>«3» 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- 2-3 ошибк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Arial"/>
              </a:rPr>
              <a:t>«2» 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- 4 ошибки и боле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РУССКИЙ ЯЗЫК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Словарный диктан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«5» 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- работа без ошибок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«4» 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- 1 ошибк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Arial"/>
              </a:rPr>
              <a:t>«3» 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- 2 ошибк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Arial"/>
              </a:rPr>
              <a:t>«2» 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- 3-5 ошибо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РУССКИЙ ЯЗЫК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Контрольная рабо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«5» </a:t>
            </a:r>
            <a:r>
              <a:rPr b="0" lang="ru-RU" sz="2800" spc="-1" strike="noStrike">
                <a:solidFill>
                  <a:srgbClr val="0a0aff"/>
                </a:solidFill>
                <a:latin typeface="Arial"/>
              </a:rPr>
              <a:t>- безошибочно выполнены все зада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«4» </a:t>
            </a:r>
            <a:r>
              <a:rPr b="0" lang="ru-RU" sz="2800" spc="-1" strike="noStrike">
                <a:solidFill>
                  <a:srgbClr val="0a0aff"/>
                </a:solidFill>
                <a:latin typeface="Arial"/>
              </a:rPr>
              <a:t>- выполнено правильно не менее 3/4 всех задани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a0aff"/>
                </a:solidFill>
                <a:latin typeface="Arial"/>
              </a:rPr>
              <a:t>«3» - выполнено не менее ½ задани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a0aff"/>
                </a:solidFill>
                <a:latin typeface="Arial"/>
              </a:rPr>
              <a:t>«2» - ученик не справился с большинством зада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МАТЕМАТИКА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Письменная работ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содержащая только приме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«5» 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- вся работа выполнена безошибочно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и нет исправлени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«4» 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- допущены 1-2 вычислительные ошибк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«3» - допущены 3-4 вычислительные ошибк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«2» - допущены 5 и более вычислительных ошибо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МАТЕМАТИКА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Письменная работа, содержащая только задач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«5»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- все задачи решены и нет исправлени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«4»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- нет ошибок в ходе решения задач, но допущены 1-2 вычислительные ошибк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«3»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- хотя бы одна ошибка в ходе решения задачи и 1 вычислительная ошибка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или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если вычислительных ошибок нет, но не решена 1 задач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«2»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- допущена ошибка в ходе решения 2-х задач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или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допущена ошибка в ходе решения задачи и 2 вычислительные ошиб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4T05:38:31Z</dcterms:created>
  <dc:creator>ThemeGallery</dc:creator>
  <dc:description/>
  <dc:language>en-US</dc:language>
  <cp:lastModifiedBy>Галина Григорьевна</cp:lastModifiedBy>
  <dcterms:modified xsi:type="dcterms:W3CDTF">2015-03-19T23:58:50Z</dcterms:modified>
  <cp:revision>52</cp:revision>
  <dc:subject/>
  <dc:title>PowerPoint Template</dc:title>
</cp:coreProperties>
</file>