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13.wmf" ContentType="image/x-wmf"/>
  <Override PartName="/ppt/media/image6.gif" ContentType="image/gif"/>
  <Override PartName="/ppt/media/image11.gif" ContentType="image/gif"/>
  <Override PartName="/ppt/media/image7.gif" ContentType="image/gif"/>
  <Override PartName="/ppt/media/image9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488-0696-4C2C-8EE4-0A05A37A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537-67E8-4688-A472-EA8B5695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C84-7122-410D-9337-BE6B171D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5EE-0FFF-491F-B6D6-F62C12EF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FEAA-0334-4677-89DC-4B192F31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E0C9-F04D-4379-88F9-E3D19D8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9DE6-91B2-4B8F-87A8-5F64C074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55CB-7A3F-4A17-9EF0-8CA7D06B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4511-5CA5-4B47-BF2A-998D1D40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44AB-5646-4E66-8680-B5B3B5DF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0EE5-C0EA-4F3A-AC49-531688E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B65-9BC0-4B52-96D2-FD28F0C5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5E8D-DAB7-46AC-BD5F-B6357D1D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D9C9-2DDE-4FD8-ACE6-A32EED0D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543D-20BF-4288-ACD0-6AC2EAEB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99B5-C627-4B4A-9236-1486A531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2BF5-03E9-46C3-91F4-5B42707B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9A7-A1F9-4EB9-B0D6-0A8AA08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C89-EF7C-4CDC-9250-CFCE2B13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C72-1429-496D-AF53-B7A23661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6A9-3130-4A58-B86A-13987ED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71C-71C0-4334-9DCA-FD1BD52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0E3-1098-4CC8-971F-7B8F97B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74C-D85D-4492-AF97-53559F91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BD91-863A-467D-94CD-7203F19CA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6970-A768-4B34-8242-7ABDDA77B7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3772080"/>
            <a:ext cx="8001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ши успехи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28600" y="137160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 «5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380880" y="2286000"/>
            <a:ext cx="381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одной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 «4» и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21896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9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6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54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8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73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94920" y="3901320"/>
            <a:ext cx="579132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Галина Григорьевна</cp:lastModifiedBy>
  <dcterms:modified xsi:type="dcterms:W3CDTF">2015-03-19T23:58:50Z</dcterms:modified>
  <cp:revision>52</cp:revision>
  <dc:subject/>
  <dc:title>PowerPoint Template</dc:title>
</cp:coreProperties>
</file>