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10.png" ContentType="image/png"/>
  <Override PartName="/ppt/media/image2.png" ContentType="image/png"/>
  <Override PartName="/ppt/media/image3.wmf" ContentType="image/x-wmf"/>
  <Override PartName="/ppt/media/image5.wmf" ContentType="image/x-wmf"/>
  <Override PartName="/ppt/media/image7.jpeg" ContentType="image/jpeg"/>
  <Override PartName="/ppt/media/image11.png" ContentType="image/png"/>
  <Override PartName="/ppt/media/image6.jpeg" ContentType="image/jpeg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C6591-B1B9-4C42-BF84-8E46B1E2C7E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4D75B-1880-4027-91C8-200DFAAFDD3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дители отвечают на вопросы предыдущего слайда и заполняется сравнительная таблиц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ED3E7-87E7-4A4F-B744-0CF0C4F8853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F4F8A-B571-4798-89D1-B1E8FAD3A65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Какие проблемы возникли у ваших детей с переходом в 5 класс?» -вопрос родителям. Список дополняется ответами на этот вопрос учителями и деть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D4AB4-D974-43A9-89CB-B430FB199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EF676-35D1-49CE-8B4D-5AA3E8787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234BD-F727-4FE6-ABEF-8402DE9E3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B00D7-7AB2-46FD-AA21-0DAC26247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B5B94-0CD8-4254-92FD-D25DFA8E2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B3CB0-A85D-4651-90C4-0E623A7AB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DF222-CEAD-43A8-96B8-6E02CB910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37BAD-2955-4E37-9B69-B70BABA83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B2D87-6C77-4FDD-94E5-D5832AE3E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447A0-E51D-4BAF-87E5-8EFB15145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D42C3-8456-46C7-8980-A218372EF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68583-B41A-4705-9C20-78B89F593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9385F-6637-4563-96F7-D0E7E1EC4FA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201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Arial"/>
              </a:rPr>
              <a:t>Родительское собрание в 5 класс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899640" y="2636640"/>
            <a:ext cx="7417080" cy="23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Адаптац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пятикласснико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Рисунок8"/>
          <p:cNvPicPr/>
          <p:nvPr/>
        </p:nvPicPr>
        <p:blipFill>
          <a:blip r:embed="rId1"/>
          <a:stretch/>
        </p:blipFill>
        <p:spPr>
          <a:xfrm>
            <a:off x="0" y="4290840"/>
            <a:ext cx="4824360" cy="25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Признаки успешной адаптаци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довлетворенность ребенка процессом обуче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бенок легко справляется с программо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епень самостоятельности ребенка при выполнении им учебных заданий, готовность прибегнуть к помощи взрослого лишь ПОСЛЕ попыток выполнить задание самому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довлетворенность межличностными отношениями – с одноклассниками и учителя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Признаки дезадаптаци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сталый, утомлённый внешний вид ребён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желание ребёнка делиться своими впечатлениями о проведённом дн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ремление отвлечь взрослого от школьных событий, переключить внимание на другие тем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желания выполнять домашние зад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Жалобы на те или иные события, связанные со школ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еспокойный со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рудности утреннего пробуждения, вял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тоянные жалобы на плохое самочувств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people1840"/>
          <p:cNvPicPr/>
          <p:nvPr/>
        </p:nvPicPr>
        <p:blipFill>
          <a:blip r:embed="rId1"/>
          <a:stretch/>
        </p:blipFill>
        <p:spPr>
          <a:xfrm>
            <a:off x="108000" y="549360"/>
            <a:ext cx="1150920" cy="93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озможные реакци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79280" y="1413000"/>
            <a:ext cx="896472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нтеллектуальна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- нарушение интеллектуальной деятельности. Отставание в развитии от сверстник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веденческа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- несоответствие поведения ребёнка правовым и моральным нормам (агрессивность, асоциальное поведение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ммуникативная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затруднения в общении со сверстниками и взрослы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оматическа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- отклонения в здоровье ребён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Эмоциональна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- эмоциональные трудности, тревоги по поводу переживания проблем в школ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Чем можно помочь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0" y="1412640"/>
            <a:ext cx="91440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ервое условие школьного успеха пятиклассника — безусловное принятие ребенка, несмотря на те неудачи, с которыми он уже столкнулся или может столкнутьс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Если вас, что-то беспокоит в поведении ребенка, постарайтесь, как можно скорее встретиться и обсудить это с классным руководителем или психолог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Если в семье произошли какие то события, повлиявшие на психологическое состояние ребенка (развод, отъезд в долгую командировку кого-то из родителей, рождение еще одного ребенка и тд.) сообщите об этом классному руководител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являйте интерес к школьным делам, обсуждайте сложные ситуации, вместе ищите выход из конфликтов. Неформальное общение со своим ребенком после прошедшего школьного дн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е следует сразу ослаблять контроль за учебной деятельностью ребенка, если в период начальной школы он привык к вашему контрол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учайте его к самостоятельности постепенн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Чем можно помочь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79280" y="1341000"/>
            <a:ext cx="87854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бязательное знакомство с его одноклассниками и возможность общения ребят после школ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едопустимость физических мер воздействия, запугивания, критики в адрес ребенка, особенно в присутствии других людей (бабушек, дедушек, сверстников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сключение таких мер наказания, как лишение удовольствий, физические и психические наказа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чет темперамента ребенка в период адаптации к школьному обучению. Медлительные и малообщительные дети гораздо труднее привыкают к классу, быстро теряют к нему интерес, если чувствуют со стороны взрослых и сверстников насилие, сарказм и жестокост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едоставление ребенку самостоятельности в учебной работе и организация обоснованного контроля за его учебной деятельностью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ощрение ребенка, и не только за учебные успехи. Моральное стимулирование достижений ребенк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сновными помощниками родителей в сложных ситуациях являются терпение, внимание и понимание. Постарайтесь создать благоприятный климат в семье для ребен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Чем можно помочь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0" y="105264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здавайте условия для развития самостоятельности в поведении ребенка. У пятиклассника непременно должны быть домашние обязанности, за выполнение которых он несет ответственност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смотря на кажущуюся взрослость, пятиклассник нуждается в ненавязчивом контроле со стороны родителей, поскольку не всегда может сам сориентироваться в новых требованиях школьной жизн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пятиклассника учитель – уже не такой непререкаемый авторитет, как раньше, в адрес учителей могут звучать критические замечания. Важно обсудить с ребенком причины его недовольства, поддерживая при этом авторитет учител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ятикласснику уже не так интересна учеба сама по себе, многим в школе интересно бывать потому, что там много друзей. Важно, чтобы у ребенка была возможность обсудить свои школьные дела, учебу и отношения с друзьями в семье, с родителям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entury Gothic"/>
              </a:rPr>
              <a:t>Слова, которые поддерживают и которые разрушают его веру в себ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4035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Слова поддержк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ная тебя, я уверен, что вы все сделали, хорош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ы делаешь это очень хорош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 тебя есть некоторые соображения по этому поводу? Готов ли ты начать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то серьезный вызов. Но я уверен. Что ты готов к нем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53000" y="1600200"/>
            <a:ext cx="4240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Слова разочарова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 тебя это не получит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ная тебя и твои способности, я думаю, ты смог бы сделать это гораздо лучш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та идея никогда не сможет быть реализова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то для тебя слишком трудно, поэтому я сам это сдела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5" descr="super027"/>
          <p:cNvPicPr/>
          <p:nvPr/>
        </p:nvPicPr>
        <p:blipFill>
          <a:blip r:embed="rId1"/>
          <a:stretch/>
        </p:blipFill>
        <p:spPr>
          <a:xfrm>
            <a:off x="7164360" y="5408640"/>
            <a:ext cx="1528920" cy="14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0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20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2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2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2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2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20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20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20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20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2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20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20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20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20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3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2000"/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2000" fill="hold"/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2000" fill="hold"/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2000" fill="hold"/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4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20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20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20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20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6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2000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2000" fill="hold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2000" fill="hold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2000" fill="hold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2000"/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2000" fill="hold"/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2000" fill="hold"/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2000" fill="hold"/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640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пособы преодоления тревожност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50560" y="1341360"/>
            <a:ext cx="87138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е сравнивайте ребенка с окружающи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оверяйте ребенк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Чаще хвалите его, но так, чтобы он знал, за чт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емонстрируйте образцы уверенного поведения, будьте во всем примером ребенк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е предъявляйте к ребенку завышенных требовани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удьте последовательны в воспитании ребенка. Не запрещайте без всяких причин того, что разрешали раньш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тарайтесь делать ребенку меньше замеча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спользуйте наказание лишь в крайних случая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е унижайте ребенка, наказывая ег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бщаясь с ребенком, не подрывайте авторитет других значимых взрослых людей. Например, нельзя говорить ребенку: «Много ваша учительница понимает, лучше меня слушай!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могите ему найти дело по душ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зговаривайте со своим ребёнком. Постарайтесь услышать ЕГО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lands078"/>
          <p:cNvPicPr/>
          <p:nvPr/>
        </p:nvPicPr>
        <p:blipFill>
          <a:blip r:embed="rId1"/>
          <a:stretch/>
        </p:blipFill>
        <p:spPr>
          <a:xfrm>
            <a:off x="179280" y="189000"/>
            <a:ext cx="144000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914400" y="837720"/>
            <a:ext cx="76500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1"/>
          <p:cNvSpPr/>
          <p:nvPr/>
        </p:nvSpPr>
        <p:spPr>
          <a:xfrm>
            <a:off x="0" y="1371600"/>
            <a:ext cx="7620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62697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19400" y="907920"/>
            <a:ext cx="58561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Monotype Corsiva"/>
              </a:rPr>
              <a:t>Всё начинается с любв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Monotype Corsiva"/>
              </a:rPr>
              <a:t> </a:t>
            </a:r>
            <a:r>
              <a:rPr b="1" lang="ru-RU" sz="2800" spc="-1" strike="noStrike">
                <a:solidFill>
                  <a:srgbClr val="6600cc"/>
                </a:solidFill>
                <a:latin typeface="Monotype Corsiva"/>
              </a:rPr>
              <a:t>И озаренье, и работ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Monotype Corsiva"/>
              </a:rPr>
              <a:t> </a:t>
            </a:r>
            <a:r>
              <a:rPr b="1" lang="ru-RU" sz="2800" spc="-1" strike="noStrike">
                <a:solidFill>
                  <a:srgbClr val="6600cc"/>
                </a:solidFill>
                <a:latin typeface="Monotype Corsiva"/>
              </a:rPr>
              <a:t>Глаза цветов, глаза ребёнка 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Monotype Corsiva"/>
              </a:rPr>
              <a:t> </a:t>
            </a:r>
            <a:r>
              <a:rPr b="1" lang="ru-RU" sz="2800" spc="-1" strike="noStrike">
                <a:solidFill>
                  <a:srgbClr val="6600cc"/>
                </a:solidFill>
                <a:latin typeface="Monotype Corsiva"/>
              </a:rPr>
              <a:t>Всё начинается с любви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Monotype Corsiva"/>
              </a:rPr>
              <a:t>                      </a:t>
            </a:r>
            <a:r>
              <a:rPr b="1" lang="ru-RU" sz="2800" spc="-1" strike="noStrike">
                <a:solidFill>
                  <a:srgbClr val="6600cc"/>
                </a:solidFill>
                <a:latin typeface="Monotype Corsiva"/>
              </a:rPr>
              <a:t>Р. Рождественск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12" descr="http://s57.radikal.ru/i157/1005/cf/534b1d3f6196.png"/>
          <p:cNvPicPr/>
          <p:nvPr/>
        </p:nvPicPr>
        <p:blipFill>
          <a:blip r:embed="rId1"/>
          <a:stretch/>
        </p:blipFill>
        <p:spPr>
          <a:xfrm>
            <a:off x="1219320" y="3124080"/>
            <a:ext cx="3733560" cy="2857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0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9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3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овестка собр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250560" y="1600200"/>
            <a:ext cx="8569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даптация пятиклассников к новым условиям обуч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спеваемость и поведение учащихся клас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итание дет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неурочная деятельность дет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боры родительского комите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зно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2"/>
          <p:cNvSpPr/>
          <p:nvPr/>
        </p:nvSpPr>
        <p:spPr>
          <a:xfrm>
            <a:off x="755640" y="404640"/>
            <a:ext cx="8153280" cy="420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ru-RU" sz="4500" spc="-1" strike="noStrike">
                <a:solidFill>
                  <a:srgbClr val="f42f20"/>
                </a:solidFill>
                <a:latin typeface="Times New Roman"/>
              </a:rPr>
              <a:t>Представьте себе ситуацию: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«Вы сменили работу и оказались в незнакомом коллективе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Какие чувства вы испытываете в первое время на новом месте?»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0" y="85248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3"/>
          <p:cNvSpPr/>
          <p:nvPr/>
        </p:nvSpPr>
        <p:spPr>
          <a:xfrm>
            <a:off x="503280" y="1461960"/>
            <a:ext cx="8137440" cy="30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Представьте себя на месте ребят, пришедших в 5-й класс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С какими трудностями могут встретиться дети, придя в 5 класс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опросы родителям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68360" y="1821960"/>
            <a:ext cx="8229600" cy="44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колько учебных предметов изучалось Вашим ребёнком в 4 классе? В 5 класс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ова недельная учебная нагрузка была у Вашего ребёнка в 4 классе? В 5 класс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колько учителей обучало Вашего ребёнка в 4 классе? В 5 класс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колько времени в среднем тратил Ваш ребёнок на подготовку домашних заданий в 4 классе? В 5 класс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J0233964"/>
          <p:cNvPicPr/>
          <p:nvPr/>
        </p:nvPicPr>
        <p:blipFill>
          <a:blip r:embed="rId1"/>
          <a:stretch/>
        </p:blipFill>
        <p:spPr>
          <a:xfrm>
            <a:off x="468360" y="115920"/>
            <a:ext cx="1944720" cy="170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равнительная таблиц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324000" y="1197000"/>
          <a:ext cx="8351640" cy="5151240"/>
        </p:xfrm>
        <a:graphic>
          <a:graphicData uri="http://schemas.openxmlformats.org/drawingml/2006/table">
            <a:tbl>
              <a:tblPr/>
              <a:tblGrid>
                <a:gridCol w="815760"/>
                <a:gridCol w="3456000"/>
                <a:gridCol w="4079880"/>
              </a:tblGrid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4 клас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5 клас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44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дмето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дметов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факультатив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392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ас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+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асо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392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ител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ителе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392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- 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ас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- 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ас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Line 6"/>
          <p:cNvSpPr/>
          <p:nvPr/>
        </p:nvSpPr>
        <p:spPr>
          <a:xfrm flipV="1">
            <a:off x="6072120" y="2643120"/>
            <a:ext cx="122400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7"/>
          <p:cNvSpPr/>
          <p:nvPr/>
        </p:nvSpPr>
        <p:spPr>
          <a:xfrm>
            <a:off x="6143760" y="5000760"/>
            <a:ext cx="107928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8"/>
          <p:cNvSpPr/>
          <p:nvPr/>
        </p:nvSpPr>
        <p:spPr>
          <a:xfrm flipH="1">
            <a:off x="2928960" y="4929120"/>
            <a:ext cx="144000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9"/>
          <p:cNvSpPr/>
          <p:nvPr/>
        </p:nvSpPr>
        <p:spPr>
          <a:xfrm flipH="1" flipV="1">
            <a:off x="3000240" y="2642760"/>
            <a:ext cx="122400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7"/>
          <p:cNvSpPr/>
          <p:nvPr/>
        </p:nvSpPr>
        <p:spPr>
          <a:xfrm rot="19983000">
            <a:off x="5694480" y="2285640"/>
            <a:ext cx="17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ного учите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8"/>
          <p:cNvSpPr/>
          <p:nvPr/>
        </p:nvSpPr>
        <p:spPr>
          <a:xfrm rot="2227800">
            <a:off x="6158880" y="4116240"/>
            <a:ext cx="187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овые виды домашних зада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9"/>
          <p:cNvSpPr/>
          <p:nvPr/>
        </p:nvSpPr>
        <p:spPr>
          <a:xfrm rot="19745400">
            <a:off x="2751480" y="4254120"/>
            <a:ext cx="180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величения числа предме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20"/>
          <p:cNvSpPr/>
          <p:nvPr/>
        </p:nvSpPr>
        <p:spPr>
          <a:xfrm rot="2217600">
            <a:off x="2896920" y="239184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бинетной систе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Изменения в школьной жизни пятиклассн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7" descr="j0301252"/>
          <p:cNvPicPr/>
          <p:nvPr/>
        </p:nvPicPr>
        <p:blipFill>
          <a:blip r:embed="rId1"/>
          <a:stretch/>
        </p:blipFill>
        <p:spPr>
          <a:xfrm>
            <a:off x="7219800" y="1521000"/>
            <a:ext cx="1387800" cy="14317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9" descr="MCj04109170000[1]"/>
          <p:cNvPicPr/>
          <p:nvPr/>
        </p:nvPicPr>
        <p:blipFill>
          <a:blip r:embed="rId2"/>
          <a:stretch/>
        </p:blipFill>
        <p:spPr>
          <a:xfrm>
            <a:off x="7500960" y="4929120"/>
            <a:ext cx="1467000" cy="14479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5" descr="MPj04092860000[1]"/>
          <p:cNvPicPr/>
          <p:nvPr/>
        </p:nvPicPr>
        <p:blipFill>
          <a:blip r:embed="rId3"/>
          <a:stretch/>
        </p:blipFill>
        <p:spPr>
          <a:xfrm>
            <a:off x="1143000" y="4573440"/>
            <a:ext cx="1492200" cy="14925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7" descr="MPj03961460000[1]"/>
          <p:cNvPicPr/>
          <p:nvPr/>
        </p:nvPicPr>
        <p:blipFill>
          <a:blip r:embed="rId4"/>
          <a:stretch/>
        </p:blipFill>
        <p:spPr>
          <a:xfrm>
            <a:off x="1071720" y="1500120"/>
            <a:ext cx="1728720" cy="15112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8" descr="MCj03981530000[1]"/>
          <p:cNvPicPr/>
          <p:nvPr/>
        </p:nvPicPr>
        <p:blipFill>
          <a:blip r:embed="rId5"/>
          <a:stretch/>
        </p:blipFill>
        <p:spPr>
          <a:xfrm>
            <a:off x="4429080" y="3357720"/>
            <a:ext cx="1584360" cy="1404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7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9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0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2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3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75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6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Возникающие проблем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611280" y="126828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чень много разных учителе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привычное расписани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овый классный руководитель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зросший темп работ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зросший объем работ в классе и д/з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обходимость на каждом уроке приспосабливаться к своеобразному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мпу, особенностям речи учителей;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85840" y="42876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Изменения в 5 класс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мена позици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старший» в начальной школ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самый маленький» в средней школ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Стрелка вниз 4"/>
          <p:cNvSpPr/>
          <p:nvPr/>
        </p:nvSpPr>
        <p:spPr>
          <a:xfrm>
            <a:off x="4286160" y="3214800"/>
            <a:ext cx="714600" cy="1000080"/>
          </a:xfrm>
          <a:prstGeom prst="downArrow">
            <a:avLst>
              <a:gd name="adj1" fmla="val 50000"/>
              <a:gd name="adj2" fmla="val 49980"/>
            </a:avLst>
          </a:prstGeom>
          <a:solidFill>
            <a:srgbClr val="72bfc5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2" descr="C:\Documents and Settings\Timon\Local Settings\Temporary Internet Files\Content.IE5\9O6JMAA5\MC900349103[1].wmf"/>
          <p:cNvPicPr/>
          <p:nvPr/>
        </p:nvPicPr>
        <p:blipFill>
          <a:blip r:embed="rId1"/>
          <a:stretch/>
        </p:blipFill>
        <p:spPr>
          <a:xfrm>
            <a:off x="7715160" y="2571840"/>
            <a:ext cx="1249560" cy="1941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2" dur="1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8" dur="20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0" dur="1000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4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4T18:30:51Z</dcterms:created>
  <dc:creator>Мама</dc:creator>
  <dc:description/>
  <dc:language>en-US</dc:language>
  <cp:lastModifiedBy>Ирина</cp:lastModifiedBy>
  <dcterms:modified xsi:type="dcterms:W3CDTF">2015-10-09T09:19:58Z</dcterms:modified>
  <cp:revision>208</cp:revision>
  <dc:subject/>
  <dc:title>Родительское собрание в 5 классе</dc:title>
</cp:coreProperties>
</file>