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9295-5FD3-44B8-92E2-100E402A1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D06-7E23-4E2D-9CD6-E5685B536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44DC-744F-4006-8DAE-D45DCF5EF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5FC-BC55-4980-A08B-EC6241F17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728-B4F3-4412-AEB2-5D7FB3C9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1BA-05CA-4036-9361-4627C8C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D96-92B0-4627-A6DF-29714914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E5E-19E8-4522-9D4C-79AAC3D7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D74-C3DC-44B1-9950-7B8723C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FDB-9278-4B01-8220-A183C392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0BF-D0AB-4CEF-88E7-5479C20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3E2-8A10-4C32-89FD-F0AC18D5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5CB-81BC-4F49-AB8D-9CA6F324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00D-568C-45FB-AB76-F459831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1EB-A43F-407D-A4A5-F91C35D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AE3-90C6-43D8-B503-35C2D181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F0F-A08A-4255-A95D-93E3450CD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2636640"/>
            <a:ext cx="7417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8"/>
          <p:cNvPicPr/>
          <p:nvPr/>
        </p:nvPicPr>
        <p:blipFill>
          <a:blip r:embed="rId1"/>
          <a:stretch/>
        </p:blipFill>
        <p:spPr>
          <a:xfrm>
            <a:off x="0" y="4290840"/>
            <a:ext cx="48243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 безусловное принятие ребенка, несмотря на те неудачи, с которыми он уже столкнулся или может столкну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ятиклассника учитель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тебя это не получ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 и твои способности, я думаю, ты смог бы сделать это гораздо луч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uper027"/>
          <p:cNvPicPr/>
          <p:nvPr/>
        </p:nvPicPr>
        <p:blipFill>
          <a:blip r:embed="rId1"/>
          <a:stretch/>
        </p:blipFill>
        <p:spPr>
          <a:xfrm>
            <a:off x="7164360" y="540864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говаривайте со своим ребёнком. Постарайтесь услышать Е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nds078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4400" y="8377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1371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19400" y="9079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1219320" y="3124080"/>
            <a:ext cx="37335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 собр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птация пятиклассников к новым условиям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ваемость и поведение учащихся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тание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урочная деятельность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ы родительского ком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55640" y="40464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500" spc="-1" strike="noStrike">
                <a:solidFill>
                  <a:srgbClr val="f42f20"/>
                </a:solidFill>
                <a:latin typeface="Times New Roman"/>
              </a:rPr>
              <a:t>Представьте себе ситуацию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Вы сменили работу и оказались в незнакомом коллектив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ие чувства вы испытываете в первое время на новом месте?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852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03280" y="1461960"/>
            <a:ext cx="813744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ставьте себя на месте ребят, пришедших в 5-й клас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 какими трудностями могут встретиться дети, придя в 5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82196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197000"/>
          <a:ext cx="8351640" cy="5151240"/>
        </p:xfrm>
        <a:graphic>
          <a:graphicData uri="http://schemas.openxmlformats.org/drawingml/2006/table">
            <a:tbl>
              <a:tblPr/>
              <a:tblGrid>
                <a:gridCol w="815760"/>
                <a:gridCol w="3456000"/>
                <a:gridCol w="4079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акультати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6"/>
          <p:cNvSpPr/>
          <p:nvPr/>
        </p:nvSpPr>
        <p:spPr>
          <a:xfrm flipV="1">
            <a:off x="6072120" y="264312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6143760" y="500076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2928960" y="492912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3000240" y="264276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 rot="19983000">
            <a:off x="5694480" y="228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 rot="2227800">
            <a:off x="6158880" y="41162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виды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 rot="19745400">
            <a:off x="2751480" y="42541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я числа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 rot="2217600">
            <a:off x="2896920" y="239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нения в школьной жизни пяти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j0301252"/>
          <p:cNvPicPr/>
          <p:nvPr/>
        </p:nvPicPr>
        <p:blipFill>
          <a:blip r:embed="rId1"/>
          <a:stretch/>
        </p:blipFill>
        <p:spPr>
          <a:xfrm>
            <a:off x="7219800" y="1521000"/>
            <a:ext cx="1387800" cy="143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MCj04109170000[1]"/>
          <p:cNvPicPr/>
          <p:nvPr/>
        </p:nvPicPr>
        <p:blipFill>
          <a:blip r:embed="rId2"/>
          <a:stretch/>
        </p:blipFill>
        <p:spPr>
          <a:xfrm>
            <a:off x="7500960" y="4929120"/>
            <a:ext cx="146700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MPj04092860000[1]"/>
          <p:cNvPicPr/>
          <p:nvPr/>
        </p:nvPicPr>
        <p:blipFill>
          <a:blip r:embed="rId3"/>
          <a:stretch/>
        </p:blipFill>
        <p:spPr>
          <a:xfrm>
            <a:off x="1143000" y="4573440"/>
            <a:ext cx="1492200" cy="14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MPj03961460000[1]"/>
          <p:cNvPicPr/>
          <p:nvPr/>
        </p:nvPicPr>
        <p:blipFill>
          <a:blip r:embed="rId4"/>
          <a:stretch/>
        </p:blipFill>
        <p:spPr>
          <a:xfrm>
            <a:off x="1071720" y="150012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MCj03981530000[1]"/>
          <p:cNvPicPr/>
          <p:nvPr/>
        </p:nvPicPr>
        <p:blipFill>
          <a:blip r:embed="rId5"/>
          <a:stretch/>
        </p:blipFill>
        <p:spPr>
          <a:xfrm>
            <a:off x="4429080" y="3357720"/>
            <a:ext cx="1584360" cy="14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128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зменения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на пози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тарший»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амый маленький» в средне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4"/>
          <p:cNvSpPr/>
          <p:nvPr/>
        </p:nvSpPr>
        <p:spPr>
          <a:xfrm>
            <a:off x="4286160" y="3214800"/>
            <a:ext cx="714600" cy="10000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72bfc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Timon\Local Settings\Temporary Internet Files\Content.IE5\9O6JMAA5\MC900349103[1].wmf"/>
          <p:cNvPicPr/>
          <p:nvPr/>
        </p:nvPicPr>
        <p:blipFill>
          <a:blip r:embed="rId1"/>
          <a:stretch/>
        </p:blipFill>
        <p:spPr>
          <a:xfrm>
            <a:off x="7715160" y="2571840"/>
            <a:ext cx="124956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Ирина</cp:lastModifiedBy>
  <dcterms:modified xsi:type="dcterms:W3CDTF">2015-10-09T09:19:58Z</dcterms:modified>
  <cp:revision>208</cp:revision>
  <dc:subject/>
  <dc:title>Родительское собрание в 5 классе</dc:title>
</cp:coreProperties>
</file>