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08C0-0BF1-4F0F-A5EC-2764C2C32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3BE6-CE6D-4BDC-B400-DD3C25D9E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1EDA-CBC4-4795-837E-99B102FE7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15FA-09BE-4513-AC8E-956066540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64030-6844-4CAA-BD57-B73AFD32D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ED018-3765-42C9-A144-113082F2F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518AF-D774-4FD8-888A-84E63F568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16B7F-3235-4888-BA23-C2E000CA9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A770B-0509-45C0-8C0F-18A2AC9CE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A87BB-A6C5-433F-A8A6-ED7152090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680CD-F662-4D1B-8AA2-23391FE09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B86C-2DF5-416D-B226-E7A04D971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EC595-ED4A-4940-9CA6-D7BC30857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A18C9-4239-4AED-968A-2FC1696AF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1C0C2-266B-4BBB-B25E-C9F18E66C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AC305-A801-450C-B8DB-32751AE3B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86590-F530-4882-8F8B-F0106C5E4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F1E0-4FCB-44FA-BE61-2E03BEE11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501B-F0AF-48F1-8721-2909CF0D4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6A1F-457A-4344-A0E6-A88B16A9A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649B-107D-4B3C-ADDE-1C198ADC5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9154-45FB-4D16-9225-5B476B020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9A29-10DE-4157-84E5-4AD5A63E8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0955-1154-45C5-9324-20BA6BBBE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C787F-4D05-4F35-8B7E-7A1E954C77D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8736B-D1F4-40EF-BD5E-694AF20835C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Garamond"/>
              </a:rPr>
              <a:t>Алканы: гомологический ряд, строение, номенклатура, физические свойства.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842920" y="4368960"/>
            <a:ext cx="5761080" cy="175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а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хим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КОУ «Хохольский лице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емлянухина Л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363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0000"/>
                </a:solidFill>
                <a:latin typeface="Garamond"/>
              </a:rPr>
              <a:t>Алканы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88" name="Содержимое 3" descr=""/>
          <p:cNvPicPr/>
          <p:nvPr/>
        </p:nvPicPr>
        <p:blipFill>
          <a:blip r:embed="rId1"/>
          <a:stretch/>
        </p:blipFill>
        <p:spPr>
          <a:xfrm>
            <a:off x="401760" y="1352520"/>
            <a:ext cx="8261280" cy="50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58040" cy="1440000"/>
          </a:xfrm>
          <a:prstGeom prst="rect">
            <a:avLst/>
          </a:prstGeom>
          <a:solidFill>
            <a:srgbClr val="ccc1da"/>
          </a:soli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0000"/>
                </a:solidFill>
                <a:latin typeface="Garamond"/>
              </a:rPr>
              <a:t>Гомологический ряд  алканов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0" name="Содержимое 7" descr=""/>
          <p:cNvPicPr/>
          <p:nvPr/>
        </p:nvPicPr>
        <p:blipFill>
          <a:blip r:embed="rId1"/>
          <a:stretch/>
        </p:blipFill>
        <p:spPr>
          <a:xfrm>
            <a:off x="0" y="1809720"/>
            <a:ext cx="9144000" cy="53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Содержимое 4" descr=""/>
          <p:cNvPicPr/>
          <p:nvPr/>
        </p:nvPicPr>
        <p:blipFill>
          <a:blip r:embed="rId1"/>
          <a:stretch/>
        </p:blipFill>
        <p:spPr>
          <a:xfrm>
            <a:off x="182520" y="1712880"/>
            <a:ext cx="8790120" cy="4973760"/>
          </a:xfrm>
          <a:prstGeom prst="rect">
            <a:avLst/>
          </a:prstGeom>
          <a:ln w="0">
            <a:noFill/>
          </a:ln>
        </p:spPr>
      </p:pic>
      <p:grpSp>
        <p:nvGrpSpPr>
          <p:cNvPr id="92" name="Заголовок 1"/>
          <p:cNvGrpSpPr/>
          <p:nvPr/>
        </p:nvGrpSpPr>
        <p:grpSpPr>
          <a:xfrm>
            <a:off x="262080" y="231840"/>
            <a:ext cx="8637480" cy="1401840"/>
            <a:chOff x="262080" y="231840"/>
            <a:chExt cx="8637480" cy="1401840"/>
          </a:xfrm>
        </p:grpSpPr>
        <p:pic>
          <p:nvPicPr>
            <p:cNvPr id="93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262080" y="231840"/>
              <a:ext cx="863748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457200" y="274680"/>
              <a:ext cx="8258040" cy="12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4000"/>
              </a:br>
              <a:r>
                <a:rPr b="0" lang="en-US" sz="4400" spc="-1" strike="noStrike">
                  <a:solidFill>
                    <a:srgbClr val="ff0000"/>
                  </a:solidFill>
                  <a:latin typeface="Calibri"/>
                </a:rPr>
                <a:t>Изомерия органических веществ</a:t>
              </a:r>
              <a:br>
                <a:rPr sz="4000"/>
              </a:b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0" lang="en-US" sz="3400" spc="-1" strike="noStrike">
                <a:solidFill>
                  <a:srgbClr val="ff0000"/>
                </a:solidFill>
                <a:latin typeface="Garamond"/>
              </a:rPr>
              <a:t>Изомерия углеродного скелета</a:t>
            </a:r>
            <a:br>
              <a:rPr sz="3400"/>
            </a:b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Овал 3"/>
          <p:cNvSpPr/>
          <p:nvPr/>
        </p:nvSpPr>
        <p:spPr>
          <a:xfrm>
            <a:off x="285840" y="2714760"/>
            <a:ext cx="928440" cy="857160"/>
          </a:xfrm>
          <a:prstGeom prst="ellipse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Овал 4"/>
          <p:cNvSpPr/>
          <p:nvPr/>
        </p:nvSpPr>
        <p:spPr>
          <a:xfrm>
            <a:off x="2928960" y="2714760"/>
            <a:ext cx="928800" cy="857160"/>
          </a:xfrm>
          <a:prstGeom prst="ellipse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Овал 5"/>
          <p:cNvSpPr/>
          <p:nvPr/>
        </p:nvSpPr>
        <p:spPr>
          <a:xfrm>
            <a:off x="1571760" y="2714760"/>
            <a:ext cx="928440" cy="857160"/>
          </a:xfrm>
          <a:prstGeom prst="ellipse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Овал 6"/>
          <p:cNvSpPr/>
          <p:nvPr/>
        </p:nvSpPr>
        <p:spPr>
          <a:xfrm>
            <a:off x="4214880" y="2714760"/>
            <a:ext cx="928800" cy="857160"/>
          </a:xfrm>
          <a:prstGeom prst="ellipse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Овал 7"/>
          <p:cNvSpPr/>
          <p:nvPr/>
        </p:nvSpPr>
        <p:spPr>
          <a:xfrm>
            <a:off x="4500720" y="3929040"/>
            <a:ext cx="928440" cy="857160"/>
          </a:xfrm>
          <a:prstGeom prst="ellipse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Овал 8"/>
          <p:cNvSpPr/>
          <p:nvPr/>
        </p:nvSpPr>
        <p:spPr>
          <a:xfrm>
            <a:off x="7000920" y="3929040"/>
            <a:ext cx="928800" cy="857160"/>
          </a:xfrm>
          <a:prstGeom prst="ellipse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Овал 9"/>
          <p:cNvSpPr/>
          <p:nvPr/>
        </p:nvSpPr>
        <p:spPr>
          <a:xfrm>
            <a:off x="5786280" y="3929040"/>
            <a:ext cx="928800" cy="857160"/>
          </a:xfrm>
          <a:prstGeom prst="ellipse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С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Овал 10"/>
          <p:cNvSpPr/>
          <p:nvPr/>
        </p:nvSpPr>
        <p:spPr>
          <a:xfrm>
            <a:off x="5786280" y="5000760"/>
            <a:ext cx="928800" cy="857160"/>
          </a:xfrm>
          <a:prstGeom prst="ellipse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кругленный прямоугольник 11"/>
          <p:cNvSpPr/>
          <p:nvPr/>
        </p:nvSpPr>
        <p:spPr>
          <a:xfrm>
            <a:off x="3214800" y="1500120"/>
            <a:ext cx="3000240" cy="928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alibri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кругленный прямоугольник 33"/>
          <p:cNvSpPr/>
          <p:nvPr/>
        </p:nvSpPr>
        <p:spPr>
          <a:xfrm>
            <a:off x="428760" y="4143240"/>
            <a:ext cx="3500280" cy="714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ент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Скругленный прямоугольник 34"/>
          <p:cNvSpPr/>
          <p:nvPr/>
        </p:nvSpPr>
        <p:spPr>
          <a:xfrm>
            <a:off x="4286160" y="5786280"/>
            <a:ext cx="4857840" cy="714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2-метилбута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22"/>
          <p:cNvSpPr/>
          <p:nvPr/>
        </p:nvSpPr>
        <p:spPr>
          <a:xfrm>
            <a:off x="5429160" y="2714760"/>
            <a:ext cx="928800" cy="857160"/>
          </a:xfrm>
          <a:prstGeom prst="ellipse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23"/>
          <p:cNvSpPr/>
          <p:nvPr/>
        </p:nvSpPr>
        <p:spPr>
          <a:xfrm>
            <a:off x="8215200" y="3929040"/>
            <a:ext cx="928800" cy="857160"/>
          </a:xfrm>
          <a:prstGeom prst="ellipse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ая соединительная линия 26"/>
          <p:cNvSpPr/>
          <p:nvPr/>
        </p:nvSpPr>
        <p:spPr>
          <a:xfrm>
            <a:off x="1214280" y="3143160"/>
            <a:ext cx="357480" cy="180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ая соединительная линия 39"/>
          <p:cNvSpPr/>
          <p:nvPr/>
        </p:nvSpPr>
        <p:spPr>
          <a:xfrm>
            <a:off x="2500200" y="3143160"/>
            <a:ext cx="428760" cy="180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ая соединительная линия 41"/>
          <p:cNvSpPr/>
          <p:nvPr/>
        </p:nvSpPr>
        <p:spPr>
          <a:xfrm>
            <a:off x="3857760" y="3143160"/>
            <a:ext cx="357120" cy="180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ая соединительная линия 43"/>
          <p:cNvSpPr/>
          <p:nvPr/>
        </p:nvSpPr>
        <p:spPr>
          <a:xfrm>
            <a:off x="5143680" y="3143160"/>
            <a:ext cx="285480" cy="180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ая соединительная линия 45"/>
          <p:cNvSpPr/>
          <p:nvPr/>
        </p:nvSpPr>
        <p:spPr>
          <a:xfrm>
            <a:off x="5429160" y="4357800"/>
            <a:ext cx="357120" cy="144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ая соединительная линия 47"/>
          <p:cNvSpPr/>
          <p:nvPr/>
        </p:nvSpPr>
        <p:spPr>
          <a:xfrm>
            <a:off x="6715080" y="4357800"/>
            <a:ext cx="285840" cy="144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ая соединительная линия 52"/>
          <p:cNvSpPr/>
          <p:nvPr/>
        </p:nvSpPr>
        <p:spPr>
          <a:xfrm>
            <a:off x="7929720" y="4357800"/>
            <a:ext cx="285480" cy="144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ая соединительная линия 56"/>
          <p:cNvSpPr/>
          <p:nvPr/>
        </p:nvSpPr>
        <p:spPr>
          <a:xfrm flipH="1">
            <a:off x="6249960" y="4788000"/>
            <a:ext cx="1440" cy="21420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тест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1. Общая формула алканов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А. CnH2n-2                         В. CnH2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Б. CnH2n+2                         Г. CnH2n+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2. В пропане связи между атомами углерод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А. одинарные                         В. тройные                                                                                                                        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Б. двойные                              Г. полуторны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3.   Тип гибридизаци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А.  sp                         В.    sp2                                                                                                                      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Б.  sp3                       Г.   sp4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4.  Угол между атомами углерода в алканах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А.    120º                      В.  110º                                                                                                                        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Б.    109º                      Г.   90º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5.  Принадлежность к алканам можно определить по суффиксу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А.    -ан                      В.  -ин                                                                                                                      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Б.    -ен                     Г.   - диен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Garamond"/>
              </a:rPr>
              <a:t>Домашнее задание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тр.69-73, 75-76, №2 стр.86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0T10:12:31Z</dcterms:created>
  <dc:creator>Дом</dc:creator>
  <dc:description/>
  <dc:language>en-US</dc:language>
  <cp:lastModifiedBy>Дом</cp:lastModifiedBy>
  <dcterms:modified xsi:type="dcterms:W3CDTF">2015-10-11T07:51:41Z</dcterms:modified>
  <cp:revision>4</cp:revision>
  <dc:subject/>
  <dc:title>Слайд 1</dc:title>
</cp:coreProperties>
</file>