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BB6-0969-47BF-B07B-89A2B0F4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7D2-1A73-4215-8DB9-2F65574A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0C7-DC91-4876-87F6-BD1BB245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631-203F-4A2A-8503-ABB6E345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AAC-2AD7-4E45-951C-EDC9AA0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037-CC80-45E4-A240-ADA4891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3C2-8AE4-4502-9AB6-DF7FFD8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12E-F8C6-4809-B3E3-745FBAE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80D-C8E8-4C2F-BB63-BFAD1827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924-23A6-4668-A8B9-8DFF65D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73B-1C0B-4E57-A163-C73BF76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3D4-66D2-4AF5-94D2-1CE1E87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068-AFDF-4910-B783-718829D87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 :</a:t>
            </a:r>
            <a:br>
              <a:rPr sz="2800"/>
            </a:b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ску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митрий Владимирович, учитель физической культуры МАОУСОШ №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75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75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599840"/>
            <a:ext cx="8991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 Narrow"/>
              </a:rPr>
              <a:t>«Здоровье — это ещё не всё, но всё без здоровья —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 Narrow"/>
              </a:rPr>
              <a:t>это ничто»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Arial Narrow"/>
              </a:rPr>
              <a:t>Сокр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DSC03912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85800" y="3798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доровый образ жизни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—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раз жизни отдельного человека с целью профилактики болезней и укреплени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533520" y="5181480"/>
            <a:ext cx="827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2057400" y="304920"/>
            <a:ext cx="4572000" cy="1676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228600" y="2590920"/>
            <a:ext cx="4267080" cy="2819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илософско-соц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П. А. Виноградов, Б. С. Ера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. А. Мильштейн, В. А. Пономарчу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. И. Столя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доровый образ жизни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лобальная социаль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4495680" y="2590920"/>
            <a:ext cx="4343400" cy="2819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сихолого-педаг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Г. П. Аксенов, В. К. Бальсе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. Я. Виленский,Р. Дитл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. О. Мартынюк, Л. С. Кобелян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ОЖ с точки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рения соз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сихологии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981080" y="5867280"/>
            <a:ext cx="5334120" cy="76212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ни нацелены на решение одной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крепление здоровья индивиду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 flipH="1">
            <a:off x="2362320" y="1905120"/>
            <a:ext cx="76176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5562720" y="1905120"/>
            <a:ext cx="83808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5"/>
          <p:cNvSpPr/>
          <p:nvPr/>
        </p:nvSpPr>
        <p:spPr>
          <a:xfrm>
            <a:off x="3124080" y="2209680"/>
            <a:ext cx="2971800" cy="18288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Составля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здор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52280" y="2209680"/>
            <a:ext cx="2438640" cy="68580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5486400"/>
            <a:ext cx="34290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280" y="3276720"/>
            <a:ext cx="2438640" cy="76176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410080" y="838080"/>
            <a:ext cx="3429000" cy="83844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физически активная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400800" y="2057400"/>
            <a:ext cx="2438280" cy="76212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гигиена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477120" y="3276720"/>
            <a:ext cx="2361960" cy="68580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2280" y="838080"/>
            <a:ext cx="3429000" cy="83844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эмоциональное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52280" y="4419720"/>
            <a:ext cx="34290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интеллектуальное 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5867280" y="4419720"/>
            <a:ext cx="304812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духовное  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 flipV="1">
            <a:off x="2437920" y="2666520"/>
            <a:ext cx="1143000" cy="228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5486040" y="2514600"/>
            <a:ext cx="1066680" cy="3808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362320" y="3352680"/>
            <a:ext cx="1218960" cy="38124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5562360" y="3352320"/>
            <a:ext cx="990360" cy="228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 flipH="1">
            <a:off x="3352320" y="3809880"/>
            <a:ext cx="762120" cy="7621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181480" y="3809880"/>
            <a:ext cx="838440" cy="7621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200400" y="1600200"/>
            <a:ext cx="990720" cy="8380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 flipH="1">
            <a:off x="4952520" y="1523880"/>
            <a:ext cx="762120" cy="9144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4648320" y="3886200"/>
            <a:ext cx="0" cy="16765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04920" y="228600"/>
            <a:ext cx="86868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Известные теоретики и пропагандисты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724280" y="5181480"/>
            <a:ext cx="4267440" cy="144792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Амосов Никола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913—2002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оветский хирург-кард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152280" y="5105520"/>
            <a:ext cx="4419720" cy="152388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емёнов Сергей Пет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52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русский врач, учёный, поэ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152280" y="1295280"/>
            <a:ext cx="4114800" cy="20574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Жданов Владимир Георг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49) — российский л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и пропагандист, извес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воими лек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 здоровом образ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876920" y="1295280"/>
            <a:ext cx="4114800" cy="198144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Шаталова Гал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16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ейрохирург, соз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истемы ест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здоровления (С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28600" y="3581280"/>
            <a:ext cx="3733920" cy="13716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глов Фёдор Григо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904—2008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хирург-кард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5181480" y="3505320"/>
            <a:ext cx="3733920" cy="14475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орфирий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898—1983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оздатель системы «Де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609480" y="228600"/>
            <a:ext cx="8077320" cy="15238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 Narrow"/>
              </a:rPr>
              <a:t>ЗДОРОВЫЙ ОБРАЗ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5410080" y="2438280"/>
            <a:ext cx="22860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1219320" y="2438280"/>
            <a:ext cx="22860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5029200" y="3962520"/>
            <a:ext cx="1523880" cy="12189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у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5562720" y="5257800"/>
            <a:ext cx="2057400" cy="13716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7238880" y="4038480"/>
            <a:ext cx="1752840" cy="129564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воспит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533520" y="4419720"/>
            <a:ext cx="2361960" cy="152388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привитие основ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2361960" y="1447920"/>
            <a:ext cx="1447560" cy="12952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5334120" y="1371600"/>
            <a:ext cx="1371600" cy="1371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7010280" y="3200400"/>
            <a:ext cx="762120" cy="106668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 flipH="1">
            <a:off x="5790960" y="3276720"/>
            <a:ext cx="533160" cy="91440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 flipH="1">
            <a:off x="1676160" y="3352680"/>
            <a:ext cx="533160" cy="152424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 flipH="1">
            <a:off x="6629400" y="3276720"/>
            <a:ext cx="76320" cy="23619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52280" y="15192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Narrow"/>
              </a:rPr>
              <a:t>"Всё больше людей делают выбор в пользу здорового образа жизни, стремятся обрести гармонию между духом и телом"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Медведев Д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" y="3047400"/>
            <a:ext cx="8686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 Narrow"/>
              </a:rPr>
              <a:t>«Реализация профилактических программ, организация внеурочных спортивных мероприятий, обсуждение с детьми вопросов здорового образа жизни в значительной степени влияют на улучшение здоровья школь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 Narrow"/>
              </a:rPr>
              <a:t>Национальная образовательная инициат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 Narrow"/>
              </a:rPr>
              <a:t>«Наша новая школ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SC04838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824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5" name="Picture 3" descr="DSC04844"/>
          <p:cNvPicPr/>
          <p:nvPr/>
        </p:nvPicPr>
        <p:blipFill>
          <a:blip r:embed="rId2"/>
          <a:stretch/>
        </p:blipFill>
        <p:spPr>
          <a:xfrm>
            <a:off x="4648320" y="152280"/>
            <a:ext cx="4314600" cy="2868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6" name="Picture 4" descr="DSC04909"/>
          <p:cNvPicPr/>
          <p:nvPr/>
        </p:nvPicPr>
        <p:blipFill>
          <a:blip r:embed="rId3"/>
          <a:stretch/>
        </p:blipFill>
        <p:spPr>
          <a:xfrm>
            <a:off x="4643280" y="3886200"/>
            <a:ext cx="4302360" cy="2782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7" name="Picture 5" descr="DSC04914"/>
          <p:cNvPicPr/>
          <p:nvPr/>
        </p:nvPicPr>
        <p:blipFill>
          <a:blip r:embed="rId4"/>
          <a:stretch/>
        </p:blipFill>
        <p:spPr>
          <a:xfrm>
            <a:off x="152280" y="3886200"/>
            <a:ext cx="4321440" cy="27781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98" name="Rectangle 6"/>
          <p:cNvSpPr/>
          <p:nvPr/>
        </p:nvSpPr>
        <p:spPr>
          <a:xfrm>
            <a:off x="228600" y="28195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рошее здоровье - основа долг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частливой и полноцен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соновы</cp:lastModifiedBy>
  <dcterms:modified xsi:type="dcterms:W3CDTF">2015-10-11T16:07:4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