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A07-10C9-4277-A375-C754E0BF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654-1A7D-4C09-9AA2-E6D5F8D2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E55-56F2-4061-9380-DCECA716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AB6-0357-40FC-9718-9F6FFD3A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7A5-39D9-4305-9E06-D163F961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5C3-080C-4552-835F-362FE92A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A7E-BC5B-4D8D-AE18-AD0804F6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02C-28F7-4A18-A1E1-16D50B12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89C-FA6B-41DE-AE03-7936A1D8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44B-6770-42FD-903E-3A70F4DA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78F-AAFD-4583-B315-95644605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78A-45EC-4D3F-939C-B7520059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75E0-1108-4121-A496-5748E7EAB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еда :</a:t>
            </a:r>
            <a:br>
              <a:rPr sz="2800"/>
            </a:b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57440" y="38862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ску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митрий Владимирович, учитель физической культуры МАОУСОШ №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75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75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599840"/>
            <a:ext cx="8991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Arial Narrow"/>
              </a:rPr>
              <a:t>«Здоровье — это ещё не всё, но всё без здоровья —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Arial Narrow"/>
              </a:rPr>
              <a:t>это ничто»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Arial Narrow"/>
              </a:rPr>
              <a:t>Сокр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DSC03912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85800" y="3798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доровый образ жизни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—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браз жизни отдельного человека с целью профилактики болезней и укрепления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2"/>
          <p:cNvSpPr/>
          <p:nvPr/>
        </p:nvSpPr>
        <p:spPr>
          <a:xfrm>
            <a:off x="533520" y="5181480"/>
            <a:ext cx="827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4"/>
          <p:cNvSpPr/>
          <p:nvPr/>
        </p:nvSpPr>
        <p:spPr>
          <a:xfrm>
            <a:off x="2057400" y="304920"/>
            <a:ext cx="4572000" cy="167616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ЗДОРОВ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5"/>
          <p:cNvSpPr/>
          <p:nvPr/>
        </p:nvSpPr>
        <p:spPr>
          <a:xfrm>
            <a:off x="228600" y="2590920"/>
            <a:ext cx="4267080" cy="281916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философско-соци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П. А. Виноградов, Б. С. Ера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. А. Мильштейн, В. А. Пономарчу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. И. Столя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доровый образ жизни –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лобальная социальн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6"/>
          <p:cNvSpPr/>
          <p:nvPr/>
        </p:nvSpPr>
        <p:spPr>
          <a:xfrm>
            <a:off x="4495680" y="2590920"/>
            <a:ext cx="4343400" cy="281916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сихолого-педаг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Г. П. Аксенов, В. К. Бальсе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. Я. Виленский,Р. Дитл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. О. Мартынюк, Л. С. Кобелян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ОЖ с точки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рения созн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сихологии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отив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981080" y="5867280"/>
            <a:ext cx="5334120" cy="76212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Они нацелены на решение одной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укрепление здоровья индивиду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8"/>
          <p:cNvSpPr/>
          <p:nvPr/>
        </p:nvSpPr>
        <p:spPr>
          <a:xfrm flipH="1">
            <a:off x="2362320" y="1905120"/>
            <a:ext cx="761760" cy="685800"/>
          </a:xfrm>
          <a:prstGeom prst="line">
            <a:avLst/>
          </a:prstGeom>
          <a:ln w="28440">
            <a:solidFill>
              <a:srgbClr val="660066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5562720" y="1905120"/>
            <a:ext cx="838080" cy="685800"/>
          </a:xfrm>
          <a:prstGeom prst="line">
            <a:avLst/>
          </a:prstGeom>
          <a:ln w="28440">
            <a:solidFill>
              <a:srgbClr val="660066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5"/>
          <p:cNvSpPr/>
          <p:nvPr/>
        </p:nvSpPr>
        <p:spPr>
          <a:xfrm>
            <a:off x="3124080" y="2209680"/>
            <a:ext cx="2971800" cy="182880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Составля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здор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об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52280" y="2209680"/>
            <a:ext cx="2438640" cy="68580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окружающ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048120" y="5486400"/>
            <a:ext cx="3429000" cy="83808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отказ от вредных привы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52280" y="3276720"/>
            <a:ext cx="2438640" cy="76176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410080" y="838080"/>
            <a:ext cx="3429000" cy="83844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физически активная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6400800" y="2057400"/>
            <a:ext cx="2438280" cy="76212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гигиена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477120" y="3276720"/>
            <a:ext cx="2361960" cy="68580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зака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2280" y="838080"/>
            <a:ext cx="3429000" cy="83844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эмоциональное самочув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52280" y="4419720"/>
            <a:ext cx="3429000" cy="83808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интеллектуальное  самочув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5867280" y="4419720"/>
            <a:ext cx="3048120" cy="83808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духовное   самочув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H="1" flipV="1">
            <a:off x="2437920" y="2666520"/>
            <a:ext cx="1143000" cy="22860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5486040" y="2514600"/>
            <a:ext cx="1066680" cy="38088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2362320" y="3352680"/>
            <a:ext cx="1218960" cy="38124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 flipH="1" flipV="1">
            <a:off x="5562360" y="3352320"/>
            <a:ext cx="990360" cy="22860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 flipH="1">
            <a:off x="3352320" y="3809880"/>
            <a:ext cx="762120" cy="76212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5181480" y="3809880"/>
            <a:ext cx="838440" cy="76212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3200400" y="1600200"/>
            <a:ext cx="990720" cy="83808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3"/>
          <p:cNvSpPr/>
          <p:nvPr/>
        </p:nvSpPr>
        <p:spPr>
          <a:xfrm flipH="1">
            <a:off x="4952520" y="1523880"/>
            <a:ext cx="762120" cy="91440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4648320" y="3886200"/>
            <a:ext cx="0" cy="167652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04920" y="228600"/>
            <a:ext cx="8686800" cy="83808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Известные теоретики и пропагандисты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724280" y="5181480"/>
            <a:ext cx="4267440" cy="144792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Амосов Николай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1913—2002)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оветский хирург-карди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152280" y="5105520"/>
            <a:ext cx="4419720" cy="152388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емёнов Сергей Пет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род. 1952)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русский врач, учёный, поэ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филосо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152280" y="1295280"/>
            <a:ext cx="4114800" cy="205740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Жданов Владимир Георг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род. 1949) — российский л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и пропагандист, извес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воими лекц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о здоровом образе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4876920" y="1295280"/>
            <a:ext cx="4114800" cy="198144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Шаталова Гал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род. 1916)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нейрохирург, созд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истемы есте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оздоровления (С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228600" y="3581280"/>
            <a:ext cx="3733920" cy="137160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Углов Фёдор Григо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1904—2008)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хирург-карди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5181480" y="3505320"/>
            <a:ext cx="3733920" cy="144756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Порфирий Ив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1898—1983)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оздатель системы «Дет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609480" y="228600"/>
            <a:ext cx="8077320" cy="1523880"/>
          </a:xfrm>
          <a:prstGeom prst="rect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 Narrow"/>
              </a:rPr>
              <a:t>ЗДОРОВЫЙ ОБРАЗ ЖИЗ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5410080" y="2438280"/>
            <a:ext cx="228600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6"/>
          <p:cNvSpPr/>
          <p:nvPr/>
        </p:nvSpPr>
        <p:spPr>
          <a:xfrm>
            <a:off x="1219320" y="2438280"/>
            <a:ext cx="228600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7"/>
          <p:cNvSpPr/>
          <p:nvPr/>
        </p:nvSpPr>
        <p:spPr>
          <a:xfrm>
            <a:off x="5029200" y="3962520"/>
            <a:ext cx="1523880" cy="121896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у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9"/>
          <p:cNvSpPr/>
          <p:nvPr/>
        </p:nvSpPr>
        <p:spPr>
          <a:xfrm>
            <a:off x="5562720" y="5257800"/>
            <a:ext cx="2057400" cy="137160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0"/>
          <p:cNvSpPr/>
          <p:nvPr/>
        </p:nvSpPr>
        <p:spPr>
          <a:xfrm>
            <a:off x="7238880" y="4038480"/>
            <a:ext cx="1752840" cy="129564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воспит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2"/>
          <p:cNvSpPr/>
          <p:nvPr/>
        </p:nvSpPr>
        <p:spPr>
          <a:xfrm>
            <a:off x="533520" y="4419720"/>
            <a:ext cx="2361960" cy="1523880"/>
          </a:xfrm>
          <a:prstGeom prst="ellipse">
            <a:avLst/>
          </a:prstGeom>
          <a:gradFill rotWithShape="0">
            <a:gsLst>
              <a:gs pos="0">
                <a:srgbClr val="e69acd"/>
              </a:gs>
              <a:gs pos="50000">
                <a:srgbClr val="ffffff"/>
              </a:gs>
              <a:gs pos="100000">
                <a:srgbClr val="e69acd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привитие основ З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 flipH="1">
            <a:off x="2361960" y="1447920"/>
            <a:ext cx="1447560" cy="129528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5334120" y="1371600"/>
            <a:ext cx="1371600" cy="1371600"/>
          </a:xfrm>
          <a:prstGeom prst="line">
            <a:avLst/>
          </a:prstGeom>
          <a:ln w="28440">
            <a:solidFill>
              <a:srgbClr val="66006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6"/>
          <p:cNvSpPr/>
          <p:nvPr/>
        </p:nvSpPr>
        <p:spPr>
          <a:xfrm>
            <a:off x="7010280" y="3200400"/>
            <a:ext cx="762120" cy="106668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8"/>
          <p:cNvSpPr/>
          <p:nvPr/>
        </p:nvSpPr>
        <p:spPr>
          <a:xfrm flipH="1">
            <a:off x="5790960" y="3276720"/>
            <a:ext cx="533160" cy="91440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0"/>
          <p:cNvSpPr/>
          <p:nvPr/>
        </p:nvSpPr>
        <p:spPr>
          <a:xfrm flipH="1">
            <a:off x="1676160" y="3352680"/>
            <a:ext cx="533160" cy="152424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"/>
          <p:cNvSpPr/>
          <p:nvPr/>
        </p:nvSpPr>
        <p:spPr>
          <a:xfrm flipH="1">
            <a:off x="6629400" y="3276720"/>
            <a:ext cx="76320" cy="236196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52280" y="15192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 Narrow"/>
              </a:rPr>
              <a:t>"Всё больше людей делают выбор в пользу здорового образа жизни, стремятся обрести гармонию между духом и телом"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 Narrow"/>
              </a:rPr>
              <a:t>Медведев Д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28600" y="3047400"/>
            <a:ext cx="8686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 Narrow"/>
              </a:rPr>
              <a:t>«Реализация профилактических программ, организация внеурочных спортивных мероприятий, обсуждение с детьми вопросов здорового образа жизни в значительной степени влияют на улучшение здоровья школьни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 Narrow"/>
              </a:rPr>
              <a:t>Национальная образовательная инициат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 Narrow"/>
              </a:rPr>
              <a:t>«Наша новая школ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SC04838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28242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95" name="Picture 3" descr="DSC04844"/>
          <p:cNvPicPr/>
          <p:nvPr/>
        </p:nvPicPr>
        <p:blipFill>
          <a:blip r:embed="rId2"/>
          <a:stretch/>
        </p:blipFill>
        <p:spPr>
          <a:xfrm>
            <a:off x="4648320" y="152280"/>
            <a:ext cx="4314600" cy="2868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96" name="Picture 4" descr="DSC04909"/>
          <p:cNvPicPr/>
          <p:nvPr/>
        </p:nvPicPr>
        <p:blipFill>
          <a:blip r:embed="rId3"/>
          <a:stretch/>
        </p:blipFill>
        <p:spPr>
          <a:xfrm>
            <a:off x="4643280" y="3886200"/>
            <a:ext cx="4302360" cy="27828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97" name="Picture 5" descr="DSC04914"/>
          <p:cNvPicPr/>
          <p:nvPr/>
        </p:nvPicPr>
        <p:blipFill>
          <a:blip r:embed="rId4"/>
          <a:stretch/>
        </p:blipFill>
        <p:spPr>
          <a:xfrm>
            <a:off x="152280" y="3886200"/>
            <a:ext cx="4321440" cy="27781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98" name="Rectangle 6"/>
          <p:cNvSpPr/>
          <p:nvPr/>
        </p:nvSpPr>
        <p:spPr>
          <a:xfrm>
            <a:off x="228600" y="28195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Хорошее здоровье - основа долг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частливой и полноцен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соновы</cp:lastModifiedBy>
  <dcterms:modified xsi:type="dcterms:W3CDTF">2015-10-11T16:07:42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