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470-6E45-4D49-A673-982935F1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75E-4526-4C5E-A5E9-24C95C68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360-0C19-464B-9571-054BB0B1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BB6-4850-4477-A45B-0378677B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F92-2D3E-47E4-A6D8-EF85FE3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137-5B33-4B57-9872-5B693C69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FBE-0D18-45F6-AF79-78EC575E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506-E0EE-4A5F-9F74-8C1F9C3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1FB-568C-4293-9C23-B3930BC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643-2485-4D77-A264-8688C38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58C-C646-4D12-A829-43C4058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B9C-A0BF-48C9-BCD3-01F7655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3D7C-32B4-460C-9F3D-17B53CBCD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нчы   сыйныфның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   төркемендә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зерлек  факультатив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:Даутова Л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3600" y="-877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78483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ыйныфыбызда егерме дүрт укучы бар, ә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исеме - Алсу Дамировна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укы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бик дус һәм                  яшибе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үңел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экскурсияләргә, театрларга бергә йөрергә яратабыз, кичәләр үткәрәбе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төр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Сыйныфташлар белән                 , русча, инглизчә фи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мнар карарга яратабыз. (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ат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йныф җитәкчебез безне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шләр яза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өйрәтә. (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фә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 бигрәк тә татар халкы тарихы белән                  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у турыда күп китаплар укыйбыз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ызык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езнең бер                                    тарихтан олимпиадада җиңүче булды. (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сыйныф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221480" y="1841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259800" y="4753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1003680" y="9907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бызн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3132360" y="14479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ңе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917640" y="182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396540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579920" y="35053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н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6030720" y="43434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зыксынаб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2303640" y="518148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йныфташыбы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нчы сыйныф укучыларына БРТ эшендә хат язу алгорит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Биремне и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ибар белән укыгыз.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Терәк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хаттагы сорауларны ачыклаг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Хатның башлам өлешен язы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Башлам өлешендә исәнләшү була, хатны язучының исеме әйтелә. Хәлләр сорала. Алынган хат өчен рәхмәт белдерел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ерәк хаттагы мә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лүматка фикерегезне белдерегез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даг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әгълүматны  сылтама   ( приписание)   буларак файдаланыг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Терәк хаттагы сорауларга җавап язы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Җавабыгызда шула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ук  терәк хаттагы гыйбарәләрне  (выражение)   куллана аласы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Хатыгызны йомгаклагыз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. Йомгак өлешендә үз сорауларыгызны да бирә аласыз. Саубуллашырга, җавап хаты көтүегезне белдерергә онытмагыз. Шулай ук хатны язучының исемен(үз исемегезне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һәм хат язылу көнен күрсәтергә кирә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Терәк сүзләр һәм сүзтезмәләр: 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</a:rPr>
              <a:t>әбием шатлана, төрле эшләр, савыт –саба, яшелчә, өй җыешты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990720" y="99072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ңышлар сезгә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ркөнне Фәрит әнисенең кушуы буенча кибеткә барган иде. Каракай да аңа иярде.   Прилавка янында әйберләр караган  чакта, бер хатын кинә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ладылар, акчамны урладылар!- дип кычкырып җибә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озак уйлап тормады, әлеге хатынг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зрәк кулъяулыгызны бирегез! – ди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н да: “Нигә?” – дип сорамады, сумкасыннан бизәкле кулъяулыгын алып,  Фәриткә би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аны тиз генә Каракайга иснәтте дә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з эзлә! – ди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сискәнеп китте. Әйтерсең  ул кинәт йокысыннан уянды. Арт аякларына басып, башын як-якка боргалады, иснәде дә чабып китте. Йөзләгән аяклар арасыннан елан кебек кенә үтте. Фәрит аның артыннан чак-чак өлгерде. Каракай ишектән чыгарга теләгән яшь егетнең  чалбарына ябышты. Фәрит карак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ла акчаны, ташла! – дип кычкыр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нда таза гына бер кеше карак алдына килеп басты. Егет портмонены идәнгә ыргытты. Каракай аны, авызына кабып, Фәриткә китереп бир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беттәге кешеләр авызларына су капкан кебек тордылар. Аларга бу хәл бик гаҗәп иде, әлбәттә. Кечкенә генә йорт эте каракны эләктерде бит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ны тотып алдылар. Акчаны хуҗасына бирделәр. Ул хәтта бераз аптырап та калды. Әле хәзер генә кайгы иде – инде шатлык! (Нәби Дәүлидә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әрит әнисе кушуы буенча кая б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лавка янында нинди хәл бу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ракай каракны ничек эзләп таб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рак үзен ничек то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52280"/>
            <a:ext cx="7848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7. 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әрит кибеткә барма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8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йның Каракай исемле эте ба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9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карак артыннан чап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0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Фәритләрдә күптән яш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1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 хатынның акчасын урлаганна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2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т портмонены Фәриткә китереп бирә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3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й – зур эт</a:t>
            </a: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4.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н Фәриткә рәхмәт әйтә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текстка туры килә  2) текстка туры килми  3) текстта әйтел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71760" y="1219320"/>
          <a:ext cx="6076800" cy="850680"/>
        </p:xfrm>
        <a:graphic>
          <a:graphicData uri="http://schemas.openxmlformats.org/drawingml/2006/table">
            <a:tbl>
              <a:tblPr/>
              <a:tblGrid>
                <a:gridCol w="1095120"/>
                <a:gridCol w="532080"/>
                <a:gridCol w="741240"/>
                <a:gridCol w="741240"/>
                <a:gridCol w="741600"/>
                <a:gridCol w="741240"/>
                <a:gridCol w="743040"/>
                <a:gridCol w="74124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емнә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1533600" y="323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74608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431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1936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95576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64156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327360" y="161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7013160" y="161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73160" y="2666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стәмнең эше күп булды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1092960" y="297180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алай ишегалды себерә баш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073160" y="3276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ртән җырлаган кешенең бәхете бул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086840" y="35812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алайны әбисе мактады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085760" y="38862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унаклар күп күчтәнәчләр алып килде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091520" y="41911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үрше әбиләр Рөстәмне мактады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1081800" y="449568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ибеткә барасым ки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166760" y="480060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Әбинең сүзләрен ничек аңла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Исемнәрнең килеш белән төрләнеш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6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Баш килеш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Иялек килеш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Юнәлеш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Төшем килеше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Чыгыш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Урын –вакыт киле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809880" y="17524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? нәрс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753000" y="2536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ең? нәрсәнең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753000" y="2700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гә ? нәрсәгә? 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80988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е? нәрсә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809880" y="400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нән? нәрсәдән? кай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763440" y="444168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400" spc="-1" strike="noStrike">
                <a:solidFill>
                  <a:srgbClr val="c00000"/>
                </a:solidFill>
                <a:latin typeface="Times New Roman"/>
              </a:rPr>
              <a:t>кемдә? нәрсәдә? кайда? кайч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28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7924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343400" y="2209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05740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2063520" y="2133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063520" y="2514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2057400" y="2895480"/>
            <a:ext cx="17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5"/>
          <p:cNvSpPr/>
          <p:nvPr/>
        </p:nvSpPr>
        <p:spPr>
          <a:xfrm>
            <a:off x="2063520" y="3276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063520" y="3657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тих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921240" y="17524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920880" y="2133720"/>
            <a:ext cx="9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к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22320" y="2514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03240" y="28954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20880" y="3276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922320" y="365760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–в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5264280" y="17524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5264280" y="21337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5264280" y="28954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5264280" y="25146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304920" y="457200"/>
            <a:ext cx="7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7"/>
          <p:cNvSpPr/>
          <p:nvPr/>
        </p:nvSpPr>
        <p:spPr>
          <a:xfrm>
            <a:off x="5264280" y="32767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5264280" y="36576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228240"/>
            <a:ext cx="76197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1.Алсу имтихан_______    тырышып әзерлән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2.Артем имтихан_______  шатланып кайт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3.Имтихан_____ биремнәре авыр и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4.Мин татар теленнән   имтихан бирд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5.Имтихан_______    бар белгәнеңне күрсәтергә кирә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6.Коля татар теленнән имтихан_____      уңышлы тапшыр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7543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ичә без татар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        барды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теат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Анда Кәрим Тинчуринның “Зәңгәр шәл”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арады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әсә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ешеләр күп килгән иде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теат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Артистларның уены 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                     да бик ошады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барыбыз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Тамашачылар  аларны көчле           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күмделәр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алкыш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Ике сәг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ь вакыт бик тиз             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үтәргә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ктакль  тәмамланганда, барыбызның 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хшы иде. 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әе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Өйгә 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   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, без артисларның оста         уены турында сөйләштек. (</a:t>
            </a:r>
            <a:r>
              <a:rPr b="0" lang="tt-RU" sz="2800" spc="-1" strike="noStrike">
                <a:solidFill>
                  <a:srgbClr val="c00000"/>
                </a:solidFill>
                <a:latin typeface="Times New Roman"/>
              </a:rPr>
              <a:t>кайтырга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132360" y="4572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ы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7018200" y="9907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сә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99072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4201200" y="22860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ыбы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5347800" y="31240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ышла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883400" y="396252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т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1076400" y="487692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е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1681920" y="541008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йтк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User</cp:lastModifiedBy>
  <dcterms:modified xsi:type="dcterms:W3CDTF">2015-01-23T13:32:24Z</dcterms:modified>
  <cp:revision>80</cp:revision>
  <dc:subject/>
  <dc:title>Слайд 1</dc:title>
</cp:coreProperties>
</file>