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C2F-DFF1-4DC2-9F33-D7F5EAD7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4C5-BC73-463A-A184-F7F95637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88D-9998-4B1E-A1EC-D1EA7770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075-F7B6-42E7-8D20-FBFE77BD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87B-7662-4D8E-83C8-81831565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4D2-2E87-4156-B1DA-88669FF9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531-1AF8-484F-814E-67D3C38B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107-6EBB-414E-A526-53090C18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AE4-D4CE-44B4-9E3E-4B205160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A0A-63C0-43BE-BAD3-A942FAFA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32F-BCDD-441A-AFBA-64526EE6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E33-307C-4004-BC17-9775B555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819A-03DA-4626-9D62-6D9110585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нчы   сыйныфның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   төркемендә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зерлек  факультатив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ытучы:Даутова Л.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3600" y="-877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533160"/>
            <a:ext cx="78483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Сыйныфыбызда егерме дүрт укучы бар, ә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исеме - Алсу Дамировна. (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укы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ез бик дус һәм                  яшибез. (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үңел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экскурсияләргә, театрларга бергә йөрергә яратабыз, кичәләр үткәрәбез. (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төр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Сыйныфташлар белән                 , русча, инглизчә фи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мнар карарга яратабыз. (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ат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ыйныф җитәкчебез безне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шләр язар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өйрәтә. (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фә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ез бигрәк тә татар халкы тарихы белән                          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у турыда күп китаплар укыйбыз. (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ызык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езнең бер                                    тарихтан олимпиадада җиңүче булды. (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сыйныф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221480" y="1841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3259800" y="4753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1003680" y="9907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ытучыбызн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3132360" y="144792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ңел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917640" y="1828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р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396540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4579920" y="35053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ән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5"/>
          <p:cNvSpPr/>
          <p:nvPr/>
        </p:nvSpPr>
        <p:spPr>
          <a:xfrm>
            <a:off x="6030720" y="434340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ызыксынабы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2303640" y="518148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йныфташыбы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 нчы сыйныф укучыларына БРТ эшендә хат язу алгорит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Биремне и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ъ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тибар белән укыгыз.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Терәк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хаттагы сорауларны ачыклагы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Хатның башлам өлешен языгыз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. Башлам өлешендә исәнләшү була, хатны язучының исеме әйтелә. Хәлләр сорала. Алынган хат өчен рәхмәт белдерел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Терәк хаттагы мә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ълүматка фикерегезне белдерегез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даг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әгълүматны  сылтама   ( приписание)   буларак файдаланыгы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Терәк хаттагы сорауларга җавап языгыз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. Җавабыгызда шула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ук  терәк хаттагы гыйбарәләрне  (выражение)   куллана аласы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Хатыгызны йомгаклагыз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. Йомгак өлешендә үз сорауларыгызны да бирә аласыз. Саубуллашырга, җавап хаты көтүегезне белдерергә онытмагыз. Шулай ук хатны язучының исемен(үз исемегезне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һәм хат язылу көнен күрсәтергә кирә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7848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</a:rPr>
              <a:t>Терәк сүзләр һәм сүзтезмәләр: 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</a:rPr>
              <a:t>әбием шатлана, төрле эшләр, савыт –саба, яшелчә, өй җыештыр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990720" y="990720"/>
            <a:ext cx="73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ңышлар сезгә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533520"/>
            <a:ext cx="78487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өркөнне Фәрит әнисенең кушуы буенча кибеткә барган иде. Каракай да аңа иярде.   Прилавка янында әйберләр караган  чакта, бер хатын кинә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ладылар, акчамны урладылар!- дип кычкырып җибәр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әрит озак уйлап тормады, әлеге хатынг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зрәк кулъяулыгызны бирегез! – ди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ын да: “Нигә?” – дип сорамады, сумкасыннан бизәкле кулъяулыгын алып,  Фәриткә бир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әрит аны тиз генә Каракайга иснәтте дә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з эзлә! – ди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ай сискәнеп китте. Әйтерсең  ул кинәт йокысыннан уянды. Арт аякларына басып, башын як-якка боргалады, иснәде дә чабып китте. Йөзләгән аяклар арасыннан елан кебек кенә үтте. Фәрит аның артыннан чак-чак өлгерде. Каракай ишектән чыгарга теләгән яшь егетнең  чалбарына ябышты. Фәрит карак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шла акчаны, ташла! – дип кычкыр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нда таза гына бер кеше карак алдына килеп басты. Егет портмонены идәнгә ыргытты. Каракай аны, авызына кабып, Фәриткә китереп бир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беттәге кешеләр авызларына су капкан кебек тордылар. Аларга бу хәл бик гаҗәп иде, әлбәттә. Кечкенә генә йорт эте каракны эләктерде бит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ны тотып алдылар. Акчаны хуҗасына бирделәр. Ул хәтта бераз аптырап та калды. Әле хәзер генә кайгы иде – инде шатлык! (Нәби Дәүлидән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әрит әнисе кушуы буенча кая б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лавка янында нинди хәл бу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ракай каракны ничек эзләп таб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рак үзен ничек то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52280"/>
            <a:ext cx="78483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7. </a:t>
            </a: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әрит кибеткә бармад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8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йның Каракай исемле эте ба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9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ай карак артыннан чап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0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ай Фәритләрдә күптән яш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1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 хатынның акчасын урлаганна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2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т портмонены Фәриткә китереп бирә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3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ай – зур эт</a:t>
            </a: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4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ын Фәриткә рәхмәт әйтә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71760" y="1219320"/>
          <a:ext cx="6076800" cy="850680"/>
        </p:xfrm>
        <a:graphic>
          <a:graphicData uri="http://schemas.openxmlformats.org/drawingml/2006/table">
            <a:tbl>
              <a:tblPr/>
              <a:tblGrid>
                <a:gridCol w="1095120"/>
                <a:gridCol w="532080"/>
                <a:gridCol w="741240"/>
                <a:gridCol w="741240"/>
                <a:gridCol w="741600"/>
                <a:gridCol w="741240"/>
                <a:gridCol w="743040"/>
                <a:gridCol w="741240"/>
              </a:tblGrid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л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емнә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1"/>
          <p:cNvSpPr/>
          <p:nvPr/>
        </p:nvSpPr>
        <p:spPr>
          <a:xfrm>
            <a:off x="1533600" y="323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74608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431880" y="160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19364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95576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64156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327360" y="1619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7013160" y="1619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073160" y="26668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стәмнең эше күп булды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1092960" y="2971800"/>
            <a:ext cx="49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Малай ишегалды себерә баш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1073160" y="3276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ртән җырлаган кешенең бәхете булм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086840" y="35812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алайны әбисе мактады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1085760" y="388620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унаклар күп күчтәнәчләр алып килделә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1091520" y="419112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үрше әбиләр Рөстәмне мактады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1081800" y="449568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ибеткә барасым кил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1166760" y="480060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Әбинең сүзләрен ничек аңлар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Исемнәрнең килеш белән төрләнеш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6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аш килеш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Иялек килеш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Юнәлеш киле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Төшем килеше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Чыгыш киле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Урын –вакыт киле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3809880" y="175248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? нәрс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3753000" y="2536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нең? нәрсәнең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3753000" y="2700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гә ? нәрсәгә? к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3809880" y="3505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не? нәрсә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809880" y="400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нән? нәрсәдән? кайд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3763440" y="4441680"/>
            <a:ext cx="45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дә? нәрсәдә? кайда? кайч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28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79246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c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343400" y="22096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057400" y="1752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2063520" y="21337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063520" y="25146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2057400" y="2895480"/>
            <a:ext cx="17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5"/>
          <p:cNvSpPr/>
          <p:nvPr/>
        </p:nvSpPr>
        <p:spPr>
          <a:xfrm>
            <a:off x="2063520" y="32767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2063520" y="36576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921240" y="17524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920880" y="2133720"/>
            <a:ext cx="91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к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22320" y="25146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903240" y="28954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920880" y="32767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922320" y="365760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–в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5264280" y="175248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5264280" y="213372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5264280" y="289548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5264280" y="25146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6"/>
          <p:cNvSpPr/>
          <p:nvPr/>
        </p:nvSpPr>
        <p:spPr>
          <a:xfrm>
            <a:off x="304920" y="457200"/>
            <a:ext cx="7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7"/>
          <p:cNvSpPr/>
          <p:nvPr/>
        </p:nvSpPr>
        <p:spPr>
          <a:xfrm>
            <a:off x="5264280" y="327672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8"/>
          <p:cNvSpPr/>
          <p:nvPr/>
        </p:nvSpPr>
        <p:spPr>
          <a:xfrm>
            <a:off x="5264280" y="36576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228240"/>
            <a:ext cx="76197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1.Алсу имтихан_______    тырышып әзерләнд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2.Артем имтихан_______  шатланып кайт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3.Имтихан_____ биремнәре авыр ид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4.Мин татар теленнән   имтихан бирд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5.Имтихан_______    бар белгәнеңне күрсәтергә кирә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6.Коля татар теленнән имтихан_____      уңышлы тапшыр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75438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Кичә без татар 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          бардык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театр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Анда Кәрим Тинчуринның “Зәңгәр шәл”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карадык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әсәр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кешеләр күп килгән иде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театр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Артистларның уены  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                     да бик ошады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барыбыз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Тамашачылар  аларны көчле            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күмделәр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алкыш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Ике сәга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ь вакыт бик тиз             (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үтәргә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ктакль  тәмамланганда, барыбызның 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хшы иде. (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әе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Өйгә 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  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, без артисларның оста         уены турында сөйләштек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кайтырга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3132360" y="45720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ы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7018200" y="99072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сәр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990720" y="18288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4201200" y="2286000"/>
            <a:ext cx="19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ыбы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5347800" y="31240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ышла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4883400" y="396252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т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1076400" y="487692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әеф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1681920" y="541008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йтк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54:06Z</dcterms:created>
  <dc:creator>Катенок</dc:creator>
  <dc:description/>
  <dc:language>en-US</dc:language>
  <cp:lastModifiedBy>User</cp:lastModifiedBy>
  <dcterms:modified xsi:type="dcterms:W3CDTF">2015-01-23T13:32:24Z</dcterms:modified>
  <cp:revision>80</cp:revision>
  <dc:subject/>
  <dc:title>Слайд 1</dc:title>
</cp:coreProperties>
</file>