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12.png" ContentType="image/png"/>
  <Override PartName="/ppt/media/image34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1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6.png" ContentType="image/png"/>
  <Override PartName="/ppt/media/image43.gif" ContentType="image/gif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DCD3-1F4B-4DA4-A26D-D6A287765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F90F-CD3E-40D4-84A3-DF5958572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DA7-2EB5-4314-9E98-F4293A24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066-7E09-42A2-95C2-4741885D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9CB-A6CD-4E20-9F21-899D128B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BE3-4427-454D-A751-C0DD7565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AAE-82E8-4FE4-B174-4A263EF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C0A-5102-4ECC-8885-3F17083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158-6E20-4DC0-B5A4-2C0178E8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41F-507F-4B3B-B222-59870A5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2E2-145A-4B4F-B18E-11BFAB12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044-06E6-41E4-81F2-AB67B33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25B-BD8C-4C2D-AB96-B1B3A52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080-A56A-4F23-8B3A-54BC7D27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F03A-BD7A-4C4E-8322-8DAABACD4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3.xml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2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2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34.png"/><Relationship Id="rId21" Type="http://schemas.openxmlformats.org/officeDocument/2006/relationships/image" Target="../media/image40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41.jpeg"/><Relationship Id="rId25" Type="http://schemas.openxmlformats.org/officeDocument/2006/relationships/image" Target="../media/image28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5" descr="Детская фоторамка - &quot;Том и Джерри&quot;. &quot; Скачать рамки для фото…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017720" y="2152800"/>
            <a:ext cx="7267320" cy="1650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928880" y="4572000"/>
            <a:ext cx="6000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Автор: Кордюкова Любовь Владимир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учитель – логопед МАОУ СОШ № 2, г. Пока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ХМАО – Ю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Arial"/>
              </a:rPr>
              <a:t>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Том и Джерри.mp3" descr=""/>
          <p:cNvPicPr/>
          <p:nvPr/>
        </p:nvPicPr>
        <p:blipFill>
          <a:blip r:embed="rId3"/>
          <a:stretch/>
        </p:blipFill>
        <p:spPr>
          <a:xfrm>
            <a:off x="642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81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Детская фоторамка - &quot;Том и Джерри&quot;. &quot; Скачать рамки для фото…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"/>
          <p:cNvSpPr/>
          <p:nvPr/>
        </p:nvSpPr>
        <p:spPr>
          <a:xfrm>
            <a:off x="1285920" y="1785960"/>
            <a:ext cx="686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36_2_24"/>
          <p:cNvPicPr/>
          <p:nvPr/>
        </p:nvPicPr>
        <p:blipFill>
          <a:blip r:embed="rId2"/>
          <a:stretch/>
        </p:blipFill>
        <p:spPr>
          <a:xfrm>
            <a:off x="1303200" y="2421000"/>
            <a:ext cx="1511280" cy="1619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36_2_25"/>
          <p:cNvPicPr/>
          <p:nvPr/>
        </p:nvPicPr>
        <p:blipFill>
          <a:blip r:embed="rId3"/>
          <a:stretch/>
        </p:blipFill>
        <p:spPr>
          <a:xfrm>
            <a:off x="5724360" y="1905120"/>
            <a:ext cx="1656000" cy="165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08" descr="Imaginea Nr. 21"/>
          <p:cNvPicPr/>
          <p:nvPr/>
        </p:nvPicPr>
        <p:blipFill>
          <a:blip r:embed="rId4"/>
          <a:stretch/>
        </p:blipFill>
        <p:spPr>
          <a:xfrm>
            <a:off x="3300480" y="3595680"/>
            <a:ext cx="25509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4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maginea Nr. 1"/>
          <p:cNvPicPr/>
          <p:nvPr/>
        </p:nvPicPr>
        <p:blipFill>
          <a:blip r:embed="rId1"/>
          <a:stretch/>
        </p:blipFill>
        <p:spPr>
          <a:xfrm>
            <a:off x="3429000" y="3357720"/>
            <a:ext cx="2521080" cy="1976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ЗВ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1198440" y="3376440"/>
            <a:ext cx="2446560" cy="9352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214280" y="5214960"/>
            <a:ext cx="2446560" cy="93672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214280" y="4286160"/>
            <a:ext cx="2446560" cy="93672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г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857920" y="4286160"/>
            <a:ext cx="2446200" cy="97308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г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857920" y="5286240"/>
            <a:ext cx="2446200" cy="9367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он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5872320" y="3330720"/>
            <a:ext cx="2446200" cy="9349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8"/>
          <a:stretch/>
        </p:blipFill>
        <p:spPr>
          <a:xfrm>
            <a:off x="6289560" y="1496880"/>
            <a:ext cx="104796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1857240" y="1500120"/>
            <a:ext cx="14288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64" name="Группа 5"/>
          <p:cNvGrpSpPr/>
          <p:nvPr/>
        </p:nvGrpSpPr>
        <p:grpSpPr>
          <a:xfrm>
            <a:off x="7715160" y="5072040"/>
            <a:ext cx="1214640" cy="1128600"/>
            <a:chOff x="7715160" y="5072040"/>
            <a:chExt cx="1214640" cy="1128600"/>
          </a:xfrm>
        </p:grpSpPr>
        <p:sp>
          <p:nvSpPr>
            <p:cNvPr id="65" name="Овал 13"/>
            <p:cNvSpPr/>
            <p:nvPr/>
          </p:nvSpPr>
          <p:spPr>
            <a:xfrm>
              <a:off x="7715160" y="5072040"/>
              <a:ext cx="1214640" cy="112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2" descr=""/>
            <p:cNvPicPr/>
            <p:nvPr/>
          </p:nvPicPr>
          <p:blipFill>
            <a:blip r:embed="rId10"/>
            <a:stretch/>
          </p:blipFill>
          <p:spPr>
            <a:xfrm>
              <a:off x="7935840" y="5241240"/>
              <a:ext cx="686520" cy="8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Группа 15"/>
          <p:cNvGrpSpPr/>
          <p:nvPr/>
        </p:nvGrpSpPr>
        <p:grpSpPr>
          <a:xfrm>
            <a:off x="2928960" y="5072040"/>
            <a:ext cx="1143000" cy="1125720"/>
            <a:chOff x="2928960" y="5072040"/>
            <a:chExt cx="1143000" cy="1125720"/>
          </a:xfrm>
        </p:grpSpPr>
        <p:grpSp>
          <p:nvGrpSpPr>
            <p:cNvPr id="68" name="Группа 5"/>
            <p:cNvGrpSpPr/>
            <p:nvPr/>
          </p:nvGrpSpPr>
          <p:grpSpPr>
            <a:xfrm>
              <a:off x="2928960" y="5072040"/>
              <a:ext cx="1143000" cy="1125720"/>
              <a:chOff x="2928960" y="5072040"/>
              <a:chExt cx="1143000" cy="1125720"/>
            </a:xfrm>
          </p:grpSpPr>
          <p:sp>
            <p:nvSpPr>
              <p:cNvPr id="69" name="Овал 3"/>
              <p:cNvSpPr/>
              <p:nvPr/>
            </p:nvSpPr>
            <p:spPr>
              <a:xfrm>
                <a:off x="2928960" y="5072040"/>
                <a:ext cx="1143000" cy="1125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2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36680" y="5240880"/>
                <a:ext cx="646200" cy="81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Прямая соединительная линия 17"/>
            <p:cNvSpPr/>
            <p:nvPr/>
          </p:nvSpPr>
          <p:spPr>
            <a:xfrm>
              <a:off x="3096360" y="5236920"/>
              <a:ext cx="746280" cy="8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18"/>
            <p:cNvSpPr/>
            <p:nvPr/>
          </p:nvSpPr>
          <p:spPr>
            <a:xfrm flipV="1">
              <a:off x="3111480" y="5259240"/>
              <a:ext cx="792360" cy="77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ЗЬ ЗВУКА С БУК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5" descr=""/>
          <p:cNvPicPr/>
          <p:nvPr/>
        </p:nvPicPr>
        <p:blipFill>
          <a:blip r:embed="rId1"/>
          <a:stretch/>
        </p:blipFill>
        <p:spPr>
          <a:xfrm>
            <a:off x="5211720" y="1212840"/>
            <a:ext cx="343224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622440" y="1139760"/>
            <a:ext cx="3095640" cy="285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56F1ED41"/>
          <p:cNvPicPr/>
          <p:nvPr/>
        </p:nvPicPr>
        <p:blipFill>
          <a:blip r:embed="rId3"/>
          <a:stretch/>
        </p:blipFill>
        <p:spPr>
          <a:xfrm>
            <a:off x="900000" y="5300640"/>
            <a:ext cx="2766960" cy="133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Picture 8" descr="1EC08131"/>
          <p:cNvPicPr/>
          <p:nvPr/>
        </p:nvPicPr>
        <p:blipFill>
          <a:blip r:embed="rId4"/>
          <a:srcRect l="0" t="24940" r="0" b="0"/>
          <a:stretch/>
        </p:blipFill>
        <p:spPr>
          <a:xfrm>
            <a:off x="5375160" y="5089680"/>
            <a:ext cx="2335320" cy="167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8" name="Picture 9" descr="1EC0813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265880" y="5072040"/>
            <a:ext cx="1152720" cy="156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т"/>
          <p:cNvPicPr/>
          <p:nvPr/>
        </p:nvPicPr>
        <p:blipFill>
          <a:blip r:embed="rId7"/>
          <a:stretch/>
        </p:blipFill>
        <p:spPr>
          <a:xfrm>
            <a:off x="785880" y="4071960"/>
            <a:ext cx="2859120" cy="1073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д"/>
          <p:cNvPicPr/>
          <p:nvPr/>
        </p:nvPicPr>
        <p:blipFill>
          <a:blip r:embed="rId8"/>
          <a:stretch/>
        </p:blipFill>
        <p:spPr>
          <a:xfrm>
            <a:off x="5357880" y="4071960"/>
            <a:ext cx="3024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ставить слог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У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или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1"/>
          <a:stretch/>
        </p:blipFill>
        <p:spPr>
          <a:xfrm>
            <a:off x="-25560" y="1628640"/>
            <a:ext cx="2198880" cy="1766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12760" y="2127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2413080" y="1190520"/>
            <a:ext cx="2200320" cy="180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99080" y="1190520"/>
            <a:ext cx="2200320" cy="1801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4"/>
          <a:stretch/>
        </p:blipFill>
        <p:spPr>
          <a:xfrm>
            <a:off x="6883560" y="1628640"/>
            <a:ext cx="2198520" cy="17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5"/>
          <a:stretch/>
        </p:blipFill>
        <p:spPr>
          <a:xfrm>
            <a:off x="212760" y="3935520"/>
            <a:ext cx="2200320" cy="180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6"/>
          <a:stretch/>
        </p:blipFill>
        <p:spPr>
          <a:xfrm>
            <a:off x="2035080" y="4813200"/>
            <a:ext cx="2195640" cy="180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7"/>
          <a:stretch/>
        </p:blipFill>
        <p:spPr>
          <a:xfrm>
            <a:off x="6851520" y="3905280"/>
            <a:ext cx="2200320" cy="180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600440" y="4846680"/>
            <a:ext cx="219564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627280" y="1589040"/>
            <a:ext cx="173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292720" y="1628640"/>
            <a:ext cx="187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7383600" y="2152800"/>
            <a:ext cx="14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г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12920" y="442908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544840" y="530856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4729320" y="5419800"/>
            <a:ext cx="24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ш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7301520" y="445284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Набор праздничной посуды &quot;Том и Джерри&quot; от Интернет-магазина &quot;Partyшах&quot;!"/>
          <p:cNvPicPr/>
          <p:nvPr/>
        </p:nvPicPr>
        <p:blipFill>
          <a:blip r:embed="rId9"/>
          <a:stretch/>
        </p:blipFill>
        <p:spPr>
          <a:xfrm>
            <a:off x="3700440" y="3121200"/>
            <a:ext cx="15922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42960" y="1499760"/>
            <a:ext cx="1571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74760"/>
            <a:ext cx="2400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00240" y="221472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57920" y="2214360"/>
            <a:ext cx="2643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кд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ыд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Текст 2"/>
          <p:cNvSpPr/>
          <p:nvPr/>
        </p:nvSpPr>
        <p:spPr>
          <a:xfrm>
            <a:off x="3357720" y="1500120"/>
            <a:ext cx="1143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Текст 2"/>
          <p:cNvSpPr/>
          <p:nvPr/>
        </p:nvSpPr>
        <p:spPr>
          <a:xfrm>
            <a:off x="6000840" y="157176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-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сать в три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«ПЧЕЛ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Том и Джерри - Все серии и мультфильмы / Tom and Jerry 1940-2010 / DVDRip скачать торрент бесплатно"/>
          <p:cNvPicPr/>
          <p:nvPr/>
        </p:nvPicPr>
        <p:blipFill>
          <a:blip r:embed="rId1"/>
          <a:stretch/>
        </p:blipFill>
        <p:spPr>
          <a:xfrm>
            <a:off x="7000920" y="2857680"/>
            <a:ext cx="178596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629080" y="1484280"/>
          <a:ext cx="3886200" cy="3889440"/>
        </p:xfrm>
        <a:graphic>
          <a:graphicData uri="http://schemas.openxmlformats.org/drawingml/2006/table">
            <a:tbl>
              <a:tblPr/>
              <a:tblGrid>
                <a:gridCol w="1306440"/>
                <a:gridCol w="1322280"/>
                <a:gridCol w="1257480"/>
              </a:tblGrid>
              <a:tr h="13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6190913" descr="6190913"/>
          <p:cNvPicPr/>
          <p:nvPr/>
        </p:nvPicPr>
        <p:blipFill>
          <a:blip r:embed="rId2"/>
          <a:stretch/>
        </p:blipFill>
        <p:spPr>
          <a:xfrm>
            <a:off x="642960" y="2000160"/>
            <a:ext cx="79704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81 0.29167 C 0.15989 0.3757 0.16684 0.43565 0.17378 0.43565 C 0.18073 0.43565 0.1868 0.3757 0.18889 0.29167 C 0.19184 0.3757 0.19774 0.43565 0.20486 0.43565 C 0.2118 0.43565 0.21788 0.3757 0.21979 0.29167 C 0.22274 0.3757 0.22882 0.43565 0.23576 0.43565 C 0.24288 0.43565 0.24983 0.3757 0.25174 0.29167 C 0.25382 0.3757 0.25989 0.43565 0.26788 0.43565 C 0.27378 0.43565 0.28073 0.3757 0.28281 0.29167 C 0.28489 0.3757 0.29184 0.43565 0.29878 0.43565 C 0.30573 0.43565 0.3118 0.3757 0.31389 0.29167 C 0.31684 0.3757 0.32274 0.43565 0.32986 0.43565 C 0.3368 0.43565 0.34288 0.3757 0.34583 0.29167 C 0.34774 0.3757 0.35382 0.43565 0.36076 0.43565 C 0.36788 0.43565 0.37483 0.3757 0.37674 0.29167 C 0.37882 0.3757 0.38489 0.43565 0.39288 0.43565 C 0.39983 0.43565 0.40573 0.3757 0.40781 0.29167 E">
                                      <p:cBhvr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21 0.12362 C 0.1283 0.20764 0.13524 0.2676 0.14219 0.2676 C 0.14913 0.2676 0.15521 0.20764 0.15729 0.12362 C 0.16024 0.20764 0.16614 0.2676 0.17326 0.2676 C 0.18021 0.2676 0.18628 0.20764 0.18819 0.12362 C 0.19114 0.20764 0.19722 0.2676 0.20417 0.2676 C 0.21128 0.2676 0.21823 0.20764 0.22014 0.12362 C 0.22222 0.20764 0.2283 0.2676 0.23628 0.2676 C 0.24219 0.2676 0.24913 0.20764 0.25121 0.12362 C 0.2533 0.20764 0.26024 0.2676 0.26719 0.2676 C 0.27413 0.2676 0.28021 0.20764 0.28229 0.12362 C 0.28524 0.20764 0.29114 0.2676 0.29826 0.2676 C 0.30521 0.2676 0.31128 0.20764 0.31424 0.12362 C 0.31614 0.20764 0.32222 0.2676 0.32917 0.2676 C 0.33628 0.2676 0.34323 0.20764 0.34514 0.12362 C 0.34722 0.20764 0.3533 0.2676 0.36128 0.2676 C 0.36823 0.2676 0.37413 0.20764 0.37621 0.12362 E">
                                      <p:cBhvr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44 0.10278 C 0.24635 0.2007 0.25347 0.27084 0.26024 0.27084 C 0.26736 0.27084 0.27344 0.2007 0.27569 0.10278 C 0.2783 0.2007 0.28437 0.27084 0.29149 0.27084 C 0.29861 0.27084 0.30469 0.2007 0.3066 0.10278 C 0.30972 0.2007 0.31562 0.27084 0.32292 0.27084 C 0.33003 0.27084 0.3368 0.2007 0.33871 0.10278 C 0.34097 0.2007 0.34705 0.27084 0.35521 0.27084 C 0.36094 0.27084 0.36805 0.2007 0.37031 0.10278 C 0.37222 0.2007 0.37934 0.27084 0.38628 0.27084 C 0.3934 0.27084 0.39948 0.2007 0.40156 0.10278 C 0.40434 0.2007 0.41042 0.27084 0.41753 0.27084 C 0.42465 0.27084 0.43073 0.2007 0.43368 0.10278 C 0.43559 0.2007 0.44167 0.27084 0.44878 0.27084 C 0.4559 0.27084 0.46285 0.2007 0.46476 0.10278 C 0.46684 0.2007 0.47292 0.27084 0.48125 0.27084 C 0.48802 0.27084 0.4941 0.2007 0.49635 0.10278 E">
                                      <p:cBhvr>
                                        <p:cTn id="11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007 0.33357 C 0.26215 0.4176 0.2691 0.47755 0.27604 0.47755 C 0.28299 0.47755 0.28906 0.4176 0.29114 0.33357 C 0.2941 0.4176 0.3 0.47755 0.30712 0.47755 C 0.31406 0.47755 0.32014 0.4176 0.32205 0.33357 C 0.325 0.4176 0.33108 0.47755 0.33802 0.47755 C 0.34514 0.47755 0.35208 0.4176 0.35399 0.33357 C 0.35608 0.4176 0.36215 0.47755 0.37014 0.47755 C 0.37604 0.47755 0.38299 0.4176 0.38507 0.33357 C 0.38715 0.4176 0.3941 0.47755 0.40104 0.47755 C 0.40799 0.47755 0.41406 0.4176 0.41614 0.33357 C 0.4191 0.4176 0.425 0.47755 0.43212 0.47755 C 0.43906 0.47755 0.44514 0.4176 0.44809 0.33357 C 0.45 0.4176 0.45608 0.47755 0.46302 0.47755 C 0.47014 0.47755 0.47708 0.4176 0.47899 0.33357 C 0.48108 0.4176 0.48715 0.47755 0.49514 0.47755 C 0.50208 0.47755 0.50799 0.4176 0.51007 0.33357 E">
                                      <p:cBhvr>
                                        <p:cTn id="12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26 -0.06527 C 0.25434 0.01875 0.26128 0.07871 0.26823 0.07871 C 0.27517 0.07871 0.28125 0.01875 0.28333 -0.06527 C 0.28628 0.01875 0.29219 0.07871 0.2993 0.07871 C 0.30625 0.07871 0.31233 0.01875 0.31424 -0.06527 C 0.31719 0.01875 0.32326 0.07871 0.33021 0.07871 C 0.33733 0.07871 0.34427 0.01875 0.34618 -0.06527 C 0.34826 0.01875 0.35434 0.07871 0.36233 0.07871 C 0.36823 0.07871 0.37517 0.01875 0.37726 -0.06527 C 0.37934 0.01875 0.38628 0.07871 0.39323 0.07871 C 0.40017 0.07871 0.40625 0.01875 0.40833 -0.06527 C 0.41128 0.01875 0.41719 0.07871 0.4243 0.07871 C 0.43125 0.07871 0.43733 0.01875 0.44028 -0.06527 C 0.44219 0.01875 0.44826 0.07871 0.45521 0.07871 C 0.46233 0.07871 0.46927 0.01875 0.47118 -0.06527 C 0.47326 0.01875 0.47934 0.07871 0.48733 0.07871 C 0.49427 0.07871 0.50017 0.01875 0.50226 -0.06527 E">
                                      <p:cBhvr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4 -0.06527 C 0.12049 0.01875 0.12743 0.07871 0.13437 0.07871 C 0.14132 0.07871 0.14739 0.01875 0.14948 -0.06527 C 0.15243 0.01875 0.15833 0.07871 0.16545 0.07871 C 0.17239 0.07871 0.17847 0.01875 0.18038 -0.06527 C 0.18333 0.01875 0.18941 0.07871 0.19635 0.07871 C 0.20347 0.07871 0.21042 0.01875 0.21233 -0.06527 C 0.21441 0.01875 0.22049 0.07871 0.22847 0.07871 C 0.23437 0.07871 0.24132 0.01875 0.2434 -0.06527 C 0.24549 0.01875 0.25243 0.07871 0.25937 0.07871 C 0.26632 0.07871 0.27239 0.01875 0.27448 -0.06527 C 0.27743 0.01875 0.28333 0.07871 0.29045 0.07871 C 0.29739 0.07871 0.30347 0.01875 0.30642 -0.06527 C 0.30833 0.01875 0.31441 0.07871 0.32135 0.07871 C 0.32847 0.07871 0.33542 0.01875 0.33733 -0.06527 C 0.33941 0.01875 0.34549 0.07871 0.35347 0.07871 C 0.36042 0.07871 0.36632 0.01875 0.3684 -0.06527 E">
                                      <p:cBhvr>
                                        <p:cTn id="13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201 0.1551 C 0.1441 0.23912 0.15104 0.29908 0.15799 0.29908 C 0.16493 0.29908 0.17101 0.23912 0.17309 0.1551 C 0.17604 0.23912 0.18194 0.29908 0.18906 0.29908 C 0.19601 0.29908 0.20208 0.23912 0.20399 0.1551 C 0.20694 0.23912 0.21302 0.29908 0.21996 0.29908 C 0.22708 0.29908 0.23403 0.23912 0.23594 0.1551 C 0.23802 0.23912 0.2441 0.29908 0.25208 0.29908 C 0.25799 0.29908 0.26493 0.23912 0.26701 0.1551 C 0.2691 0.23912 0.27604 0.29908 0.28299 0.29908 C 0.28993 0.29908 0.29601 0.23912 0.29809 0.1551 C 0.30104 0.23912 0.30694 0.29908 0.31406 0.29908 C 0.32101 0.29908 0.32708 0.23912 0.33003 0.1551 C 0.33194 0.23912 0.33802 0.29908 0.34496 0.29908 C 0.35208 0.29908 0.35903 0.23912 0.36094 0.1551 C 0.36302 0.23912 0.3691 0.29908 0.37708 0.29908 C 0.38403 0.29908 0.38993 0.23912 0.39201 0.1551 E">
                                      <p:cBhvr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805 0.16574 C 0.27014 0.24977 0.27708 0.30973 0.28403 0.30973 C 0.29097 0.30973 0.29705 0.24977 0.29913 0.16574 C 0.30208 0.24977 0.30799 0.30973 0.3151 0.30973 C 0.32205 0.30973 0.32812 0.24977 0.33003 0.16574 C 0.33299 0.24977 0.33906 0.30973 0.34601 0.30973 C 0.35312 0.30973 0.36007 0.24977 0.36198 0.16574 C 0.36406 0.24977 0.37014 0.30973 0.37812 0.30973 C 0.38403 0.30973 0.39097 0.24977 0.39305 0.16574 C 0.39514 0.24977 0.40208 0.30973 0.40903 0.30973 C 0.41597 0.30973 0.42205 0.24977 0.42413 0.16574 C 0.42708 0.24977 0.43299 0.30973 0.4401 0.30973 C 0.44705 0.30973 0.45312 0.24977 0.45608 0.16574 C 0.45799 0.24977 0.46406 0.30973 0.47101 0.30973 C 0.47812 0.30973 0.48507 0.24977 0.48698 0.16574 C 0.48906 0.24977 0.49514 0.30973 0.50312 0.30973 C 0.51007 0.30973 0.51597 0.24977 0.51805 0.16574 E">
                                      <p:cBhvr>
                                        <p:cTn id="13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87 0.35463 C 0.27795 0.43866 0.28489 0.49862 0.29184 0.49862 C 0.29878 0.49862 0.30486 0.43866 0.30694 0.35463 C 0.30989 0.43866 0.3158 0.49862 0.32292 0.49862 C 0.32986 0.49862 0.33594 0.43866 0.33785 0.35463 C 0.3408 0.43866 0.34687 0.49862 0.35382 0.49862 C 0.36094 0.49862 0.36788 0.43866 0.36979 0.35463 C 0.37187 0.43866 0.37795 0.49862 0.38594 0.49862 C 0.39184 0.49862 0.39878 0.43866 0.40087 0.35463 C 0.40295 0.43866 0.40989 0.49862 0.41684 0.49862 C 0.42378 0.49862 0.42986 0.43866 0.43194 0.35463 C 0.43489 0.43866 0.4408 0.49862 0.44792 0.49862 C 0.45486 0.49862 0.46094 0.43866 0.46389 0.35463 C 0.4658 0.43866 0.47187 0.49862 0.47882 0.49862 C 0.48594 0.49862 0.49288 0.43866 0.49479 0.35463 C 0.49687 0.43866 0.50295 0.49862 0.51094 0.49862 C 0.51788 0.49862 0.52378 0.43866 0.52587 0.35463 E"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805 -0.02338 C 0.27014 0.06065 0.27708 0.12061 0.28403 0.12061 C 0.29097 0.12061 0.29705 0.06065 0.29913 -0.02338 C 0.30208 0.06065 0.30799 0.12061 0.3151 0.12061 C 0.32205 0.12061 0.32812 0.06065 0.33003 -0.02338 C 0.33299 0.06065 0.33906 0.12061 0.34601 0.12061 C 0.35312 0.12061 0.36007 0.06065 0.36198 -0.02338 C 0.36406 0.06065 0.37014 0.12061 0.37812 0.12061 C 0.38403 0.12061 0.39097 0.06065 0.39305 -0.02338 C 0.39514 0.06065 0.40208 0.12061 0.40903 0.12061 C 0.41597 0.12061 0.42205 0.06065 0.42413 -0.02338 C 0.42708 0.06065 0.43299 0.12061 0.4401 0.12061 C 0.44705 0.12061 0.45312 0.06065 0.45608 -0.02338 C 0.45799 0.06065 0.46406 0.12061 0.47101 0.12061 C 0.47812 0.12061 0.48507 0.06065 0.48698 -0.02338 C 0.48906 0.06065 0.49514 0.12061 0.50312 0.12061 C 0.51007 0.12061 0.51597 0.06065 0.51805 -0.02338 E">
                                      <p:cBhvr>
                                        <p:cTn id="14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 «Из двух – треть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28880" y="1600200"/>
            <a:ext cx="55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СКА                          ДУ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НО                             ОПЫ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ЛЕД                              ГР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НК                              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З                                 Р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АРЬ                              С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ЯТЬ                               ГРА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Какой мультик Лучше и круче на ваш взгляд?"/>
          <p:cNvPicPr/>
          <p:nvPr/>
        </p:nvPicPr>
        <p:blipFill>
          <a:blip r:embed="rId1"/>
          <a:stretch/>
        </p:blipFill>
        <p:spPr>
          <a:xfrm>
            <a:off x="3643200" y="1714680"/>
            <a:ext cx="1643040" cy="3576600"/>
          </a:xfrm>
          <a:prstGeom prst="rect">
            <a:avLst/>
          </a:prstGeom>
          <a:ln w="0">
            <a:noFill/>
          </a:ln>
        </p:spPr>
      </p:pic>
      <p:sp>
        <p:nvSpPr>
          <p:cNvPr id="114" name="Стрелка вправо 5"/>
          <p:cNvSpPr/>
          <p:nvPr/>
        </p:nvSpPr>
        <p:spPr>
          <a:xfrm rot="2428800">
            <a:off x="3090600" y="3060360"/>
            <a:ext cx="3436920" cy="2016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6"/>
          <p:cNvSpPr/>
          <p:nvPr/>
        </p:nvSpPr>
        <p:spPr>
          <a:xfrm flipV="1" rot="20964000">
            <a:off x="3151080" y="5565240"/>
            <a:ext cx="2924280" cy="22428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7"/>
          <p:cNvSpPr/>
          <p:nvPr/>
        </p:nvSpPr>
        <p:spPr>
          <a:xfrm flipV="1" rot="21423600">
            <a:off x="3228480" y="3852000"/>
            <a:ext cx="2847960" cy="252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8"/>
          <p:cNvSpPr/>
          <p:nvPr/>
        </p:nvSpPr>
        <p:spPr>
          <a:xfrm rot="19024800">
            <a:off x="2573280" y="3121200"/>
            <a:ext cx="3795840" cy="21744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9"/>
          <p:cNvSpPr/>
          <p:nvPr/>
        </p:nvSpPr>
        <p:spPr>
          <a:xfrm flipV="1" rot="716400">
            <a:off x="3218040" y="5535000"/>
            <a:ext cx="3092400" cy="20304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0"/>
          <p:cNvSpPr/>
          <p:nvPr/>
        </p:nvSpPr>
        <p:spPr>
          <a:xfrm rot="20551200">
            <a:off x="3265560" y="2779200"/>
            <a:ext cx="2689200" cy="225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11"/>
          <p:cNvSpPr/>
          <p:nvPr/>
        </p:nvSpPr>
        <p:spPr>
          <a:xfrm rot="708000">
            <a:off x="3182400" y="2803320"/>
            <a:ext cx="2819520" cy="198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7"/>
          <p:cNvSpPr/>
          <p:nvPr/>
        </p:nvSpPr>
        <p:spPr>
          <a:xfrm>
            <a:off x="7010280" y="4460760"/>
            <a:ext cx="1990800" cy="6112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743360" y="4460760"/>
            <a:ext cx="2025720" cy="6429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00200" y="4429080"/>
            <a:ext cx="2097360" cy="6746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бур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14200" y="442908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о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162920" y="2897280"/>
            <a:ext cx="1766880" cy="66204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ж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743360" y="2916360"/>
            <a:ext cx="2043360" cy="64296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575080" y="2916360"/>
            <a:ext cx="2000160" cy="62388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14200" y="2897280"/>
            <a:ext cx="2071800" cy="64296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072200" y="1571760"/>
            <a:ext cx="1919520" cy="64296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714920" y="1623960"/>
            <a:ext cx="2000160" cy="64296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уб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525760" y="1623960"/>
            <a:ext cx="2071800" cy="642960"/>
          </a:xfrm>
          <a:prstGeom prst="foldedCorner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14200" y="1590840"/>
            <a:ext cx="2143080" cy="642600"/>
          </a:xfrm>
          <a:prstGeom prst="foldedCorner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четвертый лишн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14200" y="157176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2500200" y="1571760"/>
            <a:ext cx="2071800" cy="714240"/>
          </a:xfrm>
          <a:prstGeom prst="foldedCorner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м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714920" y="1571760"/>
            <a:ext cx="2071800" cy="695160"/>
          </a:xfrm>
          <a:prstGeom prst="foldedCorner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б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010280" y="1571760"/>
            <a:ext cx="1990800" cy="642960"/>
          </a:xfrm>
          <a:prstGeom prst="foldedCorner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4714920" y="2916360"/>
            <a:ext cx="2071800" cy="642960"/>
          </a:xfrm>
          <a:prstGeom prst="foldedCorner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...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500200" y="2916360"/>
            <a:ext cx="2097360" cy="642960"/>
          </a:xfrm>
          <a:prstGeom prst="foldedCorner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7000920" y="2928960"/>
            <a:ext cx="2000160" cy="630360"/>
          </a:xfrm>
          <a:prstGeom prst="foldedCorner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ж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000920" y="4429080"/>
            <a:ext cx="2000160" cy="642960"/>
          </a:xfrm>
          <a:prstGeom prst="foldedCorner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743360" y="4429080"/>
            <a:ext cx="2092320" cy="642960"/>
          </a:xfrm>
          <a:prstGeom prst="foldedCorner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рак…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2500200" y="442908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бур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214200" y="442908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з…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0" descr="Imaginea Nr. 27"/>
          <p:cNvPicPr/>
          <p:nvPr/>
        </p:nvPicPr>
        <p:blipFill>
          <a:blip r:embed="rId24"/>
          <a:stretch/>
        </p:blipFill>
        <p:spPr>
          <a:xfrm>
            <a:off x="3132000" y="5103720"/>
            <a:ext cx="2521080" cy="17542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7"/>
          <p:cNvSpPr/>
          <p:nvPr/>
        </p:nvSpPr>
        <p:spPr>
          <a:xfrm>
            <a:off x="214200" y="2916360"/>
            <a:ext cx="2143080" cy="642960"/>
          </a:xfrm>
          <a:prstGeom prst="foldedCorner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кончить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тер …. листья с деревь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ле стола  стоит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люблю отдыхать н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… положили мус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били к заб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на сердц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зере плавает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душка забросил в речку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572160" y="1600200"/>
            <a:ext cx="211464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6072120" y="1643040"/>
            <a:ext cx="46080" cy="421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5"/>
          <p:cNvSpPr/>
          <p:nvPr/>
        </p:nvSpPr>
        <p:spPr>
          <a:xfrm flipV="1" rot="21057000">
            <a:off x="3627000" y="2075040"/>
            <a:ext cx="2905200" cy="1368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6"/>
          <p:cNvSpPr/>
          <p:nvPr/>
        </p:nvSpPr>
        <p:spPr>
          <a:xfrm flipV="1" rot="844800">
            <a:off x="4703760" y="2109600"/>
            <a:ext cx="1974960" cy="114120"/>
          </a:xfrm>
          <a:prstGeom prst="rightArrow">
            <a:avLst>
              <a:gd name="adj1" fmla="val 50000"/>
              <a:gd name="adj2" fmla="val 500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7"/>
          <p:cNvSpPr/>
          <p:nvPr/>
        </p:nvSpPr>
        <p:spPr>
          <a:xfrm flipV="1" rot="429000">
            <a:off x="3639600" y="4107600"/>
            <a:ext cx="2905200" cy="1382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8"/>
          <p:cNvSpPr/>
          <p:nvPr/>
        </p:nvSpPr>
        <p:spPr>
          <a:xfrm>
            <a:off x="3857760" y="2928960"/>
            <a:ext cx="2698560" cy="1429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9"/>
          <p:cNvSpPr/>
          <p:nvPr/>
        </p:nvSpPr>
        <p:spPr>
          <a:xfrm flipV="1">
            <a:off x="3849840" y="3357720"/>
            <a:ext cx="2722320" cy="15048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10"/>
          <p:cNvSpPr/>
          <p:nvPr/>
        </p:nvSpPr>
        <p:spPr>
          <a:xfrm flipV="1" rot="21057000">
            <a:off x="3492000" y="4156200"/>
            <a:ext cx="2905200" cy="1382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11"/>
          <p:cNvSpPr/>
          <p:nvPr/>
        </p:nvSpPr>
        <p:spPr>
          <a:xfrm flipV="1" rot="20680800">
            <a:off x="4559400" y="5137200"/>
            <a:ext cx="2135160" cy="18864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12"/>
          <p:cNvSpPr/>
          <p:nvPr/>
        </p:nvSpPr>
        <p:spPr>
          <a:xfrm flipV="1" rot="606600">
            <a:off x="3594240" y="5174640"/>
            <a:ext cx="2904840" cy="1731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7:02:17Z</dcterms:created>
  <dc:creator>Ольга</dc:creator>
  <dc:description/>
  <dc:language>en-US</dc:language>
  <cp:lastModifiedBy>Любовь</cp:lastModifiedBy>
  <dcterms:modified xsi:type="dcterms:W3CDTF">2015-10-11T06:31:39Z</dcterms:modified>
  <cp:revision>141</cp:revision>
  <dc:subject/>
  <dc:title>Слайд 1</dc:title>
</cp:coreProperties>
</file>