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2D62-68AE-41BF-B96E-CDF27B048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8024-5F93-4289-AECC-208EF5515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6F2A-E4D5-4A40-8BB7-435F09AD8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3A1A-DFF6-443F-B271-47AC2FB51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5C66-E401-4CD4-B8A0-568B99B91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4A18-42DF-4B6B-86F8-40696A364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CFC1-5843-4F73-9D32-91C9385AA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C25F-A77D-4C96-A431-47646338B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7534-38DF-4632-8686-120C22C83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0502-9469-4407-AB78-20868488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0967-5879-48F0-B600-951010CF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70DC-5E73-4168-9F9F-C74A2625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9BA73-7187-4AEA-BB80-1F24108474F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://wallpampers.ru/wallpapers/22159/1024_Forest.jpg"/>
          <p:cNvPicPr/>
          <p:nvPr/>
        </p:nvPicPr>
        <p:blipFill>
          <a:blip r:embed="rId1"/>
          <a:stretch/>
        </p:blipFill>
        <p:spPr>
          <a:xfrm>
            <a:off x="-7920" y="0"/>
            <a:ext cx="91519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0440" y="11556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b050"/>
                </a:solidFill>
                <a:latin typeface="Arial Black"/>
              </a:rPr>
              <a:t>Деревья</a:t>
            </a:r>
            <a:r>
              <a:rPr b="0" lang="ru-RU" sz="49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2500" spc="-1" strike="noStrike">
                <a:solidFill>
                  <a:srgbClr val="002060"/>
                </a:solidFill>
                <a:latin typeface="Calibri"/>
              </a:rPr>
              <a:t>младший дошкольный возраст)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Подготовила воспитатель ГБОУ СОШ №1375 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Петина Ирина Александровна</a:t>
            </a:r>
            <a:br>
              <a:rPr sz="40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169920" y="-3314880"/>
            <a:ext cx="8191440" cy="83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http://chudiki.my1.ru/Kirill/191/Autogen_eBook_id1.jpg"/>
          <p:cNvPicPr/>
          <p:nvPr/>
        </p:nvPicPr>
        <p:blipFill>
          <a:blip r:embed="rId2"/>
          <a:stretch/>
        </p:blipFill>
        <p:spPr>
          <a:xfrm>
            <a:off x="108000" y="320760"/>
            <a:ext cx="8640720" cy="63482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92360" y="6033960"/>
            <a:ext cx="22320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ду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179280" y="774000"/>
            <a:ext cx="8622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Ветра нет ,а я дрожу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Листьями всё лопоч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Белкам, птицам здесь приют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Лоси пищу здесь найду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                                                                                               </a:t>
            </a: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(осина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6" descr="http://jili-bili.ru/files/labirint/big/4483301lab949v1221975621.jpg"/>
          <p:cNvPicPr/>
          <p:nvPr/>
        </p:nvPicPr>
        <p:blipFill>
          <a:blip r:embed="rId2"/>
          <a:stretch/>
        </p:blipFill>
        <p:spPr>
          <a:xfrm>
            <a:off x="150840" y="115920"/>
            <a:ext cx="8353440" cy="65451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35280" y="5810040"/>
            <a:ext cx="31687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ОС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4"/>
          <p:cNvSpPr/>
          <p:nvPr/>
        </p:nvSpPr>
        <p:spPr>
          <a:xfrm>
            <a:off x="304920" y="859680"/>
            <a:ext cx="83851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На мне колючие иголки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Но я не пихта и не ёл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Стройна, прекрасна, зеле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Весь год красавица ..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(сосна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http://medikynews.ru/gepatit/wp-content/uploads/2015/05/75692-lechenie-pecheni-sosnovoy-hvoey.jpg"/>
          <p:cNvPicPr/>
          <p:nvPr/>
        </p:nvPicPr>
        <p:blipFill>
          <a:blip r:embed="rId2"/>
          <a:stretch/>
        </p:blipFill>
        <p:spPr>
          <a:xfrm>
            <a:off x="155520" y="115920"/>
            <a:ext cx="8377200" cy="66261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5160" y="6011640"/>
            <a:ext cx="253044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СОС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707760" y="600840"/>
            <a:ext cx="75445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Желто-красная одежк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Каждый листик, как ладош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Осенью всех ярче он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Догадались? Это..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(клен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8496360" cy="66261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4920" y="5985000"/>
            <a:ext cx="25923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КЛЁ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http://a1633.phobos.apple.com/us/r1000/091/Purple/d3/aa/2a/mzl.idkrcplo.1024x1024-65.jpg"/>
          <p:cNvPicPr/>
          <p:nvPr/>
        </p:nvPicPr>
        <p:blipFill>
          <a:blip r:embed="rId2"/>
          <a:stretch/>
        </p:blipFill>
        <p:spPr>
          <a:xfrm>
            <a:off x="1692360" y="189000"/>
            <a:ext cx="5472000" cy="64976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79280" y="5516640"/>
            <a:ext cx="482436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600" spc="-1" strike="noStrike">
                <a:solidFill>
                  <a:srgbClr val="ffff00"/>
                </a:solidFill>
                <a:latin typeface="Calibri"/>
              </a:rPr>
              <a:t>конец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volna.org/wp-content/uploads/2014/11/pochiemu_odni_dierievia_raspuskaiutsia_ranshie_drughikh7.png"/>
          <p:cNvPicPr/>
          <p:nvPr/>
        </p:nvPicPr>
        <p:blipFill>
          <a:blip r:embed="rId1"/>
          <a:stretch/>
        </p:blipFill>
        <p:spPr>
          <a:xfrm>
            <a:off x="98280" y="160200"/>
            <a:ext cx="893448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280360" cy="568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Белоствольные красавицы</a:t>
            </a:r>
            <a:br>
              <a:rPr sz="4400"/>
            </a:b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Дружно встали у дорожки,</a:t>
            </a:r>
            <a:br>
              <a:rPr sz="4400"/>
            </a:b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Книзу веточки спускаются,</a:t>
            </a:r>
            <a:br>
              <a:rPr sz="4400"/>
            </a:b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А на веточках сережки.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(Берез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uslide.ru/images/11/17989/960/img3.jpg"/>
          <p:cNvPicPr/>
          <p:nvPr/>
        </p:nvPicPr>
        <p:blipFill>
          <a:blip r:embed="rId2"/>
          <a:stretch/>
        </p:blipFill>
        <p:spPr>
          <a:xfrm>
            <a:off x="88920" y="189000"/>
            <a:ext cx="8881920" cy="65548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84360" y="6215040"/>
            <a:ext cx="2664000" cy="4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БЕР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Словно ёжики на ветке,</a:t>
            </a:r>
            <a:br>
              <a:rPr sz="4400"/>
            </a:b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Дружною семьёй,</a:t>
            </a:r>
            <a:br>
              <a:rPr sz="4400"/>
            </a:b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Созревают там орехи,</a:t>
            </a:r>
            <a:br>
              <a:rPr sz="4400"/>
            </a:b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В скорлупе одной!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(Каштан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forest.geoman.ru/forest/item/f00/s01/e0001229/pic/000_447.jpg"/>
          <p:cNvPicPr/>
          <p:nvPr/>
        </p:nvPicPr>
        <p:blipFill>
          <a:blip r:embed="rId2"/>
          <a:stretch/>
        </p:blipFill>
        <p:spPr>
          <a:xfrm>
            <a:off x="179280" y="173160"/>
            <a:ext cx="8425080" cy="664668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3564000" y="611172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кашта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240680" cy="642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В том лесу, не в огороде,</a:t>
            </a:r>
            <a:br>
              <a:rPr sz="4000"/>
            </a:b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Только осень на подходе,</a:t>
            </a:r>
            <a:br>
              <a:rPr sz="4000"/>
            </a:b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Новый у нее наряд,</a:t>
            </a:r>
            <a:br>
              <a:rPr sz="4000"/>
            </a:b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Бусы красные висят.</a:t>
            </a:r>
            <a:br>
              <a:rPr sz="4000"/>
            </a:b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Дрозд, снегирь, другая птица,</a:t>
            </a:r>
            <a:br>
              <a:rPr sz="4000"/>
            </a:b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Могут ею угоститься,</a:t>
            </a:r>
            <a:br>
              <a:rPr sz="4000"/>
            </a:b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Как усилится мороз,</a:t>
            </a:r>
            <a:br>
              <a:rPr sz="4000"/>
            </a:b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Возрастёт на пищу спрос.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(Рябина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http://ua.convdocs.org/pars_docs/refs/195/194002/194002_html_m5d8e28b1.png"/>
          <p:cNvPicPr/>
          <p:nvPr/>
        </p:nvPicPr>
        <p:blipFill>
          <a:blip r:embed="rId2"/>
          <a:stretch/>
        </p:blipFill>
        <p:spPr>
          <a:xfrm>
            <a:off x="108000" y="154080"/>
            <a:ext cx="8351640" cy="6514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120" y="5903640"/>
            <a:ext cx="220644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РЯБИ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28036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Крепок, строен и силён,</a:t>
            </a:r>
            <a:br>
              <a:rPr sz="4000"/>
            </a:b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Ведь владыка леса он.</a:t>
            </a:r>
            <a:br>
              <a:rPr sz="4000"/>
            </a:b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Он для нас живой свидетель</a:t>
            </a:r>
            <a:br>
              <a:rPr sz="4000"/>
            </a:b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В лету канувших столетий.</a:t>
            </a:r>
            <a:br>
              <a:rPr sz="4000"/>
            </a:b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Из него добротен сруб.</a:t>
            </a:r>
            <a:br>
              <a:rPr sz="4000"/>
            </a:b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Угадали? Это …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(дуб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4T10:29:31Z</dcterms:created>
  <dc:creator>Admin</dc:creator>
  <dc:description/>
  <dc:language>en-US</dc:language>
  <cp:lastModifiedBy>Никита Никита</cp:lastModifiedBy>
  <dcterms:modified xsi:type="dcterms:W3CDTF">2015-10-11T15:59:28Z</dcterms:modified>
  <cp:revision>26</cp:revision>
  <dc:subject/>
  <dc:title>Слайд 1</dc:title>
</cp:coreProperties>
</file>