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F1F-F622-49A2-B0F1-23A216DB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3CA-CA22-4A52-A136-9BC16B43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1BC-7E29-4A8B-BFAF-84335096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ACC-4DFB-435B-8A61-3807F0E1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6BA-1C11-4494-AC90-23E2D8C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2D0-76B9-4388-B207-DCFEB6BB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A69-C326-4305-937A-B7B222A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4B1-3231-4C5F-9C1E-7F2E49D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A2D-7E65-4CB2-B4DB-0CFE114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9B6-79E1-4997-9F3D-35AA96B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D40-B47B-4772-86FB-9DA0D9C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521-9DFD-4B42-8336-F8354B6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40A3-900E-4928-9B4A-7FAD39801D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allpampers.ru/wallpapers/22159/1024_Forest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044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Деревья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младший дошкольный возраст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дготовила воспитатель ГБОУ СОШ №1375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етина Ирина Александровна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69920" y="-3314880"/>
            <a:ext cx="819144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chudiki.my1.ru/Kirill/191/Autogen_eBook_id1.jpg"/>
          <p:cNvPicPr/>
          <p:nvPr/>
        </p:nvPicPr>
        <p:blipFill>
          <a:blip r:embed="rId2"/>
          <a:stretch/>
        </p:blipFill>
        <p:spPr>
          <a:xfrm>
            <a:off x="108000" y="320760"/>
            <a:ext cx="8640720" cy="6348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360" y="603396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774000"/>
            <a:ext cx="862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етра нет ,а я дрож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истьями всё лопо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лкам, птицам здесь прию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оси пищу здесь найд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оси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jili-bili.ru/files/labirint/big/4483301lab949v1221975621.jpg"/>
          <p:cNvPicPr/>
          <p:nvPr/>
        </p:nvPicPr>
        <p:blipFill>
          <a:blip r:embed="rId2"/>
          <a:stretch/>
        </p:blipFill>
        <p:spPr>
          <a:xfrm>
            <a:off x="150840" y="115920"/>
            <a:ext cx="8353440" cy="654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5280" y="5810040"/>
            <a:ext cx="3168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04920" y="859680"/>
            <a:ext cx="8385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а мне колючие игол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о я не пихта и не ёл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тройна, прекрасна, зел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есь год красавица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сос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medikynews.ru/gepatit/wp-content/uploads/2015/05/75692-lechenie-pecheni-sosnovoy-hvoey.jpg"/>
          <p:cNvPicPr/>
          <p:nvPr/>
        </p:nvPicPr>
        <p:blipFill>
          <a:blip r:embed="rId2"/>
          <a:stretch/>
        </p:blipFill>
        <p:spPr>
          <a:xfrm>
            <a:off x="155520" y="115920"/>
            <a:ext cx="8377200" cy="6626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5160" y="6011640"/>
            <a:ext cx="2530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707760" y="600840"/>
            <a:ext cx="754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Желто-красная одеж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аждый листик, как лад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сенью всех ярче 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огадались? Эт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кл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496360" cy="6626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920" y="5985000"/>
            <a:ext cx="259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a1633.phobos.apple.com/us/r1000/091/Purple/d3/aa/2a/mzl.idkrcplo.1024x1024-65.jpg"/>
          <p:cNvPicPr/>
          <p:nvPr/>
        </p:nvPicPr>
        <p:blipFill>
          <a:blip r:embed="rId2"/>
          <a:stretch/>
        </p:blipFill>
        <p:spPr>
          <a:xfrm>
            <a:off x="1692360" y="189000"/>
            <a:ext cx="5472000" cy="649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5516640"/>
            <a:ext cx="482436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ffff00"/>
                </a:solidFill>
                <a:latin typeface="Calibri"/>
              </a:rPr>
              <a:t>конец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volna.org/wp-content/uploads/2014/11/pochiemu_odni_dierievia_raspuskaiutsia_ranshie_drughikh7.png"/>
          <p:cNvPicPr/>
          <p:nvPr/>
        </p:nvPicPr>
        <p:blipFill>
          <a:blip r:embed="rId1"/>
          <a:stretch/>
        </p:blipFill>
        <p:spPr>
          <a:xfrm>
            <a:off x="98280" y="160200"/>
            <a:ext cx="8934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лоствольные красавиц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ружно встали у дорожки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низу веточки спускаются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А на веточках сережки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slide.ru/images/11/17989/960/img3.jpg"/>
          <p:cNvPicPr/>
          <p:nvPr/>
        </p:nvPicPr>
        <p:blipFill>
          <a:blip r:embed="rId2"/>
          <a:stretch/>
        </p:blipFill>
        <p:spPr>
          <a:xfrm>
            <a:off x="88920" y="189000"/>
            <a:ext cx="8881920" cy="6554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4360" y="6215040"/>
            <a:ext cx="266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Р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ловно ёжики на ветке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ружною семьёй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озревают там орехи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 скорлупе одной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Каштан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orest.geoman.ru/forest/item/f00/s01/e0001229/pic/000_447.jpg"/>
          <p:cNvPicPr/>
          <p:nvPr/>
        </p:nvPicPr>
        <p:blipFill>
          <a:blip r:embed="rId2"/>
          <a:stretch/>
        </p:blipFill>
        <p:spPr>
          <a:xfrm>
            <a:off x="179280" y="173160"/>
            <a:ext cx="8425080" cy="6646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564000" y="6111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аш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40680" cy="642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том лесу, не в огороде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олько осень на подходе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овый у нее наряд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усы красные висят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Дрозд, снегирь, другая птица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Могут ею угоститься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ак усилится мороз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озрастёт на пищу спрос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Ряби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ua.convdocs.org/pars_docs/refs/195/194002/194002_html_m5d8e28b1.png"/>
          <p:cNvPicPr/>
          <p:nvPr/>
        </p:nvPicPr>
        <p:blipFill>
          <a:blip r:embed="rId2"/>
          <a:stretch/>
        </p:blipFill>
        <p:spPr>
          <a:xfrm>
            <a:off x="108000" y="154080"/>
            <a:ext cx="8351640" cy="651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20" y="5903640"/>
            <a:ext cx="2206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РЯБ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репок, строен и силён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едь владыка леса он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н для нас живой свидетель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лету канувших столетий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з него добротен сруб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гадали? Это 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ду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0:29:31Z</dcterms:created>
  <dc:creator>Admin</dc:creator>
  <dc:description/>
  <dc:language>en-US</dc:language>
  <cp:lastModifiedBy>Никита Никита</cp:lastModifiedBy>
  <dcterms:modified xsi:type="dcterms:W3CDTF">2015-10-11T15:59:28Z</dcterms:modified>
  <cp:revision>26</cp:revision>
  <dc:subject/>
  <dc:title>Слайд 1</dc:title>
</cp:coreProperties>
</file>