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EAA-3654-4EE7-AABF-8B528B2A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ADD-B56E-4BE6-B6CB-77AFABE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799-858F-46BA-A85C-8B31CFC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AC6-FE3E-4F95-9835-DD10DCB1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F41-31F9-41AB-A1B4-ED02072A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532-DC4B-4ECB-9C2D-2E3F17FB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6873-3A0D-4C18-BB24-B938CD5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9682-1932-486D-BAC5-E43E6A8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C1D2-FC47-4D35-B9B4-F01312D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9F62-9586-4582-BCD7-8906BF5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6F5-8073-4452-8FF6-49D54F40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C0E-D9A7-4DAA-B091-1C88952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A317-193D-4206-A5D6-9C76847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DF8-516C-4ACC-B4E5-146FA89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BDA-A756-47FD-B3CD-03AEFF81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9FC-3197-4F75-9A40-80FD3144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39C-B688-4318-A8C3-32403B3C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A35-6EFA-4DC2-BFC3-169475A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434-4B83-4072-8012-51C7E31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972-D2CD-4BB7-833A-3F760D5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046-8F44-4CBE-85A3-F0D88F4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83A-9F1C-447A-AB2C-6EAAF31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96B-0AB1-43D6-9864-CA56EFA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FF6-A080-4444-919E-8B56DB3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2461E-45A8-450A-976F-0A29FEA601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85B8-A31C-4AEB-A5EF-BD5197FFA8F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2009520"/>
            <a:ext cx="8099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стопримечатель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3280" y="5600520"/>
            <a:ext cx="77040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8099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960" y="1473120"/>
            <a:ext cx="4515120" cy="3386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92720" y="3689280"/>
            <a:ext cx="5688000" cy="3792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24360" y="1406520"/>
            <a:ext cx="48546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мль имеет форму прямоугольника.В углах прямоугольника стоят четыре круглые башни Спасская, Наугольная, Ивановская, Никитская. Въездные ворота имеют в плане четыре прямоугольные проездные башни: с юга — Одоевские, с севера — башня Водяных ворот, с востока Ивановских ворот, с запада — Пятницких 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4640" y="4997520"/>
            <a:ext cx="3988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ё одна кремлёвская башня с севера — Башня на погребу. Она не проездная, глухая в плане квадратная. Под башней находился погреб с оружием и поро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76000" y="14256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орец графа Бобрин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88080" y="1440000"/>
            <a:ext cx="511956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2520" y="3887640"/>
            <a:ext cx="4803840" cy="3286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25560" y="1405080"/>
            <a:ext cx="45626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75 году в возрождаемом дворце был основан Богородицкий дворец-музей, который 16 октября 1988 года распахнул свои двери для посетителей. Лучшую часть экспозиции музея представляют произведения прикладного искусства XVIII начала XIX веков, скульптура, прижизненные издания Боло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43640" y="4878360"/>
            <a:ext cx="424800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этажный дом возвышается на высоком цокольном этаже, он украшен легким бельведером и эффектно стоит на холме над Упертой. В центре западного фасада – полукруглый выступ, определяющий овальные з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76000" y="36000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ий музей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360" y="1706400"/>
            <a:ext cx="5653080" cy="455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04000" y="1871640"/>
            <a:ext cx="381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основан при Тульском оружейном заводе в 1873 г. Его экспозиция дает возможность проследить эволюцию оружия с конца XVI века до наших дней. Многочисленные опытные образцы вооружения иллюстрируют сложный путь развития оружейной конструкторской мысли. Разнообразие спортивных и охотничьих моделей раскрывает историю разработки такого оружия в нашей стране. Среди образцов вооружения боевой техники особое внимание посетителей привлекают скорострельные автоматические пушки и пуле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03280" y="4078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6000" y="1295280"/>
            <a:ext cx="5543280" cy="3678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92640" y="4319640"/>
            <a:ext cx="4670640" cy="3106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48360" y="1301760"/>
            <a:ext cx="33940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дьба Поленово находится в очень живописном месте — на берегу Оки .Ее владельцем был знаменитый русский художник Василий Дмитриевич Поленов, почти все здания в имении и церковь, расположенная в соседнем селе Бехово, построены по его проек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280" y="5213520"/>
            <a:ext cx="4923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ой сосновый парк был также посажен художником, возраст деревьев — более ста лет. Это красивое место хорошо сохранилось — здесь все выглядит так же, как при прежнем хозяине, есть музей, с собранием его картин и л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03280" y="33660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ь-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040" y="1368360"/>
            <a:ext cx="5727600" cy="374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91280" y="1584360"/>
            <a:ext cx="39988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менитый Конь-Камень представляет собой причудливое нагромождение кварцитовидного песчаника, появившегося из аптского яруса на крутом склоне реки Красивая М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280" y="5472000"/>
            <a:ext cx="9576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 данной каменной глыбы достигает примерно 20 тонн, а стоит он на трех небольших валунах, которые смотрятся в виде ног. Конь-камень напоминает конскую голову, которую окружают другие камни. В этом валуне имеется канавка треугольной формы, в большей мере природного 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000" y="36036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1330200"/>
            <a:ext cx="4562640" cy="3422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92720" y="345600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6000" y="1665360"/>
            <a:ext cx="4992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имение принадлежало Льву Николаевичу Толстому: здесь он родился, здесь писал главные свои произведения, здесь умер и здесь же похоронен. Ясная Поляна появилась в конце XVII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280" y="4903920"/>
            <a:ext cx="3897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ем имение стало через 11 лет после смерти Толстого - в 1921 году. Фондами занимались дети и внуки писателя, нынешний директор музея - его правн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28:11Z</dcterms:created>
  <dc:creator/>
  <dc:description/>
  <dc:language>en-US</dc:language>
  <cp:lastModifiedBy/>
  <dcterms:modified xsi:type="dcterms:W3CDTF">2015-10-11T17:29:22Z</dcterms:modified>
  <cp:revision>1</cp:revision>
  <dc:subject/>
  <dc:title/>
</cp:coreProperties>
</file>