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E2E8-D58E-4EDD-A1F7-F2861A47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AA7-4302-49E2-81B9-38A34C2F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8A6-A4B3-46DA-85F8-E1024F89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54C-A1DF-42CC-8966-A6825A89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4CC3-E606-4671-B0B7-1A2D3E5D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95A5-6ABB-47D7-8B6F-8688D930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34E2-412A-4C56-B389-F86F70FC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AAB7-95BF-4BF4-AF8B-53CA0FDB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AA84-9423-4336-97D4-30F69226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76000" y="287280"/>
            <a:ext cx="532620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8E43-2031-4A55-87CC-57E5BE32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6191-8B48-4504-97A2-A7384339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450-410A-48B8-982E-8F2351E8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3872-F1B4-4B20-8446-9249BF72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8C4F-6F71-4C7D-915D-B2BA4137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AF0E-7809-4379-926F-996DD8AE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B6C0-7F59-49A6-AC50-8856F317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0642-D71F-4C0C-8EF3-103365D3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ACF-79DD-4499-9476-05DE3723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BC1-04E0-4C0D-984D-71EDFD22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DD8-3209-4FF8-BF56-7AFC5792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76000" y="287280"/>
            <a:ext cx="532620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33F-CB41-4610-938B-4F631AC2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34F-1BE4-4804-B125-40FDC5F2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E3BF-4CF3-49F2-9CE9-DFE41BCE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EA5-703E-4D64-9EF2-534598D7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FB34E-EC96-43ED-9460-7C8D7FD20C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D4E1C-F263-4C01-82CC-BAF06F2E1D1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2009520"/>
            <a:ext cx="80992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стопримечательности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ульской обл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3280" y="5600520"/>
            <a:ext cx="77040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80992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ульский Крем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7960" y="1473120"/>
            <a:ext cx="4515120" cy="3386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392720" y="3689280"/>
            <a:ext cx="5688000" cy="3792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824360" y="1406520"/>
            <a:ext cx="48546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емль имеет форму прямоугольника.В углах прямоугольника стоят четыре круглые башни Спасская, Наугольная, Ивановская, Никитская. Въездные ворота имеют в плане четыре прямоугольные проездные башни: с юга — Одоевские, с севера — башня Водяных ворот, с востока Ивановских ворот, с запада — Пятницких в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4640" y="4997520"/>
            <a:ext cx="39880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щё одна кремлёвская башня с севера — Башня на погребу. Она не проездная, глухая в плане квадратная. Под башней находился погреб с оружием и порох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76000" y="142560"/>
            <a:ext cx="53276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орец графа Бобрин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88080" y="1440000"/>
            <a:ext cx="5119560" cy="2879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2520" y="3887640"/>
            <a:ext cx="4803840" cy="3286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25560" y="1405080"/>
            <a:ext cx="456264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75 году в возрождаемом дворце был основан Богородицкий дворец-музей, который 16 октября 1988 года распахнул свои двери для посетителей. Лучшую часть экспозиции музея представляют произведения прикладного искусства XVIII начала XIX веков, скульптура, прижизненные издания Боло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43640" y="4878360"/>
            <a:ext cx="424800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ухэтажный дом возвышается на высоком цокольном этаже, он украшен легким бельведером и эффектно стоит на холме над Упертой. В центре западного фасада – полукруглый выступ, определяющий овальные з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76000" y="360000"/>
            <a:ext cx="53276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ульский музей оруж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360" y="1706400"/>
            <a:ext cx="5653080" cy="4557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904000" y="1871640"/>
            <a:ext cx="38163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ей основан при Тульском оружейном заводе в 1873 г. Его экспозиция дает возможность проследить эволюцию оружия с конца XVI века до наших дней. Многочисленные опытные образцы вооружения иллюстрируют сложный путь развития оружейной конструкторской мысли. Разнообразие спортивных и охотничьих моделей раскрывает историю разработки такого оружия в нашей стране. Среди образцов вооружения боевой техники особое внимание посетителей привлекают скорострельные автоматические пушки и пулем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03280" y="407880"/>
            <a:ext cx="53276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лен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6000" y="1295280"/>
            <a:ext cx="5543280" cy="3678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92640" y="4319640"/>
            <a:ext cx="4670640" cy="3106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48360" y="1301760"/>
            <a:ext cx="339408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адьба Поленово находится в очень живописном месте — на берегу Оки .Ее владельцем был знаменитый русский художник Василий Дмитриевич Поленов, почти все здания в имении и церковь, расположенная в соседнем селе Бехово, построены по его проек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280" y="5213520"/>
            <a:ext cx="49230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ой сосновый парк был также посажен художником, возраст деревьев — более ста лет. Это красивое место хорошо сохранилось — здесь все выглядит так же, как при прежнем хозяине, есть музей, с собранием его картин и личных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03280" y="336600"/>
            <a:ext cx="53276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нь-Кам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2040" y="1368360"/>
            <a:ext cx="5727600" cy="3743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191280" y="1584360"/>
            <a:ext cx="399888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менитый Конь-Камень представляет собой причудливое нагромождение кварцитовидного песчаника, появившегося из аптского яруса на крутом склоне реки Красивая М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280" y="5472000"/>
            <a:ext cx="95760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с данной каменной глыбы достигает примерно 20 тонн, а стоит он на трех небольших валунах, которые смотрятся в виде ног. Конь-камень напоминает конскую голову, которую окружают другие камни. В этом валуне имеется канавка треугольной формы, в большей мере природного происх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76000" y="360360"/>
            <a:ext cx="53276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1330200"/>
            <a:ext cx="4562640" cy="3422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92720" y="3456000"/>
            <a:ext cx="5040360" cy="3780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96000" y="1665360"/>
            <a:ext cx="49924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имение принадлежало Льву Николаевичу Толстому: здесь он родился, здесь писал главные свои произведения, здесь умер и здесь же похоронен. Ясная Поляна появилась в конце XVII 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2280" y="4903920"/>
            <a:ext cx="389736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еем имение стало через 11 лет после смерти Толстого - в 1921 году. Фондами занимались дети и внуки писателя, нынешний директор музея - его правн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1T16:28:11Z</dcterms:created>
  <dc:creator/>
  <dc:description/>
  <dc:language>en-US</dc:language>
  <cp:lastModifiedBy/>
  <dcterms:modified xsi:type="dcterms:W3CDTF">2015-10-11T17:29:22Z</dcterms:modified>
  <cp:revision>1</cp:revision>
  <dc:subject/>
  <dc:title/>
</cp:coreProperties>
</file>