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4A7-32BC-4187-8842-A0599C5D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52A-8B55-4753-9518-DAF97459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B01-056E-42B1-8D52-40EFB0F4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9ED-4A7F-44FC-A68A-3D623AB3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4869-F8A5-4C87-9A91-46A0A893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416-8FAE-4E0C-9BDC-29BDBE56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D45-791E-41B1-A69A-A6A1AF66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2B25-852F-4DD9-9C86-1BBAD327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8840-293E-4BAB-8D61-387ADB5F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B52-DDC0-41A2-A9D1-45D2E8AE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449-A69D-47E2-A736-C9271E4C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2395-899A-4D3B-90B6-7DA5945C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E1BD-404F-4A4B-8971-E89C39606D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357280"/>
            <a:ext cx="8029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66"/>
                </a:solidFill>
                <a:latin typeface="Calibri"/>
              </a:rPr>
              <a:t>Фокусы в математик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99880" y="4285800"/>
            <a:ext cx="5629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полнил ученик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класс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alibri"/>
              </a:rPr>
              <a:t>Сюрюн АНГЫ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оводитель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alibri"/>
              </a:rPr>
              <a:t>Шарый-оол Саяна Александро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0" descr=""/>
          <p:cNvPicPr/>
          <p:nvPr/>
        </p:nvPicPr>
        <p:blipFill>
          <a:blip r:embed="rId1"/>
          <a:stretch/>
        </p:blipFill>
        <p:spPr>
          <a:xfrm>
            <a:off x="1000080" y="3932280"/>
            <a:ext cx="1273320" cy="18781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3327840" y="607212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ус-Даг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25232634"/>
          <p:cNvPicPr/>
          <p:nvPr/>
        </p:nvPicPr>
        <p:blipFill>
          <a:blip r:embed="rId2"/>
          <a:stretch/>
        </p:blipFill>
        <p:spPr>
          <a:xfrm>
            <a:off x="3859200" y="712800"/>
            <a:ext cx="16398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400" y="928800"/>
            <a:ext cx="81867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66"/>
                </a:solidFill>
                <a:latin typeface="Calibri"/>
              </a:rPr>
              <a:t>Фокус М.Ю. Лермонтов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71680" y="1643040"/>
            <a:ext cx="38289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alibri"/>
              </a:rPr>
              <a:t>ФОК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умать любое числ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бавить к нему 2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бавить еще 12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нять 36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честь задуманное числ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таток умножить на 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енное число разделить на 2.Получи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8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57520" y="1642680"/>
            <a:ext cx="3429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Секрет фокуса</a:t>
            </a:r>
            <a:r>
              <a:rPr b="0" lang="ru-RU" sz="2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 + 25 + 125 – 36 - а) · 5 : 2 = =114 · 5 : 2 = 28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видно, в процессе выполнения действий, задуманное число а исключается, и собеседник выполняет остальные действия только над теми числами, которые дает сам отгадч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Наталья\Рабочий стол\картинки о школе к урокам\школа\3.png"/>
          <p:cNvPicPr/>
          <p:nvPr/>
        </p:nvPicPr>
        <p:blipFill>
          <a:blip r:embed="rId1"/>
          <a:stretch/>
        </p:blipFill>
        <p:spPr>
          <a:xfrm>
            <a:off x="4286160" y="1785960"/>
            <a:ext cx="102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78580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66"/>
                </a:solidFill>
                <a:latin typeface="Calibri"/>
              </a:rPr>
              <a:t>Математический фокус </a:t>
            </a:r>
            <a:br>
              <a:rPr sz="3600"/>
            </a:br>
            <a:r>
              <a:rPr b="1" i="1" lang="ru-RU" sz="3600" spc="-1" strike="noStrike">
                <a:solidFill>
                  <a:srgbClr val="cc0066"/>
                </a:solidFill>
                <a:latin typeface="Calibri"/>
              </a:rPr>
              <a:t>Дэвида Копперфильд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8400" y="1714680"/>
            <a:ext cx="442908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Calibri"/>
              </a:rPr>
              <a:t>«Удивительные час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адумайте какой-нибудь час (от 1 до 12). Задуманный вами час запомните. Теперь я буду указкой постукивать по часам. Каждый раз, когда постучу, прибавляйте к задуманному вами числу по одному. Когда вы досчитаете до двадцати, остановите меня. В этот момент  указка укажет на часах задуманное врем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43720" y="1785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Секрет фоку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начале нужно ударять указкой по циферблату по любым делениям до семи ударов. Восьмым ударом показывается число 12, а потом с каждым ударом перемещаемся влево (11, 10, 9 и т.д.). Когда вы скажете: «Довольно», указка будет стоять на том часе, который вы задумали. Расчет очень простой. Всего будет 20 ударов. Когда будет сделано восемь ударов, указка покажет число 12. С этого момента мы делаем еще столько ударов, сколько не достает вам до двадцати, так как, двигаясь влево, будут показываться числа, последовательно уменьшенные на единиц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4929120" y="3000240"/>
            <a:ext cx="692280" cy="11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68672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Calibri"/>
              </a:rPr>
              <a:t>Собственные фоку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571560" y="928800"/>
            <a:ext cx="51116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кус№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умать любое числ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бавить к нему 13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множить на 5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нять 50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Разделить на 5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нять 3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7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ычесть задуманное число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лучится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екрет фокус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  ((а + 13)*5 -50):5 - 3 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кус№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умать любое числ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нять 10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Разност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множить на 2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бавить к нему 13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5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нять задуманное числ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Прибавить 7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лучится задуманное число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екрет фокус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  ((а - 10)*2 +13) 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+7=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mq"/>
          <p:cNvPicPr/>
          <p:nvPr/>
        </p:nvPicPr>
        <p:blipFill>
          <a:blip r:embed="rId1"/>
          <a:stretch/>
        </p:blipFill>
        <p:spPr>
          <a:xfrm>
            <a:off x="428760" y="1857240"/>
            <a:ext cx="30207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292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cc"/>
                </a:solidFill>
                <a:latin typeface="Calibri"/>
              </a:rPr>
              <a:t>Выводы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712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Каждый из нас, несомненно, встречался с «фокусами». Разновидностей фокусов существует множество. Многие уже смело можно назвать «классикой жанра» — иллюзии с картами, веревками, монетами и пр. Так какие же фокусы наиболее интересны публике? Все!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но освоить много фокусов с помощью математ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Calibri"/>
              </a:rPr>
              <a:t>А секрет фокусов</a:t>
            </a:r>
            <a:r>
              <a:rPr b="1" i="1" lang="ru-RU" sz="3000" spc="-1" strike="noStrike">
                <a:solidFill>
                  <a:srgbClr val="cc0066"/>
                </a:solidFill>
                <a:latin typeface="Calibri"/>
              </a:rPr>
              <a:t> – </a:t>
            </a:r>
            <a:r>
              <a:rPr b="1" lang="ru-RU" sz="3000" spc="-1" strike="noStrike">
                <a:solidFill>
                  <a:srgbClr val="cc0066"/>
                </a:solidFill>
                <a:latin typeface="Calibri"/>
              </a:rPr>
              <a:t>прост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основе фокусов лежат все те же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уравнения, свойства делимости и др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:\Наташа\Наташа\Мои документы\картинки\1718901304-image380x380.jpg"/>
          <p:cNvPicPr/>
          <p:nvPr/>
        </p:nvPicPr>
        <p:blipFill>
          <a:blip r:embed="rId1"/>
          <a:srcRect l="15956" t="17432" r="10033" b="11517"/>
          <a:stretch/>
        </p:blipFill>
        <p:spPr>
          <a:xfrm>
            <a:off x="6786720" y="357120"/>
            <a:ext cx="133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cc"/>
                </a:solidFill>
                <a:latin typeface="Calibri"/>
              </a:rPr>
              <a:t>Заключ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Магия. Иллюзия. Фокусы.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рань между этими определениями очень тонка. Во всем этом есть недосказанность, интрига и загадка. Человеку всегда хочется если не постичь, то хотя бы прикоснуться к удивительному и необычному. А удивлять публику по-настоящему во все времена — чрезвычайно сложно. Но, к счастью, есть люди, которые умеют это делать –«фокусники» (факиры, иллюзионисты — так их еще называют) — «волшебники», создающие свой параллельный мир и заставляющие зрителя в этот мир поверит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Фокусы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звивают творческие начала личности, артистические способности, стимулируют потребность в творческом самовыражении.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Математические фокусы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пособствуют концентрации внимания и активизации учащихся на уроках математики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Математические фокусы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лезны в любом возрасте, они тренирует память, обостряют сообразительность.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Математические фокусы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чат логически мыслить, анализировать и сопоставлять, что необходимо при решении различных видов задач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Documents and Settings\Наталья\Рабочий стол\бочонок.jpg"/>
          <p:cNvPicPr/>
          <p:nvPr/>
        </p:nvPicPr>
        <p:blipFill>
          <a:blip r:embed="rId1"/>
          <a:stretch/>
        </p:blipFill>
        <p:spPr>
          <a:xfrm>
            <a:off x="7070760" y="500040"/>
            <a:ext cx="1360440" cy="1017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26960" y="5430960"/>
            <a:ext cx="10731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cc"/>
                </a:solidFill>
                <a:latin typeface="Calibri"/>
              </a:rPr>
              <a:t>Литератур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лк М. Б., Балк Г. Д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атематика после уроков». М. «Просвещение», 197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силевский А. Б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адания для внеклассной работы по математике». Минск: 1988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ульфов Б. З., Поташник М. М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Организатор внеклассной и внешкольной воспитательной работы». М. «Просвещение», 198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итцман В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«Веселое и занимательное о числах и фигурах». М.: 196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Боб Лонге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ематические фокусы: Издательство: «АСТ», «Астрель», 2007г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походит на волшебство... но на самом деле это математик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72240" y="357120"/>
            <a:ext cx="97020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0033"/>
                </a:solidFill>
                <a:latin typeface="Calibri"/>
              </a:rPr>
              <a:t>Цель проекта: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Расширить кругозор и повысить интеллектуальную активность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1.</a:t>
            </a: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знакомиться с литературой по данной те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знакомиться с историческими сведениями о возникновении математических фокус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3.</a:t>
            </a: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знакомиться с некоторыми видами фокус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4.</a:t>
            </a: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крыть закономерность составления некоторых фокус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ть собственные фокус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Актуальность проек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туальность проекта состоит в том, что магия фокуса способна разбудить сонных, растормошить ленивых, заставить думать  «тугодумов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570800" y="858960"/>
            <a:ext cx="13176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Calibri"/>
              </a:rPr>
              <a:t>Фокусник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известный автор (приписывается И. Босху). 1475—1480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ей Жермен - ан-Ле (Франци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571680" y="2214720"/>
            <a:ext cx="4357440" cy="362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5786280" y="2286000"/>
            <a:ext cx="271476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Calibri"/>
              </a:rPr>
              <a:t>Из истории фоку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ще в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ревней Эллад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ез игр не мыслилось гармоническое развитие личн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 древних времен известны головоломки Пифагора и Архимеда, русского флотоводца С.О. Макарова и американца С. Лойд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о из самых ранних упоминаний фокусов датируется приблизительно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700 годом до нашей эры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древнеегипетском папирусе был изображен некий Деди из Дедснефу, выполняющий фокус перед фараоно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кус под названием «Стаканы и шарики» был описан римлянином Сенекой еще 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I веке нашей э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но и по сей день его охотно включают в свой репертуар профессиональные иллюзионист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редневековой Европе ремесло фокусника считалось колдовством, а значит, занятием, караемым смертью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1584 году англичанин по имени Реджинальд Скотт в книге «Открытие колдовства» впервые попытался показать, как исполняются фокусы — благодаря ловкости рук, а не с помощью дьявола. Любопытно, что автор написал книгу с намерением «разоблачить» секреты магов, а вместо этого она стала первым учебником для начинающих  фокусников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Англии XVIII века фокусники и маги приобрели некоторое признание и положение в обществ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P1020189.JPG"/>
          <p:cNvPicPr/>
          <p:nvPr/>
        </p:nvPicPr>
        <p:blipFill>
          <a:blip r:embed="rId1"/>
          <a:srcRect l="22914" t="23442" r="52971" b="58473"/>
          <a:stretch/>
        </p:blipFill>
        <p:spPr>
          <a:xfrm>
            <a:off x="7358040" y="428760"/>
            <a:ext cx="1000080" cy="1000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Calibri"/>
              </a:rPr>
              <a:t>Из истории фоку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8" descr=""/>
          <p:cNvPicPr/>
          <p:nvPr/>
        </p:nvPicPr>
        <p:blipFill>
          <a:blip r:embed="rId2"/>
          <a:srcRect l="0" t="0" r="81271" b="63069"/>
          <a:stretch/>
        </p:blipFill>
        <p:spPr>
          <a:xfrm>
            <a:off x="714240" y="1500120"/>
            <a:ext cx="1928880" cy="20718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9" descr=""/>
          <p:cNvPicPr/>
          <p:nvPr/>
        </p:nvPicPr>
        <p:blipFill>
          <a:blip r:embed="rId3"/>
          <a:srcRect l="37976" t="0" r="40380" b="60457"/>
          <a:stretch/>
        </p:blipFill>
        <p:spPr>
          <a:xfrm>
            <a:off x="3357720" y="2143080"/>
            <a:ext cx="2071440" cy="15717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0" descr=""/>
          <p:cNvPicPr/>
          <p:nvPr/>
        </p:nvPicPr>
        <p:blipFill>
          <a:blip r:embed="rId4"/>
          <a:srcRect l="81440" t="0" r="0" b="63069"/>
          <a:stretch/>
        </p:blipFill>
        <p:spPr>
          <a:xfrm>
            <a:off x="6286680" y="1714680"/>
            <a:ext cx="2071440" cy="2000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" descr=""/>
          <p:cNvPicPr/>
          <p:nvPr/>
        </p:nvPicPr>
        <p:blipFill>
          <a:blip r:embed="rId5"/>
          <a:srcRect l="62028" t="55233" r="23545" b="0"/>
          <a:stretch/>
        </p:blipFill>
        <p:spPr>
          <a:xfrm>
            <a:off x="4929120" y="3857760"/>
            <a:ext cx="1928880" cy="2357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2" descr=""/>
          <p:cNvPicPr/>
          <p:nvPr/>
        </p:nvPicPr>
        <p:blipFill>
          <a:blip r:embed="rId6"/>
          <a:srcRect l="16328" t="55233" r="64433" b="0"/>
          <a:stretch/>
        </p:blipFill>
        <p:spPr>
          <a:xfrm>
            <a:off x="1571760" y="3857760"/>
            <a:ext cx="20001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Calibri"/>
              </a:rPr>
              <a:t>Из истории фоку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ое упоминание о математических фокусах встречаются в книге русского математи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онтия Филипповича Магницко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названием «Арифметика, сиречь наука числительная…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 глава книги была названа автором «Об утешных некиих действах, через арифметику употребляемых». Эта глава содержала математические игры и фокус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 Магницкий пишет, что поместил эту главу в книгу дл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утехи и особенно для изощрения ума учащихс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mq"/>
          <p:cNvPicPr/>
          <p:nvPr/>
        </p:nvPicPr>
        <p:blipFill>
          <a:blip r:embed="rId1"/>
          <a:stretch/>
        </p:blipFill>
        <p:spPr>
          <a:xfrm>
            <a:off x="7149960" y="5000760"/>
            <a:ext cx="15480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Calibri"/>
              </a:rPr>
              <a:t>Из истории фоку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ликий русский поэ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.Ю. Лермонт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л большим любителем математики. Особенно его привлекали математические фокусы, которых он знал великое множество, причем некоторые из них он придумывал с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жды, находясь в компании офицеров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рмонт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едложил: «Задумайте какую угодно цифру, и я с помощью простых арифметических действий, которые вы будете проводить со мною, определю эту цифру». В итоге Лермонтов безошибочно назвал ее. Батальонный был изумлен: «Фу ты... Да вы уж не колдун ли?!» Поэт улыбнулся: «Колдун - не колдун, а математике учился», и раскрыл секрет фокуса…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857920" y="5211720"/>
            <a:ext cx="1285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66"/>
                </a:solidFill>
                <a:latin typeface="Calibri"/>
              </a:rPr>
              <a:t>Виды фокус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икромаг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- фокусы с бумагой, картами, монетами, сигаретами и всякой другой подручной мелоч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идмэджик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– это виды фокусов, которые показываются на улиц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екоративное манипулирование кар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ольшие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окусы-иллюз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тематические фокус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снованы на свойствах чисел, действий, математических закон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857160" y="357120"/>
            <a:ext cx="1071720" cy="102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D:\Наташа\Наташа\Мои документы\картинки\король.jpg"/>
          <p:cNvPicPr/>
          <p:nvPr/>
        </p:nvPicPr>
        <p:blipFill>
          <a:blip r:embed="rId2"/>
          <a:stretch/>
        </p:blipFill>
        <p:spPr>
          <a:xfrm>
            <a:off x="7786800" y="3286080"/>
            <a:ext cx="990360" cy="147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142920" y="357192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7280" y="1213920"/>
            <a:ext cx="4143600" cy="7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66"/>
                </a:solidFill>
                <a:latin typeface="Calibri"/>
              </a:rPr>
              <a:t>ФОКУС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714560" y="2785680"/>
            <a:ext cx="39718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Разгадка фокус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мы к трехзначному числу приписали такое же число, то мы тем самым умножили его на 1001, а затем, разделив последовательно на 7, 11, 13, мы разделили его на 1001, то есть получили задуманное трехзначное число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8400" y="1285560"/>
            <a:ext cx="4043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пишит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листе бумаги любое трехзначное число. Дале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писа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ему это же число еще раз. Получится шестизначное число. Передать лист соседу, пусть он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ит это число н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Передать листочек дальше, пусть следующи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ит полученное число на 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Снова передать результат дальше, следующий пус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ит полученное число на 1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Затем передать листочек «фокуснику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Фокусник» называет задуманное числ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Наталья\Рабочий стол\картинки о школе к урокам\школа\5.png"/>
          <p:cNvPicPr/>
          <p:nvPr/>
        </p:nvPicPr>
        <p:blipFill>
          <a:blip r:embed="rId1"/>
          <a:stretch/>
        </p:blipFill>
        <p:spPr>
          <a:xfrm>
            <a:off x="6215040" y="642960"/>
            <a:ext cx="130968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7:55:30Z</dcterms:created>
  <dc:creator>Наталья</dc:creator>
  <dc:description/>
  <dc:language>en-US</dc:language>
  <cp:lastModifiedBy>фгос</cp:lastModifiedBy>
  <dcterms:modified xsi:type="dcterms:W3CDTF">2015-10-11T13:29:13Z</dcterms:modified>
  <cp:revision>22</cp:revision>
  <dc:subject/>
  <dc:title>Фокусы в математике</dc:title>
</cp:coreProperties>
</file>