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FC1-65EF-4F5E-A20E-7E27847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CA1-CB88-402B-8C5A-7924883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201-8A3F-42D3-85BA-4CE553C1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0F4-125A-461F-9155-E0239136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ED0-EAE4-4F06-922D-79CE9892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69C-6CF9-4D63-B053-F292B0A1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478-7B46-4C5A-A141-3EA58EC6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BAE-4735-42C8-BE9D-BA41886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03E-FA74-4D28-988D-8C4A346B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990-5640-43D8-BC8F-D90C910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9DF-B919-4010-907C-FCE74B7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BDB-4F05-49EE-B899-00DA824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D939-62DB-4F98-9EED-AD8CA5FBD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8029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Calibri"/>
              </a:rPr>
              <a:t>Фокусы в математи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9880" y="4285800"/>
            <a:ext cx="5629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ил ученик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Сюрюн АНГЫ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Шарый-оол Сая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0" descr=""/>
          <p:cNvPicPr/>
          <p:nvPr/>
        </p:nvPicPr>
        <p:blipFill>
          <a:blip r:embed="rId1"/>
          <a:stretch/>
        </p:blipFill>
        <p:spPr>
          <a:xfrm>
            <a:off x="1000080" y="3932280"/>
            <a:ext cx="1273320" cy="1878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327840" y="607212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с-Даг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25232634"/>
          <p:cNvPicPr/>
          <p:nvPr/>
        </p:nvPicPr>
        <p:blipFill>
          <a:blip r:embed="rId2"/>
          <a:stretch/>
        </p:blipFill>
        <p:spPr>
          <a:xfrm>
            <a:off x="3859200" y="712800"/>
            <a:ext cx="16398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928800"/>
            <a:ext cx="8186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Calibri"/>
              </a:rPr>
              <a:t>Фокус М.Ю. Лермонтов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1643040"/>
            <a:ext cx="3828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ФОК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авить к нему 2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авить еще 12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ять 3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есть задуманное чис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ток умножить на 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ное число разделить на 2.Получи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57520" y="164268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Секрет фокуса</a:t>
            </a:r>
            <a:r>
              <a:rPr b="0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 + 25 + 125 – 36 - а) · 5 : 2 = =114 · 5 : 2 = 28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идно, в процессе выполнения действий, задуманное число а исключается, и собеседник выполняет остальные действия только над теми числами, которые дает сам отгадч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Наталья\Рабочий стол\картинки о школе к урокам\школа\3.png"/>
          <p:cNvPicPr/>
          <p:nvPr/>
        </p:nvPicPr>
        <p:blipFill>
          <a:blip r:embed="rId1"/>
          <a:stretch/>
        </p:blipFill>
        <p:spPr>
          <a:xfrm>
            <a:off x="4286160" y="1785960"/>
            <a:ext cx="102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858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Calibri"/>
              </a:rPr>
              <a:t>Математический фокус </a:t>
            </a:r>
            <a:br>
              <a:rPr sz="3600"/>
            </a:br>
            <a:r>
              <a:rPr b="1" i="1" lang="ru-RU" sz="3600" spc="-1" strike="noStrike">
                <a:solidFill>
                  <a:srgbClr val="cc0066"/>
                </a:solidFill>
                <a:latin typeface="Calibri"/>
              </a:rPr>
              <a:t>Дэвида Копперфильд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714680"/>
            <a:ext cx="44290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Calibri"/>
              </a:rPr>
              <a:t>«Удивительные час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думайте какой-нибудь час (от 1 до 12). Задуманный вами час запомните. Теперь я буду указкой постукивать по часам. Каждый раз, когда постучу, прибавляйте к задуманному вами числу по одному. Когда вы досчитаете до двадцати, остановите меня. В этот момент  указка укажет на часах задуманное врем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43720" y="1785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Секрет фоку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ачале нужно ударять указкой по циферблату по любым делениям до семи ударов. Восьмым ударом показывается число 12, а потом с каждым ударом перемещаемся влево (11, 10, 9 и т.д.). Когда вы скажете: «Довольно», указка будет стоять на том часе, который вы задумали. Расчет очень простой. Всего будет 20 ударов. Когда будет сделано восемь ударов, указка покажет число 12. С этого момента мы делаем еще столько ударов, сколько не достает вам до двадцати, так как, двигаясь влево, будут показываться числа, последовательно уменьшенные на единиц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929120" y="3000240"/>
            <a:ext cx="6922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686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Calibri"/>
              </a:rPr>
              <a:t>Собственные фок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1560" y="928800"/>
            <a:ext cx="5111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кус№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бавить к нему 1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ожить на 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5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Разделить на 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сть задуманное число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учится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крет фок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  ((а + 13)*5 -50):5 - 3 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кус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умать люб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1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Разност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ножить на 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бавить к нему 1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ять задуманное числ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Прибавить 7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учится задуманное числ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крет фок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  ((а - 10)*2 +13) 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+7=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mq"/>
          <p:cNvPicPr/>
          <p:nvPr/>
        </p:nvPicPr>
        <p:blipFill>
          <a:blip r:embed="rId1"/>
          <a:stretch/>
        </p:blipFill>
        <p:spPr>
          <a:xfrm>
            <a:off x="428760" y="1857240"/>
            <a:ext cx="30207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Calibri"/>
              </a:rPr>
              <a:t>Вывод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ждый из нас, несомненно, встречался с «фокусами». Разновидностей фокусов существует множество. Многие уже смело можно назвать «классикой жанра» — иллюзии с картами, веревками, монетами и пр. Так какие же фокусы наиболее интересны публике? Все!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но освоить много фокусов с помощью матема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Calibri"/>
              </a:rPr>
              <a:t>А секрет фокусов</a:t>
            </a:r>
            <a:r>
              <a:rPr b="1" i="1" lang="ru-RU" sz="3000" spc="-1" strike="noStrike">
                <a:solidFill>
                  <a:srgbClr val="cc0066"/>
                </a:solidFill>
                <a:latin typeface="Calibri"/>
              </a:rPr>
              <a:t> – </a:t>
            </a:r>
            <a:r>
              <a:rPr b="1" lang="ru-RU" sz="3000" spc="-1" strike="noStrike">
                <a:solidFill>
                  <a:srgbClr val="cc0066"/>
                </a:solidFill>
                <a:latin typeface="Calibri"/>
              </a:rPr>
              <a:t>прост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основе фокусов лежат все те же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равнения, свойства делимости и др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:\Наташа\Наташа\Мои документы\картинки\1718901304-image380x380.jpg"/>
          <p:cNvPicPr/>
          <p:nvPr/>
        </p:nvPicPr>
        <p:blipFill>
          <a:blip r:embed="rId1"/>
          <a:srcRect l="15956" t="17432" r="10033" b="11517"/>
          <a:stretch/>
        </p:blipFill>
        <p:spPr>
          <a:xfrm>
            <a:off x="6786720" y="357120"/>
            <a:ext cx="133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Calibri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гия. Иллюзия. Фокусы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рань между этими определениями очень тонка. Во всем этом есть недосказанность, интрига и загадка. Человеку всегда хочется если не постичь, то хотя бы прикоснуться к удивительному и необычному. А удивлять публику по-настоящему во все времена — чрезвычайно сложно. Но, к счастью, есть люди, которые умеют это делать –«фокусники» (факиры, иллюзионисты — так их еще называют) — «волшебники», создающие свой параллельный мир и заставляющие зрителя в этот мир повери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вивают творческие начала личности, артистические способности, стимулируют потребность в творческом самовыражен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особствуют концентрации внимания и активизации учащихся на уроках математи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лезны в любом возрасте, они тренирует память, обостряют сообразительность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ат логически мыслить, анализировать и сопоставлять, что необходимо при решении различных видов задач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Наталья\Рабочий стол\бочонок.jpg"/>
          <p:cNvPicPr/>
          <p:nvPr/>
        </p:nvPicPr>
        <p:blipFill>
          <a:blip r:embed="rId1"/>
          <a:stretch/>
        </p:blipFill>
        <p:spPr>
          <a:xfrm>
            <a:off x="7070760" y="500040"/>
            <a:ext cx="1360440" cy="10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26960" y="5430960"/>
            <a:ext cx="1073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Calibri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лк М. Б., Балк Г. Д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тематика после уроков». М. «Просвещение», 197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силевский А. 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дания для внеклассной работы по математике». Минск: 1988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ульфов Б. З., Поташник М. 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рганизатор внеклассной и внешкольной воспитательной работы». М. «Просвещение», 198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цман В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Веселое и занимательное о числах и фигурах». М.: 196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Боб Лонге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ческие фокусы: Издательство: «АСТ», «Астрель», 2007г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походит на волшебство... но на самом деле это математи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72240" y="357120"/>
            <a:ext cx="9702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0033"/>
                </a:solidFill>
                <a:latin typeface="Calibri"/>
              </a:rPr>
              <a:t>Цель проекта: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сширить кругозор и повысить интеллектуальную активность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литературой по данной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историческими сведениями о возникновении математических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ся с некоторыми видами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4.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крыть закономерность составления некоторых фоку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собственные фок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Актуальность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ьность проекта состоит в том, что магия фокуса способна разбудить сонных, растормошить ленивых, заставить думать  «тугодумов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570800" y="858960"/>
            <a:ext cx="1317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Calibri"/>
              </a:rPr>
              <a:t>Фокусник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ый автор (приписывается И. Босху). 1475—1480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ей Жермен - ан-Ле (Франц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71680" y="2214720"/>
            <a:ext cx="4357440" cy="36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5786280" y="2286000"/>
            <a:ext cx="27147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е 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ревней Эллад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 игр не мыслилось гармоническое развитие лич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древних времен известны головоломки Пифагора и Архимеда, русского флотоводца С.О. Макарова и американца С. Лой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 из самых ранних упоминаний фокусов датируется приблизительн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700 годом до нашей эры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древнеегипетском папирусе был изображен некий Деди из Дедснефу, выполняющий фокус перед фараон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кус под названием «Стаканы и шарики» был описан римлянином Сенекой еще 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I веке нашей э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и по сей день его охотно включают в свой репертуар профессиональные иллюзионист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редневековой Европе ремесло фокусника считалось колдовством, а значит, занятием, караемым смер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584 году англичанин по имени Реджинальд Скотт в книге «Открытие колдовства» впервые попытался показать, как исполняются фокусы — благодаря ловкости рук, а не с помощью дьявола. Любопытно, что автор написал книгу с намерением «разоблачить» секреты магов, а вместо этого она стала первым учебником для начинающих  фокусников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Англии XVIII века фокусники и маги приобрели некоторое признание и положение в общест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P1020189.JPG"/>
          <p:cNvPicPr/>
          <p:nvPr/>
        </p:nvPicPr>
        <p:blipFill>
          <a:blip r:embed="rId1"/>
          <a:srcRect l="22914" t="23442" r="52971" b="58473"/>
          <a:stretch/>
        </p:blipFill>
        <p:spPr>
          <a:xfrm>
            <a:off x="7358040" y="428760"/>
            <a:ext cx="1000080" cy="10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"/>
          <p:cNvPicPr/>
          <p:nvPr/>
        </p:nvPicPr>
        <p:blipFill>
          <a:blip r:embed="rId2"/>
          <a:srcRect l="0" t="0" r="81271" b="63069"/>
          <a:stretch/>
        </p:blipFill>
        <p:spPr>
          <a:xfrm>
            <a:off x="714240" y="150012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3"/>
          <a:srcRect l="37976" t="0" r="40380" b="60457"/>
          <a:stretch/>
        </p:blipFill>
        <p:spPr>
          <a:xfrm>
            <a:off x="3357720" y="2143080"/>
            <a:ext cx="207144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"/>
          <p:cNvPicPr/>
          <p:nvPr/>
        </p:nvPicPr>
        <p:blipFill>
          <a:blip r:embed="rId4"/>
          <a:srcRect l="81440" t="0" r="0" b="63069"/>
          <a:stretch/>
        </p:blipFill>
        <p:spPr>
          <a:xfrm>
            <a:off x="6286680" y="171468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"/>
          <p:cNvPicPr/>
          <p:nvPr/>
        </p:nvPicPr>
        <p:blipFill>
          <a:blip r:embed="rId5"/>
          <a:srcRect l="62028" t="55233" r="23545" b="0"/>
          <a:stretch/>
        </p:blipFill>
        <p:spPr>
          <a:xfrm>
            <a:off x="4929120" y="3857760"/>
            <a:ext cx="192888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"/>
          <p:cNvPicPr/>
          <p:nvPr/>
        </p:nvPicPr>
        <p:blipFill>
          <a:blip r:embed="rId6"/>
          <a:srcRect l="16328" t="55233" r="64433" b="0"/>
          <a:stretch/>
        </p:blipFill>
        <p:spPr>
          <a:xfrm>
            <a:off x="1571760" y="3857760"/>
            <a:ext cx="2000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поминание о математических фокусах встречаются в книге русского математи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онтия Филипповича Магницк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азванием «Арифметика, сиречь наука числительная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глава книги была названа автором «Об утешных некиих действах, через арифметику употребляемых». Эта глава содержала математические игры и фок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 Магницкий пишет, что поместил эту главу в книгу дл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утехи и особенно для изощрения ума учащихс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mq"/>
          <p:cNvPicPr/>
          <p:nvPr/>
        </p:nvPicPr>
        <p:blipFill>
          <a:blip r:embed="rId1"/>
          <a:stretch/>
        </p:blipFill>
        <p:spPr>
          <a:xfrm>
            <a:off x="7149960" y="5000760"/>
            <a:ext cx="1548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alibri"/>
              </a:rPr>
              <a:t>Из истории фок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ликий русский поэ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Ю. Лермонт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большим любителем математики. Особенно его привлекали математические фокусы, которых он знал великое множество, причем некоторые из них он придумывал с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, находясь в компании офицеров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рмонт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ложил: «Задумайте какую угодно цифру, и я с помощью простых арифметических действий, которые вы будете проводить со мною, определю эту цифру». В итоге Лермонтов безошибочно назвал ее. Батальонный был изумлен: «Фу ты... Да вы уж не колдун ли?!» Поэт улыбнулся: «Колдун - не колдун, а математике учился», и раскрыл секрет фокуса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857920" y="5211720"/>
            <a:ext cx="1285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Calibri"/>
              </a:rPr>
              <a:t>Виды фокус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икромаг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- фокусы с бумагой, картами, монетами, сигаретами и всякой другой подручной мело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идмэджи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– это виды фокусов, которые показываются на ул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коративное манипулирование кар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кусы-иллю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тематические фокус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нованы на свойствах чисел, действий, математических зако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1071720" cy="102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Наташа\Наташа\Мои документы\картинки\король.jpg"/>
          <p:cNvPicPr/>
          <p:nvPr/>
        </p:nvPicPr>
        <p:blipFill>
          <a:blip r:embed="rId2"/>
          <a:stretch/>
        </p:blipFill>
        <p:spPr>
          <a:xfrm>
            <a:off x="7786800" y="3286080"/>
            <a:ext cx="990360" cy="147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142920" y="35719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7280" y="1213920"/>
            <a:ext cx="414360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ФОКУС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714560" y="2785680"/>
            <a:ext cx="39718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Разгадка фоку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мы к трехзначному числу приписали такое же число, то мы тем самым умножили его на 1001, а затем, разделив последовательно на 7, 11, 13, мы разделили его на 1001, то есть получили задуманное трехзначное число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285560"/>
            <a:ext cx="404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иши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листе бумаги любое трехзначное число. Дале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пис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 это же число еще раз. Получится шестизначное число. Передать лист соседу, пусть о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это число 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ередать листочек дальше, пусть следующи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полученное число на 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нова передать результат дальше, следующий пус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 полученное число на 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Затем передать листочек «фокуснику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Фокусник» называет задуманное чи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Наталья\Рабочий стол\картинки о школе к урокам\школа\5.png"/>
          <p:cNvPicPr/>
          <p:nvPr/>
        </p:nvPicPr>
        <p:blipFill>
          <a:blip r:embed="rId1"/>
          <a:stretch/>
        </p:blipFill>
        <p:spPr>
          <a:xfrm>
            <a:off x="6215040" y="642960"/>
            <a:ext cx="13096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7:55:30Z</dcterms:created>
  <dc:creator>Наталья</dc:creator>
  <dc:description/>
  <dc:language>en-US</dc:language>
  <cp:lastModifiedBy>фгос</cp:lastModifiedBy>
  <dcterms:modified xsi:type="dcterms:W3CDTF">2015-10-11T13:29:13Z</dcterms:modified>
  <cp:revision>22</cp:revision>
  <dc:subject/>
  <dc:title>Фокусы в математике</dc:title>
</cp:coreProperties>
</file>