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100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917280" y="754200"/>
            <a:ext cx="5024520" cy="376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7"/>
          </p:nvPr>
        </p:nvSpPr>
        <p:spPr>
          <a:xfrm>
            <a:off x="-3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8"/>
          </p:nvPr>
        </p:nvSpPr>
        <p:spPr>
          <a:xfrm>
            <a:off x="388440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87B5-80FC-48A7-AF3A-5130DC8FB1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DB64-FB59-41D5-9E0B-793DE0BC52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4520" cy="37684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0183-5D20-4C1F-8539-BD3E6B0C8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4520" cy="37684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КЛАССНОГО РУКОВОДИТЕЛЯ ЮРЧИКОВОЙ, ОПЫТ ГПП ЖДАНОВА, ГРУППОВОЕ ЗАНЯТИЕ «ОТВЕТСТВЕННОСТЬ ЗА ГРУППОВЫЕ ПРАВОНАРУШ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2953-087E-43C5-9657-193A975F9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4520" cy="37684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ЛАМА ЗАНЯТИЙ ИЗ ТРЕНИНГА ПО КОНСТРУКТИВНОМУ ОБЩЕНИЮ, РЕКЛАМА ПРОФИЛАКТИЧЕСКО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38A4-76A9-4036-973C-ECB2362923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4520" cy="37684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 АСОЦИАЛЬНОГО ПОВЕДЕНИЯ «БАРЬЕР», ОПЫТ ШКОЛЬНОГО САМОУПРАВЛЕНИЯ ЖДАНОВА, ПРЕЗЕНТАЦИЯ «СЕМЬЯ, СВОБОДНАЯ ОТ КУРЕНИЯ» КОРЯГ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637-669B-4978-A471-32488200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E9E-616E-49C8-B915-F8D52856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CB0-2ABB-4323-A486-3679FD82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3D2-FB46-41D8-BED3-DE36F9DA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4423-26D1-411D-A397-332DD6A6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F69F-4E8F-4549-8147-B81DAE71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DE7B-5524-427B-90C0-DFD9EDC6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8E45-D0CE-4566-BA3E-6A071564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6B9E-CE56-4BE2-AF56-39B8519C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6D81-9334-4442-8F62-37656BB6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00E8-8F06-463A-A7C0-C17731DD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68E-5E34-467D-BA6F-34081893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7851-A7C7-49AA-AC73-AD684303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34F0-1286-4ECE-BE46-A5E76506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1688-1F60-49E6-963E-2EC9FFD5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5D73-2A60-413F-84D3-AF18BE6C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5E70-41E5-45E5-A998-9BD2EC14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C3C6A-E64D-44AE-B931-57CEC05C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FB3FB-EC94-4B4A-A96F-975AB4BD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EF94-8DE1-4A32-A836-59EDAE9B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58161-80F8-4BF5-B73E-3E51C13D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643E9-3F82-4EB4-A4AD-38C4F7DC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110-DFFE-4FF5-A1EC-8484BDDD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EBDE-FB09-4D3C-9DDC-843C789E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7FE3E-29EB-4ED6-80A9-B715C62A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38556-9A5F-4EF6-9D7A-88654BD5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FE839-F151-47EE-9EE9-D518A77B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8548B-5594-4A66-BE0B-C8372A9B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A02F-2D1A-4A76-A783-6D484661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64A87-F784-4DA6-82D9-E39E113F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2D2C3-41A4-44CD-BE1A-C1CA8ECA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686A-7743-4D50-BA76-211F9027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D03C1-6376-4E65-8EF8-F50E3897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386-933E-4E99-BF3D-60C07515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A403B-340C-493B-823A-0F4D567F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6F732-C924-4935-B137-342F3BFE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12F03-5418-4731-AB13-05EE8A09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B1513-12E9-4363-84BB-136AED54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EEAD1-C7CB-47C8-BB7B-098FB265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3737C-0C7C-4EE0-AC37-B9E973D3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A9E2D-7AF7-4171-B103-282FF581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5CE3D-3EDB-48EF-8DC7-945660D8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B2B37-078F-4A57-AB07-685D1FF6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6B8AF-2A58-4680-AB41-F86C4D33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87E-4BA6-424F-A349-A0CA2FB0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97880-760A-4CF9-8E41-ACA02B55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70257-DB7F-4A2D-8C71-737D03BA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1B039-27E2-4147-8BAE-1BE987F3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6BC80-8EAB-44EE-9196-E9072863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7CE72-0A61-45EE-8F7D-F39619F7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488A0-C46F-478C-B8D6-00D491C9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331FF-5577-4ECC-943B-D7CC80FD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93064-5CC3-4AB1-9DE7-ED9B0D2D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A0E18-1217-40D3-A709-2816108A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920E0-452F-4279-AECE-E6CDD933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4EB-26A1-4F9A-BD1E-410EC928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8F1BD-C73A-4391-A3DE-00B9C725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313-C75D-4A37-A8C3-98586DBB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3F0-E7A9-4826-B4CF-C9910B14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206-C0D9-46B4-B02B-B6FD313A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EEAB-E4ED-41C6-9E8A-F78BFECE87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3534-2970-46B2-95A7-E985C8552E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48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49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2DAE-C95F-4CF1-9714-AFC948D4F98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145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146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147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7086-9B0A-4EE5-8E8E-06A5A7A634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9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0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20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3130-ABCA-440D-9A33-5D8E89DDF48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9720" y="714240"/>
            <a:ext cx="6723000" cy="2286000"/>
          </a:xfrm>
          <a:prstGeom prst="rect">
            <a:avLst/>
          </a:prstGeom>
          <a:solidFill>
            <a:srgbClr val="0090e5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 Black"/>
              </a:rPr>
              <a:t>Работа с учащимися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 Black"/>
              </a:rPr>
              <a:t>«группы риска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257" name="Picture 2" descr="http://atworks.ru/wp-content/uploads/2012/08/45366634634.jpg"/>
          <p:cNvPicPr/>
          <p:nvPr/>
        </p:nvPicPr>
        <p:blipFill>
          <a:blip r:embed="rId1"/>
          <a:stretch/>
        </p:blipFill>
        <p:spPr>
          <a:xfrm>
            <a:off x="4214880" y="2643120"/>
            <a:ext cx="471492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Эмоциональные нарушения у детей </a:t>
            </a:r>
            <a:br>
              <a:rPr sz="40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8400" y="2071440"/>
            <a:ext cx="8429400" cy="346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ые дети            Застенчивые, тревожны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 расторможенные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Прямая со стрелкой 5"/>
          <p:cNvCxnSpPr/>
          <p:nvPr/>
        </p:nvCxnSpPr>
        <p:spPr>
          <a:xfrm flipH="1">
            <a:off x="1928520" y="857160"/>
            <a:ext cx="128664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1" name="Прямая со стрелкой 7"/>
          <p:cNvCxnSpPr/>
          <p:nvPr/>
        </p:nvCxnSpPr>
        <p:spPr>
          <a:xfrm flipH="1">
            <a:off x="4500360" y="92844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Прямая со стрелкой 9"/>
          <p:cNvCxnSpPr/>
          <p:nvPr/>
        </p:nvCxnSpPr>
        <p:spPr>
          <a:xfrm>
            <a:off x="6286320" y="928440"/>
            <a:ext cx="9291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83" name="Picture 4" descr="http://madou169.ru/wp-content/uploads/2012/10/proffesor1.jpg"/>
          <p:cNvPicPr/>
          <p:nvPr/>
        </p:nvPicPr>
        <p:blipFill>
          <a:blip r:embed="rId1"/>
          <a:stretch/>
        </p:blipFill>
        <p:spPr>
          <a:xfrm>
            <a:off x="7037280" y="4316400"/>
            <a:ext cx="21067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500040" y="428760"/>
            <a:ext cx="8286840" cy="436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работать с детьми с эмоциональными нарушениями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правильно направлять, проявлять свои чув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адекватным формам реаг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граждать от отрицательных пережив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ребовать, чтобы ребенок не пережи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http://uadocs.exdat.com/pars_docs/tw_refs/138/137358/137358_html_467538a5.png"/>
          <p:cNvPicPr/>
          <p:nvPr/>
        </p:nvPicPr>
        <p:blipFill>
          <a:blip r:embed="rId1"/>
          <a:stretch/>
        </p:blipFill>
        <p:spPr>
          <a:xfrm>
            <a:off x="6429240" y="414324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6"/>
          <p:cNvSpPr txBox="1"/>
          <p:nvPr/>
        </p:nvSpPr>
        <p:spPr>
          <a:xfrm>
            <a:off x="900000" y="692280"/>
            <a:ext cx="734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428760" y="428760"/>
            <a:ext cx="8429400" cy="57020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ти  с психической неустойчив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тся,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звольные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вышенно внушаемые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 неустойчивым настроени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чувства дол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особность тормозить свои жел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особность подчиняться требованиям школьной дисципл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4"/>
          <p:cNvSpPr/>
          <p:nvPr/>
        </p:nvSpPr>
        <p:spPr>
          <a:xfrm>
            <a:off x="428760" y="2286000"/>
            <a:ext cx="8358120" cy="24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ти с преобладанием явлений аффективной возбуд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проявление – аффективные разря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ие конфликтов путем агр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http://taranenko.com.ua/wp-content/uploads/2012/03/Svyaz-slova-s-tsentralnym-soderzhaniyem.gif"/>
          <p:cNvPicPr/>
          <p:nvPr/>
        </p:nvPicPr>
        <p:blipFill>
          <a:blip r:embed="rId1"/>
          <a:stretch/>
        </p:blipFill>
        <p:spPr>
          <a:xfrm>
            <a:off x="214200" y="142920"/>
            <a:ext cx="2900520" cy="2071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http://www.lcps.org/cms/lib4/VA01000195/Centricity/Domain/11412/ReadingManiacs.gif"/>
          <p:cNvPicPr/>
          <p:nvPr/>
        </p:nvPicPr>
        <p:blipFill>
          <a:blip r:embed="rId2"/>
          <a:stretch/>
        </p:blipFill>
        <p:spPr>
          <a:xfrm>
            <a:off x="6572160" y="4786200"/>
            <a:ext cx="24750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http://cpvwebmedia.com/wp-content/uploads/2012/01/internet-business-consultin.jpg"/>
          <p:cNvPicPr/>
          <p:nvPr/>
        </p:nvPicPr>
        <p:blipFill>
          <a:blip r:embed="rId1"/>
          <a:stretch/>
        </p:blipFill>
        <p:spPr>
          <a:xfrm>
            <a:off x="142920" y="3929040"/>
            <a:ext cx="5024520" cy="278604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1"/>
          <p:cNvSpPr/>
          <p:nvPr/>
        </p:nvSpPr>
        <p:spPr>
          <a:xfrm>
            <a:off x="571680" y="428760"/>
            <a:ext cx="8001000" cy="947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е специалистов, работающих с детьми «группы рис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Прямая со стрелкой 3"/>
          <p:cNvCxnSpPr/>
          <p:nvPr/>
        </p:nvCxnSpPr>
        <p:spPr>
          <a:xfrm flipH="1">
            <a:off x="1499400" y="1428840"/>
            <a:ext cx="71532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4" name="Прямоугольник 4"/>
          <p:cNvSpPr/>
          <p:nvPr/>
        </p:nvSpPr>
        <p:spPr>
          <a:xfrm>
            <a:off x="285840" y="2643120"/>
            <a:ext cx="2071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ач-психоневр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5"/>
          <p:cNvSpPr/>
          <p:nvPr/>
        </p:nvSpPr>
        <p:spPr>
          <a:xfrm>
            <a:off x="2500200" y="3214800"/>
            <a:ext cx="1928880" cy="36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ект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6"/>
          <p:cNvSpPr/>
          <p:nvPr/>
        </p:nvSpPr>
        <p:spPr>
          <a:xfrm>
            <a:off x="4071960" y="3786120"/>
            <a:ext cx="185724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7"/>
          <p:cNvSpPr/>
          <p:nvPr/>
        </p:nvSpPr>
        <p:spPr>
          <a:xfrm>
            <a:off x="5643720" y="4214880"/>
            <a:ext cx="1785960" cy="368280"/>
          </a:xfrm>
          <a:prstGeom prst="rect">
            <a:avLst/>
          </a:prstGeom>
          <a:solidFill>
            <a:srgbClr val="729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8"/>
          <p:cNvSpPr/>
          <p:nvPr/>
        </p:nvSpPr>
        <p:spPr>
          <a:xfrm>
            <a:off x="7286760" y="4714920"/>
            <a:ext cx="16430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циальный педа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Прямая со стрелкой 10"/>
          <p:cNvCxnSpPr/>
          <p:nvPr/>
        </p:nvCxnSpPr>
        <p:spPr>
          <a:xfrm flipH="1">
            <a:off x="3355200" y="1428480"/>
            <a:ext cx="252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Прямая со стрелкой 12"/>
          <p:cNvCxnSpPr/>
          <p:nvPr/>
        </p:nvCxnSpPr>
        <p:spPr>
          <a:xfrm>
            <a:off x="4785120" y="1500120"/>
            <a:ext cx="143640" cy="185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Прямая со стрелкой 14"/>
          <p:cNvCxnSpPr/>
          <p:nvPr/>
        </p:nvCxnSpPr>
        <p:spPr>
          <a:xfrm>
            <a:off x="5999760" y="1500120"/>
            <a:ext cx="572040" cy="26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2" name="Прямая со стрелкой 16"/>
          <p:cNvCxnSpPr/>
          <p:nvPr/>
        </p:nvCxnSpPr>
        <p:spPr>
          <a:xfrm>
            <a:off x="7358040" y="1428480"/>
            <a:ext cx="1000800" cy="307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3"/>
          <p:cNvSpPr/>
          <p:nvPr/>
        </p:nvSpPr>
        <p:spPr>
          <a:xfrm>
            <a:off x="1071720" y="428760"/>
            <a:ext cx="764352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ие правила при работе с деть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группы рис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4"/>
          <p:cNvSpPr/>
          <p:nvPr/>
        </p:nvSpPr>
        <p:spPr>
          <a:xfrm>
            <a:off x="857160" y="2143080"/>
            <a:ext cx="8072640" cy="3719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35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Ответственность педагога в решении этой пробл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35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Соблюдать осторож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35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Обратить внимание на особенности семейн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"/>
          <p:cNvSpPr/>
          <p:nvPr/>
        </p:nvSpPr>
        <p:spPr>
          <a:xfrm>
            <a:off x="5867280" y="3860640"/>
            <a:ext cx="29178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оки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50920" y="3213000"/>
            <a:ext cx="280836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окое 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ей к де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324000" y="4149720"/>
            <a:ext cx="30956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лоупотреб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коголем и наркот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50920" y="5229360"/>
            <a:ext cx="3311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оциальные, психи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ые 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059280" y="6021360"/>
            <a:ext cx="3168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5508720" y="5300640"/>
            <a:ext cx="3168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табильна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5651640" y="4653000"/>
            <a:ext cx="3168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больша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940360" y="3141720"/>
            <a:ext cx="2879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ей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5651640" y="2060640"/>
            <a:ext cx="316836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адекватное воспит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изкий конта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ей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395280" y="1916280"/>
            <a:ext cx="2521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рав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3132000" y="1125360"/>
            <a:ext cx="259236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раз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5"/>
          <p:cNvSpPr/>
          <p:nvPr/>
        </p:nvSpPr>
        <p:spPr>
          <a:xfrm>
            <a:off x="3635280" y="3068640"/>
            <a:ext cx="15843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6"/>
          <p:cNvSpPr/>
          <p:nvPr/>
        </p:nvSpPr>
        <p:spPr>
          <a:xfrm flipV="1">
            <a:off x="4427640" y="1844640"/>
            <a:ext cx="0" cy="1224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7"/>
          <p:cNvSpPr/>
          <p:nvPr/>
        </p:nvSpPr>
        <p:spPr>
          <a:xfrm flipV="1">
            <a:off x="4643280" y="2349360"/>
            <a:ext cx="936720" cy="71928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8"/>
          <p:cNvSpPr/>
          <p:nvPr/>
        </p:nvSpPr>
        <p:spPr>
          <a:xfrm>
            <a:off x="5148360" y="3284640"/>
            <a:ext cx="792000" cy="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9"/>
          <p:cNvSpPr/>
          <p:nvPr/>
        </p:nvSpPr>
        <p:spPr>
          <a:xfrm>
            <a:off x="5076720" y="3716280"/>
            <a:ext cx="790560" cy="28908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4859280" y="3933720"/>
            <a:ext cx="865080" cy="7192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1"/>
          <p:cNvSpPr/>
          <p:nvPr/>
        </p:nvSpPr>
        <p:spPr>
          <a:xfrm>
            <a:off x="4716360" y="4005360"/>
            <a:ext cx="792360" cy="13683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2"/>
          <p:cNvSpPr/>
          <p:nvPr/>
        </p:nvSpPr>
        <p:spPr>
          <a:xfrm>
            <a:off x="4500720" y="4005360"/>
            <a:ext cx="71280" cy="194472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3"/>
          <p:cNvSpPr/>
          <p:nvPr/>
        </p:nvSpPr>
        <p:spPr>
          <a:xfrm flipH="1">
            <a:off x="3563640" y="4005360"/>
            <a:ext cx="718920" cy="12240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4"/>
          <p:cNvSpPr/>
          <p:nvPr/>
        </p:nvSpPr>
        <p:spPr>
          <a:xfrm flipH="1">
            <a:off x="3347640" y="3933720"/>
            <a:ext cx="647640" cy="50328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 flipH="1">
            <a:off x="2987640" y="3429000"/>
            <a:ext cx="720720" cy="712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6"/>
          <p:cNvSpPr/>
          <p:nvPr/>
        </p:nvSpPr>
        <p:spPr>
          <a:xfrm flipH="1" flipV="1">
            <a:off x="2916000" y="2349000"/>
            <a:ext cx="115092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7"/>
          <p:cNvSpPr/>
          <p:nvPr/>
        </p:nvSpPr>
        <p:spPr>
          <a:xfrm>
            <a:off x="1600200" y="250920"/>
            <a:ext cx="563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чины откло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8"/>
          <p:cNvSpPr/>
          <p:nvPr/>
        </p:nvSpPr>
        <p:spPr>
          <a:xfrm>
            <a:off x="250920" y="1557360"/>
            <a:ext cx="244944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ледственно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нарком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алкого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5"/>
          <p:cNvSpPr/>
          <p:nvPr/>
        </p:nvSpPr>
        <p:spPr>
          <a:xfrm>
            <a:off x="324000" y="4797360"/>
            <a:ext cx="2663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ие деф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6372360" y="1484280"/>
            <a:ext cx="216036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в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3924360" y="5084640"/>
            <a:ext cx="26654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располож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сихическ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лева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6804000" y="3573360"/>
            <a:ext cx="19447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сихическ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физическ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ь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5"/>
          <p:cNvSpPr/>
          <p:nvPr/>
        </p:nvSpPr>
        <p:spPr>
          <a:xfrm>
            <a:off x="2771640" y="2637000"/>
            <a:ext cx="352908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ституцио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располож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9"/>
          <p:cNvSpPr/>
          <p:nvPr/>
        </p:nvSpPr>
        <p:spPr>
          <a:xfrm flipV="1">
            <a:off x="4788000" y="2060280"/>
            <a:ext cx="158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0"/>
          <p:cNvSpPr/>
          <p:nvPr/>
        </p:nvSpPr>
        <p:spPr>
          <a:xfrm flipH="1" flipV="1">
            <a:off x="2771280" y="1844280"/>
            <a:ext cx="1729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2"/>
          <p:cNvSpPr/>
          <p:nvPr/>
        </p:nvSpPr>
        <p:spPr>
          <a:xfrm>
            <a:off x="5435640" y="3789360"/>
            <a:ext cx="1297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3"/>
          <p:cNvSpPr/>
          <p:nvPr/>
        </p:nvSpPr>
        <p:spPr>
          <a:xfrm flipH="1">
            <a:off x="2842920" y="3860640"/>
            <a:ext cx="115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4"/>
          <p:cNvSpPr/>
          <p:nvPr/>
        </p:nvSpPr>
        <p:spPr>
          <a:xfrm>
            <a:off x="4932360" y="3860640"/>
            <a:ext cx="144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5"/>
          <p:cNvSpPr/>
          <p:nvPr/>
        </p:nvSpPr>
        <p:spPr>
          <a:xfrm>
            <a:off x="3327480" y="56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6"/>
          <p:cNvSpPr/>
          <p:nvPr/>
        </p:nvSpPr>
        <p:spPr>
          <a:xfrm>
            <a:off x="1908000" y="423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чины откло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6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Диагностика. Алгоритм действий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157140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рупповое изучение класса (сбор информации об отклонениях – заполнение матрицы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Диагностика нарушений и заполнение диагностической карты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Анализ полученных данных и выявление отклонений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пределение основных направлений работы по типу нарушения (проблемы в обучении, поведении, самосознании, общении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бота с детьми всех участников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бота с детьми, родителями, педагогам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именение в работе с детьми основных приемов психолого-педагогического воздейств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Анализ динамики развития. Корректировка программы развит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1"/>
          <p:cNvSpPr/>
          <p:nvPr/>
        </p:nvSpPr>
        <p:spPr>
          <a:xfrm>
            <a:off x="928800" y="2928960"/>
            <a:ext cx="7858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упповое изучение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бор информации об отклонениях – заполнение матри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"/>
          <p:cNvSpPr/>
          <p:nvPr/>
        </p:nvSpPr>
        <p:spPr>
          <a:xfrm>
            <a:off x="2500200" y="42876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-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857160" y="1643040"/>
            <a:ext cx="7929720" cy="484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54e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54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Выработка единой стратегии и тактики работы с данной категорией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54e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354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Знакомство с категорией учащихся «группы риск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54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Выявление проблемных зон, которые требуют совместных 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354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Формирование основных направлени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354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Систематизация доступных и эффективных форм и методов психолого-педагогического воз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http://profslevashovo.ucoz.ru/zap_kn.png"/>
          <p:cNvPicPr/>
          <p:nvPr/>
        </p:nvPicPr>
        <p:blipFill>
          <a:blip r:embed="rId1"/>
          <a:stretch/>
        </p:blipFill>
        <p:spPr>
          <a:xfrm>
            <a:off x="142920" y="0"/>
            <a:ext cx="24861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143000" y="35712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Групповое изучение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(сбор информации об отклонениях – заполнение матри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143000" y="1857240"/>
          <a:ext cx="6095880" cy="4253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5080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Группы критерие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ритерии, определяющие «Группу риск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rowSpan="6"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ЕДИЦИН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меют хронические заболевания внутренних орга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облемы с органами зр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Часто и длительно боле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остоят на учете у невропатолога, психиа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еренесли сложные медицинск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еренесли стр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Таблица 5" descr=""/>
          <p:cNvPicPr/>
          <p:nvPr/>
        </p:nvPicPr>
        <p:blipFill>
          <a:blip r:embed="rId1"/>
          <a:stretch/>
        </p:blipFill>
        <p:spPr>
          <a:xfrm>
            <a:off x="7192800" y="1768320"/>
            <a:ext cx="97020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1000080" y="28584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Групповое изучение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(сбор информации об отклонениях – заполнение матр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"/>
          <p:cNvSpPr/>
          <p:nvPr/>
        </p:nvSpPr>
        <p:spPr>
          <a:xfrm>
            <a:off x="3434400" y="10000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071720" y="2000160"/>
          <a:ext cx="6929280" cy="4498920"/>
        </p:xfrm>
        <a:graphic>
          <a:graphicData uri="http://schemas.openxmlformats.org/drawingml/2006/table">
            <a:tbl>
              <a:tblPr/>
              <a:tblGrid>
                <a:gridCol w="2500200"/>
                <a:gridCol w="4429080"/>
              </a:tblGrid>
              <a:tr h="668520">
                <a:tc rowSpan="3"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Вновь прибывш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«Отверженные» в класс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Не определились с выбором профессии (выпускник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rowSpan="5"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ЕБН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ЕДАГ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Имеют стойкую неуспеваем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рогуливают, пропускают уроки без уважительных прич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стались на повторный курс обуч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бучаются в 1 клас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бучаются в 5 клас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2" name="Таблица 5" descr=""/>
          <p:cNvPicPr/>
          <p:nvPr/>
        </p:nvPicPr>
        <p:blipFill>
          <a:blip r:embed="rId1"/>
          <a:stretch/>
        </p:blipFill>
        <p:spPr>
          <a:xfrm>
            <a:off x="7980480" y="1407960"/>
            <a:ext cx="10411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928800" y="1428840"/>
          <a:ext cx="8001000" cy="5199120"/>
        </p:xfrm>
        <a:graphic>
          <a:graphicData uri="http://schemas.openxmlformats.org/drawingml/2006/table">
            <a:tbl>
              <a:tblPr/>
              <a:tblGrid>
                <a:gridCol w="4252680"/>
                <a:gridCol w="3748320"/>
              </a:tblGrid>
              <a:tr h="610200">
                <a:tc rowSpan="10"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ОВЕДЕНЧЕС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Имеют стойкие  нарушения поведения (нарушение режим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Трудности во взаимоотношениях со сверстник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Трудности во взаимоотношениях с учителя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Трудности во взаимоотношениях с младшими деть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овышенная тревож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Склонность к вредным привычкам (курение, алкогол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Склонность к суицид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Склонность к воровств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Склонность к побега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Нарушение влече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Прямоугольник 2"/>
          <p:cNvSpPr/>
          <p:nvPr/>
        </p:nvSpPr>
        <p:spPr>
          <a:xfrm>
            <a:off x="857160" y="21420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Групповое изучение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(сбор информации об отклонениях – заполнение матри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3504960" y="857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1071720" y="3051000"/>
            <a:ext cx="73580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агностика нару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заполнение диагностической кар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"/>
          <p:cNvSpPr/>
          <p:nvPr/>
        </p:nvSpPr>
        <p:spPr>
          <a:xfrm>
            <a:off x="3143160" y="42876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-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2"/>
          <p:cNvSpPr/>
          <p:nvPr/>
        </p:nvSpPr>
        <p:spPr>
          <a:xfrm>
            <a:off x="1661040" y="642960"/>
            <a:ext cx="672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агностическая кар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сканирование002"/>
          <p:cNvPicPr/>
          <p:nvPr/>
        </p:nvPicPr>
        <p:blipFill>
          <a:blip r:embed="rId1"/>
          <a:srcRect l="5500" t="10532" r="3765" b="20112"/>
          <a:stretch/>
        </p:blipFill>
        <p:spPr>
          <a:xfrm>
            <a:off x="0" y="1628640"/>
            <a:ext cx="91440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1071720" y="2286000"/>
            <a:ext cx="742932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з получен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выявление отклон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1357200" y="4071960"/>
            <a:ext cx="707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и заполнение  различных метод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3575520" y="428760"/>
            <a:ext cx="23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-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"/>
          <p:cNvSpPr/>
          <p:nvPr/>
        </p:nvSpPr>
        <p:spPr>
          <a:xfrm>
            <a:off x="3503880" y="428760"/>
            <a:ext cx="23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4-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71720" y="3929040"/>
          <a:ext cx="7572240" cy="1523880"/>
        </p:xfrm>
        <a:graphic>
          <a:graphicData uri="http://schemas.openxmlformats.org/drawingml/2006/table">
            <a:tbl>
              <a:tblPr/>
              <a:tblGrid>
                <a:gridCol w="1892160"/>
                <a:gridCol w="1893960"/>
                <a:gridCol w="1893960"/>
                <a:gridCol w="1892160"/>
              </a:tblGrid>
              <a:tr h="305280">
                <a:tc gridSpan="4"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робл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В обуч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В повед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В самосозна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В общ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4"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Направления рабо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5" name="Rectangle 1" descr=""/>
          <p:cNvPicPr/>
          <p:nvPr/>
        </p:nvPicPr>
        <p:blipFill>
          <a:blip r:embed="rId1"/>
          <a:stretch/>
        </p:blipFill>
        <p:spPr>
          <a:xfrm>
            <a:off x="-865080" y="2036880"/>
            <a:ext cx="95454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1"/>
          <p:cNvSpPr/>
          <p:nvPr/>
        </p:nvSpPr>
        <p:spPr>
          <a:xfrm>
            <a:off x="3357720" y="4287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-й эта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1643040" y="2500200"/>
            <a:ext cx="642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ирование индивидуальной и групповой работы с дет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3284640"/>
          <a:ext cx="9144000" cy="3002040"/>
        </p:xfrm>
        <a:graphic>
          <a:graphicData uri="http://schemas.openxmlformats.org/drawingml/2006/table">
            <a:tbl>
              <a:tblPr/>
              <a:tblGrid>
                <a:gridCol w="1835280"/>
                <a:gridCol w="1365120"/>
                <a:gridCol w="1330200"/>
                <a:gridCol w="1809720"/>
                <a:gridCol w="1305000"/>
                <a:gridCol w="1498680"/>
              </a:tblGrid>
              <a:tr h="225108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равления рабо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рупповая рабо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вет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дивидуал. рабо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вет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метка о выполнении,  примеч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Rectangle 1"/>
          <p:cNvSpPr/>
          <p:nvPr/>
        </p:nvSpPr>
        <p:spPr>
          <a:xfrm>
            <a:off x="1285920" y="2188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План раб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с ребенком на меся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3"/>
          <p:cNvSpPr/>
          <p:nvPr/>
        </p:nvSpPr>
        <p:spPr>
          <a:xfrm>
            <a:off x="1357200" y="1785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. и. ребенка 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сяц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1071720" y="142920"/>
            <a:ext cx="7643520" cy="1373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дели профилак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3786120" y="3068640"/>
            <a:ext cx="1357560" cy="9144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- 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6"/>
          <p:cNvSpPr/>
          <p:nvPr/>
        </p:nvSpPr>
        <p:spPr>
          <a:xfrm>
            <a:off x="1619280" y="1773360"/>
            <a:ext cx="1440000" cy="129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од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7"/>
          <p:cNvSpPr/>
          <p:nvPr/>
        </p:nvSpPr>
        <p:spPr>
          <a:xfrm>
            <a:off x="4427640" y="1341360"/>
            <a:ext cx="1490400" cy="1201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Ра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Зам. по В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8"/>
          <p:cNvSpPr/>
          <p:nvPr/>
        </p:nvSpPr>
        <p:spPr>
          <a:xfrm>
            <a:off x="6588000" y="2708280"/>
            <a:ext cx="144000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Ра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соци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9"/>
          <p:cNvSpPr/>
          <p:nvPr/>
        </p:nvSpPr>
        <p:spPr>
          <a:xfrm>
            <a:off x="5076720" y="4508640"/>
            <a:ext cx="1562040" cy="1346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класс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руковод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4"/>
          <p:cNvSpPr/>
          <p:nvPr/>
        </p:nvSpPr>
        <p:spPr>
          <a:xfrm flipH="1" flipV="1">
            <a:off x="4785840" y="3928680"/>
            <a:ext cx="577800" cy="7239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6"/>
          <p:cNvSpPr/>
          <p:nvPr/>
        </p:nvSpPr>
        <p:spPr>
          <a:xfrm flipH="1">
            <a:off x="5143680" y="3429000"/>
            <a:ext cx="1444320" cy="7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7"/>
          <p:cNvSpPr/>
          <p:nvPr/>
        </p:nvSpPr>
        <p:spPr>
          <a:xfrm flipH="1">
            <a:off x="4454640" y="2133720"/>
            <a:ext cx="46080" cy="938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8"/>
          <p:cNvSpPr/>
          <p:nvPr/>
        </p:nvSpPr>
        <p:spPr>
          <a:xfrm flipV="1">
            <a:off x="2916360" y="3933360"/>
            <a:ext cx="1150920" cy="647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2"/>
          <p:cNvSpPr/>
          <p:nvPr/>
        </p:nvSpPr>
        <p:spPr>
          <a:xfrm>
            <a:off x="1476360" y="4149720"/>
            <a:ext cx="1490760" cy="144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психо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6"/>
          <p:cNvSpPr/>
          <p:nvPr/>
        </p:nvSpPr>
        <p:spPr>
          <a:xfrm flipH="1" flipV="1">
            <a:off x="3059280" y="2565000"/>
            <a:ext cx="3528720" cy="863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7"/>
          <p:cNvSpPr/>
          <p:nvPr/>
        </p:nvSpPr>
        <p:spPr>
          <a:xfrm flipH="1" flipV="1">
            <a:off x="2857680" y="2928600"/>
            <a:ext cx="2357280" cy="18572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9"/>
          <p:cNvSpPr/>
          <p:nvPr/>
        </p:nvSpPr>
        <p:spPr>
          <a:xfrm>
            <a:off x="2928960" y="2786040"/>
            <a:ext cx="1008000" cy="432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1"/>
          <p:cNvSpPr/>
          <p:nvPr/>
        </p:nvSpPr>
        <p:spPr>
          <a:xfrm flipV="1">
            <a:off x="2916360" y="2205000"/>
            <a:ext cx="1584360" cy="2232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Прямая со стрелкой 23"/>
          <p:cNvCxnSpPr>
            <a:endCxn id="375" idx="3"/>
          </p:cNvCxnSpPr>
          <p:nvPr/>
        </p:nvCxnSpPr>
        <p:spPr>
          <a:xfrm flipV="1">
            <a:off x="6286680" y="3812760"/>
            <a:ext cx="513360" cy="830880"/>
          </a:xfrm>
          <a:prstGeom prst="straightConnector1">
            <a:avLst/>
          </a:prstGeom>
          <a:ln w="9360">
            <a:solidFill>
              <a:srgbClr val="eaeae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7" name="Прямая со стрелкой 24"/>
          <p:cNvCxnSpPr/>
          <p:nvPr/>
        </p:nvCxnSpPr>
        <p:spPr>
          <a:xfrm>
            <a:off x="5786280" y="2286000"/>
            <a:ext cx="1013760" cy="613440"/>
          </a:xfrm>
          <a:prstGeom prst="straightConnector1">
            <a:avLst/>
          </a:prstGeom>
          <a:ln w="9360">
            <a:solidFill>
              <a:srgbClr val="eaeae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8" name="Прямая со стрелкой 27"/>
          <p:cNvCxnSpPr>
            <a:endCxn id="376" idx="2"/>
          </p:cNvCxnSpPr>
          <p:nvPr/>
        </p:nvCxnSpPr>
        <p:spPr>
          <a:xfrm>
            <a:off x="2928960" y="4928760"/>
            <a:ext cx="2148480" cy="253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9" name="Прямая со стрелкой 29"/>
          <p:cNvCxnSpPr>
            <a:endCxn id="381" idx="0"/>
          </p:cNvCxnSpPr>
          <p:nvPr/>
        </p:nvCxnSpPr>
        <p:spPr>
          <a:xfrm>
            <a:off x="2142000" y="3071880"/>
            <a:ext cx="80280" cy="1078200"/>
          </a:xfrm>
          <a:prstGeom prst="straightConnector1">
            <a:avLst/>
          </a:prstGeom>
          <a:ln w="9360">
            <a:solidFill>
              <a:srgbClr val="eaeae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90" name="Прямая со стрелкой 32"/>
          <p:cNvCxnSpPr>
            <a:stCxn id="374" idx="2"/>
          </p:cNvCxnSpPr>
          <p:nvPr/>
        </p:nvCxnSpPr>
        <p:spPr>
          <a:xfrm flipH="1">
            <a:off x="3071880" y="1940400"/>
            <a:ext cx="1356120" cy="345240"/>
          </a:xfrm>
          <a:prstGeom prst="straightConnector1">
            <a:avLst/>
          </a:prstGeom>
          <a:ln w="9360">
            <a:solidFill>
              <a:srgbClr val="eaeaea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857160" y="312840"/>
            <a:ext cx="7464600" cy="586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олжны зн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образовательного процесса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работе с детьми «группы риска»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учащихся «группы рис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оведения учащихся разных категорий «группы рис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действий по профилактике отклонений в пове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емы психолого-педагогического воз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работы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работы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работы с педаг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и методы психолого-педагог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www.alted.ru/oo552/html_fragments/Razrab_uchitel.files/image022.jpg"/>
          <p:cNvPicPr/>
          <p:nvPr/>
        </p:nvPicPr>
        <p:blipFill>
          <a:blip r:embed="rId1"/>
          <a:stretch/>
        </p:blipFill>
        <p:spPr>
          <a:xfrm>
            <a:off x="6286680" y="3929040"/>
            <a:ext cx="27144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1"/>
          <p:cNvSpPr/>
          <p:nvPr/>
        </p:nvSpPr>
        <p:spPr>
          <a:xfrm>
            <a:off x="3503880" y="428760"/>
            <a:ext cx="23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-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"/>
          <p:cNvSpPr/>
          <p:nvPr/>
        </p:nvSpPr>
        <p:spPr>
          <a:xfrm>
            <a:off x="1591560" y="2857680"/>
            <a:ext cx="65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ализация плана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35676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Основные приемы психолого-педагогического воздействия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95280" y="1928880"/>
            <a:ext cx="7772400" cy="4091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Проявления доброты, внимания и заботы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Просьб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Поощр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Авансирование лич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Проявление огорче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Поручительств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Убежд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Внуш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Довер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Вовлечение в интересную деятельнос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Моральная поддерж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3"/>
          <p:cNvSpPr/>
          <p:nvPr/>
        </p:nvSpPr>
        <p:spPr>
          <a:xfrm>
            <a:off x="3646800" y="428760"/>
            <a:ext cx="23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7-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4"/>
          <p:cNvSpPr/>
          <p:nvPr/>
        </p:nvSpPr>
        <p:spPr>
          <a:xfrm>
            <a:off x="1285920" y="2928960"/>
            <a:ext cx="70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Анализ динамики развития. Корректировка программы развит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6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Основные направления работы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с детьми «группы риска»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1714320"/>
            <a:ext cx="7772400" cy="4462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371600" indent="-457200">
              <a:lnSpc>
                <a:spcPct val="90000"/>
              </a:lnSpc>
              <a:spcBef>
                <a:spcPts val="901"/>
              </a:spcBef>
              <a:buClr>
                <a:srgbClr val="0090e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90e5"/>
                </a:solidFill>
                <a:latin typeface="Arial"/>
              </a:rPr>
              <a:t>Нарушения в обучении:</a:t>
            </a:r>
            <a:r>
              <a:rPr b="1" lang="ru-RU" sz="3600" spc="-1" strike="noStrike">
                <a:solidFill>
                  <a:srgbClr val="0090e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азание учителями-предметниками индивидуальной методической помощи ребенку в преодолении учебных трудностей до уровня полного восприятия материала, пока ребенок не почувствует успе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6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Основные направления работы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с девиантными детьми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Нарушения в поведении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5560" y="1642680"/>
            <a:ext cx="7273800" cy="4800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ая работа классного руководителя с родителями и ребенком;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ие часов общения, бесед, практикумов по проблемам повед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комфортных условий ребенку в коллективе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ормирование в ребенке устойчивого позитивного представления о себе, уверенности в себе, волевых качеств 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посредств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лючение ребенка в КТД класса,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школы с последующей положительной оценкой его деятельности. Использование специальных упражнений на повышение уверенности в себе в групповой работе для демонстрации положительных качест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групп педпомощи для всесторонней помощи и поддержки ребенку в профилактике наруш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6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Основные направления работы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с девиантными детьми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 Нарушения в общени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9720" y="1928520"/>
            <a:ext cx="7777080" cy="4608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ие классных часов по формированию навыков конструктивного общ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ие бесед-практикумов по ФОРМИРОВАНИЮ СПОСОБНОСТИ К САМОРЕГУЛЯЦИИ, обучению снятия эмоционального напряжения и агрессив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системы поощрений при применении навыков общ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6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2640" y="78552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Нарушения в самосознани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00080" y="2071800"/>
            <a:ext cx="7812000" cy="3900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Пропаганда ЗОЖ посредством обучения и развития навыков ЗОЖ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Формирование в ребенке устойчивого позитивного представления о себе через поиск таких видов деятельности, где бы ребенок мог почувствовать ситуацию успех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Формирование навыков ответственного поведения через включение в КТД, школьное самоуправление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Развитие трудовых навыков как важного средства формирования личности посредством включения в трудовые десанты, ОППТ, в качестве руководител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1571760" y="214200"/>
            <a:ext cx="6802200" cy="1068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направления работы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девиантными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НАПРАВЛЕНИЯ РАБОТЫ С РОДИТЕЛЯМ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АЯ РАБОТА КЛАССНОГО РУКОВОДИТЕЛ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ЬСКИЕ СОБРАНИЯ ПО ПРОБЛЕМАМ ВОСПИТ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СИХОЛОГИЧЕСКОЙ ПОМОЩИ РОДИТЕЛЯМ, ИМЕЮЩИМ ТРУДНОСТИ В ВОСПИТАНИИ РЕБЕНКА ПОСРЕДСТВОМ ИНДИВИДУАЛЬНЫХ КОНСУЛЬТАЦИ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ЕДАГОГИЧЕСКОЙ ПОМОЩИ РОДИТЕЛЯМ ПО АДЕКВАТНОМУ ВОСПИТАНИЮ РЕБЕНКА В СЕМЬЕ ЧЕРЕЗ ПРИГЛАШЕНИЕ НА ГРУППЫ ПЕДПОМОЩ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направления работы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педагогам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ие тренингов по овладению навыками саморегуляции, обучению снятия эмоционального напряже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педагогических советов по обучению навыкам эффективного взаимодейств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педагогических советов по обсуждению линий поведения в построении взаимодействия с девиантными детьм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Организация системы поощрений при улучшении линий поведения ребен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785880" y="812880"/>
            <a:ext cx="7440480" cy="5854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54e"/>
                </a:solidFill>
                <a:latin typeface="Arial"/>
              </a:rPr>
              <a:t>Профилактические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54e"/>
                </a:solidFill>
                <a:latin typeface="Arial"/>
              </a:rPr>
              <a:t>"Программа формирования здорового жизненного стиля" 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Программа для подростков (17 занятий) Авторы Н.А.Сирота, В.М. Ялтон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54e"/>
                </a:solidFill>
                <a:latin typeface="Arial"/>
              </a:rPr>
              <a:t>"Путешествие во времени"  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(10  занятий). Авторы Журавлева О.В., Зуева С.П., Нижегородова М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54e"/>
                </a:solidFill>
                <a:latin typeface="Arial"/>
              </a:rPr>
              <a:t>"Полезные привычки" 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(1-4кл.) Проект ХОУП  по заказу Московского комитета образования, 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54e"/>
                </a:solidFill>
                <a:latin typeface="Arial"/>
              </a:rPr>
              <a:t>"Полезные навыки" 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(5-9кл.) Проект ХОУП  по заказу Московского комитета образования, 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54e"/>
                </a:solidFill>
                <a:latin typeface="Arial"/>
              </a:rPr>
              <a:t>"Полезный выбор" 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(10-11кл.) Проект ХОУП  по заказу Московского комитета образования, 200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54e"/>
                </a:solidFill>
                <a:latin typeface="Arial"/>
              </a:rPr>
              <a:t>"Программа личностно-ориентированной психоактивной профилактики"  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(11 занятий) Авторы Березин С.В., Лисецкий К.С., Березовский А.Э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54e"/>
                </a:solidFill>
                <a:latin typeface="Arial"/>
              </a:rPr>
              <a:t>"Программа профилактики здоупотребления наркотиками и другими психоактивными веществами среди детей, молодежи" 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(18 занятий) Авторы Березин  С.В., Лисецкий К.С., Мотынга И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54e"/>
                </a:solidFill>
                <a:latin typeface="Arial"/>
              </a:rPr>
              <a:t>Программа «Здоровье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» Касат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"/>
          <p:cNvSpPr/>
          <p:nvPr/>
        </p:nvSpPr>
        <p:spPr>
          <a:xfrm>
            <a:off x="857160" y="214200"/>
            <a:ext cx="742968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Эти статьи Вам помог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http://forusbfleshka.ru/uploads/posts/2012-08/1345310316_76969255_3914090_Recoverd_png_file210.png"/>
          <p:cNvPicPr/>
          <p:nvPr/>
        </p:nvPicPr>
        <p:blipFill>
          <a:blip r:embed="rId1"/>
          <a:stretch/>
        </p:blipFill>
        <p:spPr>
          <a:xfrm>
            <a:off x="7608960" y="4643280"/>
            <a:ext cx="15350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428760" y="500040"/>
            <a:ext cx="8286480" cy="585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714240" y="785880"/>
            <a:ext cx="778680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Для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«группы рис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                         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характер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Низкий уровень учебной мотив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знавательная пасс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Несформированность общеучебных знан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пециальных ум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лохая адаптация к школь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Конфликты с окружающ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http://cs319317.userapi.com/v319317629/446a/d_Vu0z2Wtas.jpg"/>
          <p:cNvPicPr/>
          <p:nvPr/>
        </p:nvPicPr>
        <p:blipFill>
          <a:blip r:embed="rId1"/>
          <a:stretch/>
        </p:blipFill>
        <p:spPr>
          <a:xfrm>
            <a:off x="0" y="0"/>
            <a:ext cx="5251320" cy="4286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http://baltayschool.ucoz.ru/555.png"/>
          <p:cNvPicPr/>
          <p:nvPr/>
        </p:nvPicPr>
        <p:blipFill>
          <a:blip r:embed="rId2"/>
          <a:stretch/>
        </p:blipFill>
        <p:spPr>
          <a:xfrm>
            <a:off x="3357720" y="4786200"/>
            <a:ext cx="5628960" cy="19144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5"/>
          <p:cNvSpPr/>
          <p:nvPr/>
        </p:nvSpPr>
        <p:spPr>
          <a:xfrm>
            <a:off x="5214960" y="642960"/>
            <a:ext cx="3571920" cy="399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дела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357120" y="500040"/>
            <a:ext cx="8391600" cy="59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714240" y="928800"/>
            <a:ext cx="7632720" cy="49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 категории учащихся «группы риска» 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активные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Дети с нарушениями в аффективн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Педагогически запущенные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Дети с задержкой псих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Дети с проблемами в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Дети с психопатоподобным повед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Леворукие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Дети с эмоциональными наруш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обенности гиперактивных дете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00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иперактивность  -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развитость механизмов внимания и тормозящего контр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индром дефицита вним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резмерная актив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злишняя подвиж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уетлив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785880" y="3214800"/>
            <a:ext cx="2714400" cy="2786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http://razvivayka.ucoz.ru/Adaptazija/Pamjatka_roditeljam.png"/>
          <p:cNvPicPr/>
          <p:nvPr/>
        </p:nvPicPr>
        <p:blipFill>
          <a:blip r:embed="rId1"/>
          <a:stretch/>
        </p:blipFill>
        <p:spPr>
          <a:xfrm>
            <a:off x="214200" y="4071960"/>
            <a:ext cx="16527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500040" y="642960"/>
            <a:ext cx="8286840" cy="549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новные нарушения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Слабой успеваем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Затруднениями в общении с другими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Низкой самооце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Проявлением  форм асоциальн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агрессивность, упрямство, лживость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трелка вниз 2"/>
          <p:cNvSpPr/>
          <p:nvPr/>
        </p:nvSpPr>
        <p:spPr>
          <a:xfrm>
            <a:off x="4357800" y="1214280"/>
            <a:ext cx="4284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трелка вниз 3"/>
          <p:cNvSpPr/>
          <p:nvPr/>
        </p:nvSpPr>
        <p:spPr>
          <a:xfrm>
            <a:off x="4357800" y="242892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рганизация работы с гиперактивными детьми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причины наблюдаемы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й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одить комплексную работу 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пользовать корреционно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ести работу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500040" y="2214720"/>
            <a:ext cx="2428920" cy="3929040"/>
          </a:xfrm>
          <a:prstGeom prst="line">
            <a:avLst/>
          </a:prstGeom>
          <a:ln w="69840">
            <a:solidFill>
              <a:srgbClr val="8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http://razvivayka.ucoz.ru/Adaptazija/Pamjatka_roditeljam.png"/>
          <p:cNvPicPr/>
          <p:nvPr/>
        </p:nvPicPr>
        <p:blipFill>
          <a:blip r:embed="rId1"/>
          <a:stretch/>
        </p:blipFill>
        <p:spPr>
          <a:xfrm>
            <a:off x="142920" y="4071960"/>
            <a:ext cx="1652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714240" y="642960"/>
            <a:ext cx="7929720" cy="5468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работать с гиперактивными детьми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строить индивидуаль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рировать вызывающие поступки ребенка и поощрять за хорошее пове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урока ограничивать отвлекающие факто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ть возможность всегда обращаться за помощ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строить по четко распланированному распоряд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писать на дос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пределенный отрезок времени давать только одно зад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овать выполнение большого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учебного дня предусматривать возможность для двигательной «разряд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6:50:35Z</dcterms:created>
  <dc:creator>Знобина Т.В.</dc:creator>
  <dc:description/>
  <dc:language>en-US</dc:language>
  <cp:lastModifiedBy>Лена</cp:lastModifiedBy>
  <dcterms:modified xsi:type="dcterms:W3CDTF">2015-10-11T18:41:13Z</dcterms:modified>
  <cp:revision>135</cp:revision>
  <dc:subject/>
  <dc:title>Слайд 1</dc:title>
</cp:coreProperties>
</file>