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A7A6-8CD8-495F-8358-6484756E3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09BE-D922-46C6-A181-7AADD8B2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1E0B-0A41-4E2D-9644-4501A963D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619D-4974-4DCD-AA7E-2370729DD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76E1-6070-4C59-8F41-FF869C66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5EE2-2BD2-4408-B0A3-0339834C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4F7B-7C5C-4A7D-97FE-A0A07211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D08E-F172-4C7A-B053-97F6294D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C434-DDBE-4C82-B32A-2C31912A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71F0-F252-4495-B6F0-2A9E4C63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F83A-57D4-450B-AE7C-50BC2184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0BF4-CF0F-411B-ADED-136C29DA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D00B-2586-4C44-8ECC-568135031F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239840" y="620640"/>
            <a:ext cx="6572160" cy="82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6"/>
                </a:solidFill>
                <a:latin typeface="Arial"/>
              </a:rPr>
              <a:t>Импрессиони́зм (фр.  impression — впечатление) 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— </a:t>
            </a:r>
            <a:r>
              <a:rPr b="1" lang="ru-RU" sz="2800" spc="-1" strike="noStrike">
                <a:solidFill>
                  <a:srgbClr val="000076"/>
                </a:solidFill>
                <a:latin typeface="Arial"/>
              </a:rPr>
              <a:t>направление в искусстве, зародившееся во Франции во второй половине  </a:t>
            </a:r>
            <a:r>
              <a:rPr b="1" lang="en-US" sz="2800" spc="-1" strike="noStrike">
                <a:solidFill>
                  <a:srgbClr val="000076"/>
                </a:solidFill>
                <a:latin typeface="Arial"/>
              </a:rPr>
              <a:t>XIX</a:t>
            </a:r>
            <a:r>
              <a:rPr b="1" lang="ru-RU" sz="2800" spc="-1" strike="noStrike">
                <a:solidFill>
                  <a:srgbClr val="000076"/>
                </a:solidFill>
                <a:latin typeface="Arial"/>
              </a:rPr>
              <a:t> в., представители которого стремились запечатлеть реальный мир в его подвижности и изменчивости, передать свои мимолетные </a:t>
            </a:r>
            <a:r>
              <a:rPr b="1" lang="ru-RU" sz="2800" spc="-1" strike="noStrike" u="sng">
                <a:solidFill>
                  <a:srgbClr val="000076"/>
                </a:solidFill>
                <a:uFillTx/>
                <a:latin typeface="Arial"/>
              </a:rPr>
              <a:t>впечатления.</a:t>
            </a:r>
            <a:r>
              <a:rPr b="1" lang="ru-RU" sz="2800" spc="-1" strike="noStrike">
                <a:solidFill>
                  <a:srgbClr val="00007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"/>
          <p:cNvSpPr/>
          <p:nvPr/>
        </p:nvSpPr>
        <p:spPr>
          <a:xfrm>
            <a:off x="395280" y="26028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76"/>
                </a:solidFill>
                <a:latin typeface="Arial"/>
              </a:rPr>
              <a:t>Французские художники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6"/>
                </a:solidFill>
                <a:latin typeface="Arial"/>
              </a:rPr>
              <a:t>основоположники импрессионизма в живопис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3" descr="клод моне.bmp"/>
          <p:cNvPicPr/>
          <p:nvPr/>
        </p:nvPicPr>
        <p:blipFill>
          <a:blip r:embed="rId1"/>
          <a:stretch/>
        </p:blipFill>
        <p:spPr>
          <a:xfrm>
            <a:off x="468360" y="1773360"/>
            <a:ext cx="2143080" cy="2447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Пьер Огюст Ренуар"/>
          <p:cNvPicPr/>
          <p:nvPr/>
        </p:nvPicPr>
        <p:blipFill>
          <a:blip r:embed="rId2"/>
          <a:stretch/>
        </p:blipFill>
        <p:spPr>
          <a:xfrm>
            <a:off x="6877080" y="3573360"/>
            <a:ext cx="2016000" cy="26654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808200" y="1865160"/>
            <a:ext cx="153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735120" y="14130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6"/>
                </a:solidFill>
                <a:latin typeface="Arial"/>
              </a:rPr>
              <a:t>Клод М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6424560" y="6329520"/>
            <a:ext cx="203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6424560" y="64008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6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76"/>
                </a:solidFill>
                <a:latin typeface="Arial"/>
              </a:rPr>
              <a:t>Огюст Рену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Камиль Писсарро &quot;Автопортрет&quot;"/>
          <p:cNvPicPr/>
          <p:nvPr/>
        </p:nvPicPr>
        <p:blipFill>
          <a:blip r:embed="rId3"/>
          <a:stretch/>
        </p:blipFill>
        <p:spPr>
          <a:xfrm>
            <a:off x="4356000" y="4076640"/>
            <a:ext cx="1658880" cy="21589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1"/>
          <p:cNvSpPr/>
          <p:nvPr/>
        </p:nvSpPr>
        <p:spPr>
          <a:xfrm>
            <a:off x="3327480" y="6256440"/>
            <a:ext cx="31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6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амилл Писсар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3" descr="BE_05f0376i.bmp"/>
          <p:cNvPicPr/>
          <p:nvPr/>
        </p:nvPicPr>
        <p:blipFill>
          <a:blip r:embed="rId4"/>
          <a:stretch/>
        </p:blipFill>
        <p:spPr>
          <a:xfrm>
            <a:off x="6084720" y="1341360"/>
            <a:ext cx="1729080" cy="18716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3"/>
          <p:cNvSpPr/>
          <p:nvPr/>
        </p:nvSpPr>
        <p:spPr>
          <a:xfrm>
            <a:off x="7467480" y="2482920"/>
            <a:ext cx="13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76"/>
                </a:solidFill>
                <a:latin typeface="Arial"/>
              </a:rPr>
              <a:t>Эдуард   М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519120" y="4889520"/>
            <a:ext cx="18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6" descr="Эдгар Дега &quot;Автопортрет&quot;"/>
          <p:cNvPicPr/>
          <p:nvPr/>
        </p:nvPicPr>
        <p:blipFill>
          <a:blip r:embed="rId5"/>
          <a:stretch/>
        </p:blipFill>
        <p:spPr>
          <a:xfrm>
            <a:off x="3132000" y="1052640"/>
            <a:ext cx="2016360" cy="2420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9" descr="&amp;Fcy;&amp;ocy;&amp;tcy;&amp;ocy;&amp;gcy;&amp;rcy;&amp;acy;&amp;fcy;&amp;icy;&amp;yacy;"/>
          <p:cNvPicPr/>
          <p:nvPr/>
        </p:nvPicPr>
        <p:blipFill>
          <a:blip r:embed="rId6"/>
          <a:stretch/>
        </p:blipFill>
        <p:spPr>
          <a:xfrm>
            <a:off x="1547640" y="4305240"/>
            <a:ext cx="1735200" cy="22924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0"/>
          <p:cNvSpPr/>
          <p:nvPr/>
        </p:nvSpPr>
        <p:spPr>
          <a:xfrm>
            <a:off x="0" y="5681520"/>
            <a:ext cx="14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6"/>
                </a:solidFill>
                <a:latin typeface="Arial"/>
              </a:rPr>
              <a:t>П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6"/>
                </a:solidFill>
                <a:latin typeface="Arial"/>
              </a:rPr>
              <a:t>Синья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3492360" y="34480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Эдгар Де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1239840" y="620640"/>
            <a:ext cx="657216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300px-Claude_Monet%2C_Impression%2C_soleil_levant%2C_1872"/>
          <p:cNvPicPr/>
          <p:nvPr/>
        </p:nvPicPr>
        <p:blipFill>
          <a:blip r:embed="rId1"/>
          <a:stretch/>
        </p:blipFill>
        <p:spPr>
          <a:xfrm>
            <a:off x="179280" y="1268280"/>
            <a:ext cx="5077080" cy="41497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0"/>
          <p:cNvSpPr/>
          <p:nvPr/>
        </p:nvSpPr>
        <p:spPr>
          <a:xfrm>
            <a:off x="1042920" y="558972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Клод Мо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Впечатление. Восход солн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5559480" y="476280"/>
            <a:ext cx="3044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6"/>
                </a:solidFill>
                <a:latin typeface="Arial"/>
              </a:rPr>
              <a:t>Одержимость Моне светом и цветом вылилась в многолетние исследования и эксперименты, целью которых  было зафиксировать на холсте мимолетные, ускользающие оттенки при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1239840" y="620640"/>
            <a:ext cx="65721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735120" y="496800"/>
            <a:ext cx="4341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Огюст Рену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Окрестности Мент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6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Содержимое 3" descr="окрестности Ментона.bmp"/>
          <p:cNvPicPr/>
          <p:nvPr/>
        </p:nvPicPr>
        <p:blipFill>
          <a:blip r:embed="rId1"/>
          <a:stretch/>
        </p:blipFill>
        <p:spPr>
          <a:xfrm>
            <a:off x="250920" y="1341360"/>
            <a:ext cx="5400720" cy="50720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5848200" y="260280"/>
            <a:ext cx="3044880" cy="60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6"/>
                </a:solidFill>
                <a:latin typeface="Arial"/>
              </a:rPr>
              <a:t>В картинах Ренуара много солнца, света, они исполнены дыханием жизни: воды струятся и сверкают бликами, деревья трепещут на ветру, солнечные зайчики скользят по лицам, одежде, траве; свободный мазок усиливает впечатление особой одухотворенности, изменчивости м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1239840" y="620640"/>
            <a:ext cx="65721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Поль Синьяк &quot;Сосна, Сен-Тропе&quot;"/>
          <p:cNvPicPr/>
          <p:nvPr/>
        </p:nvPicPr>
        <p:blipFill>
          <a:blip r:embed="rId1"/>
          <a:stretch/>
        </p:blipFill>
        <p:spPr>
          <a:xfrm>
            <a:off x="4284720" y="1197000"/>
            <a:ext cx="4859280" cy="47530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5343480" y="281160"/>
            <a:ext cx="362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Поль Синьяк &quot;Порт в Марселе&quot;"/>
          <p:cNvPicPr/>
          <p:nvPr/>
        </p:nvPicPr>
        <p:blipFill>
          <a:blip r:embed="rId2"/>
          <a:stretch/>
        </p:blipFill>
        <p:spPr>
          <a:xfrm>
            <a:off x="324000" y="620640"/>
            <a:ext cx="3816360" cy="35276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7"/>
          <p:cNvSpPr/>
          <p:nvPr/>
        </p:nvSpPr>
        <p:spPr>
          <a:xfrm>
            <a:off x="5775480" y="6040440"/>
            <a:ext cx="254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5632560" y="5969160"/>
            <a:ext cx="282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5076720" y="596916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            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Поль Синья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Сосна в Сен-Тро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231840" y="4076640"/>
            <a:ext cx="3835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Картины импрессиониста Поля Синьяка, написанные легкими мазками, даже точками,  создают самые различные ощущения, связанные с законом оптиче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осприя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2031840" y="65160"/>
            <a:ext cx="340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1311120" y="-7920"/>
            <a:ext cx="239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Поль Синья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Марсельский 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395280" y="0"/>
            <a:ext cx="54720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Эдгар Де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Танцовщ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на поклон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095480" y="4024440"/>
            <a:ext cx="189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735120" y="4313160"/>
            <a:ext cx="23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879480" y="4097160"/>
            <a:ext cx="21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Содержимое 3" descr="d03049i.bmp"/>
          <p:cNvPicPr/>
          <p:nvPr/>
        </p:nvPicPr>
        <p:blipFill>
          <a:blip r:embed="rId1"/>
          <a:stretch/>
        </p:blipFill>
        <p:spPr>
          <a:xfrm>
            <a:off x="611280" y="1125360"/>
            <a:ext cx="4897440" cy="52279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6"/>
          <p:cNvSpPr/>
          <p:nvPr/>
        </p:nvSpPr>
        <p:spPr>
          <a:xfrm>
            <a:off x="2319480" y="568440"/>
            <a:ext cx="45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6135840" y="1144440"/>
            <a:ext cx="2468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6"/>
                </a:solidFill>
                <a:latin typeface="Arial"/>
              </a:rPr>
              <a:t>Дега больше волнует жизнь города, а не пейзаж. Он стремится передать мнгновенное, неуловимое движение — отсюда его интерес к миру театра, кулис, бал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"/>
          <p:cNvSpPr/>
          <p:nvPr/>
        </p:nvSpPr>
        <p:spPr>
          <a:xfrm>
            <a:off x="0" y="0"/>
            <a:ext cx="896472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6"/>
                </a:solidFill>
                <a:latin typeface="Arial"/>
              </a:rPr>
              <a:t>Картины,написанные на открытом воздухе (пленэре), передавали ощущение солнечного света, объемные формы как бы растворились в вибрации света и воздуха, разложение сложных тонов на чистые цвета, накладываемые на холст раздельными мазками и рассчитанные на оптическое смещение их при восприятии картины зрителями. Таким образом, на картине запечатлевался как бы случайно остановленный ка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Клод Моне &quot;Кувшинки&quot;"/>
          <p:cNvPicPr/>
          <p:nvPr/>
        </p:nvPicPr>
        <p:blipFill>
          <a:blip r:embed="rId1"/>
          <a:stretch/>
        </p:blipFill>
        <p:spPr>
          <a:xfrm>
            <a:off x="1476360" y="2565360"/>
            <a:ext cx="6216840" cy="40924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9"/>
          <p:cNvSpPr/>
          <p:nvPr/>
        </p:nvSpPr>
        <p:spPr>
          <a:xfrm>
            <a:off x="4501800" y="6021360"/>
            <a:ext cx="26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0715"/>
                </a:solidFill>
                <a:latin typeface="Arial"/>
              </a:rPr>
              <a:t>Клод Моне. Кувши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395280" y="260280"/>
            <a:ext cx="7921800" cy="40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6"/>
                </a:solidFill>
                <a:latin typeface="Arial"/>
              </a:rPr>
              <a:t>Техника письма импрессионистов основана на штрихах, отдельных мазках, точках, пятнах. Поэтому кажется, что это какие-то мазки и пятна, не складывающиеся в целостную картину, но если вы немного отстранитесь, то увидите, что эти мазки и точки создают монолитное полотно, на котором четко выделяются предметы и  детали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Клод Моне &quot;Сад художника в Живерни&quot;"/>
          <p:cNvPicPr/>
          <p:nvPr/>
        </p:nvPicPr>
        <p:blipFill>
          <a:blip r:embed="rId1"/>
          <a:stretch/>
        </p:blipFill>
        <p:spPr>
          <a:xfrm>
            <a:off x="1476360" y="2492280"/>
            <a:ext cx="6264360" cy="37450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611280" y="632952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лод Моне. Сад художника в Живер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1239840" y="620640"/>
            <a:ext cx="657216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6"/>
                </a:solidFill>
                <a:latin typeface="Arial"/>
              </a:rPr>
              <a:t>Ресур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6"/>
                </a:solidFill>
                <a:latin typeface="Arial"/>
              </a:rPr>
              <a:t>1. Импрессионизм в живописи – Википед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ru.wikipedia.org/wiki/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6"/>
                </a:solidFill>
                <a:latin typeface="Arial"/>
              </a:rPr>
              <a:t>2. Художники импрессионисты картин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omanway.com.ua/article/10-hudozhnikov-impressionistov-kotoryh-nuzhno-znat-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2T19:13:34Z</dcterms:created>
  <dc:creator>Admin</dc:creator>
  <dc:description/>
  <dc:language>en-US</dc:language>
  <cp:lastModifiedBy>marina</cp:lastModifiedBy>
  <dcterms:modified xsi:type="dcterms:W3CDTF">2015-10-11T11:38:32Z</dcterms:modified>
  <cp:revision>11</cp:revision>
  <dc:subject/>
  <dc:title>Слайд 1</dc:title>
</cp:coreProperties>
</file>