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FB9-6A80-4767-A7F1-4D56D3F7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4CA-D0B5-499B-9164-9262A3F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F70-29F2-472B-A840-AB6DAB39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FF0-3849-412D-AA82-0729FF34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4AE-8036-402B-AF7C-38A876A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7AD-8803-4700-8038-82014CD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B58-86F5-4D36-BD90-E010AC0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FCC-E08D-4743-B7D8-B601F2A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9F2-F779-4D40-92FB-6988731E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8A8-CB0D-48DE-B15D-450B615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709-C39D-467D-BE31-3534BC4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D6C-80DE-4686-8C70-7B014F6A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8EAB-212B-4D66-A9E7-AC8E1AAE8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39840" y="620640"/>
            <a:ext cx="657216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6"/>
                </a:solidFill>
                <a:latin typeface="Arial"/>
              </a:rPr>
              <a:t>Импрессиони́зм (фр.  impression — впечатление) 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направление в искусстве, зародившееся во Франции во второй половине  </a:t>
            </a:r>
            <a:r>
              <a:rPr b="1" lang="en-US" sz="2800" spc="-1" strike="noStrike">
                <a:solidFill>
                  <a:srgbClr val="000076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 в., представители которого стремились запечатлеть реальный мир в его подвижности и изменчивости, передать свои мимолетные </a:t>
            </a:r>
            <a:r>
              <a:rPr b="1" lang="ru-RU" sz="2800" spc="-1" strike="noStrike" u="sng">
                <a:solidFill>
                  <a:srgbClr val="000076"/>
                </a:solidFill>
                <a:uFillTx/>
                <a:latin typeface="Arial"/>
              </a:rPr>
              <a:t>впечатления.</a:t>
            </a: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39528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Французские художник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основоположники импрессионизма в живопис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клод моне.bmp"/>
          <p:cNvPicPr/>
          <p:nvPr/>
        </p:nvPicPr>
        <p:blipFill>
          <a:blip r:embed="rId1"/>
          <a:stretch/>
        </p:blipFill>
        <p:spPr>
          <a:xfrm>
            <a:off x="468360" y="1773360"/>
            <a:ext cx="2143080" cy="244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Пьер Огюст Ренуар"/>
          <p:cNvPicPr/>
          <p:nvPr/>
        </p:nvPicPr>
        <p:blipFill>
          <a:blip r:embed="rId2"/>
          <a:stretch/>
        </p:blipFill>
        <p:spPr>
          <a:xfrm>
            <a:off x="6877080" y="3573360"/>
            <a:ext cx="2016000" cy="266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808200" y="1865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35120" y="1413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Клод 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424560" y="6329520"/>
            <a:ext cx="203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24560" y="64008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миль Писсарро &quot;Автопортрет&quot;"/>
          <p:cNvPicPr/>
          <p:nvPr/>
        </p:nvPicPr>
        <p:blipFill>
          <a:blip r:embed="rId3"/>
          <a:stretch/>
        </p:blipFill>
        <p:spPr>
          <a:xfrm>
            <a:off x="4356000" y="4076640"/>
            <a:ext cx="165888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3327480" y="625644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милл Писсар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BE_05f0376i.bmp"/>
          <p:cNvPicPr/>
          <p:nvPr/>
        </p:nvPicPr>
        <p:blipFill>
          <a:blip r:embed="rId4"/>
          <a:stretch/>
        </p:blipFill>
        <p:spPr>
          <a:xfrm>
            <a:off x="6084720" y="1341360"/>
            <a:ext cx="1729080" cy="18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7467480" y="24829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Эдуард  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19120" y="488952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Эдгар Дега &quot;Автопортрет&quot;"/>
          <p:cNvPicPr/>
          <p:nvPr/>
        </p:nvPicPr>
        <p:blipFill>
          <a:blip r:embed="rId5"/>
          <a:stretch/>
        </p:blipFill>
        <p:spPr>
          <a:xfrm>
            <a:off x="3132000" y="1052640"/>
            <a:ext cx="2016360" cy="24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&amp;Fcy;&amp;ocy;&amp;tcy;&amp;ocy;&amp;gcy;&amp;rcy;&amp;acy;&amp;fcy;&amp;icy;&amp;yacy;"/>
          <p:cNvPicPr/>
          <p:nvPr/>
        </p:nvPicPr>
        <p:blipFill>
          <a:blip r:embed="rId6"/>
          <a:stretch/>
        </p:blipFill>
        <p:spPr>
          <a:xfrm>
            <a:off x="1547640" y="4305240"/>
            <a:ext cx="1735200" cy="2292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"/>
          <p:cNvSpPr/>
          <p:nvPr/>
        </p:nvSpPr>
        <p:spPr>
          <a:xfrm>
            <a:off x="0" y="56815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6"/>
                </a:solidFill>
                <a:latin typeface="Arial"/>
              </a:rPr>
              <a:t>Синь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492360" y="34480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дгар Д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239840" y="620640"/>
            <a:ext cx="65721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300px-Claude_Monet%2C_Impression%2C_soleil_levant%2C_1872"/>
          <p:cNvPicPr/>
          <p:nvPr/>
        </p:nvPicPr>
        <p:blipFill>
          <a:blip r:embed="rId1"/>
          <a:stretch/>
        </p:blipFill>
        <p:spPr>
          <a:xfrm>
            <a:off x="179280" y="1268280"/>
            <a:ext cx="5077080" cy="4149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1042920" y="5589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лод М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печатление. Восход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559480" y="476280"/>
            <a:ext cx="3044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Одержимость Моне светом и цветом вылилась в многолетние исследования и эксперименты, целью которых  было зафиксировать на холсте мимолетные, ускользающие оттенк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239840" y="620640"/>
            <a:ext cx="6572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35120" y="496800"/>
            <a:ext cx="4341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гюст Рену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крестности Мен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окрестности Ментона.bmp"/>
          <p:cNvPicPr/>
          <p:nvPr/>
        </p:nvPicPr>
        <p:blipFill>
          <a:blip r:embed="rId1"/>
          <a:stretch/>
        </p:blipFill>
        <p:spPr>
          <a:xfrm>
            <a:off x="250920" y="1341360"/>
            <a:ext cx="5400720" cy="5072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5848200" y="260280"/>
            <a:ext cx="304488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6"/>
                </a:solidFill>
                <a:latin typeface="Arial"/>
              </a:rPr>
              <a:t>В картинах Ренуара много солнца, света, они исполнены дыханием жизни: воды струятся и сверкают бликами, деревья трепещут на ветру, солнечные зайчики скользят по лицам, одежде, траве; свободный мазок усиливает впечатление особой одухотворенности, изменчивости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1239840" y="620640"/>
            <a:ext cx="6572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Поль Синьяк &quot;Сосна, Сен-Тропе&quot;"/>
          <p:cNvPicPr/>
          <p:nvPr/>
        </p:nvPicPr>
        <p:blipFill>
          <a:blip r:embed="rId1"/>
          <a:stretch/>
        </p:blipFill>
        <p:spPr>
          <a:xfrm>
            <a:off x="4284720" y="1197000"/>
            <a:ext cx="4859280" cy="475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43480" y="281160"/>
            <a:ext cx="36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Поль Синьяк &quot;Порт в Марселе&quot;"/>
          <p:cNvPicPr/>
          <p:nvPr/>
        </p:nvPicPr>
        <p:blipFill>
          <a:blip r:embed="rId2"/>
          <a:stretch/>
        </p:blipFill>
        <p:spPr>
          <a:xfrm>
            <a:off x="324000" y="620640"/>
            <a:ext cx="3816360" cy="3527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775480" y="6040440"/>
            <a:ext cx="25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632560" y="5969160"/>
            <a:ext cx="282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076720" y="59691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ль Синь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осна в Сен-Т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1840" y="4076640"/>
            <a:ext cx="383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ртины импрессиониста Поля Синьяка, написанные легкими мазками, даже точками,  создают самые различные ощущения, связанные с законом оп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с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031840" y="65160"/>
            <a:ext cx="34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311120" y="-7920"/>
            <a:ext cx="23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ь Синья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рсельский 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95280" y="0"/>
            <a:ext cx="5472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Эдгар Д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анцовщ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покло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95480" y="402444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5120" y="431316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879480" y="409716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d03049i.bmp"/>
          <p:cNvPicPr/>
          <p:nvPr/>
        </p:nvPicPr>
        <p:blipFill>
          <a:blip r:embed="rId1"/>
          <a:stretch/>
        </p:blipFill>
        <p:spPr>
          <a:xfrm>
            <a:off x="611280" y="1125360"/>
            <a:ext cx="4897440" cy="5227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6"/>
          <p:cNvSpPr/>
          <p:nvPr/>
        </p:nvSpPr>
        <p:spPr>
          <a:xfrm>
            <a:off x="2319480" y="568440"/>
            <a:ext cx="45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135840" y="1144440"/>
            <a:ext cx="246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6"/>
                </a:solidFill>
                <a:latin typeface="Arial"/>
              </a:rPr>
              <a:t>Дега больше волнует жизнь города, а не пейзаж. Он стремится передать мнгновенное, неуловимое движение — отсюда его интерес к миру театра, кулис, бал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0"/>
            <a:ext cx="89647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6"/>
                </a:solidFill>
                <a:latin typeface="Arial"/>
              </a:rPr>
              <a:t>Картины,написанные на открытом воздухе (пленэре), передавали ощущение солнечного света, объемные формы как бы растворились в вибрации света и воздуха, разложение сложных тонов на чистые цвета, накладываемые на холст раздельными мазками и рассчитанные на оптическое смещение их при восприятии картины зрителями. Таким образом, на картине запечатлевался как бы случайно остановленный ка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лод Моне &quot;Кувшинки&quot;"/>
          <p:cNvPicPr/>
          <p:nvPr/>
        </p:nvPicPr>
        <p:blipFill>
          <a:blip r:embed="rId1"/>
          <a:stretch/>
        </p:blipFill>
        <p:spPr>
          <a:xfrm>
            <a:off x="1476360" y="2565360"/>
            <a:ext cx="6216840" cy="4092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4501800" y="60213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0715"/>
                </a:solidFill>
                <a:latin typeface="Arial"/>
              </a:rPr>
              <a:t>Клод Моне. Кувш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260280"/>
            <a:ext cx="79218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6"/>
                </a:solidFill>
                <a:latin typeface="Arial"/>
              </a:rPr>
              <a:t>Техника письма импрессионистов основана на штрихах, отдельных мазках, точках, пятнах. Поэтому кажется, что это какие-то мазки и пятна, не складывающиеся в целостную картину, но если вы немного отстранитесь, то увидите, что эти мазки и точки создают монолитное полотно, на котором четко выделяются предметы и  детал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лод Моне &quot;Сад художника в Живерни&quot;"/>
          <p:cNvPicPr/>
          <p:nvPr/>
        </p:nvPicPr>
        <p:blipFill>
          <a:blip r:embed="rId1"/>
          <a:stretch/>
        </p:blipFill>
        <p:spPr>
          <a:xfrm>
            <a:off x="1476360" y="2492280"/>
            <a:ext cx="6264360" cy="3745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611280" y="63295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лод Моне. Сад художника в Живе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239840" y="620640"/>
            <a:ext cx="65721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1. Импрессионизм в живописи – Вики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ru.wikipedia.org/wiki/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6"/>
                </a:solidFill>
                <a:latin typeface="Arial"/>
              </a:rPr>
              <a:t>2. Художники импрессионисты карт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omanway.com.ua/article/10-hudozhnikov-impressionistov-kotoryh-nuzhno-znat-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9:13:34Z</dcterms:created>
  <dc:creator>Admin</dc:creator>
  <dc:description/>
  <dc:language>en-US</dc:language>
  <cp:lastModifiedBy>marina</cp:lastModifiedBy>
  <dcterms:modified xsi:type="dcterms:W3CDTF">2015-10-11T11:38:32Z</dcterms:modified>
  <cp:revision>11</cp:revision>
  <dc:subject/>
  <dc:title>Слайд 1</dc:title>
</cp:coreProperties>
</file>